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717-5887-461A-BA99-2F322352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6EAF-B55C-4909-862D-A77609FD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E3D-42BC-440C-A10B-920E2C29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2EA-3FAD-4031-BDCB-D3F08395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CC5E-12BF-4B69-9651-24BD7830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A23-824F-4355-A40F-677DF61F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37D-C195-4BE3-8041-CB57179C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9E6-F4EA-47CF-AB5C-62773267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44A-D752-466B-AA54-52CF1447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9FC-942B-402E-AE8B-BD0C68CB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F2D-FEF7-4273-97F2-632672CA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3EE-4325-48AF-91F4-9C23A845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EEA5-A2AD-423C-B6B3-940DCCFF3B0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63E5-C597-41C1-A48A-77CCE8432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stranamasterov.ru/node/104340?c=new_451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0" lang="ru-RU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Ёлоч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зентация выполне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филовой Галиной Борисов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У-СОШ № 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род Клин Московская обл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 по материалам сайта «Страна мастер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tranamasterov.ru/node/104340?c=new_451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572080" y="1214280"/>
            <a:ext cx="1714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еваем через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рстие осно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л елочки и смазыва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ем нижние клапа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еиваем 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бумаг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спользова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хстороню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ую бума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E989-8F94-49BC-9A48-7379CE7079F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0E2F-069F-4796-9033-2537497AC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85840" y="3357720"/>
            <a:ext cx="4952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следует приклеить квадрат из картона со сторой 80 мм. Картон даст твердость и стойчивость елочки. Клапаны от ствола останутся в середине между основанием и карто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DA2C-5051-49F9-9362-677BD29C19D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BBDE-CEE9-4098-AB34-14B5DE527A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143080" y="285768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с готов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 елочки и ство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48AE-1016-47BD-92E7-2065CAFA5FE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91A6-2C64-423F-A40B-4E129D565E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071800" y="23572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3286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хвою для елочки. Все 10 зеленых квадратов, поочередно, складываем базовой формой, принятой в оригами - "Водяная бомбочка". В квадрате складываем по двум диагоналям и средней ли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6CB1-3967-462A-9B02-4031A1FB8ED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51D8-F74F-4961-8C23-9BA68E3D1A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143080" y="428760"/>
            <a:ext cx="49528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езаем хвою. От центра вырезаем зубчики с наклоном вправо и влево. Зубчики не должны быть глубокими, достаточно их делать 5-7 м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0541-4D28-4D70-B79A-44878DBD256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23FA-26AF-4CCD-BE6D-6515214EB7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071800" y="2928960"/>
            <a:ext cx="495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41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ие детали должны получиться. У каждого треугольника отрежьте вершинку. Нужно это для того, чтобы одевать хвою на ствол елоч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7159-C62E-4704-9694-7A519B2A3F8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05F9-5864-40D2-B402-D6DBABB5A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143080" y="35712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жите заготовки от большей к меньшей и полюбуйтесь на свою работ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F310-9F22-4C30-9946-3E21D11DA40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B12D-5160-468D-9F7E-8A0CA23FA6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071800" y="285768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вол елочки одеваем хвою (квадраты) в шахматном порядке от большего квадрата к меньшему. Самый верхний маленький квадрат можно прикле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28BE-1DF2-4F62-ACD6-6BD952D8C0E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E612-28CC-4DEF-8868-2359A2E3B6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571760" y="214200"/>
            <a:ext cx="60721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ая пушистая елочка получает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384D-E0B9-43F3-83FB-7469EB1CB84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4265-B86C-4DBB-BF39-CB1D301203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71760" y="2286000"/>
            <a:ext cx="60004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AAD8-1B76-41B7-8A96-3987F7E306E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96C5-9C97-45B2-9ECF-917FD06979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5" descr=""/>
          <p:cNvPicPr/>
          <p:nvPr/>
        </p:nvPicPr>
        <p:blipFill>
          <a:blip r:embed="rId2"/>
          <a:stretch/>
        </p:blipFill>
        <p:spPr>
          <a:xfrm>
            <a:off x="841320" y="2610000"/>
            <a:ext cx="7802640" cy="1985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очка - красавица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мся к Новому год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1564-16C2-4F1E-8C52-53A7FA2FD0A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345D-0DC1-4EEF-9547-A54BE5E49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857240" y="1643040"/>
            <a:ext cx="55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елочки потребует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, коричневая бумаг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н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ьни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13A0-541A-41DC-88DD-0C94B294534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2030-5AFC-45ED-9074-EB8C960067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3714840" y="271476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2928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вои ел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зелену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чаем квадраты со стороной 100мм., 90мм.... и т.д. и последний со стороной 10 м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с получится 10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7C72-508B-4619-A4F7-CA1B06BA6FA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8C5D-37C9-45CA-ACCE-36EE602486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143240" y="214200"/>
            <a:ext cx="47865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снования елочки используем картон и зеленую бумагу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резаем квадраты со стороной 80 м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3740-B54A-4662-BD26-9F6489456FE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166D-7047-4B74-A086-6381C98CF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071800" y="264312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твола елочки используем коричневую бумагу и вырезаем прямоугольник со сторонам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мм. и 100 м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C72F-1860-414A-978C-4BC31EE1E51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A77E-31F9-406C-A1C9-11DB92AB6A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214720" y="3214800"/>
            <a:ext cx="49528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 накручива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казательный пал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иде кулька и подтягиваем ввер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 заготовки смазываем кле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689F-BD31-4A1C-B1D5-0F329F587AC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FCEA-C8EA-4E58-8F63-8293B1A817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86000" y="35712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л долж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аленькая указ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ании ство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маленькие надре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гибаем их на внешнюю сторо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3E64-4A55-4981-8297-E7A55FE5B57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DD82-1F77-488A-8F97-B4D4DF9DAE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929120" y="642960"/>
            <a:ext cx="395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 елочки. Берем зеленый квадрат со стороной 80 мм., складываем его по диагоналям и отрезаем вершинку. В середине кадрата получилось отверст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не долж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больши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ств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о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держи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E324-59B3-4A60-88B1-327D2784930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2D50-296C-41A8-BE24-89DDF6FD5E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000680" y="29289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6:48:11Z</dcterms:created>
  <dc:creator>Admin</dc:creator>
  <dc:description>http://aida.ucoz.ru</dc:description>
  <dc:language>en-US</dc:language>
  <cp:lastModifiedBy>Admin</cp:lastModifiedBy>
  <dcterms:modified xsi:type="dcterms:W3CDTF">2010-11-11T18:43:33Z</dcterms:modified>
  <cp:revision>7</cp:revision>
  <dc:subject/>
  <dc:title>    Ёлочка</dc:title>
</cp:coreProperties>
</file>