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CB3-B344-4833-9615-C44B9EB6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815-2177-48D7-987E-6C9C7A57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0A4-FDB7-4B9C-B848-1867B80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3C8-FC69-49B0-9B92-1B9F336D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704-4DA2-4F4F-BFF8-4149B12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B74-3941-4A2E-97B5-91D44B2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5BD-2A9B-4A08-BFF5-ABCB3E0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EA-F3BB-487C-A0A5-0A4FA59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EC7-D0E5-4EB5-BE07-A4D5F5E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C9A-96E9-4B45-A40F-DD04943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177-FAD6-4489-AE99-31E721F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1F1-0965-4E83-8E01-01B18903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354-BBFD-4AE4-886A-025538106C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582-85D9-4A5E-B459-DF0B09522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masterov.ru/node/104340?c=new_451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оч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выполн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филовой Галиной Борисов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-СОШ №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Клин Москов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по материалам сайта «Страна мастер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tranamasterov.ru/node/104340?c=new_451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572080" y="121428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ваем чере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рстие осн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елочки и смазыв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ем нижние клап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ваем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бума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спользов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стороню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ую бум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6000-D4EF-457C-8C8B-AE9D8343E9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3D5C-DA39-4863-9425-240329F7B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4952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следует приклеить квадрат из картона со сторой 80 мм. Картон даст твердость и стойчивость елочки. Клапаны от ствола останутся в середине между основанием и карт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6D7-EFFA-4D3B-A08C-749ADD09D8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3C01-267E-4DD4-B9CE-A7F8E94CD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4308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готов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 и ство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503-1588-4A61-9AA7-CA43510D1C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81B9-1C2D-4D52-8F41-87CB42394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32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хвою для елочки. Все 10 зеленых квадратов, поочередно, складываем базовой формой, принятой в оригами - "Водяная бомбочка". В квадрате складываем по двум диагоналям и средней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285-2D04-454B-B763-B491698C53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5EC-1031-4223-AEFD-B0511AC96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3080" y="42876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езаем хвою. От центра вырезаем зубчики с наклоном вправо и влево. Зубчики не должны быть глубокими, достаточно их делать 5-7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933-937B-4D82-988D-2444B0F679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1D27-065D-4A8B-B271-FFF2B40B0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071800" y="292896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41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детали должны получиться. У каждого треугольника отрежьте вершинку. Нужно это для того, чтобы одевать хвою на ствол ел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E44-D5B6-4E86-9676-204B6DB71D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D6D-B9EC-4CD2-A1D0-E25B2A460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4308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е заготовки от большей к меньшей и полюбуйтесь на свою раб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C96-11F5-4230-9D61-5559329D67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9F9-4B2A-4DFF-A889-54659EAF6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7180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вол елочки одеваем хвою (квадраты) в шахматном порядке от большего квадрата к меньшему. Самый верхний маленький квадрат можно прикле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5FFD-70CF-4C3D-BCB3-9F52ABFD73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F51-1099-4834-A9A9-D544FDEC0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60721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пушистая елочка получае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AFA-5D28-4DAF-9716-F32E5C41F4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1FF2-25C0-411E-849D-46846DFCE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00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9121-1CFC-4180-ACE0-9D8F38866C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68B-3104-424D-A5E0-4E88DF833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5" descr=""/>
          <p:cNvPicPr/>
          <p:nvPr/>
        </p:nvPicPr>
        <p:blipFill>
          <a:blip r:embed="rId2"/>
          <a:stretch/>
        </p:blipFill>
        <p:spPr>
          <a:xfrm>
            <a:off x="841320" y="2610000"/>
            <a:ext cx="7802640" cy="1985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а - красавица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мся к Новому го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D8C-42B7-41E7-BAE3-CC56937DB8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BF1-B00A-4C60-A95C-23F07647B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5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лочки потребу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, коричневая бумаг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и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1327-56AE-4469-8798-234777B522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7C5-DD69-41A2-8D68-339DA8407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9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вои ел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зелену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квадраты со стороной 100мм., 90мм.... и т.д. и последний со стороной 10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получится 10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7AB-86D3-4B48-A374-9BE9C54F87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587-949E-487C-A9B8-8640D9B74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8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нования елочки используем картон и зеленую бумаг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езаем квадраты со стороной 80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64A2-1F52-4092-A0D5-51A7FFBCB7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7F94-16A5-4157-8D63-6C1F9261D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71800" y="2643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вола елочки используем коричневую бумагу и вырезаем прямоугольник со сторон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мм. и 1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556-BF3F-49B9-8A5C-5118DE7C93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E83-B996-41BD-88D0-3AFCCFFA9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14720" y="321480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 накручива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казательный па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 кулька и подтягиваем ввер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 заготовки смазываем кле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8D90-D896-46B6-B14A-B609610CED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92B-977F-4DAB-99EC-A01ECBAED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долж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ленькая указ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ании ство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маленькие надре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гибаем их на внешню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3C8D-81DD-4ED1-811E-F829C8D065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F22-5E3D-42AF-8AD3-13F27979A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929120" y="642960"/>
            <a:ext cx="395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. Берем зеленый квадрат со стороной 80 мм., складываем его по диагоналям и отрезаем вершинку. В середине кадрата получилось отверс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не дол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больши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ств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8CFD-822B-4F10-9101-D218EA7920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609-51DA-4A7A-8312-55998653F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00680" y="29289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48:11Z</dcterms:created>
  <dc:creator>Admin</dc:creator>
  <dc:description>http://aida.ucoz.ru</dc:description>
  <dc:language>en-US</dc:language>
  <cp:lastModifiedBy>Admin</cp:lastModifiedBy>
  <dcterms:modified xsi:type="dcterms:W3CDTF">2010-11-11T18:43:33Z</dcterms:modified>
  <cp:revision>7</cp:revision>
  <dc:subject/>
  <dc:title>    Ёлочка</dc:title>
</cp:coreProperties>
</file>