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7DB-F38B-4A03-A644-10578DB4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FE1-2935-436F-B1B3-A9A23E92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44E-492C-45E6-89A1-BDAD853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74A-20B3-4D43-98BA-C2F4B238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021-1241-4503-B3C5-0F7B2730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071-B97E-403A-9099-F7DD9F2D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CCE-15D0-4BA7-9308-7CA1324E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482-97C6-4B4D-9B90-1616021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5AF-AEB5-41A9-A1DF-60982DC5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BFD-67CB-451D-B264-087B77A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713-6C18-4599-809F-FCCEFDB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B2B-7C7F-4B02-89E8-14E3F64B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2F91-DE5C-43C7-A920-7620D34B1D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53CF-BCCC-4A01-B063-9E4415BA3C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stranamasterov.ru/node/104340?c=new_451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Ёлоч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выполн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филовой Галиной Борисов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-СОШ №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род Клин Московская обл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по материалам сайта «Страна мастер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tranamasterov.ru/node/104340?c=new_451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572080" y="121428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еваем чере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рстие осн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елочки и смазыва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ем нижние клапа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еиваем 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бума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спользова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стороню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ую бума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E479-7F8A-4827-ABB1-A4FB143BFB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0548-97C6-4BD1-A448-C4DE96F4D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4952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следует приклеить квадрат из картона со сторой 80 мм. Картон даст твердость и стойчивость елочки. Клапаны от ствола останутся в середине между основанием и карто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B5F-0E41-4F48-8C7C-0699B50CD7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1F38-52D3-4D2D-BA76-BFD50C80F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4308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готов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 и ство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914F-9A4E-4CAA-88F3-3D414C1A24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2FE6-D04F-46F3-83E3-1248204A4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32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хвою для елочки. Все 10 зеленых квадратов, поочередно, складываем базовой формой, принятой в оригами - "Водяная бомбочка". В квадрате складываем по двум диагоналям и средней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2EFD-8E04-49B7-86FF-F751A24403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B1A1-5632-4BE4-8444-B654B304F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43080" y="42876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езаем хвою. От центра вырезаем зубчики с наклоном вправо и влево. Зубчики не должны быть глубокими, достаточно их делать 5-7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84B-A4E6-43D0-8D43-8CDB4322C8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ABC6-B55E-47A1-8197-4413577A7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071800" y="292896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41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детали должны получиться. У каждого треугольника отрежьте вершинку. Нужно это для того, чтобы одевать хвою на ствол ел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26E-769E-44DD-BEA0-13F0CC5348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A02-8DFF-428A-9512-48E3BDEBB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4308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е заготовки от большей к меньшей и полюбуйтесь на свою раб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2FE-E48B-4BCA-A1B7-E1A9ADF3E44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A2E3-39AB-4CAA-88CF-05BB5EB92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71800" y="28576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вол елочки одеваем хвою (квадраты) в шахматном порядке от большего квадрата к меньшему. Самый верхний маленький квадрат можно прикле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6A5-9322-46AE-BAD8-C29F1FDC67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553-7B27-48D2-93A0-61B6FBE3A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60721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ая пушистая елочка получае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A41-6D1F-4A36-BC74-FF12B636B7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F59A-2EA0-41AE-9DD3-641C9F5A9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00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BC1-20A5-4793-8BDF-71ACEFDAD8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7A9F-2222-4730-A030-E1EED0EFD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5" descr=""/>
          <p:cNvPicPr/>
          <p:nvPr/>
        </p:nvPicPr>
        <p:blipFill>
          <a:blip r:embed="rId2"/>
          <a:stretch/>
        </p:blipFill>
        <p:spPr>
          <a:xfrm>
            <a:off x="841320" y="2610000"/>
            <a:ext cx="7802640" cy="1985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а - красавица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мся к Новому го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1D9-DF2F-45B4-B8D6-927AE8D749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A37-2141-44B6-B484-540E191BB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5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елочки потребу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, коричневая бумаг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ик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C28-91C3-4A76-9DC4-D147623381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4097-2FE5-4E97-96AA-00E8DBA48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29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вои ел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зелену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квадраты со стороной 100мм., 90мм.... и т.д. и последний со стороной 10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ас получится 10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8BB7-664E-475D-9DA0-046106BE2C8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1AE-A47A-4DFF-923A-2B7D1E61E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86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снования елочки используем картон и зеленую бумаг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езаем квадраты со стороной 80 м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10E-9802-489B-A35D-4BDC24CF16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D38-AF1E-437C-A1DD-0D1A6B9C5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71800" y="2643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твола елочки используем коричневую бумагу и вырезаем прямоугольник со сторон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мм. и 100 м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56F0-F4FF-457A-B517-38634D1A5B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F8E7-CEF7-44A2-846A-BAF706016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14720" y="3214800"/>
            <a:ext cx="4952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 накручива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казательный па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 кулька и подтягиваем ввер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 заготовки смазываем кле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782-9C72-461B-8338-F7924E8BCC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60EC-BFED-43A8-AD31-B9F340D08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л долж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аленькая указ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ании ство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маленькие надре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гибаем их на внешню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68AB-9F3F-495C-B70E-7659C6D7A7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A9E-7816-4897-A547-B0F25B259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929120" y="642960"/>
            <a:ext cx="395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 елочки. Берем зеленый квадрат со стороной 80 мм., складываем его по диагоналям и отрезаем вершинку. В середине кадрата получилось отверст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не дол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больши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ств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держ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6CA0-2AB1-45BC-AC66-675B8AF049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D572-733F-4BA3-868B-B8FDA1101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000680" y="29289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6:48:11Z</dcterms:created>
  <dc:creator>Admin</dc:creator>
  <dc:description>http://aida.ucoz.ru</dc:description>
  <dc:language>en-US</dc:language>
  <cp:lastModifiedBy>Admin</cp:lastModifiedBy>
  <dcterms:modified xsi:type="dcterms:W3CDTF">2010-11-11T18:43:33Z</dcterms:modified>
  <cp:revision>7</cp:revision>
  <dc:subject/>
  <dc:title>    Ёлочка</dc:title>
</cp:coreProperties>
</file>