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984-9809-446B-AA11-73C3AA76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FB1-F0CC-4790-A31C-67A6AC6E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2ED-E105-490B-B0B0-0F63CC50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625-FE96-4C5E-B610-D9687A31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8D3-5742-41E2-9DD9-25665C9E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F1B-B94C-4D04-B654-7C001D5D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E76-2051-4B3E-B517-6928DD14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615-3E70-4E3F-A42B-0BB46DFF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609-9FB0-46D6-98A9-674943D6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DB6-C87A-4DCE-8953-9884EC8D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F5A-766D-443E-A2D9-8FD3374F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937-4630-4A1E-8C3A-AAADA17E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0D78-4798-4F92-83F4-6A126EBEC0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огодняя красавица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Ёлочка из перье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866920" y="1915920"/>
            <a:ext cx="3025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4 «В» класс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47 г.Белгоро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ипина Маргари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клина И.В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Материалы для изготовления подел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Бумага (форматА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Двусторонняя клейкая лен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Перья гусины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Краситель пищевой для пасхальных яи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Ножниц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Пистолет для горячего склеивания, клеевые стержни или клей</a:t>
            </a:r>
            <a:r>
              <a:rPr b="1" i="1" lang="ru-RU" sz="1900" spc="-1" strike="noStrike">
                <a:solidFill>
                  <a:srgbClr val="002060"/>
                </a:solidFill>
                <a:latin typeface="Calibri"/>
              </a:rPr>
              <a:t> «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Титан</a:t>
            </a:r>
            <a:r>
              <a:rPr b="1" i="1" lang="ru-RU" sz="1900" spc="-1" strike="noStrike">
                <a:solidFill>
                  <a:srgbClr val="002060"/>
                </a:solidFill>
                <a:latin typeface="Calibri"/>
              </a:rPr>
              <a:t>»(универсальный водостойкий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Irina\Рабочий стол\скипина ёлка\DSCN1070.jpg"/>
          <p:cNvPicPr/>
          <p:nvPr/>
        </p:nvPicPr>
        <p:blipFill>
          <a:blip r:embed="rId1"/>
          <a:stretch/>
        </p:blipFill>
        <p:spPr>
          <a:xfrm>
            <a:off x="7020000" y="4076640"/>
            <a:ext cx="1762200" cy="234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Irina\Рабочий стол\скипина ёлка\DSCN1073.jpg"/>
          <p:cNvPicPr/>
          <p:nvPr/>
        </p:nvPicPr>
        <p:blipFill>
          <a:blip r:embed="rId2"/>
          <a:stretch/>
        </p:blipFill>
        <p:spPr>
          <a:xfrm>
            <a:off x="4932360" y="4100400"/>
            <a:ext cx="1782720" cy="23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Irina\Рабочий стол\скипина ёлка\DSCN1075.jpg"/>
          <p:cNvPicPr/>
          <p:nvPr/>
        </p:nvPicPr>
        <p:blipFill>
          <a:blip r:embed="rId3"/>
          <a:stretch/>
        </p:blipFill>
        <p:spPr>
          <a:xfrm>
            <a:off x="5364000" y="1557360"/>
            <a:ext cx="2759400" cy="206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Irina\Рабочий стол\скипина ёлка\elshar165.gif"/>
          <p:cNvPicPr/>
          <p:nvPr/>
        </p:nvPicPr>
        <p:blipFill>
          <a:blip r:embed="rId4"/>
          <a:stretch/>
        </p:blipFill>
        <p:spPr>
          <a:xfrm>
            <a:off x="179280" y="260280"/>
            <a:ext cx="7336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1 этап: окраска перь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84280"/>
            <a:ext cx="40384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скипятить воду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творить в горячей воде пищевой краситель для пасхальных яи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пустить перья в горячий раствор красителя на несколько мин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сушить перья на тка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DSCN1078.jpg"/>
          <p:cNvPicPr/>
          <p:nvPr/>
        </p:nvPicPr>
        <p:blipFill>
          <a:blip r:embed="rId1"/>
          <a:stretch/>
        </p:blipFill>
        <p:spPr>
          <a:xfrm>
            <a:off x="6084720" y="333360"/>
            <a:ext cx="2495880" cy="18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Irina\Рабочий стол\скипина ёлка\DSCN1080.jpg"/>
          <p:cNvPicPr/>
          <p:nvPr/>
        </p:nvPicPr>
        <p:blipFill>
          <a:blip r:embed="rId2"/>
          <a:stretch/>
        </p:blipFill>
        <p:spPr>
          <a:xfrm>
            <a:off x="6084720" y="2492280"/>
            <a:ext cx="2519640" cy="189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Irina\Рабочий стол\скипина ёлка\DSCN1083.jpg"/>
          <p:cNvPicPr/>
          <p:nvPr/>
        </p:nvPicPr>
        <p:blipFill>
          <a:blip r:embed="rId3"/>
          <a:stretch/>
        </p:blipFill>
        <p:spPr>
          <a:xfrm>
            <a:off x="6084720" y="4724280"/>
            <a:ext cx="2495880" cy="187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Irina\Рабочий стол\скипина ёлка\elshar165.gif"/>
          <p:cNvPicPr/>
          <p:nvPr/>
        </p:nvPicPr>
        <p:blipFill>
          <a:blip r:embed="rId4"/>
          <a:stretch/>
        </p:blipFill>
        <p:spPr>
          <a:xfrm>
            <a:off x="611280" y="260280"/>
            <a:ext cx="7333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Calibri"/>
              </a:rPr>
              <a:t>2 этап: обрезка перь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DSCN1063.jpg"/>
          <p:cNvPicPr/>
          <p:nvPr/>
        </p:nvPicPr>
        <p:blipFill>
          <a:blip r:embed="rId1"/>
          <a:stretch/>
        </p:blipFill>
        <p:spPr>
          <a:xfrm>
            <a:off x="4859280" y="4005360"/>
            <a:ext cx="3175200" cy="238104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4" descr="DSCN1062.jpg"/>
          <p:cNvPicPr/>
          <p:nvPr/>
        </p:nvPicPr>
        <p:blipFill>
          <a:blip r:embed="rId2"/>
          <a:stretch/>
        </p:blipFill>
        <p:spPr>
          <a:xfrm>
            <a:off x="4788000" y="141300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58" name="Содержимое 2"/>
          <p:cNvSpPr/>
          <p:nvPr/>
        </p:nvSpPr>
        <p:spPr>
          <a:xfrm>
            <a:off x="60948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324000" y="155736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обходимо подготовить перья для накле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ожницами обрезаем края перьев, чтобы придать им форму ветвей 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Irina\Рабочий стол\скипина ёлка\elshar165.gif"/>
          <p:cNvPicPr/>
          <p:nvPr/>
        </p:nvPicPr>
        <p:blipFill>
          <a:blip r:embed="rId3"/>
          <a:stretch/>
        </p:blipFill>
        <p:spPr>
          <a:xfrm>
            <a:off x="539640" y="260280"/>
            <a:ext cx="7336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3889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Calibri"/>
              </a:rPr>
              <a:t>3 этап: собираем ёлоч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628640"/>
            <a:ext cx="439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Из листа белого картона сворачиваем конус, края конуса склеиваем двусторонней клейкой лент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 помощью клеящего пистолета горячим клеем приклеиваем перья к конусу ,начиная с нижнего ярус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Аккуратно нанесите 2,5 см полоску горячего клея вдоль ствола длинного перышка,  начиная от осн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Прикрепляйте перьевой материал к нижней части конуса из пенопласта, стараясь располагать кончики как можно ровне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4" descr="DSCN1064.jpg"/>
          <p:cNvPicPr/>
          <p:nvPr/>
        </p:nvPicPr>
        <p:blipFill>
          <a:blip r:embed="rId1"/>
          <a:stretch/>
        </p:blipFill>
        <p:spPr>
          <a:xfrm>
            <a:off x="4716360" y="260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4" descr="DSCN1065.jpg"/>
          <p:cNvPicPr/>
          <p:nvPr/>
        </p:nvPicPr>
        <p:blipFill>
          <a:blip r:embed="rId2"/>
          <a:stretch/>
        </p:blipFill>
        <p:spPr>
          <a:xfrm>
            <a:off x="4716360" y="3500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Irina\Рабочий стол\скипина ёлка\elshar165.gif"/>
          <p:cNvPicPr/>
          <p:nvPr/>
        </p:nvPicPr>
        <p:blipFill>
          <a:blip r:embed="rId3"/>
          <a:stretch/>
        </p:blipFill>
        <p:spPr>
          <a:xfrm>
            <a:off x="179280" y="260280"/>
            <a:ext cx="7336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«Ёлочка из перье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Это красивое дерево из невесомых пёрышек одновременно может быть необыкновенным украшением для дома и прекрасным подарком.  При взгляде на это трогательное невесомое совершенство, источающее то, что называют Духом Рождества, не покидает мысль, что его оставил Анг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DSCN1067.jpg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Irina\Рабочий стол\скипина ёлка\elshar165.gif"/>
          <p:cNvPicPr/>
          <p:nvPr/>
        </p:nvPicPr>
        <p:blipFill>
          <a:blip r:embed="rId2"/>
          <a:stretch/>
        </p:blipFill>
        <p:spPr>
          <a:xfrm>
            <a:off x="971640" y="260280"/>
            <a:ext cx="7333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Calibri"/>
              </a:rPr>
              <a:t>Использованные 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hulanchik.ucoz.com/load/5-1-0-1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овогодний 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ы фотографии–Скипиной Е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littlhuman.ru/3274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lenagold.ru/fon/clipart/e/elsh6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ормление презентации - Шуклина И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Irina\Рабочий стол\скипина ёлка\elshar165.gif"/>
          <p:cNvPicPr/>
          <p:nvPr/>
        </p:nvPicPr>
        <p:blipFill>
          <a:blip r:embed="rId2"/>
          <a:stretch/>
        </p:blipFill>
        <p:spPr>
          <a:xfrm>
            <a:off x="324000" y="189000"/>
            <a:ext cx="733320" cy="1085760"/>
          </a:xfrm>
          <a:prstGeom prst="rect">
            <a:avLst/>
          </a:prstGeom>
          <a:ln w="0">
            <a:noFill/>
          </a:ln>
        </p:spPr>
      </p:pic>
      <p:sp>
        <p:nvSpPr>
          <p:cNvPr id="73" name="Подзаголовок 2"/>
          <p:cNvSpPr/>
          <p:nvPr/>
        </p:nvSpPr>
        <p:spPr>
          <a:xfrm>
            <a:off x="3173400" y="-20520"/>
            <a:ext cx="2736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ezentaci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18T16:57:06Z</dcterms:modified>
  <cp:revision>29</cp:revision>
  <dc:subject/>
  <dc:title>Новогодний букет вместо ёлки «Ёлочка из перьев»</dc:title>
</cp:coreProperties>
</file>