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BA6-F4B0-48C2-B052-9C000FAC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B84-2572-4C5A-B689-8CC6B94F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8B3-D9CA-4A99-B259-4B1D9C0F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418-D5D8-4C80-B6BA-EF23A09C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8F5-6BEC-4E9B-BA47-70361054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ED8-CC8F-454F-BA06-D275BA4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340-3A01-4819-B71B-BDAF41C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2B5-A0CE-4EA0-B363-FA5D313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000-2642-4A25-BBB9-30CA4F1C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B49-2A18-41CC-80BD-97990C8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E1D-09EC-4785-89E6-AEC5404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64C-4230-41B9-ACAC-9B654BE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913-AD9D-426E-AB90-DC8E135E5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дняя красавиц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очка из пер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6920" y="1915920"/>
            <a:ext cx="3025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«В» класс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47 г.Белгор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ипина Маргари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лина И.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Материалы для изготовления под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Бумага (форматА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Двусторонняя клейкая л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ерья гуси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Краситель пищевой для пасхальных яи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Ножниц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истолет для горячего склеивания, клеевые стержни или клей</a:t>
            </a: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 «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Титан</a:t>
            </a: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»(универсальный водостойки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Irina\Рабочий стол\скипина ёлка\DSCN1070.jpg"/>
          <p:cNvPicPr/>
          <p:nvPr/>
        </p:nvPicPr>
        <p:blipFill>
          <a:blip r:embed="rId1"/>
          <a:stretch/>
        </p:blipFill>
        <p:spPr>
          <a:xfrm>
            <a:off x="7020000" y="407664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Irina\Рабочий стол\скипина ёлка\DSCN1073.jpg"/>
          <p:cNvPicPr/>
          <p:nvPr/>
        </p:nvPicPr>
        <p:blipFill>
          <a:blip r:embed="rId2"/>
          <a:stretch/>
        </p:blipFill>
        <p:spPr>
          <a:xfrm>
            <a:off x="4932360" y="4100400"/>
            <a:ext cx="1782720" cy="23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Irina\Рабочий стол\скипина ёлка\DSCN1075.jpg"/>
          <p:cNvPicPr/>
          <p:nvPr/>
        </p:nvPicPr>
        <p:blipFill>
          <a:blip r:embed="rId3"/>
          <a:stretch/>
        </p:blipFill>
        <p:spPr>
          <a:xfrm>
            <a:off x="5364000" y="1557360"/>
            <a:ext cx="2759400" cy="206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Irina\Рабочий стол\скипина ёлка\elshar165.gif"/>
          <p:cNvPicPr/>
          <p:nvPr/>
        </p:nvPicPr>
        <p:blipFill>
          <a:blip r:embed="rId4"/>
          <a:stretch/>
        </p:blipFill>
        <p:spPr>
          <a:xfrm>
            <a:off x="17928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1 этап: окраска перь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скипятить воду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творить в горячей воде пищевой краситель для пасхальных я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пустить перья в горячий раствор красителя на несколько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сушить перья на тк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DSCN1078.jpg"/>
          <p:cNvPicPr/>
          <p:nvPr/>
        </p:nvPicPr>
        <p:blipFill>
          <a:blip r:embed="rId1"/>
          <a:stretch/>
        </p:blipFill>
        <p:spPr>
          <a:xfrm>
            <a:off x="6084720" y="333360"/>
            <a:ext cx="2495880" cy="18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Irina\Рабочий стол\скипина ёлка\DSCN1080.jpg"/>
          <p:cNvPicPr/>
          <p:nvPr/>
        </p:nvPicPr>
        <p:blipFill>
          <a:blip r:embed="rId2"/>
          <a:stretch/>
        </p:blipFill>
        <p:spPr>
          <a:xfrm>
            <a:off x="6084720" y="249228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Irina\Рабочий стол\скипина ёлка\DSCN1083.jpg"/>
          <p:cNvPicPr/>
          <p:nvPr/>
        </p:nvPicPr>
        <p:blipFill>
          <a:blip r:embed="rId3"/>
          <a:stretch/>
        </p:blipFill>
        <p:spPr>
          <a:xfrm>
            <a:off x="6084720" y="4724280"/>
            <a:ext cx="2495880" cy="18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Irina\Рабочий стол\скипина ёлка\elshar165.gif"/>
          <p:cNvPicPr/>
          <p:nvPr/>
        </p:nvPicPr>
        <p:blipFill>
          <a:blip r:embed="rId4"/>
          <a:stretch/>
        </p:blipFill>
        <p:spPr>
          <a:xfrm>
            <a:off x="611280" y="260280"/>
            <a:ext cx="733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2 этап: обрезка пер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DSCN1063.jpg"/>
          <p:cNvPicPr/>
          <p:nvPr/>
        </p:nvPicPr>
        <p:blipFill>
          <a:blip r:embed="rId1"/>
          <a:stretch/>
        </p:blipFill>
        <p:spPr>
          <a:xfrm>
            <a:off x="4859280" y="4005360"/>
            <a:ext cx="3175200" cy="23810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4" descr="DSCN1062.jpg"/>
          <p:cNvPicPr/>
          <p:nvPr/>
        </p:nvPicPr>
        <p:blipFill>
          <a:blip r:embed="rId2"/>
          <a:stretch/>
        </p:blipFill>
        <p:spPr>
          <a:xfrm>
            <a:off x="4788000" y="141300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2"/>
          <p:cNvSpPr/>
          <p:nvPr/>
        </p:nvSpPr>
        <p:spPr>
          <a:xfrm>
            <a:off x="6094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24000" y="1557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обходимо подготовить перья для накле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жницами обрезаем края перьев, чтобы придать им форму ветвей 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Irina\Рабочий стол\скипина ёлка\elshar165.gif"/>
          <p:cNvPicPr/>
          <p:nvPr/>
        </p:nvPicPr>
        <p:blipFill>
          <a:blip r:embed="rId3"/>
          <a:stretch/>
        </p:blipFill>
        <p:spPr>
          <a:xfrm>
            <a:off x="53964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3889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</a:rPr>
              <a:t>3 этап: собираем ёлоч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28640"/>
            <a:ext cx="439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Из листа белого картона сворачиваем конус, края конуса склеиваем двусторонней клейкой лент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 помощью клеящего пистолета горячим клеем приклеиваем перья к конусу ,начиная с нижнего яру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ккуратно нанесите 2,5 см полоску горячего клея вдоль ствола длинного перышка,  начиная от осн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крепляйте перьевой материал к нижней части конуса из пенопласта, стараясь располагать кончики как можно ров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DSCN1064.jpg"/>
          <p:cNvPicPr/>
          <p:nvPr/>
        </p:nvPicPr>
        <p:blipFill>
          <a:blip r:embed="rId1"/>
          <a:stretch/>
        </p:blipFill>
        <p:spPr>
          <a:xfrm>
            <a:off x="4716360" y="260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DSCN1065.jpg"/>
          <p:cNvPicPr/>
          <p:nvPr/>
        </p:nvPicPr>
        <p:blipFill>
          <a:blip r:embed="rId2"/>
          <a:stretch/>
        </p:blipFill>
        <p:spPr>
          <a:xfrm>
            <a:off x="4716360" y="3500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Irina\Рабочий стол\скипина ёлка\elshar165.gif"/>
          <p:cNvPicPr/>
          <p:nvPr/>
        </p:nvPicPr>
        <p:blipFill>
          <a:blip r:embed="rId3"/>
          <a:stretch/>
        </p:blipFill>
        <p:spPr>
          <a:xfrm>
            <a:off x="17928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«Ёлочка из пер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Это красивое дерево из невесомых пёрышек одновременно может быть необыкновенным украшением для дома и прекрасным подарком.  При взгляде на это трогательное невесомое совершенство, источающее то, что называют Духом Рождества, не покидает мысль, что его оставил Анг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DSCN1067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Irina\Рабочий стол\скипина ёлка\elshar165.gif"/>
          <p:cNvPicPr/>
          <p:nvPr/>
        </p:nvPicPr>
        <p:blipFill>
          <a:blip r:embed="rId2"/>
          <a:stretch/>
        </p:blipFill>
        <p:spPr>
          <a:xfrm>
            <a:off x="971640" y="260280"/>
            <a:ext cx="733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hulanchik.ucoz.com/load/5-1-0-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овогодний 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ы фотографии–Скипиной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littlhuman.ru/3274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lenagold.ru/fon/clipart/e/elsh6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презентации - Шуклин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Irina\Рабочий стол\скипина ёлка\elshar165.gif"/>
          <p:cNvPicPr/>
          <p:nvPr/>
        </p:nvPicPr>
        <p:blipFill>
          <a:blip r:embed="rId2"/>
          <a:stretch/>
        </p:blipFill>
        <p:spPr>
          <a:xfrm>
            <a:off x="324000" y="189000"/>
            <a:ext cx="733320" cy="1085760"/>
          </a:xfrm>
          <a:prstGeom prst="rect">
            <a:avLst/>
          </a:prstGeom>
          <a:ln w="0">
            <a:noFill/>
          </a:ln>
        </p:spPr>
      </p:pic>
      <p:sp>
        <p:nvSpPr>
          <p:cNvPr id="73" name="Подзаголовок 2"/>
          <p:cNvSpPr/>
          <p:nvPr/>
        </p:nvSpPr>
        <p:spPr>
          <a:xfrm>
            <a:off x="3173400" y="-20520"/>
            <a:ext cx="273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16:57:06Z</dcterms:modified>
  <cp:revision>29</cp:revision>
  <dc:subject/>
  <dc:title>Новогодний букет вместо ёлки «Ёлочка из перьев»</dc:title>
</cp:coreProperties>
</file>