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14A-9E27-4E37-9CEB-112593E7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641-D66A-4F53-AA39-82AE4F94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B586-C3E1-44FE-8924-866A675B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A9C4-F5F0-412D-9054-14ABA46C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00E9-046F-4C5A-B197-F93DEBA4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4DC2-26B6-48DA-96EA-3610FCF7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57BB-D3AC-459F-B6DB-7ED37C30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B752-BBBB-455D-BB26-506036B2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92EA-4353-4166-8FF7-05077C9B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6BB1-2764-42C9-A6CC-806BD537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5924-36C5-477A-857A-14CB5AEF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92C-FCBE-4FEC-9D8D-6C08BC1B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0F44-58B6-4783-B3A6-E263DCE6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89A0-CC22-4514-A2AF-1D1E93FA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9EBE-56F5-491F-B60A-66D96BB1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66FB-5C0D-4AC4-8B89-9D586D1E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9A48-16A7-40F6-B816-088ACA65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349-5976-431A-94CD-7DFA4B79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667B-546A-4F22-8272-03BC4248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6BFB-492C-4718-95EB-FE4E1CB6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4135-D00E-48CA-BAAA-9F0A9807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930-408D-41BB-A95E-3409AAAE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080D-11FE-47B5-A5C1-4B7ABBF8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4110-5450-46B3-B3C1-5E480C6D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3EAE-5C7D-48E4-8FE2-6B3EDB91E9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012F-8C78-43E4-8F0E-6736323FF6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Воинская дисциплина, 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ее суть и значение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опрос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 какие виды отпусков имеет право военнослужащий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то подлежит призыву на военную службу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кие виды формы одежды вам известн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кие знаки отличия имеются на военной форме одежд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ечислите виды обязанностей военнослужащих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 каким видам юридической ответственности привлекаются военнослужащи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оинская дисциплина есть совокупность всех нравственных, умственных и физических навыков, нужных для того, чтобы офицеры и солдаты всех степеней отвечали своему назначению…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М. И. Драгомиров,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 русский военный теоретик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Дисциплина – это определенный порядок поведения людей, отвечающий сложившимся в обществе нормам права и морали, а также требованиям той или иной организации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1600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иды (по сферам проявления)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государственная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производственна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щественна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учебна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техническая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ущность дисциплин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нание правил поведения и установленного порядк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нимание их необходимост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стойчивая привычка их соблюд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Повиновение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основа воинской дисциплины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) -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беспрекословное, сознательное подчинение командирам, выполнение их приказов, распоряжений, команд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Исполнительность – способность безусловно выполнять общие и должностные обязанности, предъявленные требования при строгом и точном соблюдении порядка и правил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Дисциплина – это беспрекословное повиновение и стражайшая исполнительность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Каждый военнослужащий – это подчиненны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ин-человек – общечеловеческие нормы права и морал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ин-гражданин – требования военной политики государств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ин-специалист – логика нормального функционирования области его компетенц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ин-начальник – принципы управленческой деятель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Показатели дисциплинированности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внешние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внутренние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строгое соблюдение воинского порядка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точное и инициативное исполнение приказов и распоряжен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добросовестное несение службы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добросовестное отношение к боевой технике и оружию, грамотное их использование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образцовый внешний вид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убеждение в необходимости и целесообразности воинской дисциплины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знание уставов и наставлений, требований военной службы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умение управлять собой в соответствии с требованиями воинской дисциплины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навыки и привычки дисциплинированного поведе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самодисциплин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22:39:07Z</dcterms:created>
  <dc:creator>Net</dc:creator>
  <dc:description/>
  <dc:language>en-US</dc:language>
  <cp:lastModifiedBy>Net</cp:lastModifiedBy>
  <dcterms:modified xsi:type="dcterms:W3CDTF">2008-04-20T09:39:41Z</dcterms:modified>
  <cp:revision>4</cp:revision>
  <dc:subject/>
  <dc:title>Воинская дисциплина,  ее суть и значение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