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FE8-AD2E-4B8C-B565-9D37A8F9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295-5ECE-498B-9F63-AB40E833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A92-3B9D-4E07-AD19-F4E4FDB3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F30-BD1A-4A97-86BE-F029BFB1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1429-6C32-456E-A527-E8148C98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266A-2D0B-48B3-820F-3FC36538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0501-AC79-4FA8-8526-6521D554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9B47-112E-45D0-8599-74382109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E01F-C9EB-46DF-9140-B2B26A0E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5F5D-0C29-42BB-A8D6-7E6450D2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D4A7-2A9E-48B8-899B-6FF839E8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704-3632-4ED7-99FA-3011B906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3BF2-ED5A-4323-91B7-428C25E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8F45-01A4-4411-9A40-9E183E7E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ED4F-4E93-4867-9898-44AF107C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0118-E0A4-40C8-BF4F-5A6E046B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D4A9-E480-42F5-ABC2-FA8ECCFA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27D-3269-4E87-994D-1AC5B805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4BB-C3CF-4DC0-B75A-539DC08D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C23-7A58-4F67-B9FA-09EFC355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042-B102-4E2C-AAAF-81D8EE5F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640-7C66-46A4-B20F-7ABA0536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76B-D37A-4FF1-A517-EC8B1F70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171-4C67-4FF5-964A-B9DA374B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257F-AC8E-4A6D-9AF1-C528B0486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64B6-DD3E-4CC1-8F8D-348A3E179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оинская дисциплина,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ее суть и значение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опрос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 какие виды отпусков имеет право военнослужащи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то подлежит призыву на военную служб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ие виды формы одежды вам известн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кие знаки отличия имеются на военной форме одеж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ечислите виды обязанностей военнослужащи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 каким видам юридической ответственности привлекаются военнослужащ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оинская дисциплина есть совокупность всех нравственных, умственных и физических навыков, нужных для того, чтобы офицеры и солдаты всех степеней отвечали своему назначению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М. И. Драгомиров,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русский военный теорети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Дисциплина – это определенный порядок поведения людей, отвечающий сложившимся в обществе нормам права и морали, а также требованиям той или иной организации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1600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иды (по сферам проявления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государственная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роизводственн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щественн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учебна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техническая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ущность дисциплин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ние правил поведения и установленного порядк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нимание их необходимост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стойчивая привычка их соблюд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Повиновение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снова воинской дисциплины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) -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беспрекословное, сознательное подчинение командирам, выполнение их приказов, распоряжений, команд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Исполнительность – способность безусловно выполнять общие и должностные обязанности, предъявленные требования при строгом и точном соблюдении порядка и правил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сциплина – это беспрекословное повиновение и стражайшая исполнительность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аждый военнослужащий – это подчиненны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человек – общечеловеческие нормы права и морал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гражданин – требования военной политики государств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специалист – логика нормального функционирования области его компетен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ин-начальник – принципы управленческой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казатели дисциплинированности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внешние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внутренние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трогое соблюдение воинского порядк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точное и инициативное исполнение приказов и распоряжений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бросовестное несение служб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бросовестное отношение к боевой технике и оружию, грамотное их использование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бразцовый внешний вид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беждение в необходимости и целесообразности воинской дисциплин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знание уставов и наставлений, требований военной служб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мение управлять собой в соответствии с требованиями воинской дисциплины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навыки и привычки дисциплинированного повед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самодисциплин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22:39:07Z</dcterms:created>
  <dc:creator>Net</dc:creator>
  <dc:description/>
  <dc:language>en-US</dc:language>
  <cp:lastModifiedBy>Net</cp:lastModifiedBy>
  <dcterms:modified xsi:type="dcterms:W3CDTF">2008-04-20T09:39:41Z</dcterms:modified>
  <cp:revision>4</cp:revision>
  <dc:subject/>
  <dc:title>Воинская дисциплина,  ее суть и знач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