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31A-96E0-4462-8EC4-725D09B9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1ED-58AF-47C8-B120-CABF5004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370-AB83-422A-9784-43C4AB40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473-EE3D-4272-BD8A-F5C8278B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66D1-EA9C-44A5-B5D2-F18FC1D6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1BDF-D6F2-4323-85F7-18FFD7D2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D80E-3CD2-4FF5-BF93-2602E566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F778-3AD2-4A0D-A3CD-F9DF090C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036E-D07E-4E8A-8501-9D9551FD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C3DC-265F-47C5-BF78-6E77A34B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0238-F4BB-44EE-98EB-FCF68272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742-A585-4233-BDE3-AA13DAE8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7D1B-3263-4555-8815-C8B2AC20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7129-A358-4073-AA7C-0327BFE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3F01-B102-462D-84C2-ED6981CB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ABF3-397F-4CD2-8FB6-0DDABCBC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C7EA-EE69-4908-A8B8-2D3F0F6A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7FC-975B-4E7B-9612-EC6B9A2F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85D-3BA5-4986-942D-F4D43AB6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373-CC9F-4127-9744-1045A86B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AB0-5526-4A50-A900-1FD27966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3A7-825C-479F-A234-254EA0BF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9C1-9896-480F-92D7-B925C550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8A4-FFB0-420A-8F8D-8E2DC05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1AEC-3DAA-4F6C-84D0-06E077B68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9B49-7F73-49C7-B1DB-E803352CC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оинская дисциплина,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ее суть и значение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опрос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 какие виды отпусков имеет право военнослужащи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то подлежит призыву на военную служб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ие виды формы одежды вам известн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ие знаки отличия имеются на военной форме одеж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числите виды обязанностей военнослужащи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 каким видам юридической ответственности привлекаются военнослужащ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оинская дисциплина есть совокупность всех нравственных, умственных и физических навыков, нужных для того, чтобы офицеры и солдаты всех степеней отвечали своему назначению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М. И. Драгомиров,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русский военный теорети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Дисциплина – это определенный порядок поведения людей, отвечающий сложившимся в обществе нормам права и морали, а также требованиям той или иной организации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16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иды (по сферам проявления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государственная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роизводственн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щественн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учебн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техническая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ущность дисциплин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ние правил поведения и установленного порядк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нимание их необходимост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стойчивая привычка их соблюд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Повиновение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снова воинской дисциплины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) -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беспрекословное, сознательное подчинение командирам, выполнение их приказов, распоряжений, команд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сполнительность – способность безусловно выполнять общие и должностные обязанности, предъявленные требования при строгом и точном соблюдении порядка и правил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сциплина – это беспрекословное повиновение и стражайшая исполнительность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аждый военнослужащий – это подчиненны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человек – общечеловеческие нормы права и морал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гражданин – требования военной политики государств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специалист – логика нормального функционирования области его компетен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начальник – принципы управленческой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казатели дисциплинированности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внешние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внутренние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трогое соблюдение воинского порядк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точное и инициативное исполнение приказов и распоряжен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бросовестное несение служб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бросовестное отношение к боевой технике и оружию, грамотное их использование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бразцовый внешний вид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беждение в необходимости и целесообразности воинской дисциплин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знание уставов и наставлений, требований военной служб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мение управлять собой в соответствии с требованиями воинской дисциплин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навыки и привычки дисциплинированного повед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амодисциплин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22:39:07Z</dcterms:created>
  <dc:creator>Net</dc:creator>
  <dc:description/>
  <dc:language>en-US</dc:language>
  <cp:lastModifiedBy>Net</cp:lastModifiedBy>
  <dcterms:modified xsi:type="dcterms:W3CDTF">2008-04-20T09:39:41Z</dcterms:modified>
  <cp:revision>4</cp:revision>
  <dc:subject/>
  <dc:title>Воинская дисциплина,  ее суть и знач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