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31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AB2-6080-474A-BDD2-85823D35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FE5-01C2-4FFA-8653-41586AB7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CA22-CE8C-40A7-88DD-B956F4E8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CC6-25B6-4DC4-AD2C-4255CAF3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F6A-0B8F-4777-819E-8FFB8131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A85-44B4-4D8D-9D69-30669019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F86-E656-4A51-8BBB-F04A63E1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B91E-0EF2-4230-B6C2-943E83F8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6D9-237B-48D0-9F72-D9CB6AEC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F570-1CA6-4872-BEB5-BD81C990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BFBA-7546-4A21-AB1A-E140CDA0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F3E-8C46-47F6-ADC2-43CC7601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FBCB-1944-4884-8657-EA0152814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енная служба – особый вид государственной федеральной служ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08000" y="2781360"/>
            <a:ext cx="54007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ухопутные вой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В - предназначены для ведения боевых действий преимущественно на суше. По своим боевым возможностям способны вести наступление в целях разгрома группировки противника и овладения его территорией, наносить огневые удары на большую глубину, отражать вторжение противника, его крупных воздушных десантов, удерживать занимаемые терри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Image23.gif (8609 bytes)"/>
          <p:cNvPicPr/>
          <p:nvPr/>
        </p:nvPicPr>
        <p:blipFill>
          <a:blip r:embed="rId2"/>
          <a:stretch/>
        </p:blipFill>
        <p:spPr>
          <a:xfrm>
            <a:off x="0" y="0"/>
            <a:ext cx="2050920" cy="1395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Image42.gif (6076 bytes)"/>
          <p:cNvPicPr/>
          <p:nvPr/>
        </p:nvPicPr>
        <p:blipFill>
          <a:blip r:embed="rId3"/>
          <a:stretch/>
        </p:blipFill>
        <p:spPr>
          <a:xfrm>
            <a:off x="5580000" y="5289480"/>
            <a:ext cx="356400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енно-воздушные с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лужат для охраны воздушных границ и отражения нападения с возд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4103640" cy="2351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500720" y="1628640"/>
            <a:ext cx="42480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640" y="27432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енно-морской фл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МФ предназначен для вооруженной защиты интересов России, ведения боевых действий на морских и океанских рубежах. Способен наносить ядерные удары по наземным объектам противника, уничтожать группировки его флота в море и базах, высаживать морские десанты, участвовать в отражении десантов против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Image35.gif (6013 bytes)"/>
          <p:cNvPicPr/>
          <p:nvPr/>
        </p:nvPicPr>
        <p:blipFill>
          <a:blip r:embed="rId2"/>
          <a:stretch/>
        </p:blipFill>
        <p:spPr>
          <a:xfrm>
            <a:off x="5940360" y="5594400"/>
            <a:ext cx="3203640" cy="1263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Image41.gif (4793 bytes)"/>
          <p:cNvPicPr/>
          <p:nvPr/>
        </p:nvPicPr>
        <p:blipFill>
          <a:blip r:embed="rId3"/>
          <a:stretch/>
        </p:blipFill>
        <p:spPr>
          <a:xfrm>
            <a:off x="0" y="5649840"/>
            <a:ext cx="450072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кетные войска стратегическо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2924280"/>
            <a:ext cx="799308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3419640" cy="2613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664240" y="4260960"/>
            <a:ext cx="3456000" cy="2598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280" y="2060640"/>
            <a:ext cx="770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ВСН включают ракетные войска стационарного и мобильного базирования, военно-космические силы, а также специальные войска. Военно-космические силы (ВКС) предназначены для отражения нападения противника в космосе и поддержания военного равновесия в стратегической космической з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51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здушно-десантные вой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21080" cy="1673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40360" y="4194000"/>
            <a:ext cx="2303640" cy="2664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2276640"/>
            <a:ext cx="78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оздушно-десантные войск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ВДВ) - мобильный род войск, предназначенный для выполнения боевых задач в тылу противника, а также для действий в качестве резерва Верховного Главного Команд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нутренние войска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3887640" cy="2825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003640" y="1916280"/>
            <a:ext cx="3745080" cy="2820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5013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лужат для охраны государственных объектов и обеспечения конституционного правопорядка внутри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йска и органы Федеральной пограничной службы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4176720" cy="3117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467320" y="1773360"/>
            <a:ext cx="3065400" cy="3095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920" y="5084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ужит для охраны государственной границы на суше и водных просторах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ЧС и войска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ражданской оборо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лужат для ликвидации последствий чрезвычайных ситуаций в мирное и воен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2360" y="1628640"/>
            <a:ext cx="4248360" cy="2840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4176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пециальные вой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4324320"/>
            <a:ext cx="3348000" cy="2533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580000" y="4290840"/>
            <a:ext cx="3564000" cy="2567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52440" y="1989000"/>
            <a:ext cx="846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назначены для инженерного обеспечения наступательных боев и операций наших войск в условиях преодоления массовых разрушений, зон радиоактивных, химических заражений и инженерных загра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Федеральная служба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существляют деятельность по следующим направлениям: борьба со шпионажем, борьба с терроризмом, контрразведывательное обеспечение важных стратегических объектов, экономическая контрразвед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59280" y="4327560"/>
            <a:ext cx="324144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знакомление обучающихся с особенностями военной службы и её отличиями от гражданской государственной службы, льготами, представляемыми военнослужащ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тие навыков анализа при работе с документами, использование метода алгоритма Клас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спитание патриотизма и гражданской поз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ведение профориентационной работы среди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24000" y="2276640"/>
            <a:ext cx="4319640" cy="122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ды военной федер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сударственной служ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123640" y="1773000"/>
            <a:ext cx="647640" cy="718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356000" y="1844640"/>
            <a:ext cx="0" cy="432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227640" y="1700280"/>
            <a:ext cx="576360" cy="792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050920" y="3213000"/>
            <a:ext cx="648000" cy="792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419640" y="3427560"/>
            <a:ext cx="288720" cy="1514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21440" y="3429000"/>
            <a:ext cx="358560" cy="1655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41960" y="3198960"/>
            <a:ext cx="647640" cy="100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43280" y="765000"/>
            <a:ext cx="295272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оруженные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нистерства об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771280" y="907920"/>
            <a:ext cx="287640" cy="217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284720" y="549000"/>
            <a:ext cx="0" cy="215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580000" y="980640"/>
            <a:ext cx="287280" cy="142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622440"/>
            <a:ext cx="936720" cy="35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51280" y="190440"/>
            <a:ext cx="93672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М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06920" y="622440"/>
            <a:ext cx="936720" cy="35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197000"/>
            <a:ext cx="2448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граничная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1258920" y="979560"/>
            <a:ext cx="287280" cy="217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1125360"/>
            <a:ext cx="2447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нутренние вой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933720"/>
            <a:ext cx="334800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елезнодорожные вой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специальные войс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4940280"/>
            <a:ext cx="288108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едеральная служб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4560" y="4149720"/>
            <a:ext cx="288144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ЧС и 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6200" y="5013360"/>
            <a:ext cx="288144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нешняя разве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иды прохождения военной служ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хождение службы п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хождение службы по контра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хождение службы прапорщиками и офицер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916360" y="4005360"/>
            <a:ext cx="360036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2936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788000" y="0"/>
            <a:ext cx="4356000" cy="2919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878120" y="3141720"/>
            <a:ext cx="54306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7240" y="1125720"/>
            <a:ext cx="768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истема военных образователь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учреждений профессиональ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образования Министерст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Российской Федер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4068720"/>
            <a:ext cx="91440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ила приема в высшие военно–учебные заведения Р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кон “О военной обязанности и военной службе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) Граждане РФ от 16 до 22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) Военнослужащие до 24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) Имеющие среднее (полное) образ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) Годные по состоянию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) Прошедшие профотбор по физической подгот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) Прошедшие профессионально-психологически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029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340000" y="3284640"/>
            <a:ext cx="40323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7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117000"/>
            <a:ext cx="4176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гражданской служ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е 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 выб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им законодательством регулируется гражданская служ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ым и регион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уницип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Солдаты по призыву, по контракту, прапорщики и офицеры являютс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енно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ражданскими 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абоч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Пограничные войска относятся 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об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ая служба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внутренних д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ие виды вооруженных сил РФ выполняют задачу по охране государственных объектов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нутренние вой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граничные вой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йска гражданской об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6360" y="-17640"/>
            <a:ext cx="3961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426600" indent="-426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военной служ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е 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 выб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им законодательством регулируется военная служба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ым и регион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уницип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Чиновники федерального и регионального уровня являютс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енно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ражданскими 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абоч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СВ, ВМФ и ВВС относятся к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об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внутренних д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чрезвычайных ситу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ой род войск является мобильным резервом Верховного Главного Коман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ая служба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здушно-десантные вой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енно-морской фл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95280" y="117000"/>
            <a:ext cx="4176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гражданской служ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не 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 выб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им законодательством регулируется гражданская служ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Федеральным и регион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уницип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Солдаты по призыву, по контракту, прапорщики и офицеры являютс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Военно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ражданскими 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абоч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Пограничные войска относятся 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об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Федеральная служба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внутренних д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ие виды вооруженных сил РФ выполняют задачу по охране государственных объек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Внутренние вой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граничные вой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йска гражданской об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16360" y="-17640"/>
            <a:ext cx="3961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426600" indent="-426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военной служ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е 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 выб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им законодательством регулируется военная служба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Федер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ым и регион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уницип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Чиновники федерального и регионального уровня являютс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енно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Гражданскими 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абоч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СВ, ВМФ и ВВС относятся 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Министерство об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внутренних д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чрезвычайных ситу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ой род войск является мобильным резервом Верховного Главного Коман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ая служба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Воздушно-десантные вой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енно-морской фл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иды федеральной государственной служ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собенности прохождения военной служ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иды прохождения военной служ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763640" y="1268280"/>
            <a:ext cx="5977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УРОК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47640" y="765000"/>
            <a:ext cx="5545440" cy="187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ды федер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сударственной служ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268000" y="2492280"/>
            <a:ext cx="574920" cy="1008000"/>
          </a:xfrm>
          <a:prstGeom prst="line">
            <a:avLst/>
          </a:prstGeom>
          <a:ln w="9360">
            <a:solidFill>
              <a:srgbClr val="f9ef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2565360"/>
            <a:ext cx="432000" cy="934920"/>
          </a:xfrm>
          <a:prstGeom prst="line">
            <a:avLst/>
          </a:prstGeom>
          <a:ln w="9360">
            <a:solidFill>
              <a:srgbClr val="f9ef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3500280"/>
            <a:ext cx="3240360" cy="19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енная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3500280"/>
            <a:ext cx="374328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ажданская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облемно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131920"/>
            <a:ext cx="777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 документов выписать особ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ряд – особенности гражданской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ряд – особенности военной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429264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зовите основные отличия военной и гражданской служ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24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ражданская служ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об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гулируется федеральными и региональными (субъектов РФ) зако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еспечение управления государственных орга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ва и свобода без ограни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сударственные служащие (чиновни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692280"/>
            <a:ext cx="397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енная служ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язательность по Конститу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едеральными зако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еспечение вооруженной  защиты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ва и свободы с некоторыми огранич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еннослужащие по призыву, по контракту, прапорщики и офиц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333360"/>
            <a:ext cx="0" cy="6264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40000" y="2276640"/>
            <a:ext cx="4319640" cy="122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ды военной федера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сударственной служ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123640" y="1773000"/>
            <a:ext cx="647640" cy="718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356000" y="1557360"/>
            <a:ext cx="0" cy="719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227640" y="1700280"/>
            <a:ext cx="576360" cy="792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050920" y="3271680"/>
            <a:ext cx="648000" cy="792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563640" y="3427560"/>
            <a:ext cx="144360" cy="865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21440" y="3429000"/>
            <a:ext cx="214200" cy="863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3198960"/>
            <a:ext cx="647640" cy="100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0360" y="214200"/>
            <a:ext cx="331164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оруженные си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нистерства обо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1907640" y="549360"/>
            <a:ext cx="792360" cy="287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012000" y="620640"/>
            <a:ext cx="792000" cy="216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обенности прохождения военной служ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инистерства и ведомства, в которых предусмотрена организация военной служб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оруженные Силы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нутренние войска МВД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йска и органы Федеральной пограничной службы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ЧС и войска гражданской об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ужба внешней разве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едеральная служба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йска и органы ФАП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1:45:24Z</dcterms:created>
  <dc:creator>Кухтенко</dc:creator>
  <dc:description/>
  <dc:language>en-US</dc:language>
  <cp:lastModifiedBy>Марина Семёновна</cp:lastModifiedBy>
  <dcterms:modified xsi:type="dcterms:W3CDTF">2009-03-04T15:27:35Z</dcterms:modified>
  <cp:revision>24</cp:revision>
  <dc:subject/>
  <dc:title>Статус военнослужащего.</dc:title>
</cp:coreProperties>
</file>