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0FF-6FCF-4071-B65D-17435BF7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A25-6A7E-4140-9DA9-B1F3496E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A17-98D0-4A6C-823C-40F6D821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622-E3E7-4F3D-960F-B0D66CC8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A30-BFB7-44A5-A096-D2DEAA9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496-D063-4C24-B93E-A1E463D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621-5866-4072-9BF9-0495EF04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891-F943-43AE-9705-8295D105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98D-D0D2-4716-A706-C591D95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C8A-57F9-4D1C-AC41-298B317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FB-9630-4366-8EC0-5202D2E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82D-5355-4D2B-AF6C-872F485D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264-3014-41F4-9F2B-21D9120F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ая служба – особый вид государственной федераль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4007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ухопутные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 - предназначены для ведения боевых действий преимущественно на суше. По своим боевым возможностям способны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удерживать занимаемые терри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mage23.gif (8609 bytes)"/>
          <p:cNvPicPr/>
          <p:nvPr/>
        </p:nvPicPr>
        <p:blipFill>
          <a:blip r:embed="rId2"/>
          <a:stretch/>
        </p:blipFill>
        <p:spPr>
          <a:xfrm>
            <a:off x="0" y="0"/>
            <a:ext cx="2050920" cy="139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Image42.gif (6076 bytes)"/>
          <p:cNvPicPr/>
          <p:nvPr/>
        </p:nvPicPr>
        <p:blipFill>
          <a:blip r:embed="rId3"/>
          <a:stretch/>
        </p:blipFill>
        <p:spPr>
          <a:xfrm>
            <a:off x="5580000" y="5289480"/>
            <a:ext cx="356400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воздушные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охраны воздушных границ и отражения нападения с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03640" cy="235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500720" y="1628640"/>
            <a:ext cx="42480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МФ предназначен для вооруженной защиты интересов России, ведения боевых действий на морских и океанских рубежах. Способен наносить ядерные удары по наземным объектам противника, уничтожать группировки его флота в море и базах, высаживать морские десанты, участвовать в отражении десантов против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Image35.gif (6013 bytes)"/>
          <p:cNvPicPr/>
          <p:nvPr/>
        </p:nvPicPr>
        <p:blipFill>
          <a:blip r:embed="rId2"/>
          <a:stretch/>
        </p:blipFill>
        <p:spPr>
          <a:xfrm>
            <a:off x="5940360" y="5594400"/>
            <a:ext cx="3203640" cy="1263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mage41.gif (4793 bytes)"/>
          <p:cNvPicPr/>
          <p:nvPr/>
        </p:nvPicPr>
        <p:blipFill>
          <a:blip r:embed="rId3"/>
          <a:stretch/>
        </p:blipFill>
        <p:spPr>
          <a:xfrm>
            <a:off x="0" y="5649840"/>
            <a:ext cx="4500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кетные войска стратегическо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924280"/>
            <a:ext cx="79930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3419640" cy="2613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64240" y="4260960"/>
            <a:ext cx="3456000" cy="2598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2060640"/>
            <a:ext cx="77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ВСН включают ракетные войска стационарного и мобильного базирования, военно-космические силы, а также специальные войска. Военно-космические силы (ВКС) предназначены для отражения нападения противника в космосе и поддержания военного равновесия в стратегической космическо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21080" cy="1673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40360" y="4194000"/>
            <a:ext cx="2303640" cy="2664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227664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оздушно-десантные войск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ВДВ) - мобильный род войск, предназначенный для выполнения боевых задач в тылу противника, а также для действий в качестве резерва Верховного Главного Коман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ие войска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887640" cy="282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745080" cy="2820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501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лужат для охраны государственных объектов и обеспечения конституционного правопорядка внутри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76720" cy="3117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67320" y="1773360"/>
            <a:ext cx="306540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508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ит для охраны государственной границы на суше и водных просторах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ЧС и войска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ажданской обо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лужат для ликвидации последствий чрезвычайных ситуаций в мирное и воен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2360" y="1628640"/>
            <a:ext cx="4248360" cy="284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4176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пециальные вой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324320"/>
            <a:ext cx="3348000" cy="2533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80000" y="4290840"/>
            <a:ext cx="3564000" cy="2567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2440" y="1989000"/>
            <a:ext cx="846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назначены для инженерного обеспечения наступательных боев и операций наших войск в условиях преодоления массовых разрушений, зон радиоактивных, химических заражений и инженерных загра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уществляют деятельность по следующим направлениям: борьба со шпионажем, борьба с терроризмом, контрразведывательное обеспечение важных стратегических объектов, экономическая контрразве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59280" y="4327560"/>
            <a:ext cx="32414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накомление обучающихся с особенностями военной службы и её отличиями от гражданской государственной службы, льготами, представляемыми военнослужащ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навыков анализа при работе с документами, использование метода алгоритма Клас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ние патриотизма и гражданской поз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дение профориентационной работы сред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4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56000" y="1844640"/>
            <a:ext cx="0" cy="43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321300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19640" y="3427560"/>
            <a:ext cx="288720" cy="1514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429000"/>
            <a:ext cx="358560" cy="165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9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765000"/>
            <a:ext cx="295272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оруженные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771280" y="907920"/>
            <a:ext cx="28764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84720" y="549000"/>
            <a:ext cx="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0000" y="980640"/>
            <a:ext cx="28728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90440"/>
            <a:ext cx="936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М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6920" y="622440"/>
            <a:ext cx="936720" cy="358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24480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гранич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258920" y="979560"/>
            <a:ext cx="28728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125360"/>
            <a:ext cx="244764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утренни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933720"/>
            <a:ext cx="334800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елезнодорожные вой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пециальные вой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940280"/>
            <a:ext cx="28810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деральная служ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4560" y="414972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ЧС и 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6200" y="5013360"/>
            <a:ext cx="28814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нешняя разве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о контра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хождение службы прапорщиками и офице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916360" y="4005360"/>
            <a:ext cx="360036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2919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878120" y="3141720"/>
            <a:ext cx="54306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7240" y="1125720"/>
            <a:ext cx="768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истема военных образователь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реждений профессиональ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бразования Министер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Российской Федер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4068720"/>
            <a:ext cx="9144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ила приема в высшие военно–учебные заведения Р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он “О военной обязанности и военной службе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) Граждане РФ от 16 до 2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) Военнослужащие до 2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) Имеющие среднее (полное) 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) Годные по состоянию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) Прошедшие профотбор по физической подгот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) Прошедшие профессионально-психологически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29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340000" y="3284640"/>
            <a:ext cx="4032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117000"/>
            <a:ext cx="4176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гражданск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граждан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олдаты по призыву, по контракту, прапорщики и офицеры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Пограничные войска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е виды вооруженных сил РФ выполняют задачу по охране государственных объек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нутренни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гранич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йска гражданской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16360" y="-17640"/>
            <a:ext cx="3961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426600" indent="-426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военной служ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е обяз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 выб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им законодательством регулируется военная служба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Федер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ым и регион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униципаль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Чиновники федерального и регионального уровня являютс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Гражданскими служащ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боч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СВ, ВМФ и ВВС относятся 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Министерство об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внутренних 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инистерство чрезвычай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Какой род войск является мобильным резервом Верховного Главного Коман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cc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Воздушно-десантные во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3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енно-морской фл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федеральной государств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иды прохождения военной служ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63640" y="1268280"/>
            <a:ext cx="5977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УРОК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765000"/>
            <a:ext cx="5545440" cy="187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ы федер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68000" y="2492280"/>
            <a:ext cx="574920" cy="100800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24360" y="2565360"/>
            <a:ext cx="432000" cy="934920"/>
          </a:xfrm>
          <a:prstGeom prst="line">
            <a:avLst/>
          </a:prstGeom>
          <a:ln w="9360">
            <a:solidFill>
              <a:srgbClr val="f9ef2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3500280"/>
            <a:ext cx="324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енн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500280"/>
            <a:ext cx="374328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облемн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131920"/>
            <a:ext cx="77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 документов выписать особ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ряд – особенности гражданск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ряд – особенности военной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4292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основные отличия военной и гражданской служ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24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жданск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улируется федеральными и региональными (субъектов РФ)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управления государственных орга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а без ограни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енные служащие (чиновн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692280"/>
            <a:ext cx="39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ая служ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язательность по Ко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едеральными зак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ение вооруженной  защит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ва и свободы с некоторыми огранич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еннослужащие по призыву, по контракту, прапорщики и офиц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333360"/>
            <a:ext cx="0" cy="6264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40000" y="2276640"/>
            <a:ext cx="431964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военной федер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ударственн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123640" y="1773000"/>
            <a:ext cx="647640" cy="718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356000" y="1557360"/>
            <a:ext cx="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227640" y="1700280"/>
            <a:ext cx="576360" cy="792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0920" y="3271680"/>
            <a:ext cx="648000" cy="792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563640" y="3427560"/>
            <a:ext cx="144360" cy="86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21440" y="3429000"/>
            <a:ext cx="214200" cy="863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198960"/>
            <a:ext cx="64764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14200"/>
            <a:ext cx="331164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оруженные си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стерства об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07640" y="549360"/>
            <a:ext cx="792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012000" y="620640"/>
            <a:ext cx="79200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хождения военной служ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инистерства и ведомства, в которых предусмотрена организация военной служб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оруженные Сил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утренние войска МВД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едеральной пограничной служб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ЧС и войска гражданской об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ужба внешней разве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деральная служб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йска и органы ФАП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1:45:24Z</dcterms:created>
  <dc:creator>Кухтенко</dc:creator>
  <dc:description/>
  <dc:language>en-US</dc:language>
  <cp:lastModifiedBy>Марина Семёновна</cp:lastModifiedBy>
  <dcterms:modified xsi:type="dcterms:W3CDTF">2009-03-04T15:27:35Z</dcterms:modified>
  <cp:revision>24</cp:revision>
  <dc:subject/>
  <dc:title>Статус военнослужащего.</dc:title>
</cp:coreProperties>
</file>