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9F1-885D-4DB3-8107-C30E035C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8F6-FDAE-475D-82A7-23DA05CC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878-E9C3-4CC6-802F-BCC71627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3E0-583C-4BE9-8D23-CE9E10A5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5E0-E08D-475D-856C-092461AC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5EC-FA3F-4C9F-BED4-EC3D6E83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C12-FA9F-42BE-A5EF-FDFC8D14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DF2-571E-4A56-A812-AEE032FE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946-2443-43C6-9B1E-EFCF56CB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C82-BC25-4344-B102-E11ACDED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B83-FEAE-4822-B319-D043B5E1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035-08E5-4F71-B97E-E9103EA8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817A-1D7D-49A4-820B-C497BF00E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енная служба – особый вид государственной федеральной служ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54007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ухопутные вой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 - предназначены для ведения боевых действий преимущественно на суше. По своим боевым возможностям способны вести наступление в целях разгрома группировки противника и овладения его территорией, наносить огневые удары на большую глубину, отражать вторжение противника, его крупных воздушных десантов, удерживать занимаемые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Image23.gif (8609 bytes)"/>
          <p:cNvPicPr/>
          <p:nvPr/>
        </p:nvPicPr>
        <p:blipFill>
          <a:blip r:embed="rId2"/>
          <a:stretch/>
        </p:blipFill>
        <p:spPr>
          <a:xfrm>
            <a:off x="0" y="0"/>
            <a:ext cx="2050920" cy="1395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Image42.gif (6076 bytes)"/>
          <p:cNvPicPr/>
          <p:nvPr/>
        </p:nvPicPr>
        <p:blipFill>
          <a:blip r:embed="rId3"/>
          <a:stretch/>
        </p:blipFill>
        <p:spPr>
          <a:xfrm>
            <a:off x="5580000" y="5289480"/>
            <a:ext cx="35640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енно-воздушные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лужат для охраны воздушных границ и отражения нападения с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103640" cy="235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00720" y="1628640"/>
            <a:ext cx="42480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енно-морской фл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МФ предназначен для вооруженной защиты интересов России, ведения боевых действий на морских и океанских рубежах. Способен наносить ядерные удары по наземным объектам противника, уничтожать группировки его флота в море и базах, высаживать морские десанты, участвовать в отражении десантов против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Image35.gif (6013 bytes)"/>
          <p:cNvPicPr/>
          <p:nvPr/>
        </p:nvPicPr>
        <p:blipFill>
          <a:blip r:embed="rId2"/>
          <a:stretch/>
        </p:blipFill>
        <p:spPr>
          <a:xfrm>
            <a:off x="5940360" y="5594400"/>
            <a:ext cx="3203640" cy="1263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Image41.gif (4793 bytes)"/>
          <p:cNvPicPr/>
          <p:nvPr/>
        </p:nvPicPr>
        <p:blipFill>
          <a:blip r:embed="rId3"/>
          <a:stretch/>
        </p:blipFill>
        <p:spPr>
          <a:xfrm>
            <a:off x="0" y="5649840"/>
            <a:ext cx="45007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кетные войска стратегическо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924280"/>
            <a:ext cx="79930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3419640" cy="261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664240" y="4260960"/>
            <a:ext cx="3456000" cy="2598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2060640"/>
            <a:ext cx="770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ВСН включают ракетные войска стационарного и мобильного базирования, военно-космические силы, а также специальные войска. Военно-космические силы (ВКС) предназначены для отражения нападения противника в космосе и поддержания военного равновесия в стратегической космической з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51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здушно-десантные вой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21080" cy="1673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40360" y="4194000"/>
            <a:ext cx="2303640" cy="2664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2276640"/>
            <a:ext cx="78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оздушно-десантные войск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ВДВ) - мобильный род войск, предназначенный для выполнения боевых задач в тылу противника, а также для действий в качестве резерва Верховного Главного Коман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нутренние войска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3887640" cy="282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3745080" cy="2820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501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лужат для охраны государственных объектов и обеспечения конституционного правопорядка внутри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йска и органы Федеральной пограничной служб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176720" cy="3117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67320" y="1773360"/>
            <a:ext cx="3065400" cy="30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5084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жит для охраны государственной границы на суше и водных просторах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ЧС и войска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жданской обор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лужат для ликвидации последствий чрезвычайных ситуаций в мирное и воен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2360" y="1628640"/>
            <a:ext cx="4248360" cy="284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4176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пециальные вой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4324320"/>
            <a:ext cx="3348000" cy="2533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580000" y="4290840"/>
            <a:ext cx="3564000" cy="2567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52440" y="1989000"/>
            <a:ext cx="846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назначены для инженерного обеспечения наступательных боев и операций наших войск в условиях преодоления массовых разрушений, зон радиоактивных, химических заражений и инженерных загра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уществляют деятельность по следующим направлениям: борьба со шпионажем, борьба с терроризмом, контрразведывательное обеспечение важных стратегических объектов, экономическая контрразве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59280" y="4327560"/>
            <a:ext cx="32414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знакомление обучающихся с особенностями военной службы и её отличиями от гражданской государственной службы, льготами, представляемыми военнослужащ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навыков анализа при работе с документами, использование метода алгоритма Клас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питание патриотизма и гражданской поз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дение профориентационной работы среди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24000" y="2276640"/>
            <a:ext cx="4319640" cy="12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военной федер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енн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123640" y="1773000"/>
            <a:ext cx="647640" cy="718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56000" y="1844640"/>
            <a:ext cx="0" cy="43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227640" y="1700280"/>
            <a:ext cx="576360" cy="79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50920" y="3213000"/>
            <a:ext cx="648000" cy="792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419640" y="3427560"/>
            <a:ext cx="288720" cy="1514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429000"/>
            <a:ext cx="358560" cy="165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1960" y="3198960"/>
            <a:ext cx="647640" cy="100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765000"/>
            <a:ext cx="2952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оруженные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истерства об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771280" y="907920"/>
            <a:ext cx="287640" cy="217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284720" y="549000"/>
            <a:ext cx="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580000" y="980640"/>
            <a:ext cx="287280" cy="142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622440"/>
            <a:ext cx="93672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190440"/>
            <a:ext cx="936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М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6920" y="622440"/>
            <a:ext cx="93672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97000"/>
            <a:ext cx="2448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граничн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258920" y="979560"/>
            <a:ext cx="287280" cy="217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1125360"/>
            <a:ext cx="24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утренние вой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933720"/>
            <a:ext cx="334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лезнодорожные вой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специальные вой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4940280"/>
            <a:ext cx="288108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деральная служ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4560" y="4149720"/>
            <a:ext cx="288144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ЧС и 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6200" y="5013360"/>
            <a:ext cx="288144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ешняя разве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иды прохождения военной служ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хождение службы п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хождение службы по контра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хождение службы прапорщиками и офице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916360" y="4005360"/>
            <a:ext cx="360036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293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2919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878120" y="3141720"/>
            <a:ext cx="54306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7240" y="1125720"/>
            <a:ext cx="768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истема военных образователь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чреждений профессиональ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бразования Министер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оссийской Феде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4068720"/>
            <a:ext cx="9144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а приема в высшие военно–учебные заведения Р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он “О военной обязанности и военной службе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Граждане РФ от 16 до 2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) Военнослужащие до 24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) Имеющие среднее (полное) образ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) Годные по состоянию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) Прошедшие профотбор по физической подгот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) Прошедшие профессионально-психологически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29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40000" y="3284640"/>
            <a:ext cx="40323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7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17000"/>
            <a:ext cx="4176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гражданск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гражданская служ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олдаты по призыву, по контракту, прапорщики и офицеры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Пограничные войска относятся 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е виды вооруженных сил РФ выполняют задачу по охране государственных объектов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нутренни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гранич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йска гражданской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-17640"/>
            <a:ext cx="396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6600" indent="-426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енн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военная служба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Чиновники федерального и регионального уровня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В, ВМФ и ВВС относятся к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чрезвычайных 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ой род войск является мобильным резервом Верховного Главного Коман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здушно-десант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-морской фл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117000"/>
            <a:ext cx="4176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гражданск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гражданская служ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олдаты по призыву, по контракту, прапорщики и офицеры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Пограничные войска относятся 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е виды вооруженных сил РФ выполняют задачу по охране государственных объе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Внутренни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гранич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йска гражданской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16360" y="-17640"/>
            <a:ext cx="396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6600" indent="-426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енн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военная служба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Чиновники федерального и регионального уровня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В, ВМФ и ВВС относятся 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чрезвычайных 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ой род войск является мобильным резервом Верховного Главного Коман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Воздушно-десант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-морской фл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ы федеральной государственной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обенности прохождения военной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ы прохождения военной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763640" y="1268280"/>
            <a:ext cx="5977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УРОК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47640" y="765000"/>
            <a:ext cx="5545440" cy="187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федер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енн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68000" y="2492280"/>
            <a:ext cx="574920" cy="1008000"/>
          </a:xfrm>
          <a:prstGeom prst="line">
            <a:avLst/>
          </a:prstGeom>
          <a:ln w="9360">
            <a:solidFill>
              <a:srgbClr val="f9ef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2565360"/>
            <a:ext cx="432000" cy="934920"/>
          </a:xfrm>
          <a:prstGeom prst="line">
            <a:avLst/>
          </a:prstGeom>
          <a:ln w="9360">
            <a:solidFill>
              <a:srgbClr val="f9ef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500280"/>
            <a:ext cx="324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3500280"/>
            <a:ext cx="374328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жданск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блемн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131920"/>
            <a:ext cx="777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документов выписать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ряд – особенности гражданской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ряд – особенности военной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429264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овите основные отличия военной и гражданской служ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24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жданская сл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гулируется федеральными и региональными (субъектов РФ) зак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ение управления государственных орга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а и свобода без ограни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енные служащие (чиновн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692280"/>
            <a:ext cx="39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енная сл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язательность по Конститу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едеральными зак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ение вооруженной  защиты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а и свободы с некоторыми ограни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еннослужащие по призыву, по контракту, прапорщики и офиц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333360"/>
            <a:ext cx="0" cy="6264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40000" y="2276640"/>
            <a:ext cx="4319640" cy="12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ы военной федер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ой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123640" y="1773000"/>
            <a:ext cx="647640" cy="718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356000" y="1557360"/>
            <a:ext cx="0" cy="719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227640" y="1700280"/>
            <a:ext cx="576360" cy="79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0920" y="3271680"/>
            <a:ext cx="648000" cy="792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563640" y="3427560"/>
            <a:ext cx="144360" cy="865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21440" y="3429000"/>
            <a:ext cx="214200" cy="863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198960"/>
            <a:ext cx="647640" cy="100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214200"/>
            <a:ext cx="331164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оруженные си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ерства об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907640" y="549360"/>
            <a:ext cx="792360" cy="287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012000" y="620640"/>
            <a:ext cx="79200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хождения военной служ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инистерства и ведомства, в которых предусмотрена организация военной служ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оруженные Силы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нутренние войска МВД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йска и органы Федеральной пограничной службы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ЧС и войска гражданской об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жба внешней разве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йска и органы ФАП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1:45:24Z</dcterms:created>
  <dc:creator>Кухтенко</dc:creator>
  <dc:description/>
  <dc:language>en-US</dc:language>
  <cp:lastModifiedBy>Марина Семёновна</cp:lastModifiedBy>
  <dcterms:modified xsi:type="dcterms:W3CDTF">2009-03-04T15:27:35Z</dcterms:modified>
  <cp:revision>24</cp:revision>
  <dc:subject/>
  <dc:title>Статус военнослужащего.</dc:title>
</cp:coreProperties>
</file>