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55.gif" ContentType="image/gif"/>
  <Override PartName="/ppt/media/image1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1.png" ContentType="image/png"/>
  <Override PartName="/ppt/media/image39.png" ContentType="image/png"/>
  <Override PartName="/ppt/media/image45.jpeg" ContentType="image/jpeg"/>
  <Override PartName="/ppt/media/image46.png" ContentType="image/png"/>
  <Override PartName="/ppt/media/image53.gif" ContentType="image/gif"/>
  <Override PartName="/ppt/media/image43.jpeg" ContentType="image/jpeg"/>
  <Override PartName="/ppt/media/image47.gif" ContentType="image/gif"/>
  <Override PartName="/ppt/media/image30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50.gif" ContentType="image/gif"/>
  <Override PartName="/ppt/media/image3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D34-AA49-43E1-B7A9-4859127B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5D6-C077-44C9-A99D-53A0B73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142-818A-41F0-B756-42B7F7E4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141-3ADD-442C-BCA8-28D2A6CD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F40FC-D280-42C3-9009-F0A113FA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D2D61-1E50-439A-BF63-871ACB45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57BB3-2725-4FFA-8B50-8210A54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D65A-9DF4-4040-8E96-E357B20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E6EB9-BF28-488C-95D2-E8F69BB1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7D1A6-4A43-4C9B-B13A-3CFB997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F268C-1A17-4765-BEF8-DB6F411F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15C-4DC1-4FF0-9FF4-FA3164E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74EBA-B907-439B-9D6F-4547194F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A96AC-6342-465F-A631-3A92A6ED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21D84-74E7-4EEE-9AB9-88C1608F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7C744-FAED-45BA-AE85-C5DDAB33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C74FC-3F7D-4185-B674-DA4F99E8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1E7-7B79-49E8-A559-E3FE00D4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66A-16F2-4D3E-AEC6-F97C540B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346-36BA-462C-9205-FF4E5CF9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172-0A78-4F73-A61A-3ECB5427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839-F6CB-4F91-B0B4-9E7C42B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5EC-E4C3-4735-89AA-EF551E8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A80-83DB-4EEA-A6D9-1CE6DA6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352A-0307-4B89-9586-C884A193C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4798-95FE-4F7F-BF02-A01E429F37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elobarnaul.ru/photo/gallery/big/image_001053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mzv.by.ru/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p=2&amp;p=3&amp;ed=1&amp;text=&#1088;&#1072;&#1079;&#1084;&#1077;&#1088;&#1099;%20&#1082;&#1072;&#1087;&#1077;&#1083;&#1100;&amp;spsite=gallery.saransk.ru&amp;img_url=gallery.saransk.ru%2Falbums%2Fuserpics%2F11076%2Fnormal_%25CA%25E0%25EF%25EB%25E8.jpg&amp;rpt=simage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езентация урока по теме «Виды облаков и атмосферные осад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4360" y="4869000"/>
            <a:ext cx="27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Выполнил 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МОУ Сокурская СОШ : Сидорова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http://meteocenter.net/clouds/Ch/pic/Ci_sp.jpg"/>
          <p:cNvPicPr/>
          <p:nvPr/>
        </p:nvPicPr>
        <p:blipFill>
          <a:blip r:embed="rId1"/>
          <a:stretch/>
        </p:blipFill>
        <p:spPr>
          <a:xfrm>
            <a:off x="3000240" y="3789360"/>
            <a:ext cx="3000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9000"/>
            <a:ext cx="53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уда берется вод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да появляется из ручей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 пути собирает ре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ека полноводно бежит на просторе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а, наконец, не вливается в мо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оря пополняют запас океана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гущается влага над ним как сметан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на поднимается выше на неб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том превратиться в облако где-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 облака, пролетая над нам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ем проливаются, сыплют снегами.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ега превратятся весной в ручейк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бегут до ближайшей реки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се это в народе и зовут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РУГОВОРОТОМ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59280" y="393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2" descr="http://festival.1september.ru/articles/515942/img2.jpg"/>
          <p:cNvPicPr/>
          <p:nvPr/>
        </p:nvPicPr>
        <p:blipFill>
          <a:blip r:embed="rId1"/>
          <a:stretch/>
        </p:blipFill>
        <p:spPr>
          <a:xfrm>
            <a:off x="3924360" y="4021200"/>
            <a:ext cx="521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уда взялась вода в атмосфере? (образовалась в результате испарения с поверхности земли и образует в воздухе водяной па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руговорот воды в природе начинается с испарения. Под воздействием солнечных лучей вода испаряется с поверхности земли, водоемов, растений. Пар поднимается вверх и, достигнув более холодных слоев атмосферы, на небе появляются обла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Конвективные осадки.mpg" descr=""/>
          <p:cNvPicPr/>
          <p:nvPr/>
        </p:nvPicPr>
        <p:blipFill>
          <a:blip r:embed="rId1"/>
          <a:stretch/>
        </p:blipFill>
        <p:spPr>
          <a:xfrm>
            <a:off x="4762440" y="2552760"/>
            <a:ext cx="381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280" y="260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лайд (туман) Что вы видите на слай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овы причины образования тум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звешенные в воздухе мельчайшие капли воды, образовались в результате конденсации водяного пара при охлаждении воздуха или испарении над водоёмами и влажными участками су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ttp://im0-tub.yandex.net/i?id=1823299&amp;tov=0"/>
          <p:cNvPicPr/>
          <p:nvPr/>
        </p:nvPicPr>
        <p:blipFill>
          <a:blip r:embed="rId1"/>
          <a:stretch/>
        </p:blipFill>
        <p:spPr>
          <a:xfrm>
            <a:off x="1476360" y="2639880"/>
            <a:ext cx="5651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404640"/>
            <a:ext cx="8675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 если поднять туман выш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Что тогда произойдёт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артинка 13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Сквозь несущиеся с бешенной скоростью облака, &#10;и порывы удушающих серных газов из фумарол, &#10;иногда удается увидеть подножье вулкана"/>
          <p:cNvPicPr/>
          <p:nvPr/>
        </p:nvPicPr>
        <p:blipFill>
          <a:blip r:embed="rId3"/>
          <a:stretch/>
        </p:blipFill>
        <p:spPr>
          <a:xfrm>
            <a:off x="3857760" y="1714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604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се вы видели облака, расскажите как они выглядят и чем отличаются друг от друг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спользуя учебник на стр.123-124 давайте начнё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заполнение таблицы( см. рабочий лист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http://festival.1september.ru/articles/502828/img1.gif"/>
          <p:cNvPicPr/>
          <p:nvPr/>
        </p:nvPicPr>
        <p:blipFill>
          <a:blip r:embed="rId1"/>
          <a:stretch/>
        </p:blipFill>
        <p:spPr>
          <a:xfrm>
            <a:off x="1042920" y="1413000"/>
            <a:ext cx="7309080" cy="97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raduga777.ucoz.ru/Rainbow/oblaka.jpg"/>
          <p:cNvPicPr/>
          <p:nvPr/>
        </p:nvPicPr>
        <p:blipFill>
          <a:blip r:embed="rId2"/>
          <a:stretch/>
        </p:blipFill>
        <p:spPr>
          <a:xfrm>
            <a:off x="0" y="2428920"/>
            <a:ext cx="3143160" cy="18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meteoweb.ru/img/phenom/phen034-2.jpg"/>
          <p:cNvPicPr/>
          <p:nvPr/>
        </p:nvPicPr>
        <p:blipFill>
          <a:blip r:embed="rId3"/>
          <a:stretch/>
        </p:blipFill>
        <p:spPr>
          <a:xfrm>
            <a:off x="3571920" y="2500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propogodu.ru/f/a0/ru/images/Clouds/Cirrus%20spissatus_400x300(1).jpg"/>
          <p:cNvPicPr/>
          <p:nvPr/>
        </p:nvPicPr>
        <p:blipFill>
          <a:blip r:embed="rId4"/>
          <a:stretch/>
        </p:blipFill>
        <p:spPr>
          <a:xfrm>
            <a:off x="6215040" y="24289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549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учев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12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Ливневы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ttp://ochevidec.net/content/story3/27/9.jpg"/>
          <p:cNvPicPr/>
          <p:nvPr/>
        </p:nvPicPr>
        <p:blipFill>
          <a:blip r:embed="rId1"/>
          <a:stretch/>
        </p:blipFill>
        <p:spPr>
          <a:xfrm>
            <a:off x="214200" y="1285920"/>
            <a:ext cx="279108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www.meteo-nso.ru/img/files/groza.jpg"/>
          <p:cNvPicPr/>
          <p:nvPr/>
        </p:nvPicPr>
        <p:blipFill>
          <a:blip r:embed="rId2"/>
          <a:stretch/>
        </p:blipFill>
        <p:spPr>
          <a:xfrm>
            <a:off x="5143680" y="35712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site-for-you.moy.su/_nw/0/54533.jpg"/>
          <p:cNvPicPr/>
          <p:nvPr/>
        </p:nvPicPr>
        <p:blipFill>
          <a:blip r:embed="rId3"/>
          <a:stretch/>
        </p:blipFill>
        <p:spPr>
          <a:xfrm>
            <a:off x="0" y="3914640"/>
            <a:ext cx="4191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Слоистые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оросящи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9" descr="http://www.india.fotoputi.com/img/garhwal/kedarnath/IMG_6355.jpg"/>
          <p:cNvPicPr/>
          <p:nvPr/>
        </p:nvPicPr>
        <p:blipFill>
          <a:blip r:embed="rId1"/>
          <a:stretch/>
        </p:blipFill>
        <p:spPr>
          <a:xfrm>
            <a:off x="0" y="1125360"/>
            <a:ext cx="3821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468360" y="40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рист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35640" y="630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адков не выпад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meteoweb.ru/img/diary/2008q3/20080823-0-2.jpg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имер заполнения таблицы «Сравнительная характеристика облак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25360"/>
          <a:ext cx="8507520" cy="4749840"/>
        </p:xfrm>
        <a:graphic>
          <a:graphicData uri="http://schemas.openxmlformats.org/drawingml/2006/table">
            <a:tbl>
              <a:tblPr/>
              <a:tblGrid>
                <a:gridCol w="1127160"/>
                <a:gridCol w="1191960"/>
                <a:gridCol w="1636920"/>
                <a:gridCol w="1716120"/>
                <a:gridCol w="1538280"/>
                <a:gridCol w="1297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нешний ви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ысот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какой сезон года можно наблюд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чин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чев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-10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 весны по 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подъёме тёпл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ло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нее 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р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-1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верхних частях тропосферы 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68360" y="40464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скажите, из всех облаков выпадают осадки?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чему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возьмите перышко которое лежит на вашем столе, представьте, что перышко это капля дождя, повторяйте за м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дуйте на пёрышко сни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ёрышко не падает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й возникает отве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Снизу конвективные потоки поднимают каплю ввер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в каком случае капля – перо упадет на земную поверхность?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огда масса капли будет преодолевать поднимающиеся потоки воздух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Денежное пер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000680"/>
            <a:ext cx="361944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data4.gallery.ru/albums/gallery/91121--10172001-m549x500.jpg"/>
          <p:cNvPicPr/>
          <p:nvPr/>
        </p:nvPicPr>
        <p:blipFill>
          <a:blip r:embed="rId3"/>
          <a:stretch/>
        </p:blipFill>
        <p:spPr>
          <a:xfrm>
            <a:off x="4638600" y="3643200"/>
            <a:ext cx="4505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. рассмотреть виды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.Рассмотреть основные виды об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.Научиться строить диаграмму годового количества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мальчик"/>
          <p:cNvPicPr/>
          <p:nvPr/>
        </p:nvPicPr>
        <p:blipFill>
          <a:blip r:embed="rId1"/>
          <a:stretch/>
        </p:blipFill>
        <p:spPr>
          <a:xfrm>
            <a:off x="611280" y="3645000"/>
            <a:ext cx="22557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42920" y="836640"/>
            <a:ext cx="69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теперь давайте представим, что происходит внутри облака. Встаньте. Мы капельки воды в облаке. Что мы должны делать? 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апли все время двигаются). (Они сталкиваются, сливаются,  постепенно становятся больше и тяжеле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http://meteoinfo.ru/media/through_the_eyes/clouds_n_prison.JPG"/>
          <p:cNvPicPr/>
          <p:nvPr/>
        </p:nvPicPr>
        <p:blipFill>
          <a:blip r:embed="rId1"/>
          <a:stretch/>
        </p:blipFill>
        <p:spPr>
          <a:xfrm>
            <a:off x="0" y="4000680"/>
            <a:ext cx="4095720" cy="27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 (699x464, 47Kb)"/>
          <p:cNvPicPr/>
          <p:nvPr/>
        </p:nvPicPr>
        <p:blipFill>
          <a:blip r:embed="rId2"/>
          <a:stretch/>
        </p:blipFill>
        <p:spPr>
          <a:xfrm>
            <a:off x="4408560" y="371484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692280"/>
            <a:ext cx="813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ассмотрите на странице 125, рисунок 80 и скажите, каких размеров должна быть капля, чтобы упас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0,01 мм- облачн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от 0,5 до 5 мм- дождев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перечислите какие виды осадков, вы знаете, одновременно будем заполнять схему на ли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3"/>
          <p:cNvSpPr/>
          <p:nvPr/>
        </p:nvSpPr>
        <p:spPr>
          <a:xfrm>
            <a:off x="716436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0328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3068640"/>
            <a:ext cx="2376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сезонам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539640" y="260280"/>
            <a:ext cx="24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л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11280" y="4797360"/>
            <a:ext cx="2160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лод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804000" y="2781360"/>
            <a:ext cx="216072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ысот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6588000" y="4797360"/>
            <a:ext cx="22320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изко к зем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рхности или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ем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659640" y="260280"/>
            <a:ext cx="216036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рх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редних сло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сфе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3564000" y="0"/>
            <a:ext cx="2311200" cy="1268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572000" y="2421000"/>
            <a:ext cx="1655640" cy="792000"/>
          </a:xfrm>
          <a:prstGeom prst="cloudCallout">
            <a:avLst>
              <a:gd name="adj1" fmla="val -43958"/>
              <a:gd name="adj2" fmla="val -20230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ожд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564000" y="3284640"/>
            <a:ext cx="1655640" cy="792000"/>
          </a:xfrm>
          <a:prstGeom prst="cloudCallout">
            <a:avLst>
              <a:gd name="adj1" fmla="val 38111"/>
              <a:gd name="adj2" fmla="val -1978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ра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932360" y="5734080"/>
            <a:ext cx="1655640" cy="792000"/>
          </a:xfrm>
          <a:prstGeom prst="cloudCallout">
            <a:avLst>
              <a:gd name="adj1" fmla="val -44537"/>
              <a:gd name="adj2" fmla="val -2616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48000" y="4292640"/>
            <a:ext cx="1655640" cy="792000"/>
          </a:xfrm>
          <a:prstGeom prst="cloudCallout">
            <a:avLst>
              <a:gd name="adj1" fmla="val 31208"/>
              <a:gd name="adj2" fmla="val -42995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4500720" y="4869000"/>
            <a:ext cx="2087280" cy="792000"/>
          </a:xfrm>
          <a:prstGeom prst="cloudCallout">
            <a:avLst>
              <a:gd name="adj1" fmla="val -24981"/>
              <a:gd name="adj2" fmla="val -3978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зморо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2916360" y="2060640"/>
            <a:ext cx="1655640" cy="792000"/>
          </a:xfrm>
          <a:prstGeom prst="cloudCallout">
            <a:avLst>
              <a:gd name="adj1" fmla="val 38972"/>
              <a:gd name="adj2" fmla="val -16663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о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2987640" y="5445000"/>
            <a:ext cx="2016000" cy="863640"/>
          </a:xfrm>
          <a:prstGeom prst="cloudCallout">
            <a:avLst>
              <a:gd name="adj1" fmla="val 34564"/>
              <a:gd name="adj2" fmla="val -53474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жная кру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003640" y="3860640"/>
            <a:ext cx="1656000" cy="792360"/>
          </a:xfrm>
          <a:prstGeom prst="cloudCallout">
            <a:avLst>
              <a:gd name="adj1" fmla="val -27467"/>
              <a:gd name="adj2" fmla="val -4015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оро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1"/>
          <p:cNvSpPr/>
          <p:nvPr/>
        </p:nvSpPr>
        <p:spPr>
          <a:xfrm rot="13215000">
            <a:off x="2538360" y="1452240"/>
            <a:ext cx="992160" cy="720720"/>
          </a:xfrm>
          <a:prstGeom prst="rightArrow">
            <a:avLst>
              <a:gd name="adj1" fmla="val 0"/>
              <a:gd name="adj2" fmla="val 8532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2"/>
          <p:cNvSpPr/>
          <p:nvPr/>
        </p:nvSpPr>
        <p:spPr>
          <a:xfrm rot="2035800">
            <a:off x="3634920" y="3428640"/>
            <a:ext cx="4176720" cy="576360"/>
          </a:xfrm>
          <a:prstGeom prst="rightArrow">
            <a:avLst>
              <a:gd name="adj1" fmla="val 0"/>
              <a:gd name="adj2" fmla="val 10081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84360" y="692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интересно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: Один путешественник писал: “Мы двигались по открытой местности. Внезапно подул сильный ветер, и туча закрыла солнце. Мой спутник радостно закричал: “Наконец-то дождь !”, но проводник покачал головой. Вскоре мы услышали шум дождя. Он доносился сверху, но ни одна капля не упала на Землю. Все недоумев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де это могло произойти и почему?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(Такое наблюдается в пустыне. Земля сильно нагревается, а от Земли нагревается воздух, поэтому капли воды испаряются в расплавленном воздухе, не достигнув зем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Рисунок 1" descr="2230-1.jpg"/>
          <p:cNvPicPr/>
          <p:nvPr/>
        </p:nvPicPr>
        <p:blipFill>
          <a:blip r:embed="rId1"/>
          <a:stretch/>
        </p:blipFill>
        <p:spPr>
          <a:xfrm>
            <a:off x="0" y="3933720"/>
            <a:ext cx="18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826920" y="62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атласом Новосибир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1844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ие виды осадков преобладают в Новосибирской област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4724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вномерно ли распределяются осадки по всей территори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novosibirsk_obl_map"/>
          <p:cNvPicPr/>
          <p:nvPr/>
        </p:nvPicPr>
        <p:blipFill>
          <a:blip r:embed="rId1"/>
          <a:srcRect l="831" t="831" r="4667" b="4667"/>
          <a:stretch/>
        </p:blipFill>
        <p:spPr>
          <a:xfrm>
            <a:off x="3635280" y="2492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042920" y="90792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климатической карто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Как обозначаются осад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 чем измеряютс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Где больше всего выпадает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002"/>
          <p:cNvPicPr/>
          <p:nvPr/>
        </p:nvPicPr>
        <p:blipFill>
          <a:blip r:embed="rId1"/>
          <a:stretch/>
        </p:blipFill>
        <p:spPr>
          <a:xfrm>
            <a:off x="755640" y="278136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 вы думаете, как будет называться прибор, с помощью которого измеряют количество осадков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2" descr="http://festival.1september.ru/articles/502828/img2.gif"/>
          <p:cNvPicPr/>
          <p:nvPr/>
        </p:nvPicPr>
        <p:blipFill>
          <a:blip r:embed="rId1"/>
          <a:stretch/>
        </p:blipFill>
        <p:spPr>
          <a:xfrm>
            <a:off x="539640" y="1557360"/>
            <a:ext cx="8244000" cy="779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Водпа"/>
          <p:cNvPicPr/>
          <p:nvPr/>
        </p:nvPicPr>
        <p:blipFill>
          <a:blip r:embed="rId2"/>
          <a:stretch/>
        </p:blipFill>
        <p:spPr>
          <a:xfrm>
            <a:off x="3348000" y="256536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"/>
          <p:cNvPicPr/>
          <p:nvPr/>
        </p:nvPicPr>
        <p:blipFill>
          <a:blip r:embed="rId3"/>
          <a:stretch/>
        </p:blipFill>
        <p:spPr>
          <a:xfrm>
            <a:off x="324000" y="2924280"/>
            <a:ext cx="208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1"/>
          <p:cNvPicPr/>
          <p:nvPr/>
        </p:nvPicPr>
        <p:blipFill>
          <a:blip r:embed="rId4"/>
          <a:stretch/>
        </p:blipFill>
        <p:spPr>
          <a:xfrm>
            <a:off x="6726240" y="2852640"/>
            <a:ext cx="134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55640" y="404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авила анализа диаграмм годового количества осадков Количество осадков за месяц равно сумме осадков, выпавших за все дни меся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кажите, как это вычисляю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 А как вычисляют количество осадков  за год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А сейчас мы научимся строить и  анализировать диаграммы годового количества осадков. Для, этого, откройте страницу учебника 126, рисунок 8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то можно узнать по диаграмме годового количества осадк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411280" y="3933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50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амостоятельное построение диаграммы годового количества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А теперь научимся сами составлять  столбиковую диаграмму годового количества осадков, используя данные годового количества осадков в Мошковском районе за …год.. Работа в рабочем лис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Скажите, что будем откладывать по вертикальной ос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А по горизонтальной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Откладываем в отрезке январь вверх такое расстояние, которое соответствовало бы количеству осадков за данный месяц. Черт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10199"/>
                </a:solidFill>
                <a:uFillTx/>
                <a:latin typeface="Tahoma"/>
              </a:rPr>
              <a:t>Читаем диаграмму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050920" y="4149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765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ставление кл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«Что мы узнали об облаках и атмосферных осадках?»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8"/>
          <p:cNvPicPr/>
          <p:nvPr/>
        </p:nvPicPr>
        <p:blipFill>
          <a:blip r:embed="rId1"/>
          <a:stretch/>
        </p:blipFill>
        <p:spPr>
          <a:xfrm>
            <a:off x="1042920" y="2852640"/>
            <a:ext cx="2060640" cy="173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Снеговик и нос"/>
          <p:cNvPicPr/>
          <p:nvPr/>
        </p:nvPicPr>
        <p:blipFill>
          <a:blip r:embed="rId2"/>
          <a:stretch/>
        </p:blipFill>
        <p:spPr>
          <a:xfrm>
            <a:off x="6948360" y="3860640"/>
            <a:ext cx="1624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ейчас мы узнаем какую оболочку земли мы с вами будем изуч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1413000"/>
            <a:ext cx="6480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этом слове зашифровано название оболочки зем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АРЕФСОМ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31"/>
          <p:cNvPicPr/>
          <p:nvPr/>
        </p:nvPicPr>
        <p:blipFill>
          <a:blip r:embed="rId1"/>
          <a:stretch/>
        </p:blipFill>
        <p:spPr>
          <a:xfrm>
            <a:off x="395280" y="4076640"/>
            <a:ext cx="1994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"/>
          <p:cNvPicPr/>
          <p:nvPr/>
        </p:nvPicPr>
        <p:blipFill>
          <a:blip r:embed="rId2"/>
          <a:stretch/>
        </p:blipFill>
        <p:spPr>
          <a:xfrm>
            <a:off x="6659640" y="1197000"/>
            <a:ext cx="273348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садки 2"/>
          <p:cNvPicPr/>
          <p:nvPr/>
        </p:nvPicPr>
        <p:blipFill>
          <a:blip r:embed="rId3"/>
          <a:stretch/>
        </p:blipFill>
        <p:spPr>
          <a:xfrm>
            <a:off x="7054920" y="3025800"/>
            <a:ext cx="2089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7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осто интересно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ак существует ли связь между видами облаков и осадкам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блюдали ли вы такое яв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дет дождь – теплый, летний. Вы выбегаете на улицу и начинаете прыгать и громко кричать: “Дождик, дождик лей-лей, никого не жалей”, и он на самом деле становится силь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происходит потому, что малейшие сотрясения воздуха вызывают образование из паров воды дождевых кап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http://im4-tub.yandex.net/i?id=5420835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91040"/>
            <a:ext cx="3708360" cy="2766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im2-tub.yandex.net/i?id=43764049&amp;tov=2"/>
          <p:cNvPicPr/>
          <p:nvPr/>
        </p:nvPicPr>
        <p:blipFill>
          <a:blip r:embed="rId3"/>
          <a:stretch/>
        </p:blipFill>
        <p:spPr>
          <a:xfrm>
            <a:off x="5627520" y="4108320"/>
            <a:ext cx="3516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16000" y="692280"/>
            <a:ext cx="640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Домашнее за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 у-нь: Параграф 4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 у-нь: нарисовать пейзаж с одним из видов облачности: безоблачно; незначительная облачность; средняя облачность; с просветами; сплошн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 у-нь: объяснить причины образования различной обла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258920" y="335772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835280" y="836640"/>
            <a:ext cx="569268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пасибо за ур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5" name="Picture 6" descr="7"/>
          <p:cNvPicPr/>
          <p:nvPr/>
        </p:nvPicPr>
        <p:blipFill>
          <a:blip r:embed="rId1"/>
          <a:stretch/>
        </p:blipFill>
        <p:spPr>
          <a:xfrm>
            <a:off x="6875640" y="3860640"/>
            <a:ext cx="1977840" cy="299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liparts191"/>
          <p:cNvPicPr/>
          <p:nvPr/>
        </p:nvPicPr>
        <p:blipFill>
          <a:blip r:embed="rId2"/>
          <a:stretch/>
        </p:blipFill>
        <p:spPr>
          <a:xfrm>
            <a:off x="2556000" y="1989000"/>
            <a:ext cx="3790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 каких состояниях находится вода в атмосфере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692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ля того чтобы узнать какую оболочку Земли мы с вами сегодня будем изуча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ам необходимо отгадать зага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" y="414900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жидком, твердом(атмосферные осадки) и газообразном(облак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40000" y="1700280"/>
            <a:ext cx="4103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, сегодня на уроке мы будем говорить об атмосферных осадках, их видах, о причинах,  влияющих на их количество, и как осадки измеряют. На уроке очень пригодятся  ваши воспоминания о лете, осени, весне. А также нам будет помогать пейзаж из окна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P1750290.JPG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Изображение 072"/>
          <p:cNvPicPr/>
          <p:nvPr/>
        </p:nvPicPr>
        <p:blipFill>
          <a:blip r:embed="rId3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1750280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авайте составим класте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 вы уже знаете об облаках и атмосферных осад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ащиеся делятся на 2 группы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ставляют кл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1 группа записывает всё что знает об обла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2 группа записывает всё что знает об осад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3276720" y="256536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тмосферные осад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050560" y="1414080"/>
            <a:ext cx="120348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67" y="18325"/>
                </a:moveTo>
                <a:lnTo>
                  <a:pt x="22967" y="18325"/>
                </a:lnTo>
                <a:lnTo>
                  <a:pt x="22967" y="4456"/>
                </a:lnTo>
                <a:lnTo>
                  <a:pt x="-4104" y="-9641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162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451640" y="4437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162893"/>
              <a:gd name="adj4" fmla="val -194893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330280" y="5300640"/>
            <a:ext cx="1398600" cy="720720"/>
          </a:xfrm>
          <a:prstGeom prst="borderCallout1">
            <a:avLst>
              <a:gd name="adj1" fmla="val 18750"/>
              <a:gd name="adj2" fmla="val -8333"/>
              <a:gd name="adj3" fmla="val -239648"/>
              <a:gd name="adj4" fmla="val 10544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ибель урож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179360" y="443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213837"/>
              <a:gd name="adj4" fmla="val 146981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093080" y="3068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5976"/>
              <a:gd name="adj4" fmla="val -79930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227640" y="587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469495"/>
              <a:gd name="adj4" fmla="val -137935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4" descr="http://club.ncstu.ru/photo/nob/water/09.jpg"/>
          <p:cNvPicPr/>
          <p:nvPr/>
        </p:nvPicPr>
        <p:blipFill>
          <a:blip r:embed="rId1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img1.liveinternet.ru/images/attach/b/2/24/929/24929347_img017.jpg"/>
          <p:cNvPicPr/>
          <p:nvPr/>
        </p:nvPicPr>
        <p:blipFill>
          <a:blip r:embed="rId2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www.epochtimes.ru/images/stories/03/china/105_u91_binbao.jpg"/>
          <p:cNvPicPr/>
          <p:nvPr/>
        </p:nvPicPr>
        <p:blipFill>
          <a:blip r:embed="rId3"/>
          <a:stretch/>
        </p:blipFill>
        <p:spPr>
          <a:xfrm>
            <a:off x="4071960" y="142920"/>
            <a:ext cx="2222640" cy="142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http://image002.mylivepage.com/chunk2/852619/577/Божья%20роса.jpg"/>
          <p:cNvPicPr/>
          <p:nvPr/>
        </p:nvPicPr>
        <p:blipFill>
          <a:blip r:embed="rId4"/>
          <a:stretch/>
        </p:blipFill>
        <p:spPr>
          <a:xfrm>
            <a:off x="3786120" y="5456160"/>
            <a:ext cx="191124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86080" y="250020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ла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учев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6877080" y="5013360"/>
            <a:ext cx="1655640" cy="720720"/>
          </a:xfrm>
          <a:prstGeom prst="borderCallout1">
            <a:avLst>
              <a:gd name="adj1" fmla="val 18750"/>
              <a:gd name="adj2" fmla="val -8333"/>
              <a:gd name="adj3" fmla="val -209472"/>
              <a:gd name="adj4" fmla="val -9597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асмурная по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971720" y="4869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276731"/>
              <a:gd name="adj4" fmla="val 164847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90640" y="1844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128930"/>
              <a:gd name="adj4" fmla="val 18944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775640" y="270828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76101"/>
              <a:gd name="adj4" fmla="val -12807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971720" y="54936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373268"/>
              <a:gd name="adj4" fmla="val 14965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3" descr="http://images.astronet.ru/pubd/2007/11/25/0001224798/iridescent_allen.jpg"/>
          <p:cNvPicPr/>
          <p:nvPr/>
        </p:nvPicPr>
        <p:blipFill>
          <a:blip r:embed="rId1"/>
          <a:stretch/>
        </p:blipFill>
        <p:spPr>
          <a:xfrm>
            <a:off x="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http://img0.liveinternet.ru/images/attach/b/3/26/298/26298696_733330.jpg"/>
          <p:cNvPicPr/>
          <p:nvPr/>
        </p:nvPicPr>
        <p:blipFill>
          <a:blip r:embed="rId2"/>
          <a:stretch/>
        </p:blipFill>
        <p:spPr>
          <a:xfrm>
            <a:off x="0" y="0"/>
            <a:ext cx="186516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http://www.asveti.ru/p/medium/g/10/i/background/medium/01_23_07__1_49_05__pm.jpg"/>
          <p:cNvPicPr/>
          <p:nvPr/>
        </p:nvPicPr>
        <p:blipFill>
          <a:blip r:embed="rId3"/>
          <a:stretch/>
        </p:blipFill>
        <p:spPr>
          <a:xfrm>
            <a:off x="4000680" y="0"/>
            <a:ext cx="2151000" cy="16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http://meteoweb.ru/img/diary/2008q3/20080826-0-1.jpg"/>
          <p:cNvPicPr/>
          <p:nvPr/>
        </p:nvPicPr>
        <p:blipFill>
          <a:blip r:embed="rId4"/>
          <a:stretch/>
        </p:blipFill>
        <p:spPr>
          <a:xfrm>
            <a:off x="3786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http://meteoweb.ru/img/clouds/cl004-3-1.jpg"/>
          <p:cNvPicPr/>
          <p:nvPr/>
        </p:nvPicPr>
        <p:blipFill>
          <a:blip r:embed="rId5"/>
          <a:stretch/>
        </p:blipFill>
        <p:spPr>
          <a:xfrm>
            <a:off x="6786720" y="3286080"/>
            <a:ext cx="2222280" cy="145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http://borisfen.narod.ru/image007.jpg"/>
          <p:cNvPicPr/>
          <p:nvPr/>
        </p:nvPicPr>
        <p:blipFill>
          <a:blip r:embed="rId6"/>
          <a:stretch/>
        </p:blipFill>
        <p:spPr>
          <a:xfrm>
            <a:off x="0" y="5572080"/>
            <a:ext cx="190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остав атмосфер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Атмосфера состоит из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аков состав воздух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http://img1.liveinternet.ru/images/attach/b/3/15/640/15640874_tuman.jpg"/>
          <p:cNvPicPr/>
          <p:nvPr/>
        </p:nvPicPr>
        <p:blipFill>
          <a:blip r:embed="rId1"/>
          <a:stretch/>
        </p:blipFill>
        <p:spPr>
          <a:xfrm>
            <a:off x="2484360" y="3987720"/>
            <a:ext cx="3587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37:47Z</dcterms:created>
  <dc:creator>владик</dc:creator>
  <dc:description/>
  <dc:language>en-US</dc:language>
  <cp:lastModifiedBy>Admin</cp:lastModifiedBy>
  <dcterms:modified xsi:type="dcterms:W3CDTF">2012-11-21T14:20:37Z</dcterms:modified>
  <cp:revision>17</cp:revision>
  <dc:subject/>
  <dc:title>Презентация урока по теме «Виды облаков и атмосферные осадки»</dc:title>
</cp:coreProperties>
</file>