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3.gif" ContentType="image/gif"/>
  <Override PartName="/ppt/media/image17.jpeg" ContentType="image/jpeg"/>
  <Override PartName="/ppt/media/image49.gif" ContentType="image/gif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1.jpeg" ContentType="image/jpeg"/>
  <Override PartName="/ppt/media/image35.jpeg" ContentType="image/jpeg"/>
  <Override PartName="/ppt/media/image54.gif" ContentType="image/gif"/>
  <Override PartName="/ppt/media/image4.gif" ContentType="image/gif"/>
  <Override PartName="/ppt/media/image33.jpeg" ContentType="image/jpeg"/>
  <Override PartName="/ppt/media/image27.jpeg" ContentType="image/jpeg"/>
  <Override PartName="/ppt/media/image6.jpeg" ContentType="image/jpeg"/>
  <Override PartName="/ppt/media/image9.jpeg" ContentType="image/jpeg"/>
  <Override PartName="/ppt/media/image48.png" ContentType="image/png"/>
  <Override PartName="/ppt/media/image55.gif" ContentType="image/gif"/>
  <Override PartName="/ppt/media/image11.jpeg" ContentType="image/jpeg"/>
  <Override PartName="/ppt/media/image32.jpeg" ContentType="image/jpeg"/>
  <Override PartName="/ppt/media/image34.jpeg" ContentType="image/jpeg"/>
  <Override PartName="/ppt/media/image36.jpeg" ContentType="image/jpeg"/>
  <Override PartName="/ppt/media/image41.png" ContentType="image/png"/>
  <Override PartName="/ppt/media/image39.png" ContentType="image/png"/>
  <Override PartName="/ppt/media/image45.jpeg" ContentType="image/jpeg"/>
  <Override PartName="/ppt/media/image46.png" ContentType="image/png"/>
  <Override PartName="/ppt/media/image53.gif" ContentType="image/gif"/>
  <Override PartName="/ppt/media/image43.jpeg" ContentType="image/jpeg"/>
  <Override PartName="/ppt/media/image47.gif" ContentType="image/gif"/>
  <Override PartName="/ppt/media/image30.jpeg" ContentType="image/jpeg"/>
  <Override PartName="/ppt/media/image37.jpeg" ContentType="image/jpeg"/>
  <Override PartName="/ppt/media/image12.jpeg" ContentType="image/jpeg"/>
  <Override PartName="/ppt/media/image42.png" ContentType="image/png"/>
  <Override PartName="/ppt/media/image50.gif" ContentType="image/gif"/>
  <Override PartName="/ppt/media/image31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14.jpeg" ContentType="image/jpeg"/>
  <Override PartName="/ppt/media/image7.jpeg" ContentType="image/jpeg"/>
  <Override PartName="/ppt/media/image5.gif" ContentType="image/gif"/>
  <Override PartName="/ppt/media/image38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5D68-BE17-47EB-8832-843207C8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DE67-64E1-4FBD-B16B-0B67BF3F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E064-7BB4-474F-8AD0-1AF91598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E291-D6DF-455B-9594-9B601711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AA8CE-FA2B-41D1-A7AD-4D17A17F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D0BE3-7D73-436E-957A-555EC732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16654-9097-4313-A456-540D63C5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2D225-541F-4197-92B7-6646EDF2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89E0B-58A1-4FD4-8FFB-2470F5C7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3FED3-669B-404D-BDF1-65F18317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CA3C6-3722-4548-BE25-A6A37ADD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2500-1F52-4F48-A771-83B02C9A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9E5F4-942D-4E50-85D5-FE78366C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B4F6D-75C1-4438-BAA0-77028B80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248A7-3502-4BF0-89C2-177ED996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85B65-BA27-4CAB-9047-D61AE97E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47E71-02AE-4900-BBBA-3337D0C3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F14F-C37B-4620-895E-92D40F16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7683-54E9-4D2C-B6BC-B3AC8214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3CE7-356D-41DF-9542-CBC32750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B399-1A30-4D91-BAC6-7C503366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CFBD-F736-4CAC-AD93-8FFC3F28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89B8-AA69-48BC-9D2A-E644A6A0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0390-BA9A-402A-99DB-167763B8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84D1-C1E6-474B-8B35-F65AF8F423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FDEA-71C9-461D-A3A2-87D446557E4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velobarnaul.ru/photo/gallery/big/image_001053.jpg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dmzv.by.ru/" TargetMode="External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image" Target="../media/image40.jpeg"/><Relationship Id="rId6" Type="http://schemas.openxmlformats.org/officeDocument/2006/relationships/image" Target="../media/image40.jpeg"/><Relationship Id="rId7" Type="http://schemas.openxmlformats.org/officeDocument/2006/relationships/image" Target="../media/image40.jpeg"/><Relationship Id="rId8" Type="http://schemas.openxmlformats.org/officeDocument/2006/relationships/image" Target="../media/image40.jpeg"/><Relationship Id="rId9" Type="http://schemas.openxmlformats.org/officeDocument/2006/relationships/image" Target="../media/image40.jpe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gif"/><Relationship Id="rId3" Type="http://schemas.openxmlformats.org/officeDocument/2006/relationships/image" Target="../media/image4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p=2&amp;p=3&amp;ed=1&amp;text=&#1088;&#1072;&#1079;&#1084;&#1077;&#1088;&#1099;%20&#1082;&#1072;&#1087;&#1077;&#1083;&#1100;&amp;spsite=gallery.saransk.ru&amp;img_url=gallery.saransk.ru%2Falbums%2Fuserpics%2F11076%2Fnormal_%25CA%25E0%25EF%25EB%25E8.jpg&amp;rpt=simage" TargetMode="External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Презентация урока по теме «Виды облаков и атмосферные осадк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084360" y="4869000"/>
            <a:ext cx="2768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Tahoma"/>
              </a:rPr>
              <a:t>Выполнил учитель географ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Tahoma"/>
              </a:rPr>
              <a:t>РМОУ Сокурская СОШ : Сидорова Ю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6" descr="http://meteocenter.net/clouds/Ch/pic/Ci_sp.jpg"/>
          <p:cNvPicPr/>
          <p:nvPr/>
        </p:nvPicPr>
        <p:blipFill>
          <a:blip r:embed="rId1"/>
          <a:stretch/>
        </p:blipFill>
        <p:spPr>
          <a:xfrm>
            <a:off x="3000240" y="3789360"/>
            <a:ext cx="3000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250920" y="189000"/>
            <a:ext cx="5327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Откуда берется вод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ода появляется из ручейка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Ручьи по пути собирает река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Река полноводно бежит на просторе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ока, наконец, не вливается в мор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Моря пополняют запас океана: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Сгущается влага над ним как сметана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Она поднимается выше на неб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отом превратиться в облако где-т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А облака, пролетая над нами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Дождем проливаются, сыплют снегами.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Снега превратятся весной в ручейки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Ручьи побегут до ближайшей реки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се это в народе и зовут: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КРУГОВОРОТОМ ВО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859280" y="393372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Рисунок 2" descr="http://festival.1september.ru/articles/515942/img2.jpg"/>
          <p:cNvPicPr/>
          <p:nvPr/>
        </p:nvPicPr>
        <p:blipFill>
          <a:blip r:embed="rId1"/>
          <a:stretch/>
        </p:blipFill>
        <p:spPr>
          <a:xfrm>
            <a:off x="3924360" y="4021200"/>
            <a:ext cx="52196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Откуда взялась вода в атмосфере? (образовалась в результате испарения с поверхности земли и образует в воздухе водяной па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Круговорот воды в природе начинается с испарения. Под воздействием солнечных лучей вода испаряется с поверхности земли, водоемов, растений. Пар поднимается вверх и, достигнув более холодных слоев атмосферы, на небе появляются обла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Конвективные осадки.mpg" descr=""/>
          <p:cNvPicPr/>
          <p:nvPr/>
        </p:nvPicPr>
        <p:blipFill>
          <a:blip r:embed="rId1"/>
          <a:stretch/>
        </p:blipFill>
        <p:spPr>
          <a:xfrm>
            <a:off x="4762440" y="2552760"/>
            <a:ext cx="3810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93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79280" y="260280"/>
            <a:ext cx="80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Слайд (туман) Что вы видите на слайд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Каковы причины образования туман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звешенные в воздухе мельчайшие капли воды, образовались в результате конденсации водяного пара при охлаждении воздуха или испарении над водоёмами и влажными участками суш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http://im0-tub.yandex.net/i?id=1823299&amp;tov=0"/>
          <p:cNvPicPr/>
          <p:nvPr/>
        </p:nvPicPr>
        <p:blipFill>
          <a:blip r:embed="rId1"/>
          <a:stretch/>
        </p:blipFill>
        <p:spPr>
          <a:xfrm>
            <a:off x="1476360" y="2639880"/>
            <a:ext cx="565164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468360" y="404640"/>
            <a:ext cx="867564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А если поднять туман выше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Что тогда произойдёт</a:t>
            </a: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Картинка 13 из 1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304812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Сквозь несущиеся с бешенной скоростью облака, &#10;и порывы удушающих серных газов из фумарол, &#10;иногда удается увидеть подножье вулкана"/>
          <p:cNvPicPr/>
          <p:nvPr/>
        </p:nvPicPr>
        <p:blipFill>
          <a:blip r:embed="rId3"/>
          <a:stretch/>
        </p:blipFill>
        <p:spPr>
          <a:xfrm>
            <a:off x="3857760" y="1714680"/>
            <a:ext cx="4762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86043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Все вы видели облака, расскажите как они выглядят и чем отличаются друг от друга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Используя учебник на стр.123-124 давайте начнё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заполнение таблицы( см. рабочий лист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Рисунок 1" descr="http://festival.1september.ru/articles/502828/img1.gif"/>
          <p:cNvPicPr/>
          <p:nvPr/>
        </p:nvPicPr>
        <p:blipFill>
          <a:blip r:embed="rId1"/>
          <a:stretch/>
        </p:blipFill>
        <p:spPr>
          <a:xfrm>
            <a:off x="1042920" y="1413000"/>
            <a:ext cx="7309080" cy="979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ttp://raduga777.ucoz.ru/Rainbow/oblaka.jpg"/>
          <p:cNvPicPr/>
          <p:nvPr/>
        </p:nvPicPr>
        <p:blipFill>
          <a:blip r:embed="rId2"/>
          <a:stretch/>
        </p:blipFill>
        <p:spPr>
          <a:xfrm>
            <a:off x="0" y="2428920"/>
            <a:ext cx="3143160" cy="1857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http://meteoweb.ru/img/phenom/phen034-2.jpg"/>
          <p:cNvPicPr/>
          <p:nvPr/>
        </p:nvPicPr>
        <p:blipFill>
          <a:blip r:embed="rId3"/>
          <a:stretch/>
        </p:blipFill>
        <p:spPr>
          <a:xfrm>
            <a:off x="3571920" y="2500200"/>
            <a:ext cx="2428920" cy="1820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http://propogodu.ru/f/a0/ru/images/Clouds/Cirrus%20spissatus_400x300(1).jpg"/>
          <p:cNvPicPr/>
          <p:nvPr/>
        </p:nvPicPr>
        <p:blipFill>
          <a:blip r:embed="rId4"/>
          <a:stretch/>
        </p:blipFill>
        <p:spPr>
          <a:xfrm>
            <a:off x="6215040" y="2428920"/>
            <a:ext cx="27907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1187280" y="54936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Кучевые обла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012000" y="6093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Ливневые осад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http://ochevidec.net/content/story3/27/9.jpg"/>
          <p:cNvPicPr/>
          <p:nvPr/>
        </p:nvPicPr>
        <p:blipFill>
          <a:blip r:embed="rId1"/>
          <a:stretch/>
        </p:blipFill>
        <p:spPr>
          <a:xfrm>
            <a:off x="214200" y="1285920"/>
            <a:ext cx="2791080" cy="2095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http://www.meteo-nso.ru/img/files/groza.jpg"/>
          <p:cNvPicPr/>
          <p:nvPr/>
        </p:nvPicPr>
        <p:blipFill>
          <a:blip r:embed="rId2"/>
          <a:stretch/>
        </p:blipFill>
        <p:spPr>
          <a:xfrm>
            <a:off x="5143680" y="357120"/>
            <a:ext cx="3809880" cy="2543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http://site-for-you.moy.su/_nw/0/54533.jpg"/>
          <p:cNvPicPr/>
          <p:nvPr/>
        </p:nvPicPr>
        <p:blipFill>
          <a:blip r:embed="rId3"/>
          <a:stretch/>
        </p:blipFill>
        <p:spPr>
          <a:xfrm>
            <a:off x="0" y="3914640"/>
            <a:ext cx="41911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468360" y="47628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Слоистые обла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5508720" y="623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Моросящие осад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9" descr="http://www.india.fotoputi.com/img/garhwal/kedarnath/IMG_6355.jpg"/>
          <p:cNvPicPr/>
          <p:nvPr/>
        </p:nvPicPr>
        <p:blipFill>
          <a:blip r:embed="rId1"/>
          <a:stretch/>
        </p:blipFill>
        <p:spPr>
          <a:xfrm>
            <a:off x="0" y="1125360"/>
            <a:ext cx="38210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468360" y="404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еристые обла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435640" y="630864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Осадков не выпада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5" descr="http://meteoweb.ru/img/diary/2008q3/20080823-0-2.jpg"/>
          <p:cNvPicPr/>
          <p:nvPr/>
        </p:nvPicPr>
        <p:blipFill>
          <a:blip r:embed="rId1"/>
          <a:stretch/>
        </p:blipFill>
        <p:spPr>
          <a:xfrm>
            <a:off x="1116000" y="98100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291600"/>
            <a:ext cx="89647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Пример заполнения таблицы «Сравнительная характеристика облаков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8360" y="1125360"/>
          <a:ext cx="8507520" cy="4749840"/>
        </p:xfrm>
        <a:graphic>
          <a:graphicData uri="http://schemas.openxmlformats.org/drawingml/2006/table">
            <a:tbl>
              <a:tblPr/>
              <a:tblGrid>
                <a:gridCol w="1127160"/>
                <a:gridCol w="1191960"/>
                <a:gridCol w="1636920"/>
                <a:gridCol w="1716120"/>
                <a:gridCol w="1538280"/>
                <a:gridCol w="129708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иды обла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нешний вид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ысота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 какой сезон года можно наблюд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ричина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иды осад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Кучевы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-10 к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с весны по ос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ри подъёме тёплого воздух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Слоисты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Менее 2 к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 течении всего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ри контакте тёплого и холодного воздух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179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еристы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0-12 к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 течении всего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 верхних частях тропосферы при контакте тёплого и холодного воздух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468360" y="40464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Ребята, скажите, из всех облаков выпадают осадки?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Почему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Ребята, возьмите перышко которое лежит на вашем столе, представьте, что перышко это капля дождя, повторяйте за мн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Tahoma"/>
              </a:rPr>
              <a:t>Подуйте на пёрышко сниз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Пёрышко не падает. Почему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Какой возникает ответ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Снизу конвективные потоки поднимают каплю вверх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А в каком случае капля – перо упадет на земную поверхность? (</a:t>
            </a: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когда масса капли будет преодолевать поднимающиеся потоки воздуха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Денежное перышк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4000680"/>
            <a:ext cx="3619440" cy="2743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data4.gallery.ru/albums/gallery/91121--10172001-m549x500.jpg"/>
          <p:cNvPicPr/>
          <p:nvPr/>
        </p:nvPicPr>
        <p:blipFill>
          <a:blip r:embed="rId3"/>
          <a:stretch/>
        </p:blipFill>
        <p:spPr>
          <a:xfrm>
            <a:off x="4638600" y="3643200"/>
            <a:ext cx="45054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Задачи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53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1. рассмотреть виды осад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2.Рассмотреть основные виды обла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3.Научиться строить диаграмму годового количества осад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9" descr="мальчик"/>
          <p:cNvPicPr/>
          <p:nvPr/>
        </p:nvPicPr>
        <p:blipFill>
          <a:blip r:embed="rId1"/>
          <a:stretch/>
        </p:blipFill>
        <p:spPr>
          <a:xfrm>
            <a:off x="611280" y="3645000"/>
            <a:ext cx="225576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1042920" y="836640"/>
            <a:ext cx="6913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А теперь давайте представим, что происходит внутри облака. Встаньте. Мы капельки воды в облаке. Что мы должны делать?  (</a:t>
            </a: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капли все время двигаются). (Они сталкиваются, сливаются,  постепенно становятся больше и тяжелее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4" descr="http://meteoinfo.ru/media/through_the_eyes/clouds_n_prison.JPG"/>
          <p:cNvPicPr/>
          <p:nvPr/>
        </p:nvPicPr>
        <p:blipFill>
          <a:blip r:embed="rId1"/>
          <a:stretch/>
        </p:blipFill>
        <p:spPr>
          <a:xfrm>
            <a:off x="0" y="4000680"/>
            <a:ext cx="4095720" cy="2733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 (699x464, 47Kb)"/>
          <p:cNvPicPr/>
          <p:nvPr/>
        </p:nvPicPr>
        <p:blipFill>
          <a:blip r:embed="rId2"/>
          <a:stretch/>
        </p:blipFill>
        <p:spPr>
          <a:xfrm>
            <a:off x="4408560" y="3714840"/>
            <a:ext cx="47354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755640" y="692280"/>
            <a:ext cx="81374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Рассмотрите на странице 125, рисунок 80 и скажите, каких размеров должна быть капля, чтобы упаст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Диаметр капли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&lt;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0,01 мм- облачная капл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Диаметр капли от 0,5 до 5 мм- дождевая капл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Ребята, перечислите какие виды осадков, вы знаете, одновременно будем заполнять схему на листа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3"/>
          <p:cNvSpPr/>
          <p:nvPr/>
        </p:nvSpPr>
        <p:spPr>
          <a:xfrm>
            <a:off x="7164360" y="1700280"/>
            <a:ext cx="863640" cy="3097080"/>
          </a:xfrm>
          <a:prstGeom prst="upDownArrow">
            <a:avLst>
              <a:gd name="adj1" fmla="val 50000"/>
              <a:gd name="adj2" fmla="val 71389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0"/>
          </a:gra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1403280" y="1700280"/>
            <a:ext cx="863640" cy="3097080"/>
          </a:xfrm>
          <a:prstGeom prst="upDownArrow">
            <a:avLst>
              <a:gd name="adj1" fmla="val 50000"/>
              <a:gd name="adj2" fmla="val 71389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0"/>
          </a:gra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755640" y="3068640"/>
            <a:ext cx="2376360" cy="720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иды осад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по сезонам го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Oval 5"/>
          <p:cNvSpPr/>
          <p:nvPr/>
        </p:nvSpPr>
        <p:spPr>
          <a:xfrm>
            <a:off x="539640" y="260280"/>
            <a:ext cx="2448000" cy="1440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ад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пло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ремен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611280" y="4797360"/>
            <a:ext cx="2160360" cy="1368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ад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олодно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ремени го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6804000" y="2781360"/>
            <a:ext cx="2160720" cy="865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иды осадков п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ысоте образ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6588000" y="4797360"/>
            <a:ext cx="2232000" cy="151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лизко к земно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верхности или н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емл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6659640" y="260280"/>
            <a:ext cx="2160360" cy="151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верхн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средних слоя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опосфер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Cloud"/>
          <p:cNvSpPr/>
          <p:nvPr/>
        </p:nvSpPr>
        <p:spPr>
          <a:xfrm>
            <a:off x="3564000" y="0"/>
            <a:ext cx="2311200" cy="12682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иды осад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AutoShape 13"/>
          <p:cNvSpPr/>
          <p:nvPr/>
        </p:nvSpPr>
        <p:spPr>
          <a:xfrm>
            <a:off x="4572000" y="2421000"/>
            <a:ext cx="1655640" cy="792000"/>
          </a:xfrm>
          <a:prstGeom prst="cloudCallout">
            <a:avLst>
              <a:gd name="adj1" fmla="val -43958"/>
              <a:gd name="adj2" fmla="val -20230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дожд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AutoShape 14"/>
          <p:cNvSpPr/>
          <p:nvPr/>
        </p:nvSpPr>
        <p:spPr>
          <a:xfrm>
            <a:off x="3564000" y="3284640"/>
            <a:ext cx="1655640" cy="792000"/>
          </a:xfrm>
          <a:prstGeom prst="cloudCallout">
            <a:avLst>
              <a:gd name="adj1" fmla="val 38111"/>
              <a:gd name="adj2" fmla="val -197893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гра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4932360" y="5734080"/>
            <a:ext cx="1655640" cy="792000"/>
          </a:xfrm>
          <a:prstGeom prst="cloudCallout">
            <a:avLst>
              <a:gd name="adj1" fmla="val -44537"/>
              <a:gd name="adj2" fmla="val -26162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сне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AutoShape 16"/>
          <p:cNvSpPr/>
          <p:nvPr/>
        </p:nvSpPr>
        <p:spPr>
          <a:xfrm>
            <a:off x="3348000" y="4292640"/>
            <a:ext cx="1655640" cy="792000"/>
          </a:xfrm>
          <a:prstGeom prst="cloudCallout">
            <a:avLst>
              <a:gd name="adj1" fmla="val 31208"/>
              <a:gd name="adj2" fmla="val -429958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ин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AutoShape 17"/>
          <p:cNvSpPr/>
          <p:nvPr/>
        </p:nvSpPr>
        <p:spPr>
          <a:xfrm>
            <a:off x="4500720" y="4869000"/>
            <a:ext cx="2087280" cy="792000"/>
          </a:xfrm>
          <a:prstGeom prst="cloudCallout">
            <a:avLst>
              <a:gd name="adj1" fmla="val -24981"/>
              <a:gd name="adj2" fmla="val -397893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измороз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AutoShape 18"/>
          <p:cNvSpPr/>
          <p:nvPr/>
        </p:nvSpPr>
        <p:spPr>
          <a:xfrm>
            <a:off x="2916360" y="2060640"/>
            <a:ext cx="1655640" cy="792000"/>
          </a:xfrm>
          <a:prstGeom prst="cloudCallout">
            <a:avLst>
              <a:gd name="adj1" fmla="val 38972"/>
              <a:gd name="adj2" fmla="val -166634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ро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AutoShape 19"/>
          <p:cNvSpPr/>
          <p:nvPr/>
        </p:nvSpPr>
        <p:spPr>
          <a:xfrm>
            <a:off x="2987640" y="5445000"/>
            <a:ext cx="2016000" cy="863640"/>
          </a:xfrm>
          <a:prstGeom prst="cloudCallout">
            <a:avLst>
              <a:gd name="adj1" fmla="val 34564"/>
              <a:gd name="adj2" fmla="val -53474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снежная круп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AutoShape 20"/>
          <p:cNvSpPr/>
          <p:nvPr/>
        </p:nvSpPr>
        <p:spPr>
          <a:xfrm>
            <a:off x="5003640" y="3860640"/>
            <a:ext cx="1656000" cy="792360"/>
          </a:xfrm>
          <a:prstGeom prst="cloudCallout">
            <a:avLst>
              <a:gd name="adj1" fmla="val -27467"/>
              <a:gd name="adj2" fmla="val -401504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морос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AutoShape 21"/>
          <p:cNvSpPr/>
          <p:nvPr/>
        </p:nvSpPr>
        <p:spPr>
          <a:xfrm rot="13215000">
            <a:off x="2538360" y="1452240"/>
            <a:ext cx="992160" cy="720720"/>
          </a:xfrm>
          <a:prstGeom prst="rightArrow">
            <a:avLst>
              <a:gd name="adj1" fmla="val 0"/>
              <a:gd name="adj2" fmla="val 85325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AutoShape 22"/>
          <p:cNvSpPr/>
          <p:nvPr/>
        </p:nvSpPr>
        <p:spPr>
          <a:xfrm rot="2035800">
            <a:off x="3634920" y="3428640"/>
            <a:ext cx="4176720" cy="576360"/>
          </a:xfrm>
          <a:prstGeom prst="rightArrow">
            <a:avLst>
              <a:gd name="adj1" fmla="val 0"/>
              <a:gd name="adj2" fmla="val 100817"/>
            </a:avLst>
          </a:prstGeom>
          <a:blipFill rotWithShape="0">
            <a:blip r:embed="rId1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684360" y="692280"/>
            <a:ext cx="867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Это интересно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: Один путешественник писал: “Мы двигались по открытой местности. Внезапно подул сильный ветер, и туча закрыла солнце. Мой спутник радостно закричал: “Наконец-то дождь !”, но проводник покачал головой. Вскоре мы услышали шум дождя. Он доносился сверху, но ни одна капля не упала на Землю. Все недоумева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Где это могло произойти и почему?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(Такое наблюдается в пустыне. Земля сильно нагревается, а от Земли нагревается воздух, поэтому капли воды испаряются в расплавленном воздухе, не достигнув земл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Рисунок 1" descr="2230-1.jpg"/>
          <p:cNvPicPr/>
          <p:nvPr/>
        </p:nvPicPr>
        <p:blipFill>
          <a:blip r:embed="rId1"/>
          <a:stretch/>
        </p:blipFill>
        <p:spPr>
          <a:xfrm>
            <a:off x="0" y="3933720"/>
            <a:ext cx="185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826920" y="620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Работа с атласом Новосибирской обла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84360" y="1844640"/>
            <a:ext cx="77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Какие виды осадков преобладают в Новосибирской област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95280" y="4724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Равномерно ли распределяются осадки по всей территории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6" descr="novosibirsk_obl_map"/>
          <p:cNvPicPr/>
          <p:nvPr/>
        </p:nvPicPr>
        <p:blipFill>
          <a:blip r:embed="rId1"/>
          <a:srcRect l="831" t="831" r="4667" b="4667"/>
          <a:stretch/>
        </p:blipFill>
        <p:spPr>
          <a:xfrm>
            <a:off x="3635280" y="2492280"/>
            <a:ext cx="2016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1042920" y="90792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Работа с климатической картой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 Как обозначаются осадки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101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 чем измеряются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 Где больше всего выпадает осад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4" descr="002"/>
          <p:cNvPicPr/>
          <p:nvPr/>
        </p:nvPicPr>
        <p:blipFill>
          <a:blip r:embed="rId1"/>
          <a:stretch/>
        </p:blipFill>
        <p:spPr>
          <a:xfrm>
            <a:off x="755640" y="2781360"/>
            <a:ext cx="4952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755640" y="476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Как вы думаете, как будет называться прибор, с помощью которого измеряют количество осадков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Рисунок 2" descr="http://festival.1september.ru/articles/502828/img2.gif"/>
          <p:cNvPicPr/>
          <p:nvPr/>
        </p:nvPicPr>
        <p:blipFill>
          <a:blip r:embed="rId1"/>
          <a:stretch/>
        </p:blipFill>
        <p:spPr>
          <a:xfrm>
            <a:off x="539640" y="1557360"/>
            <a:ext cx="8244000" cy="779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Водпа"/>
          <p:cNvPicPr/>
          <p:nvPr/>
        </p:nvPicPr>
        <p:blipFill>
          <a:blip r:embed="rId2"/>
          <a:stretch/>
        </p:blipFill>
        <p:spPr>
          <a:xfrm>
            <a:off x="3348000" y="2565360"/>
            <a:ext cx="2536920" cy="2536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12"/>
          <p:cNvPicPr/>
          <p:nvPr/>
        </p:nvPicPr>
        <p:blipFill>
          <a:blip r:embed="rId3"/>
          <a:stretch/>
        </p:blipFill>
        <p:spPr>
          <a:xfrm>
            <a:off x="324000" y="2924280"/>
            <a:ext cx="2087280" cy="1600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31"/>
          <p:cNvPicPr/>
          <p:nvPr/>
        </p:nvPicPr>
        <p:blipFill>
          <a:blip r:embed="rId4"/>
          <a:stretch/>
        </p:blipFill>
        <p:spPr>
          <a:xfrm>
            <a:off x="6726240" y="2852640"/>
            <a:ext cx="13413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755640" y="404640"/>
            <a:ext cx="77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равила анализа диаграмм годового количества осадков Количество осадков за месяц равно сумме осадков, выпавших за все дни месяц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-Скажите, как это вычисляют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- А как вычисляют количество осадков  за год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-А сейчас мы научимся строить и  анализировать диаграммы годового количества осадков. Для, этого, откройте страницу учебника 126, рисунок 81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Что можно узнать по диаграмме годового количества осадков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4" descr="r"/>
          <p:cNvPicPr/>
          <p:nvPr/>
        </p:nvPicPr>
        <p:blipFill>
          <a:blip r:embed="rId1"/>
          <a:srcRect l="9142" t="0" r="0" b="0"/>
          <a:stretch/>
        </p:blipFill>
        <p:spPr>
          <a:xfrm>
            <a:off x="2411280" y="3933720"/>
            <a:ext cx="32022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250920" y="69228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Самостоятельное построение диаграммы годового количества осад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 А теперь научимся сами составлять  столбиковую диаграмму годового количества осадков, используя данные годового количества осадков в Мошковском районе за …год.. Работа в рабочем лист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Скажите, что будем откладывать по вертикальной оси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А по горизонтальной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Откладываем в отрезке январь вверх такое расстояние, которое соответствовало бы количеству осадков за данный месяц. Черти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10199"/>
                </a:solidFill>
                <a:uFillTx/>
                <a:latin typeface="Tahoma"/>
              </a:rPr>
              <a:t>Читаем диаграмму</a:t>
            </a: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4" descr="r"/>
          <p:cNvPicPr/>
          <p:nvPr/>
        </p:nvPicPr>
        <p:blipFill>
          <a:blip r:embed="rId1"/>
          <a:srcRect l="9142" t="0" r="0" b="0"/>
          <a:stretch/>
        </p:blipFill>
        <p:spPr>
          <a:xfrm>
            <a:off x="2050920" y="4149720"/>
            <a:ext cx="32022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468360" y="76500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Составление кластер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«Что мы узнали об облаках и атмосферных осадках?»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6" descr="8"/>
          <p:cNvPicPr/>
          <p:nvPr/>
        </p:nvPicPr>
        <p:blipFill>
          <a:blip r:embed="rId1"/>
          <a:stretch/>
        </p:blipFill>
        <p:spPr>
          <a:xfrm>
            <a:off x="1042920" y="2852640"/>
            <a:ext cx="2060640" cy="1730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Снеговик и нос"/>
          <p:cNvPicPr/>
          <p:nvPr/>
        </p:nvPicPr>
        <p:blipFill>
          <a:blip r:embed="rId2"/>
          <a:stretch/>
        </p:blipFill>
        <p:spPr>
          <a:xfrm>
            <a:off x="6948360" y="3860640"/>
            <a:ext cx="1624320" cy="24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900000" y="620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Сейчас мы узнаем какую оболочку земли мы с вами будем изучать!!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403280" y="1413000"/>
            <a:ext cx="6480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 этом слове зашифровано название оболочки зем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АРЕФСОМ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6" descr="31"/>
          <p:cNvPicPr/>
          <p:nvPr/>
        </p:nvPicPr>
        <p:blipFill>
          <a:blip r:embed="rId1"/>
          <a:stretch/>
        </p:blipFill>
        <p:spPr>
          <a:xfrm>
            <a:off x="395280" y="4076640"/>
            <a:ext cx="1994040" cy="244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12"/>
          <p:cNvPicPr/>
          <p:nvPr/>
        </p:nvPicPr>
        <p:blipFill>
          <a:blip r:embed="rId2"/>
          <a:stretch/>
        </p:blipFill>
        <p:spPr>
          <a:xfrm>
            <a:off x="6659640" y="1197000"/>
            <a:ext cx="2733480" cy="2095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Осадки 2"/>
          <p:cNvPicPr/>
          <p:nvPr/>
        </p:nvPicPr>
        <p:blipFill>
          <a:blip r:embed="rId3"/>
          <a:stretch/>
        </p:blipFill>
        <p:spPr>
          <a:xfrm>
            <a:off x="7054920" y="3025800"/>
            <a:ext cx="20890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395280" y="476280"/>
            <a:ext cx="777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росто интересно!!!!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Так существует ли связь между видами облаков и осадкам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Наблюдали ли вы такое явлени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Идет дождь – теплый, летний. Вы выбегаете на улицу и начинаете прыгать и громко кричать: “Дождик, дождик лей-лей, никого не жалей”, и он на самом деле становится сильне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Это происходит потому, что малейшие сотрясения воздуха вызывают образование из паров воды дождевых капел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4" descr="http://im4-tub.yandex.net/i?id=54208355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091040"/>
            <a:ext cx="3708360" cy="2766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http://im2-tub.yandex.net/i?id=43764049&amp;tov=2"/>
          <p:cNvPicPr/>
          <p:nvPr/>
        </p:nvPicPr>
        <p:blipFill>
          <a:blip r:embed="rId3"/>
          <a:stretch/>
        </p:blipFill>
        <p:spPr>
          <a:xfrm>
            <a:off x="5627520" y="4108320"/>
            <a:ext cx="351648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1116000" y="692280"/>
            <a:ext cx="64087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Домашнее зада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1 у-нь: Параграф 4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2 у-нь: нарисовать пейзаж с одним из видов облачности: безоблачно; незначительная облачность; средняя облачность; с просветами; сплошна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3 у-нь: объяснить причины образования различной облач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4" descr="4"/>
          <p:cNvPicPr/>
          <p:nvPr/>
        </p:nvPicPr>
        <p:blipFill>
          <a:blip r:embed="rId1"/>
          <a:stretch/>
        </p:blipFill>
        <p:spPr>
          <a:xfrm>
            <a:off x="1258920" y="3357720"/>
            <a:ext cx="270648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4"/>
          <p:cNvSpPr txBox="1"/>
          <p:nvPr/>
        </p:nvSpPr>
        <p:spPr>
          <a:xfrm>
            <a:off x="1835280" y="836640"/>
            <a:ext cx="5692680" cy="1511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Спасибо за урок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15" name="Picture 6" descr="7"/>
          <p:cNvPicPr/>
          <p:nvPr/>
        </p:nvPicPr>
        <p:blipFill>
          <a:blip r:embed="rId1"/>
          <a:stretch/>
        </p:blipFill>
        <p:spPr>
          <a:xfrm>
            <a:off x="6875640" y="3860640"/>
            <a:ext cx="1977840" cy="2997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cliparts191"/>
          <p:cNvPicPr/>
          <p:nvPr/>
        </p:nvPicPr>
        <p:blipFill>
          <a:blip r:embed="rId2"/>
          <a:stretch/>
        </p:blipFill>
        <p:spPr>
          <a:xfrm>
            <a:off x="2556000" y="1989000"/>
            <a:ext cx="379080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В каких состояниях находится вода в атмосфере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95280" y="692280"/>
            <a:ext cx="7777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Для того чтобы узнать какую оболочку Земли мы с вами сегодня будем изучать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Вам необходимо отгадать загад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777240" y="4149000"/>
            <a:ext cx="77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 жидком, твердом(атмосферные осадки) и газообразном(облака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340000" y="1700280"/>
            <a:ext cx="4103640" cy="30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Да, сегодня на уроке мы будем говорить об атмосферных осадках, их видах, о причинах,  влияющих на их количество, и как осадки измеряют. На уроке очень пригодятся  ваши воспоминания о лете, осени, весне. А также нам будет помогать пейзаж из окна.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Изображение 100"/>
          <p:cNvPicPr/>
          <p:nvPr/>
        </p:nvPicPr>
        <p:blipFill>
          <a:blip r:embed="rId1"/>
          <a:stretch/>
        </p:blipFill>
        <p:spPr>
          <a:xfrm>
            <a:off x="5724360" y="429264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" descr="P1750290.JPG"/>
          <p:cNvPicPr/>
          <p:nvPr/>
        </p:nvPicPr>
        <p:blipFill>
          <a:blip r:embed="rId2"/>
          <a:stretch/>
        </p:blipFill>
        <p:spPr>
          <a:xfrm>
            <a:off x="0" y="0"/>
            <a:ext cx="2484360" cy="1862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Изображение 072"/>
          <p:cNvPicPr/>
          <p:nvPr/>
        </p:nvPicPr>
        <p:blipFill>
          <a:blip r:embed="rId3"/>
          <a:stretch/>
        </p:blipFill>
        <p:spPr>
          <a:xfrm>
            <a:off x="0" y="4238640"/>
            <a:ext cx="3492360" cy="2619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P1750280"/>
          <p:cNvPicPr/>
          <p:nvPr/>
        </p:nvPicPr>
        <p:blipFill>
          <a:blip r:embed="rId4"/>
          <a:stretch/>
        </p:blipFill>
        <p:spPr>
          <a:xfrm>
            <a:off x="6300720" y="0"/>
            <a:ext cx="28432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Давайте составим кластер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Что вы уже знаете об облаках и атмосферных осадка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Учащиеся делятся на 2 группы 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оставляют класте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99"/>
                </a:solidFill>
                <a:uFillTx/>
                <a:latin typeface="Tahoma"/>
              </a:rPr>
              <a:t>1 группа записывает всё что знает об облак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99"/>
                </a:solidFill>
                <a:uFillTx/>
                <a:latin typeface="Tahoma"/>
              </a:rPr>
              <a:t>2 группа записывает всё что знает об осадк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4"/>
          <p:cNvSpPr/>
          <p:nvPr/>
        </p:nvSpPr>
        <p:spPr>
          <a:xfrm>
            <a:off x="3276720" y="2565360"/>
            <a:ext cx="2736720" cy="1009800"/>
          </a:xfrm>
          <a:prstGeom prst="foldedCorner">
            <a:avLst>
              <a:gd name="adj" fmla="val 20476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5400000"/>
          </a:gradFill>
          <a:ln w="0">
            <a:solidFill>
              <a:srgbClr val="000080"/>
            </a:solidFill>
            <a:prstDash val="dash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Атмосферные осад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5"/>
          <p:cNvSpPr/>
          <p:nvPr/>
        </p:nvSpPr>
        <p:spPr>
          <a:xfrm rot="10800000">
            <a:off x="2050560" y="1414080"/>
            <a:ext cx="1203480" cy="75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967" y="18325"/>
                </a:moveTo>
                <a:lnTo>
                  <a:pt x="22967" y="18325"/>
                </a:lnTo>
                <a:lnTo>
                  <a:pt x="22967" y="4456"/>
                </a:lnTo>
                <a:lnTo>
                  <a:pt x="-4104" y="-9641"/>
                </a:lnTo>
              </a:path>
            </a:pathLst>
          </a:cu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16200000"/>
          </a:gra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Дожд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7451640" y="443700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-162893"/>
              <a:gd name="adj4" fmla="val -194893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Град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2330280" y="5300640"/>
            <a:ext cx="1398600" cy="720720"/>
          </a:xfrm>
          <a:prstGeom prst="borderCallout1">
            <a:avLst>
              <a:gd name="adj1" fmla="val 18750"/>
              <a:gd name="adj2" fmla="val -8333"/>
              <a:gd name="adj3" fmla="val -239648"/>
              <a:gd name="adj4" fmla="val 105449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Гибель урож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9"/>
          <p:cNvSpPr/>
          <p:nvPr/>
        </p:nvSpPr>
        <p:spPr>
          <a:xfrm>
            <a:off x="1179360" y="4437000"/>
            <a:ext cx="1368720" cy="504720"/>
          </a:xfrm>
          <a:prstGeom prst="borderCallout1">
            <a:avLst>
              <a:gd name="adj1" fmla="val 18750"/>
              <a:gd name="adj2" fmla="val -8333"/>
              <a:gd name="adj3" fmla="val -213837"/>
              <a:gd name="adj4" fmla="val 146981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7093080" y="306864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5976"/>
              <a:gd name="adj4" fmla="val -79930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11"/>
          <p:cNvSpPr/>
          <p:nvPr/>
        </p:nvSpPr>
        <p:spPr>
          <a:xfrm>
            <a:off x="7093080" y="907920"/>
            <a:ext cx="1368360" cy="505080"/>
          </a:xfrm>
          <a:prstGeom prst="borderCallout1">
            <a:avLst>
              <a:gd name="adj1" fmla="val 18750"/>
              <a:gd name="adj2" fmla="val -8333"/>
              <a:gd name="adj3" fmla="val 324842"/>
              <a:gd name="adj4" fmla="val -165546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12"/>
          <p:cNvSpPr/>
          <p:nvPr/>
        </p:nvSpPr>
        <p:spPr>
          <a:xfrm>
            <a:off x="6227640" y="5877000"/>
            <a:ext cx="1368720" cy="504720"/>
          </a:xfrm>
          <a:prstGeom prst="borderCallout1">
            <a:avLst>
              <a:gd name="adj1" fmla="val 18750"/>
              <a:gd name="adj2" fmla="val -8333"/>
              <a:gd name="adj3" fmla="val -469495"/>
              <a:gd name="adj4" fmla="val -137935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14" descr="http://club.ncstu.ru/photo/nob/water/09.jpg"/>
          <p:cNvPicPr/>
          <p:nvPr/>
        </p:nvPicPr>
        <p:blipFill>
          <a:blip r:embed="rId1"/>
          <a:stretch/>
        </p:blipFill>
        <p:spPr>
          <a:xfrm>
            <a:off x="0" y="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http://img1.liveinternet.ru/images/attach/b/2/24/929/24929347_img017.jpg"/>
          <p:cNvPicPr/>
          <p:nvPr/>
        </p:nvPicPr>
        <p:blipFill>
          <a:blip r:embed="rId2"/>
          <a:stretch/>
        </p:blipFill>
        <p:spPr>
          <a:xfrm>
            <a:off x="0" y="54291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http://www.epochtimes.ru/images/stories/03/china/105_u91_binbao.jpg"/>
          <p:cNvPicPr/>
          <p:nvPr/>
        </p:nvPicPr>
        <p:blipFill>
          <a:blip r:embed="rId3"/>
          <a:stretch/>
        </p:blipFill>
        <p:spPr>
          <a:xfrm>
            <a:off x="4071960" y="142920"/>
            <a:ext cx="2222640" cy="1420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0" descr="http://image002.mylivepage.com/chunk2/852619/577/Божья%20роса.jpg"/>
          <p:cNvPicPr/>
          <p:nvPr/>
        </p:nvPicPr>
        <p:blipFill>
          <a:blip r:embed="rId4"/>
          <a:stretch/>
        </p:blipFill>
        <p:spPr>
          <a:xfrm>
            <a:off x="3786120" y="5456160"/>
            <a:ext cx="1911240" cy="14018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4"/>
          <p:cNvSpPr/>
          <p:nvPr/>
        </p:nvSpPr>
        <p:spPr>
          <a:xfrm>
            <a:off x="3286080" y="2500200"/>
            <a:ext cx="2736720" cy="1009800"/>
          </a:xfrm>
          <a:prstGeom prst="foldedCorner">
            <a:avLst>
              <a:gd name="adj" fmla="val 20476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5400000"/>
          </a:gradFill>
          <a:ln w="0">
            <a:solidFill>
              <a:srgbClr val="000080"/>
            </a:solidFill>
            <a:prstDash val="dash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Обла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7093080" y="907920"/>
            <a:ext cx="1368360" cy="505080"/>
          </a:xfrm>
          <a:prstGeom prst="borderCallout1">
            <a:avLst>
              <a:gd name="adj1" fmla="val 18750"/>
              <a:gd name="adj2" fmla="val -8333"/>
              <a:gd name="adj3" fmla="val 324842"/>
              <a:gd name="adj4" fmla="val -165546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Кучевы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6877080" y="5013360"/>
            <a:ext cx="1655640" cy="720720"/>
          </a:xfrm>
          <a:prstGeom prst="borderCallout1">
            <a:avLst>
              <a:gd name="adj1" fmla="val 18750"/>
              <a:gd name="adj2" fmla="val -8333"/>
              <a:gd name="adj3" fmla="val -209472"/>
              <a:gd name="adj4" fmla="val -95972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асмурная пого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1971720" y="486900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-276731"/>
              <a:gd name="adj4" fmla="val 164847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890640" y="184464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128930"/>
              <a:gd name="adj4" fmla="val 189444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7775640" y="270828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76101"/>
              <a:gd name="adj4" fmla="val -128074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1971720" y="54936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373268"/>
              <a:gd name="adj4" fmla="val 149652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13" descr="http://images.astronet.ru/pubd/2007/11/25/0001224798/iridescent_allen.jpg"/>
          <p:cNvPicPr/>
          <p:nvPr/>
        </p:nvPicPr>
        <p:blipFill>
          <a:blip r:embed="rId1"/>
          <a:stretch/>
        </p:blipFill>
        <p:spPr>
          <a:xfrm>
            <a:off x="0" y="278604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http://img0.liveinternet.ru/images/attach/b/3/26/298/26298696_733330.jpg"/>
          <p:cNvPicPr/>
          <p:nvPr/>
        </p:nvPicPr>
        <p:blipFill>
          <a:blip r:embed="rId2"/>
          <a:stretch/>
        </p:blipFill>
        <p:spPr>
          <a:xfrm>
            <a:off x="0" y="0"/>
            <a:ext cx="1865160" cy="140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http://www.asveti.ru/p/medium/g/10/i/background/medium/01_23_07__1_49_05__pm.jpg"/>
          <p:cNvPicPr/>
          <p:nvPr/>
        </p:nvPicPr>
        <p:blipFill>
          <a:blip r:embed="rId3"/>
          <a:stretch/>
        </p:blipFill>
        <p:spPr>
          <a:xfrm>
            <a:off x="4000680" y="0"/>
            <a:ext cx="2151000" cy="1614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9" descr="http://meteoweb.ru/img/diary/2008q3/20080826-0-1.jpg"/>
          <p:cNvPicPr/>
          <p:nvPr/>
        </p:nvPicPr>
        <p:blipFill>
          <a:blip r:embed="rId4"/>
          <a:stretch/>
        </p:blipFill>
        <p:spPr>
          <a:xfrm>
            <a:off x="3786120" y="492912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1" descr="http://meteoweb.ru/img/clouds/cl004-3-1.jpg"/>
          <p:cNvPicPr/>
          <p:nvPr/>
        </p:nvPicPr>
        <p:blipFill>
          <a:blip r:embed="rId5"/>
          <a:stretch/>
        </p:blipFill>
        <p:spPr>
          <a:xfrm>
            <a:off x="6786720" y="3286080"/>
            <a:ext cx="2222280" cy="1459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3" descr="http://borisfen.narod.ru/image007.jpg"/>
          <p:cNvPicPr/>
          <p:nvPr/>
        </p:nvPicPr>
        <p:blipFill>
          <a:blip r:embed="rId6"/>
          <a:stretch/>
        </p:blipFill>
        <p:spPr>
          <a:xfrm>
            <a:off x="0" y="5572080"/>
            <a:ext cx="1903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Состав атмосферы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Атмосфера состоит из воздух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Каков состав воздух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6" descr="http://img1.liveinternet.ru/images/attach/b/3/15/640/15640874_tuman.jpg"/>
          <p:cNvPicPr/>
          <p:nvPr/>
        </p:nvPicPr>
        <p:blipFill>
          <a:blip r:embed="rId1"/>
          <a:stretch/>
        </p:blipFill>
        <p:spPr>
          <a:xfrm>
            <a:off x="2484360" y="3987720"/>
            <a:ext cx="358776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5:37:47Z</dcterms:created>
  <dc:creator>владик</dc:creator>
  <dc:description/>
  <dc:language>en-US</dc:language>
  <cp:lastModifiedBy>Admin</cp:lastModifiedBy>
  <dcterms:modified xsi:type="dcterms:W3CDTF">2012-11-21T14:20:37Z</dcterms:modified>
  <cp:revision>17</cp:revision>
  <dc:subject/>
  <dc:title>Презентация урока по теме «Виды облаков и атмосферные осадки»</dc:title>
</cp:coreProperties>
</file>