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D981-9331-464C-AD23-09A73AC63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70E7-A45D-4307-AAEE-69E5D4DBA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57EC-9DF0-4A50-AC43-BF766DE9F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40C5-F845-4AF1-A134-58ECD4100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BCC53-E6FC-483C-8B47-7A5BEED393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94C2-EDA8-4A46-B008-DADB698BF1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CA38-D383-4F9A-90E7-F7315D9938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1EBD-4420-40E8-9FF3-9034481B5A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4D0F4-A9DA-4696-A315-FD49FDE0D7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FA3A7-6FDE-47AE-99D5-DE871078BA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2A3A-6C95-4D4D-B83E-4DEF2398C6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9C0B-5BCC-4491-BCEA-FF1341377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DE9E-D742-42CA-9EE4-87A96B9EC5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3C01-949D-4613-ADFA-D8EDF30EF2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B20D8-4C3E-4866-B2EA-93383FCC12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5775-D95D-4A7B-A24E-7D16B14BB9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D743-7781-471A-B7F6-D71098CD11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445-7B29-4993-AB3B-CEAF2221AF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157-7DD1-413A-9C3B-4AFD203C4F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87C-B2B8-440F-A6DA-F8F39B16D1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B2B-504F-44A9-8869-F109D7BC50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158-7ABB-4C3D-95D9-1DE226B874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3AF1-E662-4643-B8CF-44F514A0C8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C5A-F226-4C5A-9ED6-E2F0443173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6CA-63AF-4762-9983-F23F489999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CE0-E888-46CE-B359-CE83DF4DFF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91C-457C-4FCB-A5A1-6A96FB3FC0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7BE-7433-4783-B9DC-486DB7CEAF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5CF-DDA4-4CD1-8B2E-EC78984AC5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FE3-A3C9-4E70-9B1E-092B0CA800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483EF-D737-489C-B7DB-973B8CF884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17784-9331-4732-A06A-67FF3CED18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7D72B-82B6-407D-BD13-2D6EB1B79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5604-70B0-4043-BEF7-D8DAA1FAFF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662B0-FB84-469F-B5BA-DD1E7C3CB5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B416B-6A01-4491-8B17-370DFA302E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56F39-C198-43FF-A45C-9BDC3C3362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E8436-D921-4866-AE20-EFDA0FAABD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47144-4B98-4B6E-B9AA-C7A3ECB40C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B028E-B7A2-4357-BD65-7A97E9804DE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2F258-A7C4-460C-AEDE-B279C79D64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E44B5-EE43-491E-9D5C-05268290F2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25BC0-52B1-479D-A933-7CDEFE33BE0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F3E49-704E-464A-A87E-758F932A8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B677-0A7E-447E-A565-13B569317F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3AE2C-38C5-4177-998A-E19581289AA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5A8F5-3262-432F-9752-D051844ACC9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0346F-E22C-4CB0-8BCE-64751C03598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75B10-BA99-4A75-BB3B-D0BEFF9E6A4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00C2D-6FA0-48C5-A717-691C2EF671B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684F3-3394-499E-8AEE-9B75FB59A93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4FA72-A012-454E-A531-16ECA849BF2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FA52C-C1BC-4C0F-8163-B0A27665474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55F35-2036-4231-A638-A9FB62F3694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11653-982F-49E9-B079-51EEAE55A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9D27-8C02-4EF8-87BE-338CD8807E6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F4BC6-079A-4632-90D7-B8EAA550AC1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2A4A-135A-4B0C-BF0A-2415AE437B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A389-0EED-457B-98B8-E98FEFE9A16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FAD8-2407-45A0-96DF-9897E94BD79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B536-09CD-4B97-883F-0AD2162C992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1182-5FBB-48AA-977E-81CA2BCBDB8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8B87-564E-462C-BA64-AB099072F76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7839-CE67-4138-A234-5CD1C08030F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04D4-0979-46B8-8B45-FD4F8B4B288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88ED-98D3-4CDE-92BF-5A50139BC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B0D1-12B5-4589-A875-D258DB31CA4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D10E-693A-4BF8-9488-6BC98DD3F72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5883-5039-4121-B937-16B536F19E0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AB25-D5BA-4FAC-BB25-204F5AAF9FC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B754A8-C225-4625-B696-4AC36DDCD3A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8DDFD3-8578-4379-8B14-222CA2AB04C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94B1E0-09CA-42B3-B79A-B08450FDAD8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91BAF5-0997-44A7-91DB-215C121B9E3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2EF8B3-A246-41B8-A69E-EECD2D7604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16567D-801D-4A6B-9604-AEB6431D99B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E5B86E-FCF3-4793-8DF9-B84295143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D6ED-A58E-4D9D-AF38-3280E0F78CC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C13DB7-B8A1-4D97-BB70-AE7A455A4AB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AE649A-8676-4223-A59E-B08715EA619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102D8C-10AF-4AB6-B885-CE662F79280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632464-36C5-4E26-9F95-27F6798B617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ADEC43-73DF-40FD-99C2-423C718A4FA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7E167-2C95-42EE-BCF8-6B54F05BA38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7AC66-6CCE-452F-ADA0-E24E3703B82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54D81-66EE-41BA-A00A-F2813764C05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7FEE9-A523-452A-B675-CD25ED40DF5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20EA8-CBB3-44A2-90A9-05B74E0F9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6BC7-1396-4E8E-B3DB-EBDD8899DCF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8A6E8-9BB1-4701-BD1C-7707572B964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153F2-B3B4-4986-97B9-97C24BB5BC3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77D77-389E-4488-8875-5E14FB87D92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A0150-F8E9-4EA9-B575-13321588A0A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9D0EA-CB11-4456-A5DA-CACFAA8E4C8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C4DDB-BA4C-4284-8036-F34B1AE8796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FDE73-4CA7-4D9B-83A3-C89207374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7084AF-80FA-4028-982F-BEDE06CFD0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 rot="16200000">
            <a:off x="7553160" y="525564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71600" y="60120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371600" y="56484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8391240" y="5753160"/>
            <a:ext cx="501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763680-2E94-4086-84EA-D8967283F810}" type="slidenum">
              <a: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791240" y="6321600"/>
            <a:ext cx="2133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6321600"/>
            <a:ext cx="4259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058C8B-2951-4D7B-94D3-CD81A9871D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 flipH="1" flipV="1">
            <a:off x="6467040" y="7560"/>
            <a:ext cx="2676600" cy="190332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0" y="4680"/>
            <a:ext cx="9137520" cy="68486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956280" y="6321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619360" y="6321600"/>
            <a:ext cx="4260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4"/>
          </p:nvPr>
        </p:nvSpPr>
        <p:spPr>
          <a:xfrm>
            <a:off x="8449920" y="809280"/>
            <a:ext cx="501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6C3405-5755-491C-8DD6-A96DF8CF7A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5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A25FAD-3421-4FE6-AF20-6980C8C1CF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791240" y="6323040"/>
            <a:ext cx="2130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57200" y="6323040"/>
            <a:ext cx="4260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6"/>
          </p:nvPr>
        </p:nvSpPr>
        <p:spPr>
          <a:xfrm>
            <a:off x="7589520" y="648324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C26BB0-6E82-4807-AFF2-CE10E5EA09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278400" y="639756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135080" y="6397560"/>
            <a:ext cx="5143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7"/>
          </p:nvPr>
        </p:nvSpPr>
        <p:spPr>
          <a:xfrm>
            <a:off x="8410320" y="655632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761196-E5FF-4933-B571-105911C345F2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108840" y="6397560"/>
            <a:ext cx="2101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70000" y="6399360"/>
            <a:ext cx="494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8"/>
          </p:nvPr>
        </p:nvSpPr>
        <p:spPr>
          <a:xfrm>
            <a:off x="8217000" y="6556320"/>
            <a:ext cx="3650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E9898E-7032-4C6E-852E-C64A7F44D412}" type="slidenum">
              <a:rPr b="0" lang="en-GB" sz="9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071440" y="22860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ыполнила: Попрядухина Елена Васильевн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еподаватель – организатор ОБЖ МОУ СОШ № 30 г. Курск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-285840" y="2714760"/>
            <a:ext cx="7000920" cy="51750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2"/>
          <p:cNvGrpSpPr/>
          <p:nvPr/>
        </p:nvGrpSpPr>
        <p:grpSpPr>
          <a:xfrm>
            <a:off x="500040" y="285840"/>
            <a:ext cx="8143920" cy="1642680"/>
            <a:chOff x="500040" y="285840"/>
            <a:chExt cx="8143920" cy="1642680"/>
          </a:xfrm>
        </p:grpSpPr>
        <p:pic>
          <p:nvPicPr>
            <p:cNvPr id="348" name="Picture 3" descr=""/>
            <p:cNvPicPr/>
            <p:nvPr/>
          </p:nvPicPr>
          <p:blipFill>
            <a:blip r:embed="rId2"/>
            <a:stretch/>
          </p:blipFill>
          <p:spPr>
            <a:xfrm>
              <a:off x="500040" y="285840"/>
              <a:ext cx="8143920" cy="16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4"/>
            <p:cNvSpPr/>
            <p:nvPr/>
          </p:nvSpPr>
          <p:spPr>
            <a:xfrm>
              <a:off x="500040" y="285840"/>
              <a:ext cx="8143920" cy="16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500040" y="428760"/>
            <a:ext cx="81867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3.При пыльной буре закройте лицо марлевой повязкой, платком, куском ткани, а глаза оч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571760" y="3571920"/>
            <a:ext cx="5715000" cy="3000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1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285480" y="285840"/>
            <a:ext cx="84294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При поступлении сигнала о приближении смерча необходимо немедленно спуститься в укрытие, подвал дома или погреб, либо укрыться под кроватью и другой прочной мебелью. Если смерч застает Вас на открытой местности, укрывайтесь на дне дорожного кювета, в ямах, рвах, узких оврагах, плотно прижимаясь к земле, закрыв голову одеждой или ветками деревьев. Не оставайтесь в автомобиле, выходите из него и укрывайтесь, как указано выше</a:t>
            </a:r>
            <a:r>
              <a:rPr b="0" lang="en-GB" sz="1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3929040" y="4357800"/>
            <a:ext cx="3301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6836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cc99"/>
                </a:solidFill>
                <a:uFillTx/>
                <a:latin typeface="Times New Roman"/>
              </a:rPr>
              <a:t>Алгоритм действий при заблаговременном оповещении об угрозе ураганов, бурь, смерче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9" name="Picture 5" descr="{9B611EF1-2301-49CC-A55C-57264CFE7DEC}"/>
          <p:cNvPicPr/>
          <p:nvPr/>
        </p:nvPicPr>
        <p:blipFill>
          <a:blip r:embed="rId1"/>
          <a:stretch/>
        </p:blipFill>
        <p:spPr>
          <a:xfrm>
            <a:off x="1332000" y="1916280"/>
            <a:ext cx="6480000" cy="4860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 u="sng">
                <a:solidFill>
                  <a:srgbClr val="ff5c9c"/>
                </a:solidFill>
                <a:uFillTx/>
                <a:latin typeface="Times New Roman"/>
              </a:rPr>
              <a:t>Алгоритм действий в случае внезапного возникновения урагана, бури, смерча</a:t>
            </a:r>
            <a:endParaRPr b="0" lang="en-US" sz="3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401" name="Picture 6" descr="{A090355C-74DC-4219-952C-EB831C46561E}"/>
          <p:cNvPicPr/>
          <p:nvPr/>
        </p:nvPicPr>
        <p:blipFill>
          <a:blip r:embed="rId1"/>
          <a:stretch/>
        </p:blipFill>
        <p:spPr>
          <a:xfrm>
            <a:off x="1523880" y="18828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1"/>
          <p:cNvGrpSpPr/>
          <p:nvPr/>
        </p:nvGrpSpPr>
        <p:grpSpPr>
          <a:xfrm>
            <a:off x="1143000" y="357120"/>
            <a:ext cx="6500880" cy="857160"/>
            <a:chOff x="1143000" y="357120"/>
            <a:chExt cx="6500880" cy="857160"/>
          </a:xfrm>
        </p:grpSpPr>
        <p:pic>
          <p:nvPicPr>
            <p:cNvPr id="403" name="Picture 2" descr=""/>
            <p:cNvPicPr/>
            <p:nvPr/>
          </p:nvPicPr>
          <p:blipFill>
            <a:blip r:embed="rId1"/>
            <a:stretch/>
          </p:blipFill>
          <p:spPr>
            <a:xfrm>
              <a:off x="1143000" y="357120"/>
              <a:ext cx="65008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3"/>
            <p:cNvSpPr/>
            <p:nvPr/>
          </p:nvSpPr>
          <p:spPr>
            <a:xfrm>
              <a:off x="1143000" y="357120"/>
              <a:ext cx="65008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Text Box 4"/>
          <p:cNvSpPr/>
          <p:nvPr/>
        </p:nvSpPr>
        <p:spPr>
          <a:xfrm>
            <a:off x="500040" y="1143000"/>
            <a:ext cx="818676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С какой скоростью движется урага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10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10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20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2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2786040" y="2308320"/>
            <a:ext cx="5786640" cy="390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457200" y="476280"/>
            <a:ext cx="82296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Скорость песчаной бури составля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олее 2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3643200" y="2286000"/>
            <a:ext cx="5246640" cy="4173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324000" y="692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Назовите правильное действие, которое нужно выполнить во время урагана, бури или смер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Спуститься в укры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ыйти на ул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варить 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Молиться бог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3305160" y="2714760"/>
            <a:ext cx="5195880" cy="3719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468360" y="620640"/>
            <a:ext cx="82296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Укажите правильное утвержд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снежной бури лучше укрыв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 зд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 сугро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крыв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 я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5857560" cy="4062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68360" y="549360"/>
            <a:ext cx="822960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С чем перемещается облако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месте с дом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месте с обла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Вместе с дож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месте с мусо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3357720" y="2571840"/>
            <a:ext cx="5429160" cy="3643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2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5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692280"/>
            <a:ext cx="822960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УРАГАН – это атмосферный вихрь больших размеров со скоростью ветра до 120 км/ч, а в приземном слое – до 200 км/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5891040" cy="4222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Century Gothic"/>
              </a:rPr>
              <a:t>Виды ураганов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Ураган (115-14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Сильный ураган (140-17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Жестокий ураган (более 17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5" descr="http://etotornado.ru/collapse/uraganiivetra/foto/small/2.jpg"/>
          <p:cNvPicPr/>
          <p:nvPr/>
        </p:nvPicPr>
        <p:blipFill>
          <a:blip r:embed="rId1"/>
          <a:stretch/>
        </p:blipFill>
        <p:spPr>
          <a:xfrm>
            <a:off x="539640" y="3716280"/>
            <a:ext cx="3816360" cy="2854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201188_main"/>
          <p:cNvPicPr/>
          <p:nvPr/>
        </p:nvPicPr>
        <p:blipFill>
          <a:blip r:embed="rId2"/>
          <a:stretch/>
        </p:blipFill>
        <p:spPr>
          <a:xfrm>
            <a:off x="4788000" y="371628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468360" y="47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УРЯ – длительный, очень сильный ветер со скоростью более 20 м/с, наблюдается обычно при прохождении циклона и сопровождается сильным волнением на море и разрушениями на су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500120" y="2357280"/>
            <a:ext cx="6961320" cy="3972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Century Gothic"/>
              </a:rPr>
              <a:t>Виды бури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468360" y="1341360"/>
            <a:ext cx="25210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61128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По соста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154764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3203640" y="1341360"/>
            <a:ext cx="2376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3205080" y="143676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По скорос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вет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3"/>
          <p:cNvSpPr/>
          <p:nvPr/>
        </p:nvSpPr>
        <p:spPr>
          <a:xfrm>
            <a:off x="4211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3564000" y="3860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2843280" y="3500280"/>
            <a:ext cx="2952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Бури (20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ильные бури (28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Жестокие бури (30,5м/с и боле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5867280" y="1341360"/>
            <a:ext cx="23767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6013800" y="1554120"/>
            <a:ext cx="213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По окраск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части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7020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6227640" y="3500280"/>
            <a:ext cx="2376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Че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Желто-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Бе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395280" y="3500280"/>
            <a:ext cx="201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есча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ыле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не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7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15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50920" y="642960"/>
            <a:ext cx="396396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СМЕРЧ – атмосферный вихрь, возникающий в грозовом облаке и распространяющийся вниз, часто до самой поверхности Земли в виде темного облачного рукава или хобота диаметром в десятки и сотни метров.</a:t>
            </a:r>
            <a:r>
              <a:rPr b="1" i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Существует недолго, перемещаясь вместе с обла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818160" cy="5572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Times New Roman"/>
              </a:rPr>
              <a:t>Виды смерчей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250920" y="1268280"/>
            <a:ext cx="27367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348000" y="1268280"/>
            <a:ext cx="2448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156360" y="1268280"/>
            <a:ext cx="2592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250920" y="1484280"/>
            <a:ext cx="29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300" spc="-1" strike="noStrike">
                <a:solidFill>
                  <a:srgbClr val="00cc99"/>
                </a:solidFill>
                <a:latin typeface="Times New Roman"/>
              </a:rPr>
              <a:t>По происхождению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3565800" y="148428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стро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6227640" y="1341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време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1547640" y="24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4500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2"/>
          <p:cNvSpPr/>
          <p:nvPr/>
        </p:nvSpPr>
        <p:spPr>
          <a:xfrm>
            <a:off x="7308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396360" y="3141720"/>
            <a:ext cx="25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Невиди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Водя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Огне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3132000" y="3068640"/>
            <a:ext cx="325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Плот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Расплывчат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6443640" y="3068640"/>
            <a:ext cx="2700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Кротк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Длинн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Ураганные вих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75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2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450720" y="262080"/>
            <a:ext cx="8240760" cy="809640"/>
            <a:chOff x="450720" y="262080"/>
            <a:chExt cx="8240760" cy="809640"/>
          </a:xfrm>
        </p:grpSpPr>
        <p:pic>
          <p:nvPicPr>
            <p:cNvPr id="388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3"/>
            <p:cNvSpPr/>
            <p:nvPr/>
          </p:nvSpPr>
          <p:spPr>
            <a:xfrm>
              <a:off x="450720" y="262080"/>
              <a:ext cx="82407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Text Box 4"/>
          <p:cNvSpPr/>
          <p:nvPr/>
        </p:nvSpPr>
        <p:spPr>
          <a:xfrm>
            <a:off x="428760" y="857160"/>
            <a:ext cx="82152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. </a:t>
            </a: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отойдите от окон и займите безопасное место у стен внутренних помещений, в коридоре, у встроенных шкафов, в ванных комнатах, туалете, кладовых, в прочных шкафах, под сто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6" descr=""/>
          <p:cNvPicPr/>
          <p:nvPr/>
        </p:nvPicPr>
        <p:blipFill>
          <a:blip r:embed="rId2"/>
          <a:stretch/>
        </p:blipFill>
        <p:spPr>
          <a:xfrm>
            <a:off x="1928880" y="2928960"/>
            <a:ext cx="5705280" cy="3533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357120" y="357120"/>
            <a:ext cx="83296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2.При снежной буре укрывайтесь в зданиях. Если Вы оказались в поле или на проселочной дороге, выходите на магистральные дороги, которые периодически расчищаются и где большая вероятность оказания Вам помощ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1928880" y="2600280"/>
            <a:ext cx="5857920" cy="39718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9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еник</dc:creator>
  <dc:description/>
  <dc:language>en-US</dc:language>
  <cp:lastModifiedBy>КарМаН</cp:lastModifiedBy>
  <dcterms:modified xsi:type="dcterms:W3CDTF">2011-03-18T12:13:54Z</dcterms:modified>
  <cp:revision>17</cp:revision>
  <dc:subject/>
  <dc:title>Ураганы, бури, смерчи!!!</dc:title>
</cp:coreProperties>
</file>