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0403-9A6C-4BAA-84BD-0A77D8F4A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6319-CE90-4BE9-919C-05B354A59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31D1C-322E-4A27-92C1-36519EB0C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9CC8-67E8-4C28-A70C-D669BBF97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AC284-5FBC-4A76-B4CF-90E773C0CC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E6DF4-3E3D-4256-A679-7831EDA958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FAACE-D59B-4EFE-9B70-5E90EF9330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5213E-7537-443F-AD58-B943D7C2D3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9D07F-894F-4995-B59F-80E062856F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EA8C6-71FE-47AD-B42C-F32F0D73F9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17C1E-D8EE-49E9-AA5E-C4FE713538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71EA4-7D32-42C2-BE20-C74CC0988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9F20B-F941-45DF-8FF5-D7EA2D8EDA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4249A-F7F6-4CC1-9C11-F6B029FEA4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0EBD8-1E8A-4F16-83A9-3C6CABBFB9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3E320-29B1-4CA4-80BE-ADCADD7DBC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E0B9B-4D6F-4452-8E5F-303176B960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CD2-CB5A-4E78-BBE3-472C38B5DA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14C-F1C6-48A5-A0E4-9657B052B0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604-6678-4105-9186-D148D07D17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76A-FC62-42B5-B285-82FE915630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CAE-3056-4BEC-A000-3EE300B823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A4AC-C3EE-49F3-9091-6060ED5793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395-9EA5-442E-935A-4464FA3BAB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B71-06A7-454D-8CC6-0EF19D97E9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96B-5450-4253-9564-19455D7491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D3E-D6EA-4060-A01C-4E95707348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C6B7-122A-4A38-962E-58B0576DA0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328C-0551-4E3D-B984-7F0E1A5E26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174-3C2C-40DC-B741-FBFAC53DE5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1D2C6-776D-4150-9F64-C3A1D0D745D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1CD1B-D6A1-4ACF-90FE-2074791516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64783-EE56-4C63-8037-47D1CA51D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36B6-3A63-4516-AF87-57B254BE08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3140D-71CE-4863-9246-84EBFED2821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E3D99-5B69-4CBA-AB34-4EBA6D9B33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36E57-AB6B-42B9-8D61-B3A5F70076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7E6C1-0462-4E50-A388-CD38224817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63E20-742E-4BCE-A470-39AEE069C5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AB00E-2900-4076-AF5A-01373E2537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AA54F-049D-45AC-AA3A-20512050D0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ED76A-8E7A-45BB-8272-7814955136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2E047-FE7A-4602-BD81-DBE7A0F7201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3AA5E-2AC5-4DA5-873C-9EF7A0819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FB02-26A8-4BB2-8E53-417B6F3BEB6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B6E0D-DE5C-4AEA-B9B2-09954B8E312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5B502-E650-46F1-BFD4-2D3B7BF70D8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C74D7-4C17-4A42-91FB-5E31F904D5F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D40BD-BEE3-4A72-BBE0-D1E57EC31AF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1B13F-E526-40EA-8802-EF8CAD0EB11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8F85C-7CE2-4153-8B05-7ED5A79DBEE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4C293-F975-4105-A2DC-4C1D5944028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DB064-F8D2-4C49-95FE-3E50C86F327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E8773-3855-433F-8031-F1D42C8C24F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6547F-DF62-4D4F-8DDC-D0B5FC2AC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5DFB-2B29-47CF-9098-502EB2C7C9D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17B5A-79E1-4565-AE43-3B16B2AE906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AE8D-1A63-4DA2-8FFD-945F7806BDB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0D70-9E89-4777-AB61-42C1F9D4EED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29D8-676E-487B-A598-FB0C0328262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EE05-98A5-41E9-BB2A-8C9A79927FF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702C-1DCE-41E0-B4CD-5F6DF894FB8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A6F6-AC08-4FE5-A11E-1B5250141B6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27B8-75AB-4C9A-AB97-375EBF0F23F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5B0B-9E23-492B-9345-AB03DFA626C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C2F8-BF81-471C-ADC1-1101DC932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8DED-8D9F-4E0C-9319-7C2752A97DE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50C2-90C1-46E6-8572-D6297DEC9B5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1A80-59B7-42EA-A929-8D67877816D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3A0A-C059-495E-8B97-E7E3FE0C889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CB76A6-12D2-4504-80EF-7DA847921D4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2FCFB5-E53F-4164-95AE-54D42952C3C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26590F-0B25-4E81-A37E-F1456B1AC19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4B152A-C9D0-4DCC-B1F0-2669A01569B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6868E1-5C83-41C4-BB20-A522D0E11B3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6BD613-6190-40DE-893D-29C5A05A34B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E8824A-3CBA-4740-8EE8-A7788B296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92EE-095D-4566-A054-A376DEED4C1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B27A78-EB00-4071-9347-EE7AE91771C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D2A974-D64F-4050-A06E-2110772C840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A1643D-FB13-4F48-970F-4071B0BA644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71DE7D-4C6C-429B-A799-CB947612D72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DCAE67-B802-418F-92EA-4DF694EB4E5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7D5B4-F142-4596-AB64-31CA6347429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56E9A-DB5A-497F-B845-8C81344A019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2DB03-B246-465A-B7B1-18BF9C954F4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EBF71-1753-42E1-9EC8-27280F7BB74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620B30-7CF0-4204-A9CA-C66763792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557B-FA02-44BF-839C-7624C1EF804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8160" cy="64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EA097-C509-48EE-BBE6-BB6A2317ABE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27F34-6ADC-4A73-9D2F-D144C14C94F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9B72A1-6FEB-4DE6-856A-62ADD361863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73DBE-7FAF-428D-999D-F8D3ACF731A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69960"/>
            <a:ext cx="82281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3ABD2-351C-4802-9128-FAF1221D672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88280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3520" y="4269960"/>
            <a:ext cx="40150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D756D-F67C-406B-AA92-4458FB5AD85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28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1360" y="188280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28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1360" y="4269960"/>
            <a:ext cx="26492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8DAC7-B3D1-4B8C-A54C-E3A338295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4791240" y="6323040"/>
            <a:ext cx="2133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4A5278-EC23-47B7-8D77-E9E95D8B2D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 rot="16200000">
            <a:off x="7553160" y="525564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71600" y="601200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371600" y="5648400"/>
            <a:ext cx="5791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8391240" y="5753160"/>
            <a:ext cx="5014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5FE5F9-38FC-4470-B9E7-CFF330306F21}" type="slidenum">
              <a:rPr b="0" lang="en-US" sz="13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791240" y="6321600"/>
            <a:ext cx="2133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57200" y="6321600"/>
            <a:ext cx="4259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3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0A65FB-C071-4589-A97E-E9A778BE3A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1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3"/>
          <p:cNvSpPr/>
          <p:nvPr/>
        </p:nvSpPr>
        <p:spPr>
          <a:xfrm flipH="1" flipV="1">
            <a:off x="6467040" y="7560"/>
            <a:ext cx="2676600" cy="190332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0" y="4680"/>
            <a:ext cx="9137520" cy="68486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956280" y="632160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619360" y="6321600"/>
            <a:ext cx="4260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4"/>
          </p:nvPr>
        </p:nvSpPr>
        <p:spPr>
          <a:xfrm>
            <a:off x="8449920" y="809280"/>
            <a:ext cx="501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2A7BC5-F74E-4A46-8F81-48C507C6373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3"/>
          <p:cNvSpPr/>
          <p:nvPr/>
        </p:nvSpPr>
        <p:spPr>
          <a:xfrm flipH="1">
            <a:off x="6467040" y="4948200"/>
            <a:ext cx="26766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791240" y="6323040"/>
            <a:ext cx="2133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57200" y="6323040"/>
            <a:ext cx="4259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5"/>
          </p:nvPr>
        </p:nvSpPr>
        <p:spPr>
          <a:xfrm>
            <a:off x="7589520" y="6481440"/>
            <a:ext cx="501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98CE48-6A8D-4392-B972-D2267B2627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791240" y="6323040"/>
            <a:ext cx="2130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57200" y="6323040"/>
            <a:ext cx="4260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6"/>
          </p:nvPr>
        </p:nvSpPr>
        <p:spPr>
          <a:xfrm>
            <a:off x="7589520" y="6483240"/>
            <a:ext cx="5014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D4D600-40CE-4DFB-A394-C3C0D492A6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6278400" y="639756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135080" y="6397560"/>
            <a:ext cx="5143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7"/>
          </p:nvPr>
        </p:nvSpPr>
        <p:spPr>
          <a:xfrm>
            <a:off x="8410320" y="6556320"/>
            <a:ext cx="50148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4564F3-31BD-411F-AD88-E685231E92A8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2760" indent="0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080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340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6108840" y="6397560"/>
            <a:ext cx="2101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70000" y="6399360"/>
            <a:ext cx="49482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8"/>
          </p:nvPr>
        </p:nvSpPr>
        <p:spPr>
          <a:xfrm>
            <a:off x="8217000" y="6556320"/>
            <a:ext cx="36504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4D3C94-A658-4659-94E9-1F09E15FE8B3}" type="slidenum">
              <a:rPr b="0" lang="en-GB" sz="9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2071440" y="228600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ыполнила: Попрядухина Елена Васильевн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еподаватель – организатор ОБЖ МОУ СОШ № 30 г. Курск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6" name="Picture 1" descr=""/>
          <p:cNvPicPr/>
          <p:nvPr/>
        </p:nvPicPr>
        <p:blipFill>
          <a:blip r:embed="rId1"/>
          <a:stretch/>
        </p:blipFill>
        <p:spPr>
          <a:xfrm>
            <a:off x="-285840" y="2714760"/>
            <a:ext cx="7000920" cy="517500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2"/>
          <p:cNvGrpSpPr/>
          <p:nvPr/>
        </p:nvGrpSpPr>
        <p:grpSpPr>
          <a:xfrm>
            <a:off x="500040" y="285840"/>
            <a:ext cx="8143920" cy="1642680"/>
            <a:chOff x="500040" y="285840"/>
            <a:chExt cx="8143920" cy="1642680"/>
          </a:xfrm>
        </p:grpSpPr>
        <p:pic>
          <p:nvPicPr>
            <p:cNvPr id="348" name="Picture 3" descr=""/>
            <p:cNvPicPr/>
            <p:nvPr/>
          </p:nvPicPr>
          <p:blipFill>
            <a:blip r:embed="rId2"/>
            <a:stretch/>
          </p:blipFill>
          <p:spPr>
            <a:xfrm>
              <a:off x="500040" y="285840"/>
              <a:ext cx="8143920" cy="16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4"/>
            <p:cNvSpPr/>
            <p:nvPr/>
          </p:nvSpPr>
          <p:spPr>
            <a:xfrm>
              <a:off x="500040" y="285840"/>
              <a:ext cx="8143920" cy="16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500040" y="428760"/>
            <a:ext cx="818676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3.При пыльной буре закройте лицо марлевой повязкой, платком, куском ткани, а глаза оч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571760" y="3571920"/>
            <a:ext cx="5715000" cy="30002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8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285480" y="285840"/>
            <a:ext cx="84294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При поступлении сигнала о приближении смерча необходимо немедленно спуститься в укрытие, подвал дома или погреб, либо укрыться под кроватью и другой прочной мебелью. Если смерч застает Вас на открытой местности, укрывайтесь на дне дорожного кювета, в ямах, рвах, узких оврагах, плотно прижимаясь к земле, закрыв голову одеждой или ветками деревьев. Не оставайтесь в автомобиле, выходите из него и укрывайтесь, как указано выше</a:t>
            </a:r>
            <a:r>
              <a:rPr b="0" lang="en-GB" sz="1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3929040" y="4357800"/>
            <a:ext cx="3301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6836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cc99"/>
                </a:solidFill>
                <a:uFillTx/>
                <a:latin typeface="Times New Roman"/>
              </a:rPr>
              <a:t>Алгоритм действий при заблаговременном оповещении об угрозе ураганов, бурь, смерчей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9" name="Picture 5" descr="{9B611EF1-2301-49CC-A55C-57264CFE7DEC}"/>
          <p:cNvPicPr/>
          <p:nvPr/>
        </p:nvPicPr>
        <p:blipFill>
          <a:blip r:embed="rId1"/>
          <a:stretch/>
        </p:blipFill>
        <p:spPr>
          <a:xfrm>
            <a:off x="1332000" y="1916280"/>
            <a:ext cx="6480000" cy="4860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 u="sng">
                <a:solidFill>
                  <a:srgbClr val="ff5c9c"/>
                </a:solidFill>
                <a:uFillTx/>
                <a:latin typeface="Times New Roman"/>
              </a:rPr>
              <a:t>Алгоритм действий в случае внезапного возникновения урагана, бури, смерча</a:t>
            </a:r>
            <a:endParaRPr b="0" lang="en-US" sz="3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401" name="Picture 6" descr="{A090355C-74DC-4219-952C-EB831C46561E}"/>
          <p:cNvPicPr/>
          <p:nvPr/>
        </p:nvPicPr>
        <p:blipFill>
          <a:blip r:embed="rId1"/>
          <a:stretch/>
        </p:blipFill>
        <p:spPr>
          <a:xfrm>
            <a:off x="1523880" y="18828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1"/>
          <p:cNvGrpSpPr/>
          <p:nvPr/>
        </p:nvGrpSpPr>
        <p:grpSpPr>
          <a:xfrm>
            <a:off x="1143000" y="357120"/>
            <a:ext cx="6500880" cy="857160"/>
            <a:chOff x="1143000" y="357120"/>
            <a:chExt cx="6500880" cy="857160"/>
          </a:xfrm>
        </p:grpSpPr>
        <p:pic>
          <p:nvPicPr>
            <p:cNvPr id="403" name="Picture 2" descr=""/>
            <p:cNvPicPr/>
            <p:nvPr/>
          </p:nvPicPr>
          <p:blipFill>
            <a:blip r:embed="rId1"/>
            <a:stretch/>
          </p:blipFill>
          <p:spPr>
            <a:xfrm>
              <a:off x="1143000" y="357120"/>
              <a:ext cx="650088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3"/>
            <p:cNvSpPr/>
            <p:nvPr/>
          </p:nvSpPr>
          <p:spPr>
            <a:xfrm>
              <a:off x="1143000" y="357120"/>
              <a:ext cx="65008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Text Box 4"/>
          <p:cNvSpPr/>
          <p:nvPr/>
        </p:nvSpPr>
        <p:spPr>
          <a:xfrm>
            <a:off x="500040" y="1143000"/>
            <a:ext cx="818676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С какой скоростью движется урага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100 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100 к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200 км/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20 к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6" descr=""/>
          <p:cNvPicPr/>
          <p:nvPr/>
        </p:nvPicPr>
        <p:blipFill>
          <a:blip r:embed="rId2"/>
          <a:stretch/>
        </p:blipFill>
        <p:spPr>
          <a:xfrm>
            <a:off x="2786040" y="2308320"/>
            <a:ext cx="5786640" cy="3906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"/>
          <p:cNvSpPr/>
          <p:nvPr/>
        </p:nvSpPr>
        <p:spPr>
          <a:xfrm>
            <a:off x="457200" y="476280"/>
            <a:ext cx="82296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Скорость песчаной бури составля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 км/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00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Times New Roman"/>
              <a:buAutoNum type="arabicPeriod"/>
              <a:tabLst>
                <a:tab algn="l" pos="1073160"/>
                <a:tab algn="l" pos="1987560"/>
                <a:tab algn="l" pos="2901960"/>
                <a:tab algn="l" pos="3816360"/>
                <a:tab algn="l" pos="4730760"/>
                <a:tab algn="l" pos="5645160"/>
                <a:tab algn="l" pos="6559560"/>
                <a:tab algn="l" pos="7473960"/>
                <a:tab algn="l" pos="8388360"/>
                <a:tab algn="l" pos="9302760"/>
                <a:tab algn="l" pos="10217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олее 20 м/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3643200" y="2286000"/>
            <a:ext cx="5246640" cy="4173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324000" y="692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Назовите правильное действие, которое нужно выполнить во время урагана, бури или смерч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Спуститься в укры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ыйти на ул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Заварить 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Молиться бог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3305160" y="2714760"/>
            <a:ext cx="5195880" cy="3719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468360" y="620640"/>
            <a:ext cx="82296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Укажите правильное утвержд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 снежной бури лучше укрыв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В зд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 сугро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Закрыв гл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В я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857680" y="2143080"/>
            <a:ext cx="5857560" cy="4062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468360" y="549360"/>
            <a:ext cx="822960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С чем перемещается облако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А) Вместе с дом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) Вместе с обла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В) Вместе с дож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Г) Вместе с мусо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3357720" y="2571840"/>
            <a:ext cx="5429160" cy="3643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9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2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692280"/>
            <a:ext cx="8229600" cy="54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УРАГАН – это атмосферный вихрь больших размеров со скоростью ветра до 120 км/ч, а в приземном слое – до 200 км/ч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2857680" y="2143080"/>
            <a:ext cx="5891040" cy="42228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Century Gothic"/>
              </a:rPr>
              <a:t>Виды ураганов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816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ccccff"/>
                </a:solidFill>
                <a:latin typeface="Century Gothic"/>
              </a:rPr>
              <a:t>Ураган (115-140 км/час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ccccff"/>
                </a:solidFill>
                <a:latin typeface="Century Gothic"/>
              </a:rPr>
              <a:t>Сильный ураган (140-170 км/час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60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ccccff"/>
                </a:solidFill>
                <a:latin typeface="Century Gothic"/>
              </a:rPr>
              <a:t>Жестокий ураган (более 170 км/час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Picture 5" descr="http://etotornado.ru/collapse/uraganiivetra/foto/small/2.jpg"/>
          <p:cNvPicPr/>
          <p:nvPr/>
        </p:nvPicPr>
        <p:blipFill>
          <a:blip r:embed="rId1"/>
          <a:stretch/>
        </p:blipFill>
        <p:spPr>
          <a:xfrm>
            <a:off x="539640" y="3716280"/>
            <a:ext cx="3816360" cy="2854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201188_main"/>
          <p:cNvPicPr/>
          <p:nvPr/>
        </p:nvPicPr>
        <p:blipFill>
          <a:blip r:embed="rId2"/>
          <a:stretch/>
        </p:blipFill>
        <p:spPr>
          <a:xfrm>
            <a:off x="4788000" y="3716280"/>
            <a:ext cx="374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468360" y="47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БУРЯ – длительный, очень сильный ветер со скоростью более 20 м/с, наблюдается обычно при прохождении циклона и сопровождается сильным волнением на море и разрушениями на су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500120" y="2357280"/>
            <a:ext cx="6961320" cy="39722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816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Century Gothic"/>
              </a:rPr>
              <a:t>Виды бури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468360" y="1341360"/>
            <a:ext cx="25210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61128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Times New Roman"/>
              </a:rPr>
              <a:t>По соста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1547640" y="2708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3203640" y="1341360"/>
            <a:ext cx="23763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3205080" y="143676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cc99"/>
                </a:solidFill>
                <a:latin typeface="Times New Roman"/>
              </a:rPr>
              <a:t>По скорос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cc99"/>
                </a:solidFill>
                <a:latin typeface="Times New Roman"/>
              </a:rPr>
              <a:t>вет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3"/>
          <p:cNvSpPr/>
          <p:nvPr/>
        </p:nvSpPr>
        <p:spPr>
          <a:xfrm>
            <a:off x="421164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3564000" y="3860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2843280" y="3500280"/>
            <a:ext cx="2952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Бури (20м/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Сильные бури (28м/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Жестокие бури (30,5м/с и боле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6"/>
          <p:cNvSpPr/>
          <p:nvPr/>
        </p:nvSpPr>
        <p:spPr>
          <a:xfrm>
            <a:off x="5867280" y="1341360"/>
            <a:ext cx="23767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6013800" y="1554120"/>
            <a:ext cx="2133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По окраск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00cc99"/>
                </a:solidFill>
                <a:latin typeface="Times New Roman"/>
              </a:rPr>
              <a:t>части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702000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6227640" y="3500280"/>
            <a:ext cx="2376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Чер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Желто-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Arial"/>
              </a:rPr>
              <a:t>Бел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395280" y="3500280"/>
            <a:ext cx="201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Песча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Пыле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Times New Roman"/>
              </a:rPr>
              <a:t>Сне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7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50920" y="642960"/>
            <a:ext cx="396396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СМЕРЧ – атмосферный вихрь, возникающий в грозовом облаке и распространяющийся вниз, часто до самой поверхности Земли в виде темного облачного рукава или хобота диаметром в десятки и сотни метров.</a:t>
            </a:r>
            <a:r>
              <a:rPr b="1" i="1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Существует недолго, перемещаясь вместе с облак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818160" cy="55720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2760" indent="0" algn="ct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200" spc="-1" strike="noStrike" u="sng">
                <a:solidFill>
                  <a:srgbClr val="ff5c9c"/>
                </a:solidFill>
                <a:uFillTx/>
                <a:latin typeface="Times New Roman"/>
              </a:rPr>
              <a:t>Виды смерчей: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250920" y="1268280"/>
            <a:ext cx="273672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348000" y="1268280"/>
            <a:ext cx="2448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6156360" y="1268280"/>
            <a:ext cx="259236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250920" y="1484280"/>
            <a:ext cx="295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300" spc="-1" strike="noStrike">
                <a:solidFill>
                  <a:srgbClr val="00cc99"/>
                </a:solidFill>
                <a:latin typeface="Times New Roman"/>
              </a:rPr>
              <a:t>По происхождению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3565800" y="148428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По стро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6227640" y="1341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По време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1547640" y="24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1"/>
          <p:cNvSpPr/>
          <p:nvPr/>
        </p:nvSpPr>
        <p:spPr>
          <a:xfrm>
            <a:off x="4500720" y="2492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2"/>
          <p:cNvSpPr/>
          <p:nvPr/>
        </p:nvSpPr>
        <p:spPr>
          <a:xfrm>
            <a:off x="7308720" y="2492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396360" y="3141720"/>
            <a:ext cx="25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Невиди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Водя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Огне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3132000" y="3068640"/>
            <a:ext cx="325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Плот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ccff"/>
                </a:solidFill>
                <a:latin typeface="Times New Roman"/>
              </a:rPr>
              <a:t>Расплывчат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6443640" y="3068640"/>
            <a:ext cx="27003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Кроткого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Длинного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Ураганные вих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2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9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75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2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1"/>
          <p:cNvGrpSpPr/>
          <p:nvPr/>
        </p:nvGrpSpPr>
        <p:grpSpPr>
          <a:xfrm>
            <a:off x="450720" y="262080"/>
            <a:ext cx="8240760" cy="809640"/>
            <a:chOff x="450720" y="262080"/>
            <a:chExt cx="8240760" cy="809640"/>
          </a:xfrm>
        </p:grpSpPr>
        <p:pic>
          <p:nvPicPr>
            <p:cNvPr id="388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62080"/>
              <a:ext cx="8240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3"/>
            <p:cNvSpPr/>
            <p:nvPr/>
          </p:nvSpPr>
          <p:spPr>
            <a:xfrm>
              <a:off x="450720" y="262080"/>
              <a:ext cx="824076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Text Box 4"/>
          <p:cNvSpPr/>
          <p:nvPr/>
        </p:nvSpPr>
        <p:spPr>
          <a:xfrm>
            <a:off x="428760" y="857160"/>
            <a:ext cx="82152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1. </a:t>
            </a:r>
            <a:r>
              <a:rPr b="0" lang="en-GB" sz="28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отойдите от окон и займите безопасное место у стен внутренних помещений, в коридоре, у встроенных шкафов, в ванных комнатах, туалете, кладовых, в прочных шкафах, под стол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6" descr=""/>
          <p:cNvPicPr/>
          <p:nvPr/>
        </p:nvPicPr>
        <p:blipFill>
          <a:blip r:embed="rId2"/>
          <a:stretch/>
        </p:blipFill>
        <p:spPr>
          <a:xfrm>
            <a:off x="1928880" y="2928960"/>
            <a:ext cx="5705280" cy="35337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357120" y="357120"/>
            <a:ext cx="83296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826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2.При снежной буре укрывайтесь в зданиях. Если Вы оказались в поле или на проселочной дороге, выходите на магистральные дороги, которые периодически расчищаются и где большая вероятность оказания Вам помощ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1"/>
          <a:stretch/>
        </p:blipFill>
        <p:spPr>
          <a:xfrm>
            <a:off x="1928880" y="2600280"/>
            <a:ext cx="5857920" cy="39718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6" dur="2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еник</dc:creator>
  <dc:description/>
  <dc:language>en-US</dc:language>
  <cp:lastModifiedBy>КарМаН</cp:lastModifiedBy>
  <dcterms:modified xsi:type="dcterms:W3CDTF">2011-03-18T12:13:54Z</dcterms:modified>
  <cp:revision>17</cp:revision>
  <dc:subject/>
  <dc:title>Ураганы, бури, смерчи!!!</dc:title>
</cp:coreProperties>
</file>