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B38D-4853-401B-93D9-1635770AE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C579-5F50-4E55-8B47-2A159BA15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7A58-E7A1-44BC-9A0E-FA01B85F0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AF35-CAC8-431A-ABDC-47E4DD6D2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79ED4-2DC2-4E48-84F3-7C60CE93DD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14D52-019F-4C59-9123-96D3ED52ED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8CC14-2C58-4B75-A258-0FBFA5E13E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EA72-79C6-4E46-804A-7220956859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5D351-B0FF-4F3B-AA26-3D5B1357C3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BF56A-3C0A-4D75-B91F-83C3DF9FEA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9A81-9C3C-4D06-BF55-55AC92A9C6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7753-015F-4BC3-9308-B990D118D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23B1D-59B4-4FFF-8EF0-CD33E22104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9DCB5-5A14-4503-A7EF-F16E953D18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F33B-C604-4DDA-AC95-4858A6521C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00758-C005-4F04-9543-1092FABA1C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D7A3-9E8A-45DD-B71F-8559E7C2F7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1A2-B8C0-467F-A565-D255D72CB3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E0A-C63E-410E-AC79-0E8408EDC0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3CD-019E-400A-9162-2B138EBCEA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A01-142A-40DF-8BE9-03AE115D1B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736-72A5-4301-A69C-49A135594F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46DD-6DFE-413F-9752-CC6FB48EF2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D67-B8EB-48F7-9A55-486239DFCE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EBF-B215-4112-BCA8-2D4B27086B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B83-CFB4-4298-BBD2-C2313AC7B0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0EC-B91D-4367-BFCC-EF1AEFE722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AD8-7EF6-408C-A4AF-880F144DB9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D69-9000-42F9-8A1C-D7495B9CA0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BDD-727B-44F8-8F1A-A0B9773002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FBF1C-1DC4-4A38-B51E-A33EF37CFD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FB49D-F4C5-4BC1-811F-0BDEC31D7C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095A4-86EA-4083-8847-38272EE87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E2C1-8A54-484C-B4BC-2D57DAB160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0DCC8-746D-4861-9238-8098602B2F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D308B-7670-4FB0-8C74-B4F6BC26A2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6615E-5FDE-4CDC-A5A3-36275F631C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D57F6-D326-4FD8-9131-C14F133606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09887-EC79-4BEA-B461-5294B6FDB2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2F49E-B79A-4BDF-ADB9-DE1EEC6279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699C8-A593-4908-B550-042FBDBF82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69B1D-E787-42EF-B125-353425552A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CDCD8-2843-41AE-9479-9CBC17DB4E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0F373-78BA-4D76-A1A7-E5AAF40EE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3122-0EDF-42A6-97EA-B956274EBCD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64011-37C8-41AA-81A3-D3DDC2BB559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47F38-A763-4BDD-A8C5-20C7FD3D396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86BA9-F7E9-49AE-B9AC-04797A97D95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3D80E-7FBF-4D8C-AE36-EF9E90FFE24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1F8EE-E23F-4A9D-A728-1052C63988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53EEE-9B4B-48A3-9B75-DEDF346A308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4FD0B-11BA-4F07-9387-DC1E810EE39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BE87F-6B49-483B-B73D-564ECF04329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B046D-CFB0-4A78-9BB0-F3F40778BB4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CDF3A-13BE-4A7A-A5CB-545B1F89B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CDDF-E289-4C0B-AC3F-4375E1A9302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2B180-2B30-4172-995B-050BBC814CD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E42F-7B8A-4AC2-A97B-BB294E9206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46A0-D3B3-4BC0-BB4C-FB490F94324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2690-FD0E-44CD-9A3C-6EA55628ECD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8146-B166-4E31-A48F-D28ADA628D1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545C-E8D4-4451-BA0F-CD2DB114B3B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454B-B225-4DF9-84B5-BC6641A7F87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A7D1-FEF7-4561-BF2A-91A3D831C54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CF91-6E71-4C77-950F-6CCF268EBC9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7C7B-E5BD-4073-8B55-9B83ECFBD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8388-7EEA-49F5-8EDE-F9CB1921A3D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5E4A-1F96-4427-9D33-A5D62B3A119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BC2F-3436-406B-B79F-D95CA93A0EA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C20D-43F2-4E81-A08D-1AC6680B077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C44E86-E922-4444-B1DD-6C54DE3E299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C159BA-D45B-4BD7-A529-FFBB8BF8207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622E08-1703-41E3-B439-4DF7DDDE967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7EA28-AF83-4E0E-8201-1438CE932A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E067B1-7196-4F83-B399-8528489E29B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C6BBC9-9AB7-44DC-AF16-89F1B9C1195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714F11-78C4-4D7D-859A-E643C2F00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4AEF-A070-4365-AD82-8131A11BEE5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0B51A7-8936-451E-9605-4E6CBD87992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0C087-197D-4314-A953-34B012164AF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45FB17-7E9C-49EC-9654-86CDF5D9B4F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2D3CCF-060E-48DF-8746-A661333311C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CB30CF-A3CC-417B-A6EA-D4CFDD6BEDF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9F39F-5EA7-44AA-8ABC-8B1C7907F8E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DE482-02FC-439E-BD02-7EAAE365575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025B0-E941-4F45-9EF0-EB7267E9B8D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7BA34-8782-43C4-83C0-6D54D001A54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97CA9-3EDC-41E9-ADCE-EBC473DB5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170F-8525-4815-9710-10486E32DAF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6F271-F6CB-4B35-AE13-60459A980BB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39CA3-CA96-4B20-9D04-7A7A005C769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BB5C7-26DE-419A-AF2C-34F65D43B16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94E1F-1F57-47C3-B40F-8DE96C238B9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ADBCB-439A-45CB-B039-043CEF9EB81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D2EBA-40C6-4A77-9CBF-D0F6A2FEF6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6B532-48A1-486D-A787-DB274CE30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36C2C7-E782-419F-9B29-66B3024667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 rot="16200000">
            <a:off x="7553160" y="525564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71600" y="60120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371600" y="56484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8391240" y="5753160"/>
            <a:ext cx="501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56C9D8-F458-43C7-83E0-38D2630CF271}" type="slidenum">
              <a: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791240" y="6321600"/>
            <a:ext cx="2133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6321600"/>
            <a:ext cx="4259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F4708E-6A45-4727-8FE8-68202E0B90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 flipH="1" flipV="1">
            <a:off x="6467040" y="7560"/>
            <a:ext cx="2676600" cy="190332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0" y="4680"/>
            <a:ext cx="9137520" cy="68486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956280" y="6321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619360" y="6321600"/>
            <a:ext cx="4260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4"/>
          </p:nvPr>
        </p:nvSpPr>
        <p:spPr>
          <a:xfrm>
            <a:off x="8449920" y="809280"/>
            <a:ext cx="501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889C4A-0EAB-46F1-9EBF-8EC2B37113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5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5D13D3-7EEE-4AAE-B329-B32F4B59EF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791240" y="6323040"/>
            <a:ext cx="2130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57200" y="6323040"/>
            <a:ext cx="4260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6"/>
          </p:nvPr>
        </p:nvSpPr>
        <p:spPr>
          <a:xfrm>
            <a:off x="7589520" y="648324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CD59E0-5089-44F0-A7E9-56BE950E54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278400" y="639756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135080" y="6397560"/>
            <a:ext cx="5143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7"/>
          </p:nvPr>
        </p:nvSpPr>
        <p:spPr>
          <a:xfrm>
            <a:off x="8410320" y="655632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3C4D94-A0A4-4AAE-A7CE-AFAC64A3C871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108840" y="6397560"/>
            <a:ext cx="2101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70000" y="6399360"/>
            <a:ext cx="494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8"/>
          </p:nvPr>
        </p:nvSpPr>
        <p:spPr>
          <a:xfrm>
            <a:off x="8217000" y="6556320"/>
            <a:ext cx="3650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186294-A37F-4F05-AFE4-CF7EFEBDFCE9}" type="slidenum">
              <a:rPr b="0" lang="en-GB" sz="9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071440" y="22860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ыполнила: Попрядухина Елена Васильевн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еподаватель – организатор ОБЖ МОУ СОШ № 30 г. Курск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-285840" y="2714760"/>
            <a:ext cx="7000920" cy="51750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2"/>
          <p:cNvGrpSpPr/>
          <p:nvPr/>
        </p:nvGrpSpPr>
        <p:grpSpPr>
          <a:xfrm>
            <a:off x="500040" y="285840"/>
            <a:ext cx="8143920" cy="1642680"/>
            <a:chOff x="500040" y="285840"/>
            <a:chExt cx="8143920" cy="1642680"/>
          </a:xfrm>
        </p:grpSpPr>
        <p:pic>
          <p:nvPicPr>
            <p:cNvPr id="348" name="Picture 3" descr=""/>
            <p:cNvPicPr/>
            <p:nvPr/>
          </p:nvPicPr>
          <p:blipFill>
            <a:blip r:embed="rId2"/>
            <a:stretch/>
          </p:blipFill>
          <p:spPr>
            <a:xfrm>
              <a:off x="500040" y="285840"/>
              <a:ext cx="8143920" cy="16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4"/>
            <p:cNvSpPr/>
            <p:nvPr/>
          </p:nvSpPr>
          <p:spPr>
            <a:xfrm>
              <a:off x="500040" y="285840"/>
              <a:ext cx="8143920" cy="16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500040" y="428760"/>
            <a:ext cx="81867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3.При пыльной буре закройте лицо марлевой повязкой, платком, куском ткани, а глаза оч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571760" y="3571920"/>
            <a:ext cx="5715000" cy="3000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9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285480" y="285840"/>
            <a:ext cx="84294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При поступлении сигнала о приближении смерча необходимо немедленно спуститься в укрытие, подвал дома или погреб, либо укрыться под кроватью и другой прочной мебелью. Если смерч застает Вас на открытой местности, укрывайтесь на дне дорожного кювета, в ямах, рвах, узких оврагах, плотно прижимаясь к земле, закрыв голову одеждой или ветками деревьев. Не оставайтесь в автомобиле, выходите из него и укрывайтесь, как указано выше</a:t>
            </a:r>
            <a:r>
              <a:rPr b="0" lang="en-GB" sz="1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3929040" y="4357800"/>
            <a:ext cx="3301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6836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cc99"/>
                </a:solidFill>
                <a:uFillTx/>
                <a:latin typeface="Times New Roman"/>
              </a:rPr>
              <a:t>Алгоритм действий при заблаговременном оповещении об угрозе ураганов, бурь, смерче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9" name="Picture 5" descr="{9B611EF1-2301-49CC-A55C-57264CFE7DEC}"/>
          <p:cNvPicPr/>
          <p:nvPr/>
        </p:nvPicPr>
        <p:blipFill>
          <a:blip r:embed="rId1"/>
          <a:stretch/>
        </p:blipFill>
        <p:spPr>
          <a:xfrm>
            <a:off x="1332000" y="1916280"/>
            <a:ext cx="6480000" cy="4860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 u="sng">
                <a:solidFill>
                  <a:srgbClr val="ff5c9c"/>
                </a:solidFill>
                <a:uFillTx/>
                <a:latin typeface="Times New Roman"/>
              </a:rPr>
              <a:t>Алгоритм действий в случае внезапного возникновения урагана, бури, смерча</a:t>
            </a:r>
            <a:endParaRPr b="0" lang="en-US" sz="3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401" name="Picture 6" descr="{A090355C-74DC-4219-952C-EB831C46561E}"/>
          <p:cNvPicPr/>
          <p:nvPr/>
        </p:nvPicPr>
        <p:blipFill>
          <a:blip r:embed="rId1"/>
          <a:stretch/>
        </p:blipFill>
        <p:spPr>
          <a:xfrm>
            <a:off x="1523880" y="18828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1"/>
          <p:cNvGrpSpPr/>
          <p:nvPr/>
        </p:nvGrpSpPr>
        <p:grpSpPr>
          <a:xfrm>
            <a:off x="1143000" y="357120"/>
            <a:ext cx="6500880" cy="857160"/>
            <a:chOff x="1143000" y="357120"/>
            <a:chExt cx="6500880" cy="857160"/>
          </a:xfrm>
        </p:grpSpPr>
        <p:pic>
          <p:nvPicPr>
            <p:cNvPr id="403" name="Picture 2" descr=""/>
            <p:cNvPicPr/>
            <p:nvPr/>
          </p:nvPicPr>
          <p:blipFill>
            <a:blip r:embed="rId1"/>
            <a:stretch/>
          </p:blipFill>
          <p:spPr>
            <a:xfrm>
              <a:off x="1143000" y="357120"/>
              <a:ext cx="65008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3"/>
            <p:cNvSpPr/>
            <p:nvPr/>
          </p:nvSpPr>
          <p:spPr>
            <a:xfrm>
              <a:off x="1143000" y="357120"/>
              <a:ext cx="65008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Text Box 4"/>
          <p:cNvSpPr/>
          <p:nvPr/>
        </p:nvSpPr>
        <p:spPr>
          <a:xfrm>
            <a:off x="500040" y="1143000"/>
            <a:ext cx="818676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С какой скоростью движется урага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10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10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20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2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2786040" y="2308320"/>
            <a:ext cx="5786640" cy="390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457200" y="476280"/>
            <a:ext cx="82296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Скорость песчаной бури составля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олее 2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3643200" y="2286000"/>
            <a:ext cx="5246640" cy="4173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324000" y="692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Назовите правильное действие, которое нужно выполнить во время урагана, бури или смер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Спуститься в укры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ыйти на ул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варить 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Молиться бог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3305160" y="2714760"/>
            <a:ext cx="5195880" cy="3719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468360" y="620640"/>
            <a:ext cx="82296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Укажите правильное утвержд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снежной бури лучше укрыв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 зд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 сугро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крыв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 я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5857560" cy="4062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68360" y="549360"/>
            <a:ext cx="822960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С чем перемещается облако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месте с дом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месте с обла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Вместе с дож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месте с мусо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3357720" y="2571840"/>
            <a:ext cx="5429160" cy="3643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3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692280"/>
            <a:ext cx="822960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УРАГАН – это атмосферный вихрь больших размеров со скоростью ветра до 120 км/ч, а в приземном слое – до 200 км/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5891040" cy="4222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Century Gothic"/>
              </a:rPr>
              <a:t>Виды ураганов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Ураган (115-14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Сильный ураган (140-17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Жестокий ураган (более 17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5" descr="http://etotornado.ru/collapse/uraganiivetra/foto/small/2.jpg"/>
          <p:cNvPicPr/>
          <p:nvPr/>
        </p:nvPicPr>
        <p:blipFill>
          <a:blip r:embed="rId1"/>
          <a:stretch/>
        </p:blipFill>
        <p:spPr>
          <a:xfrm>
            <a:off x="539640" y="3716280"/>
            <a:ext cx="3816360" cy="2854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201188_main"/>
          <p:cNvPicPr/>
          <p:nvPr/>
        </p:nvPicPr>
        <p:blipFill>
          <a:blip r:embed="rId2"/>
          <a:stretch/>
        </p:blipFill>
        <p:spPr>
          <a:xfrm>
            <a:off x="4788000" y="371628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468360" y="47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УРЯ – длительный, очень сильный ветер со скоростью более 20 м/с, наблюдается обычно при прохождении циклона и сопровождается сильным волнением на море и разрушениями на су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500120" y="2357280"/>
            <a:ext cx="6961320" cy="3972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Century Gothic"/>
              </a:rPr>
              <a:t>Виды бури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468360" y="1341360"/>
            <a:ext cx="25210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61128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По соста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154764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3203640" y="1341360"/>
            <a:ext cx="2376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3205080" y="143676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По скорос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вет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3"/>
          <p:cNvSpPr/>
          <p:nvPr/>
        </p:nvSpPr>
        <p:spPr>
          <a:xfrm>
            <a:off x="4211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3564000" y="3860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2843280" y="3500280"/>
            <a:ext cx="2952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Бури (20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ильные бури (28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Жестокие бури (30,5м/с и боле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5867280" y="1341360"/>
            <a:ext cx="23767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6013800" y="1554120"/>
            <a:ext cx="213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По окраск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части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7020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6227640" y="3500280"/>
            <a:ext cx="2376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Че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Желто-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Бе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395280" y="3500280"/>
            <a:ext cx="201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есча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ыле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не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7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50920" y="642960"/>
            <a:ext cx="396396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СМЕРЧ – атмосферный вихрь, возникающий в грозовом облаке и распространяющийся вниз, часто до самой поверхности Земли в виде темного облачного рукава или хобота диаметром в десятки и сотни метров.</a:t>
            </a:r>
            <a:r>
              <a:rPr b="1" i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Существует недолго, перемещаясь вместе с обла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818160" cy="5572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Times New Roman"/>
              </a:rPr>
              <a:t>Виды смерчей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250920" y="1268280"/>
            <a:ext cx="27367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348000" y="1268280"/>
            <a:ext cx="2448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156360" y="1268280"/>
            <a:ext cx="2592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250920" y="1484280"/>
            <a:ext cx="29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300" spc="-1" strike="noStrike">
                <a:solidFill>
                  <a:srgbClr val="00cc99"/>
                </a:solidFill>
                <a:latin typeface="Times New Roman"/>
              </a:rPr>
              <a:t>По происхождению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3565800" y="148428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стро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6227640" y="1341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време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1547640" y="24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4500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2"/>
          <p:cNvSpPr/>
          <p:nvPr/>
        </p:nvSpPr>
        <p:spPr>
          <a:xfrm>
            <a:off x="7308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396360" y="3141720"/>
            <a:ext cx="25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Невиди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Водя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Огне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3132000" y="3068640"/>
            <a:ext cx="325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Плот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Расплывчат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6443640" y="3068640"/>
            <a:ext cx="2700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Кротк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Длинн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Ураганные вих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9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75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9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450720" y="262080"/>
            <a:ext cx="8240760" cy="809640"/>
            <a:chOff x="450720" y="262080"/>
            <a:chExt cx="8240760" cy="809640"/>
          </a:xfrm>
        </p:grpSpPr>
        <p:pic>
          <p:nvPicPr>
            <p:cNvPr id="388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3"/>
            <p:cNvSpPr/>
            <p:nvPr/>
          </p:nvSpPr>
          <p:spPr>
            <a:xfrm>
              <a:off x="450720" y="262080"/>
              <a:ext cx="82407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Text Box 4"/>
          <p:cNvSpPr/>
          <p:nvPr/>
        </p:nvSpPr>
        <p:spPr>
          <a:xfrm>
            <a:off x="428760" y="857160"/>
            <a:ext cx="82152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. </a:t>
            </a: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отойдите от окон и займите безопасное место у стен внутренних помещений, в коридоре, у встроенных шкафов, в ванных комнатах, туалете, кладовых, в прочных шкафах, под сто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6" descr=""/>
          <p:cNvPicPr/>
          <p:nvPr/>
        </p:nvPicPr>
        <p:blipFill>
          <a:blip r:embed="rId2"/>
          <a:stretch/>
        </p:blipFill>
        <p:spPr>
          <a:xfrm>
            <a:off x="1928880" y="2928960"/>
            <a:ext cx="5705280" cy="3533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357120" y="357120"/>
            <a:ext cx="83296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2.При снежной буре укрывайтесь в зданиях. Если Вы оказались в поле или на проселочной дороге, выходите на магистральные дороги, которые периодически расчищаются и где большая вероятность оказания Вам помощ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1928880" y="2600280"/>
            <a:ext cx="5857920" cy="39718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7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еник</dc:creator>
  <dc:description/>
  <dc:language>en-US</dc:language>
  <cp:lastModifiedBy>КарМаН</cp:lastModifiedBy>
  <dcterms:modified xsi:type="dcterms:W3CDTF">2011-03-18T12:13:54Z</dcterms:modified>
  <cp:revision>17</cp:revision>
  <dc:subject/>
  <dc:title>Ураганы, бури, смерчи!!!</dc:title>
</cp:coreProperties>
</file>