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gif" ContentType="image/gif"/>
  <Override PartName="/ppt/media/image14.jpeg" ContentType="image/jpeg"/>
  <Override PartName="/ppt/media/image8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10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25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76F6-97B4-4FD3-A5EB-9F2CA2FD2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A15E-1B88-486C-9A0C-CDEB24A12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E6B9-F0A8-4D5B-8F08-AE26A3814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95E4-4C3A-4018-9D2E-3BF86A241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CC142-400D-4A24-8150-4D9106432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1DB91-B8A3-4338-8A2E-A0AB241B6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A4756-11B7-4EDD-AACC-06F059F3B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D969E-7BF1-4434-9D70-CFBE70394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23A28-F5AF-4938-86ED-039AFBE8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8A8EF-9F9F-45DD-B2B4-33C5D105A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54AD3-FFD1-4173-B068-E9AE431B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6286-FE82-45DF-91AF-343E4EA8E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830DA-178A-400A-817C-D2DC7255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650DB-7330-474E-8D1E-91746CE2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E8785-C867-4A17-B4C3-7666D5959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9E6DA-EC5F-4C5A-8370-65374558E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F76DD-24ED-4E23-B8FF-3C54C2CD3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CC31-06A7-428E-AF36-C346F355E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8663-D17E-4823-8B37-A9438C51E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B9EE-1CF8-459A-B431-629DAE787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4A0A-2497-462D-B7A3-6E360741E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561F-1F0B-4612-8E99-D6DDCD4F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0296-8BEE-4A0D-9BAD-FD963127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9A3A-6F9A-450D-B761-DBECDA2A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44245-6947-4442-BC0F-9989468DFD22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57BA8-F19E-48F9-B66F-4C8B734C7AAB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12.pn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2" descr=""/>
          <p:cNvPicPr/>
          <p:nvPr/>
        </p:nvPicPr>
        <p:blipFill>
          <a:blip r:embed="rId2"/>
          <a:stretch/>
        </p:blipFill>
        <p:spPr>
          <a:xfrm>
            <a:off x="1365120" y="-6480"/>
            <a:ext cx="5273640" cy="652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2133360" y="1676160"/>
            <a:ext cx="6019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Творческий проек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«Ночная сорочка»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полнила ученица 7класса Ионова Кс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читель технологии Лобачёва Н.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013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2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"/>
          <p:cNvGraphicFramePr/>
          <p:nvPr/>
        </p:nvGraphicFramePr>
        <p:xfrm>
          <a:off x="457200" y="1600200"/>
          <a:ext cx="7543800" cy="2521080"/>
        </p:xfrm>
        <a:graphic>
          <a:graphicData uri="http://schemas.openxmlformats.org/drawingml/2006/table">
            <a:tbl>
              <a:tblPr/>
              <a:tblGrid>
                <a:gridCol w="5105520"/>
                <a:gridCol w="2438280"/>
              </a:tblGrid>
              <a:tr h="9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 мер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ои мер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 обхват гуди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 обхват талии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 обхват бедер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  <p:sp>
        <p:nvSpPr>
          <p:cNvPr id="108" name=""/>
          <p:cNvSpPr txBox="1"/>
          <p:nvPr/>
        </p:nvSpPr>
        <p:spPr>
          <a:xfrm>
            <a:off x="468000" y="4797000"/>
            <a:ext cx="821844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Вывод: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мой российский размер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37-35-43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мой европейский размер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41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1" descr=""/>
          <p:cNvPicPr/>
          <p:nvPr/>
        </p:nvPicPr>
        <p:blipFill>
          <a:blip r:embed="rId2"/>
          <a:stretch/>
        </p:blipFill>
        <p:spPr>
          <a:xfrm>
            <a:off x="4870440" y="268200"/>
            <a:ext cx="3822840" cy="1158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4800240" y="160020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Я построила выкройку по технологической карт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2" descr="H:\технология\7 класс\ион\Image (2).jpg"/>
          <p:cNvPicPr/>
          <p:nvPr/>
        </p:nvPicPr>
        <p:blipFill>
          <a:blip r:embed="rId3"/>
          <a:stretch/>
        </p:blipFill>
        <p:spPr>
          <a:xfrm>
            <a:off x="304920" y="457200"/>
            <a:ext cx="4260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380880" y="1218960"/>
            <a:ext cx="83059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Решение: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выбираю ткань вискоз, потому что мне её дала мама. Расцветка ткани очень симпатичная: в мелкую желто- чёрную полоску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Прямоугольник 3"/>
          <p:cNvSpPr/>
          <p:nvPr/>
        </p:nvSpPr>
        <p:spPr>
          <a:xfrm>
            <a:off x="3492360" y="2205000"/>
            <a:ext cx="215928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тка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рямоугольник 4"/>
          <p:cNvSpPr/>
          <p:nvPr/>
        </p:nvSpPr>
        <p:spPr>
          <a:xfrm>
            <a:off x="611280" y="3500280"/>
            <a:ext cx="1728720" cy="100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искоз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оугольник 5"/>
          <p:cNvSpPr/>
          <p:nvPr/>
        </p:nvSpPr>
        <p:spPr>
          <a:xfrm>
            <a:off x="2843280" y="3500280"/>
            <a:ext cx="1728720" cy="100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реп-сат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рямоугольник 6"/>
          <p:cNvSpPr/>
          <p:nvPr/>
        </p:nvSpPr>
        <p:spPr>
          <a:xfrm>
            <a:off x="5148360" y="3429000"/>
            <a:ext cx="1584360" cy="1079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ите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рямоугольник 7"/>
          <p:cNvSpPr/>
          <p:nvPr/>
        </p:nvSpPr>
        <p:spPr>
          <a:xfrm>
            <a:off x="7236000" y="3357720"/>
            <a:ext cx="1635120" cy="107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опл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9" name="Прямая со стрелкой 9"/>
          <p:cNvCxnSpPr>
            <a:stCxn id="114" idx="2"/>
            <a:endCxn id="116" idx="0"/>
          </p:cNvCxnSpPr>
          <p:nvPr/>
        </p:nvCxnSpPr>
        <p:spPr>
          <a:xfrm flipH="1">
            <a:off x="3707640" y="2997000"/>
            <a:ext cx="864360" cy="50364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120" name="Прямая со стрелкой 11"/>
          <p:cNvCxnSpPr>
            <a:stCxn id="114" idx="2"/>
            <a:endCxn id="115" idx="0"/>
          </p:cNvCxnSpPr>
          <p:nvPr/>
        </p:nvCxnSpPr>
        <p:spPr>
          <a:xfrm flipH="1">
            <a:off x="1475640" y="2997000"/>
            <a:ext cx="3096360" cy="50364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121" name="Прямая со стрелкой 13"/>
          <p:cNvCxnSpPr>
            <a:stCxn id="114" idx="2"/>
            <a:endCxn id="117" idx="0"/>
          </p:cNvCxnSpPr>
          <p:nvPr/>
        </p:nvCxnSpPr>
        <p:spPr>
          <a:xfrm>
            <a:off x="4570920" y="2997000"/>
            <a:ext cx="1369080" cy="43236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122" name="Прямая со стрелкой 15"/>
          <p:cNvCxnSpPr>
            <a:stCxn id="114" idx="2"/>
            <a:endCxn id="118" idx="0"/>
          </p:cNvCxnSpPr>
          <p:nvPr/>
        </p:nvCxnSpPr>
        <p:spPr>
          <a:xfrm>
            <a:off x="4570920" y="2997000"/>
            <a:ext cx="3482280" cy="36108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Расход ткани можно точно рассчитать, разложив детали выкройки, например на ткань, сложив ее на нужную ширин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ыбранная мной ткань шириной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м. для моей модели моего роста понадобится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2 м 90 с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Решение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мне понадобиться  см ткан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Заголовок 1" descr=""/>
          <p:cNvPicPr/>
          <p:nvPr/>
        </p:nvPicPr>
        <p:blipFill>
          <a:blip r:embed="rId2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ля моего изделия понадобиться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601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итки в цвет ткани №40 (50,60 –по модели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601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ожницы для бумаги, линейка, карандаш –для построения выкройк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601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ртновский мел, булавки, портновские ножницы для раскро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601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Швейная машина, утюг, утюжильная доска, ручная игла, булавки –для шить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Заголовок 1" descr=""/>
          <p:cNvPicPr/>
          <p:nvPr/>
        </p:nvPicPr>
        <p:blipFill>
          <a:blip r:embed="rId2"/>
          <a:stretch/>
        </p:blipFill>
        <p:spPr>
          <a:xfrm>
            <a:off x="450720" y="438120"/>
            <a:ext cx="8339400" cy="12682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456840" y="1773000"/>
            <a:ext cx="8218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Чтобы узнать себестоимость изделия, я подсчитала, какие материалы и в каком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количестве мне понадобятся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ывод; так как мне мама дала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ткан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у меня будет стоимость только за нитк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39640" y="2565360"/>
          <a:ext cx="8218440" cy="2448000"/>
        </p:xfrm>
        <a:graphic>
          <a:graphicData uri="http://schemas.openxmlformats.org/drawingml/2006/table">
            <a:tbl>
              <a:tblPr/>
              <a:tblGrid>
                <a:gridCol w="935280"/>
                <a:gridCol w="2305080"/>
                <a:gridCol w="2158920"/>
                <a:gridCol w="1368360"/>
                <a:gridCol w="145080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№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 материал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словная цена за единицу измерения,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сход материала на издел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траты на материал,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тки хлопчатобумажн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р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 1 катушк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катуш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4446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Расход ткани можно точно рассчитать, разложив детали выкройки, например на ткань, сложив ее на нужную ширин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ыбранная мной ткань шириной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м. для моей модели моего роста понадобится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2 м 90 с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Решение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мне понадобиться  см ткан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Заголовок 1" descr=""/>
          <p:cNvPicPr/>
          <p:nvPr/>
        </p:nvPicPr>
        <p:blipFill>
          <a:blip r:embed="rId2"/>
          <a:stretch/>
        </p:blipFill>
        <p:spPr>
          <a:xfrm>
            <a:off x="450720" y="262080"/>
            <a:ext cx="8352000" cy="10126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ставляю план своей работы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1. Начертить выкройку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2. Выкроить детали изделия с припусками на швы, по срезам 1,5 см и на подгибку низа 3,0 см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3. Выкроить подкройную  обтачку шириной 4,0 см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4. Сметать изделие в следующей последовательности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-боковые срезы;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-заметать подгибку низа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5. Выполнить примерку издели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>
              <a:spcBef>
                <a:spcPts val="649"/>
              </a:spcBef>
              <a:buClr>
                <a:srgbClr val="ffffff"/>
              </a:buClr>
              <a:buSzPct val="65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>
              <a:spcBef>
                <a:spcPts val="700"/>
              </a:spcBef>
              <a:buClr>
                <a:srgbClr val="ffffff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>
              <a:spcBef>
                <a:spcPts val="700"/>
              </a:spcBef>
              <a:buClr>
                <a:srgbClr val="ffffff"/>
              </a:buClr>
              <a:buSzPct val="6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044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6.  Обработать горловину подкройной обтачко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7. Обработать  боковые срезы двойным бельевым швом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8.  Обработать  рукава швом в подгибку с закрытым срезо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9. Обработать низ изделия швом в подгибку с закрытым срезо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0. Выполнить  влажно теплову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601"/>
              </a:spcBef>
              <a:buClr>
                <a:srgbClr val="6bb1c9"/>
              </a:buClr>
              <a:buSzPct val="65000"/>
              <a:buFont typeface="Georgia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8000640" y="1600200"/>
            <a:ext cx="685800" cy="4525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H:\технология\7 класс\ион\IMG_0286.JPG"/>
          <p:cNvPicPr/>
          <p:nvPr/>
        </p:nvPicPr>
        <p:blipFill>
          <a:blip r:embed="rId4"/>
          <a:stretch/>
        </p:blipFill>
        <p:spPr>
          <a:xfrm>
            <a:off x="380880" y="1314360"/>
            <a:ext cx="7010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Rectangle 2" descr=""/>
          <p:cNvPicPr/>
          <p:nvPr/>
        </p:nvPicPr>
        <p:blipFill>
          <a:blip r:embed="rId2"/>
          <a:stretch/>
        </p:blipFill>
        <p:spPr>
          <a:xfrm>
            <a:off x="450720" y="244440"/>
            <a:ext cx="8242560" cy="11826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днажды я хотела сшить сама ночную сорочку. И вот когда я  перешла в 7 класс я узнала что мы будем шить ночную сорочку. Я была рад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Заголовок 1" descr=""/>
          <p:cNvPicPr/>
          <p:nvPr/>
        </p:nvPicPr>
        <p:blipFill>
          <a:blip r:embed="rId2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Я сшила изделие в соответствии с составленным планом изготовления, выполнила каждую операцию, проверила качество своей работ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Мое изделие соответствует , моему возрасту,  соответствует экологическим требованиям выполнено качественно и самое главное мне нравитьс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0" y="114300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азработать модель в соответствии с моими условиям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Picture 4" descr="G:\81943944.gif"/>
          <p:cNvPicPr/>
          <p:nvPr/>
        </p:nvPicPr>
        <p:blipFill>
          <a:blip r:embed="rId3"/>
          <a:stretch/>
        </p:blipFill>
        <p:spPr>
          <a:xfrm>
            <a:off x="1447920" y="4191120"/>
            <a:ext cx="1238040" cy="1238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овести исследование и разработать эскиз моего проектного издел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рганизовать рабочее мест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одобрать инструменты и приспособления для различных операц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Изготовить выкройку швейного издел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одобрать ткань для издел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аскроить ткан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3430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История возникнов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Европейские женщины вплоть до 14 века спали в той же одежде, в которой ходили днём, либо совсем без одежды. Специально сделанная для сна одежда появляется примерно с 15 века, в Чехии и называлась она «юбка для спальни». Ночные рубашки того времени значительно отличались от тех, которые девушкам известны сейчас. Они были большого размера, как в ширину, так и в длину. Носили их только богатые люди, поскольку стоили такие рубашки дорог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3"/>
          <a:stretch/>
        </p:blipFill>
        <p:spPr>
          <a:xfrm>
            <a:off x="685800" y="1676520"/>
            <a:ext cx="3200400" cy="43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144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266720" y="456840"/>
            <a:ext cx="441972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19 веке ночные рубашки стали доступными для любой женщины и стали использоваться повсеместно. К этому времени женщины уже могли иметь по нескольку ночных сорочек, предназначенных для разных целей: ежедневные - обычно из хлопка, классического покроя; для поездок - сорочки спортивного типа; декоративные - длинные или Ночные рубашки для полныхкороткие, сделанные из натурального шёлка. В 19 веке появились и сексуальные ночные пеньюары - открытые, с множеством рюш и кружев, похожие в чём-то на вечерние плать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2"/>
          <a:stretch/>
        </p:blipFill>
        <p:spPr>
          <a:xfrm>
            <a:off x="762120" y="914400"/>
            <a:ext cx="289548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 Технология изготовления соответствует программе 7 класс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 Экономный расход ткан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 Простая конструкц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. Быстрота изготовл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. Удобное в носк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6. Модно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7. Недорогая ткан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8. Красивая расцвет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9. Не вредит здоровью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0. Не сложное в уход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8305920" y="1600200"/>
            <a:ext cx="380880" cy="4525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G:\gvlxh8RvuLrsVkE9RwGcpBaGxXWYtjjk.png"/>
          <p:cNvPicPr/>
          <p:nvPr/>
        </p:nvPicPr>
        <p:blipFill>
          <a:blip r:embed="rId4"/>
          <a:stretch/>
        </p:blipFill>
        <p:spPr>
          <a:xfrm>
            <a:off x="457200" y="1752480"/>
            <a:ext cx="2924280" cy="4238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G:\30be61cf567ca9c.jpg"/>
          <p:cNvPicPr/>
          <p:nvPr/>
        </p:nvPicPr>
        <p:blipFill>
          <a:blip r:embed="rId5"/>
          <a:stretch/>
        </p:blipFill>
        <p:spPr>
          <a:xfrm>
            <a:off x="3657600" y="1752480"/>
            <a:ext cx="259092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144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657600" y="456840"/>
            <a:ext cx="50292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Мы  ещё не очень хорошо умеем шить и, поэтому нам предложили сшить всем одинаковую модель ночной сорочки: сорочка с цельнокроены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рук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ом.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2" descr="G:\1735848_w640_h640_f14947449.jpg"/>
          <p:cNvPicPr/>
          <p:nvPr/>
        </p:nvPicPr>
        <p:blipFill>
          <a:blip r:embed="rId2"/>
          <a:stretch/>
        </p:blipFill>
        <p:spPr>
          <a:xfrm>
            <a:off x="685800" y="304920"/>
            <a:ext cx="243828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6-13T12:19:28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