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gif" ContentType="image/gif"/>
  <Override PartName="/ppt/media/image14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307-2639-482B-8A8B-C28625AB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4E1-96A6-4CE4-8888-B0B27A80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7D3-9DDA-412E-BBD6-88C95EE5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AE3-5E72-4CA3-BA77-0D30F799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6B52-1AC5-4068-9EB4-44F4036B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73B0-F5F9-43A2-B8C0-183A566D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AD65-FD23-4310-8D22-DDDC9C56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6FBE-9934-4E78-A1E0-402571E3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AB7B-D73D-4C60-83A3-751B779B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A531-8602-4A50-B5C3-6EA03EF5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07A8-EFB5-4468-97F5-CD879E6A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676-A8AD-4E57-9392-8706F887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A798-B5B0-44EE-8085-7FB58323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F525-9235-49B4-B879-D740336F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9EB5-0FC1-4375-9156-7CD935E4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53DE-D93C-4295-922B-C60248EB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82CE-65E3-43C5-9BA5-C3389450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F49-391E-4614-A26D-A4FE21DD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3D1-38BA-4476-A312-A4B286B5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8F2-A086-489C-BCDF-C23A724E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696-7F27-4E1B-8BC9-27EDD9CC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0EB-006E-4667-B86D-1571BA26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73F-E6BD-41F5-A6A4-0E5DAEF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6B8-FD90-4C71-9DC1-954EE7A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FA64-90DE-4AB0-8056-B67D015CD6F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40A3-1A1B-4837-925E-711A4CD9DF8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1365120" y="-6480"/>
            <a:ext cx="5273640" cy="65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133360" y="1676160"/>
            <a:ext cx="6019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ворческий проек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«Ночная сорочка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ла ученица 7класса Ионова Кс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технологии Лобачёва Н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3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57200" y="1600200"/>
          <a:ext cx="7543800" cy="2521080"/>
        </p:xfrm>
        <a:graphic>
          <a:graphicData uri="http://schemas.openxmlformats.org/drawingml/2006/table">
            <a:tbl>
              <a:tblPr/>
              <a:tblGrid>
                <a:gridCol w="5105520"/>
                <a:gridCol w="243828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мер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и мер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 обхват гуди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 обхват талии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 обхват бедер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 txBox="1"/>
          <p:nvPr/>
        </p:nvSpPr>
        <p:spPr>
          <a:xfrm>
            <a:off x="468000" y="4797000"/>
            <a:ext cx="82184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Вывод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мой российский размер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7-35-4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мой европейский размер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4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870440" y="268200"/>
            <a:ext cx="382284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 построила выкройку по технологической кар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H:\технология\7 класс\ион\Image (2).jpg"/>
          <p:cNvPicPr/>
          <p:nvPr/>
        </p:nvPicPr>
        <p:blipFill>
          <a:blip r:embed="rId3"/>
          <a:stretch/>
        </p:blipFill>
        <p:spPr>
          <a:xfrm>
            <a:off x="304920" y="457200"/>
            <a:ext cx="4260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Решение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выбираю ткань вискоз, потому что мне её дала мама. Расцветка ткани очень симпатичная: в мелкую желто- чёрную полоску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492360" y="2205000"/>
            <a:ext cx="2159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611280" y="3500280"/>
            <a:ext cx="17287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с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2843280" y="3500280"/>
            <a:ext cx="17287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еп-са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5148360" y="3429000"/>
            <a:ext cx="1584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т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7236000" y="3357720"/>
            <a:ext cx="1635120" cy="107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п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9" name="Прямая со стрелкой 9"/>
          <p:cNvCxnSpPr>
            <a:stCxn id="114" idx="2"/>
            <a:endCxn id="116" idx="0"/>
          </p:cNvCxnSpPr>
          <p:nvPr/>
        </p:nvCxnSpPr>
        <p:spPr>
          <a:xfrm flipH="1">
            <a:off x="3707640" y="2997000"/>
            <a:ext cx="864360" cy="5036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0" name="Прямая со стрелкой 11"/>
          <p:cNvCxnSpPr>
            <a:stCxn id="114" idx="2"/>
            <a:endCxn id="115" idx="0"/>
          </p:cNvCxnSpPr>
          <p:nvPr/>
        </p:nvCxnSpPr>
        <p:spPr>
          <a:xfrm flipH="1">
            <a:off x="1475640" y="2997000"/>
            <a:ext cx="3096360" cy="5036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1" name="Прямая со стрелкой 13"/>
          <p:cNvCxnSpPr>
            <a:stCxn id="114" idx="2"/>
            <a:endCxn id="117" idx="0"/>
          </p:cNvCxnSpPr>
          <p:nvPr/>
        </p:nvCxnSpPr>
        <p:spPr>
          <a:xfrm>
            <a:off x="4570920" y="2997000"/>
            <a:ext cx="1369080" cy="4323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2" name="Прямая со стрелкой 15"/>
          <p:cNvCxnSpPr>
            <a:stCxn id="114" idx="2"/>
            <a:endCxn id="118" idx="0"/>
          </p:cNvCxnSpPr>
          <p:nvPr/>
        </p:nvCxnSpPr>
        <p:spPr>
          <a:xfrm>
            <a:off x="4570920" y="2997000"/>
            <a:ext cx="3482280" cy="361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Расход ткани можно точно рассчитать, разложив детали выкройки, например на ткань, сложив ее на нужную ширин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бранная мной ткань шириной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м. для моей модели моего роста понадобится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 м 90 с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шение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не понадобиться  см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моего изделия понадобить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тки в цвет ткани №40 (50,60 –по модели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жницы для бумаги, линейка, карандаш –для построения выкройк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ртновский мел, булавки, портновские ножницы для раскро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Швейная машина, утюг, утюжильная доска, ручная игла, булавки –для шит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2"/>
          <a:stretch/>
        </p:blipFill>
        <p:spPr>
          <a:xfrm>
            <a:off x="450720" y="438120"/>
            <a:ext cx="8339400" cy="1268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6840" y="177300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бы узнать себестоимость изделия, я подсчитала, какие материалы и в каком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количестве мне понадобятс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вод; так как мне мама дал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кан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у меня будет стоимость только за нит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9640" y="2565360"/>
          <a:ext cx="8218440" cy="2448000"/>
        </p:xfrm>
        <a:graphic>
          <a:graphicData uri="http://schemas.openxmlformats.org/drawingml/2006/table">
            <a:tbl>
              <a:tblPr/>
              <a:tblGrid>
                <a:gridCol w="935280"/>
                <a:gridCol w="2305080"/>
                <a:gridCol w="2158920"/>
                <a:gridCol w="1368360"/>
                <a:gridCol w="145080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матер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ловная цена за единицу измерения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 материала на издел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траты на материал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 хлопчатобумаж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р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1 катуш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атуш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44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Расход ткани можно точно рассчитать, разложив детали выкройки, например на ткань, сложив ее на нужную ширин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бранная мной ткань шириной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м. для моей модели моего роста понадобится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 м 90 с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шение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не понадобиться  см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352000" cy="1012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ляю план своей работ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. Начертить выкройк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Выкроить детали изделия с припусками на швы, по срезам 1,5 см и на подгибку низа 3,0 с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Выкроить подкройную  обтачку шириной 4,0 с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4. Сметать изделие в следующей последовательност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боковые срезы;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заметать подгибку низ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5. Выполнить примерку издел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649"/>
              </a:spcBef>
              <a:buClr>
                <a:srgbClr val="ffffff"/>
              </a:buClr>
              <a:buSzPct val="6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ffff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spcBef>
                <a:spcPts val="700"/>
              </a:spcBef>
              <a:buClr>
                <a:srgbClr val="ffffff"/>
              </a:buClr>
              <a:buSzPct val="6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 Обработать горловину подкройной обтач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Обработать  боковые срезы двойным бельевым шв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 Обработать  рукава швом в подгибку с закрытым срез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Обработать низ изделия швом в подгибку с закрытым срез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Выполнить  влажно теплову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6bb1c9"/>
              </a:buClr>
              <a:buSzPct val="65000"/>
              <a:buFont typeface="Georgia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000640" y="1600200"/>
            <a:ext cx="6858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:\технология\7 класс\ион\IMG_0286.JPG"/>
          <p:cNvPicPr/>
          <p:nvPr/>
        </p:nvPicPr>
        <p:blipFill>
          <a:blip r:embed="rId4"/>
          <a:stretch/>
        </p:blipFill>
        <p:spPr>
          <a:xfrm>
            <a:off x="380880" y="131436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днажды я хотела сшить сама ночную сорочку. И вот когда я  перешла в 7 класс я узнала что мы будем шить ночную сорочку. Я была ра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 сшила изделие в соответствии с составленным планом изготовления, выполнила каждую операцию, проверила качество своей рабо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е изделие соответствует , моему возрасту,  соответствует экологическим требованиям выполнено качественно и самое главное мне нравить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0" y="11430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работать модель в соответствии с моими условиям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G:\81943944.gif"/>
          <p:cNvPicPr/>
          <p:nvPr/>
        </p:nvPicPr>
        <p:blipFill>
          <a:blip r:embed="rId3"/>
          <a:stretch/>
        </p:blipFill>
        <p:spPr>
          <a:xfrm>
            <a:off x="1447920" y="4191120"/>
            <a:ext cx="1238040" cy="1238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вести исследование и разработать эскиз моего проектного издел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ганизовать рабочее мест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обрать инструменты и приспособления для различных опера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зготовить выкройку швейного издел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обрать ткань для издел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кроить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тория возникнов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вропейские женщины вплоть до 14 века спали в той же одежде, в которой ходили днём, либо совсем без одежды. Специально сделанная для сна одежда появляется примерно с 15 века, в Чехии и называлась она «юбка для спальни». Ночные рубашки того времени значительно отличались от тех, которые девушкам известны сейчас. Они были большого размера, как в ширину, так и в длину. Носили их только богатые люди, поскольку стоили такие рубашки дорог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32004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66720" y="456840"/>
            <a:ext cx="44197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 веке ночные рубашки стали доступными для любой женщины и стали использоваться повсеместно. К этому времени женщины уже могли иметь по нескольку ночных сорочек, предназначенных для разных целей: ежедневные - обычно из хлопка, классического покроя; для поездок - сорочки спортивного типа; декоративные - длинные или Ночные рубашки для полныхкороткие, сделанные из натурального шёлка. В 19 веке появились и сексуальные ночные пеньюары - открытые, с множеством рюш и кружев, похожие в чём-то на вечерние плат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28954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Технология изготовления соответствует программе 7 клас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Экономный расход тка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Простая конструкц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Быстрота изготов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Удобное в нос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Модн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Недорогая тка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Красивая расцвет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Не вредит здоров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Не сложное в уход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05920" y="1600200"/>
            <a:ext cx="38088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G:\gvlxh8RvuLrsVkE9RwGcpBaGxXWYtjjk.png"/>
          <p:cNvPicPr/>
          <p:nvPr/>
        </p:nvPicPr>
        <p:blipFill>
          <a:blip r:embed="rId4"/>
          <a:stretch/>
        </p:blipFill>
        <p:spPr>
          <a:xfrm>
            <a:off x="457200" y="1752480"/>
            <a:ext cx="2924280" cy="423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G:\30be61cf567ca9c.jpg"/>
          <p:cNvPicPr/>
          <p:nvPr/>
        </p:nvPicPr>
        <p:blipFill>
          <a:blip r:embed="rId5"/>
          <a:stretch/>
        </p:blipFill>
        <p:spPr>
          <a:xfrm>
            <a:off x="3657600" y="1752480"/>
            <a:ext cx="259092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57600" y="456840"/>
            <a:ext cx="5029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ы  ещё не очень хорошо умеем шить и, поэтому нам предложили сшить всем одинаковую модель ночной сорочки: сорочка с цельнокрое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ру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м.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2" descr="G:\1735848_w640_h640_f14947449.jpg"/>
          <p:cNvPicPr/>
          <p:nvPr/>
        </p:nvPicPr>
        <p:blipFill>
          <a:blip r:embed="rId2"/>
          <a:stretch/>
        </p:blipFill>
        <p:spPr>
          <a:xfrm>
            <a:off x="685800" y="304920"/>
            <a:ext cx="2438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6-13T12:19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