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EBD-68B1-4AD6-A9D1-B86D7983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FF5-5754-40F3-9F78-48531AB8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790-9585-4132-8416-89B281B2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C3A-C63B-49E0-935C-5B08B90E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8F5-B0A3-4219-B3D3-AF249AEC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B31C-F995-451B-9F29-B0699375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A751-BCB8-4572-8BC9-9D579A87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CD08-079A-411C-8B94-B855806A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0058-EC67-493F-B072-F4131B2A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9629-BD19-4C70-AA81-6E645894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6E7E-C997-4E03-83AC-BD7F742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3AB-9F65-471E-8AF8-80ADEF6E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0C68-91AD-40BA-8D98-FE62036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214E-69CA-4788-A2D9-10960BB5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6117-FCAF-414C-9EB5-114D0940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6A8B-4038-418D-9CBB-3DC661BD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641F-9251-4703-8AA5-28430B82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B90-38DC-436F-878A-4C6724CE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F3F-42BC-42AE-8708-1EBC26B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53B-8327-4362-AC20-CF373995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8DB-9CF6-46C3-804E-515AAE1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8C2-B807-4114-BEBB-1E114FA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824-63E7-4728-A529-B28F4ED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814-5076-408C-B59A-949CC4ED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C5B8-9B3F-45D0-86EB-CF7CD05161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EF80-7929-4B70-8542-BCF31CB18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6000" y="2636640"/>
            <a:ext cx="6912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С огнем не шалите! Здоровье и жизни свои берегите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357800" y="4581360"/>
            <a:ext cx="57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а: Белугина Елена Николаев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692520" y="622296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ус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785960"/>
          <a:ext cx="8497800" cy="4956120"/>
        </p:xfrm>
        <a:graphic>
          <a:graphicData uri="http://schemas.openxmlformats.org/drawingml/2006/table">
            <a:tbl>
              <a:tblPr/>
              <a:tblGrid>
                <a:gridCol w="2171880"/>
                <a:gridCol w="2344680"/>
                <a:gridCol w="398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е игры: «Хорошо - плохо», «Наши помощники», «Наш дом», «Одежда для тушения пожара», «Собери пожарную машину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опасных предметов (воспитатель): спички, свеча, бенгальские огн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ворческих рассказов о большом пожаре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ролевому диалогу с диспетчером Службы спасения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загадок об электроприборах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42" descr="firefighter-girl"/>
          <p:cNvPicPr/>
          <p:nvPr/>
        </p:nvPicPr>
        <p:blipFill>
          <a:blip r:embed="rId1"/>
          <a:stretch/>
        </p:blipFill>
        <p:spPr>
          <a:xfrm>
            <a:off x="7380360" y="260280"/>
            <a:ext cx="12952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1773360"/>
          <a:ext cx="8497800" cy="4608360"/>
        </p:xfrm>
        <a:graphic>
          <a:graphicData uri="http://schemas.openxmlformats.org/drawingml/2006/table">
            <a:tbl>
              <a:tblPr/>
              <a:tblGrid>
                <a:gridCol w="2189160"/>
                <a:gridCol w="2208240"/>
                <a:gridCol w="41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гровая, практическ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плакатов «Первая помощь пострадавши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ервой помощи «пациентам доктора Айболита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воспит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Пожарные на учении», «Огонь и вода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–эстафеты: «Полоса препятствий», «Сбей огонь», «Кто быстрее потушит пожар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-пантомима «Добрый огонь - злой огон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и на противопожарную те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41" descr="firefighter-girl"/>
          <p:cNvPicPr/>
          <p:nvPr/>
        </p:nvPicPr>
        <p:blipFill>
          <a:blip r:embed="rId1"/>
          <a:stretch/>
        </p:blipFill>
        <p:spPr>
          <a:xfrm>
            <a:off x="7308720" y="165240"/>
            <a:ext cx="165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695600"/>
          <a:ext cx="8424720" cy="4846320"/>
        </p:xfrm>
        <a:graphic>
          <a:graphicData uri="http://schemas.openxmlformats.org/drawingml/2006/table">
            <a:tbl>
              <a:tblPr/>
              <a:tblGrid>
                <a:gridCol w="2087280"/>
                <a:gridCol w="2197080"/>
                <a:gridCol w="414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ктивная,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, продуктивная, работа с родителями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о- конструирование «Пожарная част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на тему: «С дымом мешается облако пыли, мчаться пожарные в автомобил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ка на тему: «Пожарный расчет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атрибутов для с/р игр и драматизаци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альбомов, книжек-малышек «Электричество в нашем доме», «Игра со спичками не доводит до добра»;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семейного творчества «Пожарная безопасность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3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1752480"/>
          <a:ext cx="8496000" cy="3803760"/>
        </p:xfrm>
        <a:graphic>
          <a:graphicData uri="http://schemas.openxmlformats.org/drawingml/2006/table">
            <a:tbl>
              <a:tblPr/>
              <a:tblGrid>
                <a:gridCol w="2225520"/>
                <a:gridCol w="2085840"/>
                <a:gridCol w="418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ая литерату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обсуждение произведений «противопожарной тематики»: С. Маршак «Рассказ о неизвестном герое», Л. Толстой «Пожарные собаки», сказка «Как Тимоша царевну спас», «Как в селе пожарную каланчу построили» (из книги Т.А. Шорыгиной), Б. Житков «Ды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учивание стихов С. Маршака «Пожар», П. Юрцина «Не играй с огнем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32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752480"/>
          <a:ext cx="8424720" cy="3667320"/>
        </p:xfrm>
        <a:graphic>
          <a:graphicData uri="http://schemas.openxmlformats.org/drawingml/2006/table">
            <a:tbl>
              <a:tblPr/>
              <a:tblGrid>
                <a:gridCol w="2089080"/>
                <a:gridCol w="2232000"/>
                <a:gridCol w="4103640"/>
              </a:tblGrid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о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, игровая, 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ая встреча в детской библиотеке «Осторожно огонь!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ые упражнения: «Чтобы не было беды», «Забыли выключить утюг», «Если ты один дома», «Пожарная сигнализация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отработка эвакуации детей из здания д/с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кроссвордов на противопожарную тему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36" descr="firefighter-girl"/>
          <p:cNvPicPr/>
          <p:nvPr/>
        </p:nvPicPr>
        <p:blipFill>
          <a:blip r:embed="rId1"/>
          <a:stretch/>
        </p:blipFill>
        <p:spPr>
          <a:xfrm>
            <a:off x="7308720" y="165240"/>
            <a:ext cx="165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1752480"/>
          <a:ext cx="8353440" cy="3119400"/>
        </p:xfrm>
        <a:graphic>
          <a:graphicData uri="http://schemas.openxmlformats.org/drawingml/2006/table">
            <a:tbl>
              <a:tblPr/>
              <a:tblGrid>
                <a:gridCol w="2266920"/>
                <a:gridCol w="1965240"/>
                <a:gridCol w="4121280"/>
              </a:tblGrid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-игро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ние музыки Шабровой «Не играйте с огнем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игра «Воробушек и огонь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ценировка «Сказка о красном петушк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й концерт «Внимание всем!» с выездом в пожарную часть города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32" descr="firefighter-girl"/>
          <p:cNvPicPr/>
          <p:nvPr/>
        </p:nvPicPr>
        <p:blipFill>
          <a:blip r:embed="rId1"/>
          <a:stretch/>
        </p:blipFill>
        <p:spPr>
          <a:xfrm>
            <a:off x="7380360" y="165240"/>
            <a:ext cx="1584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концер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нимание всем!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ыездом в пожарную часть гор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4314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А. Шорыгина «Беседы о правилах пожарной безопасности» М.ОО «ТЦ Сфера»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зопасность» Учебно-методическое пособие по основам безопасности жизнедеятельности детей старшего дошкольного возраста/Н.Н. Авдеева, О.А. Князева, Р.Б. Стеркина: С-П. «Детство-Пресс», 20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жарная безопасность. Нестандартные занятия»/Автор-составитель Р.А. Жукова – Волгоград: ИТД «Корифей», 200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ы: festival.1september.ru/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www.forchel.ru/…protivopozharnoj-bezopasnosti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www.openclass.ru/les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озаписи сигналов спецмаш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запись «Уроки пожарной безопасност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1b3"/>
          <p:cNvPicPr/>
          <p:nvPr/>
        </p:nvPicPr>
        <p:blipFill>
          <a:blip r:embed="rId1"/>
          <a:stretch/>
        </p:blipFill>
        <p:spPr>
          <a:xfrm>
            <a:off x="6659640" y="4797360"/>
            <a:ext cx="2484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я в П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SDC10688"/>
          <p:cNvPicPr/>
          <p:nvPr/>
        </p:nvPicPr>
        <p:blipFill>
          <a:blip r:embed="rId1"/>
          <a:stretch/>
        </p:blipFill>
        <p:spPr>
          <a:xfrm>
            <a:off x="324000" y="234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DC10690"/>
          <p:cNvPicPr/>
          <p:nvPr/>
        </p:nvPicPr>
        <p:blipFill>
          <a:blip r:embed="rId2"/>
          <a:stretch/>
        </p:blipFill>
        <p:spPr>
          <a:xfrm>
            <a:off x="5292720" y="1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SDC10693"/>
          <p:cNvPicPr/>
          <p:nvPr/>
        </p:nvPicPr>
        <p:blipFill>
          <a:blip r:embed="rId3"/>
          <a:stretch/>
        </p:blipFill>
        <p:spPr>
          <a:xfrm>
            <a:off x="5435640" y="3141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SDC10692"/>
          <p:cNvPicPr/>
          <p:nvPr/>
        </p:nvPicPr>
        <p:blipFill>
          <a:blip r:embed="rId4"/>
          <a:stretch/>
        </p:blipFill>
        <p:spPr>
          <a:xfrm>
            <a:off x="3492360" y="3357720"/>
            <a:ext cx="243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38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4" descr="s74377218"/>
          <p:cNvPicPr/>
          <p:nvPr/>
        </p:nvPicPr>
        <p:blipFill>
          <a:blip r:embed="rId1"/>
          <a:srcRect l="7540" t="10116" r="9298" b="4220"/>
          <a:stretch/>
        </p:blipFill>
        <p:spPr>
          <a:xfrm>
            <a:off x="539640" y="1978200"/>
            <a:ext cx="3888000" cy="307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age4534034"/>
          <p:cNvPicPr/>
          <p:nvPr/>
        </p:nvPicPr>
        <p:blipFill>
          <a:blip r:embed="rId2"/>
          <a:stretch/>
        </p:blipFill>
        <p:spPr>
          <a:xfrm>
            <a:off x="4788000" y="333360"/>
            <a:ext cx="3979800" cy="29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4788000" y="3551400"/>
            <a:ext cx="4032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аспорт проек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40360" y="1773000"/>
            <a:ext cx="4427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онно-практико-ориентирован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проведен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нед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9" descr="4423_m"/>
          <p:cNvPicPr/>
          <p:nvPr/>
        </p:nvPicPr>
        <p:blipFill>
          <a:blip r:embed="rId1"/>
          <a:srcRect l="0" t="0" r="0" b="14639"/>
          <a:stretch/>
        </p:blipFill>
        <p:spPr>
          <a:xfrm>
            <a:off x="250920" y="1773360"/>
            <a:ext cx="3681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60120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о-содержательная область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детей правилам противопожарной без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6-7 лет, воспитатели, специалисты ДОУ, родители, специалисты городской детской библиотеки, сотрудники П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ost-85270-1271078303_thumb"/>
          <p:cNvPicPr/>
          <p:nvPr/>
        </p:nvPicPr>
        <p:blipFill>
          <a:blip r:embed="rId1"/>
          <a:srcRect l="5623" t="15759" r="5623" b="29932"/>
          <a:stretch/>
        </p:blipFill>
        <p:spPr>
          <a:xfrm>
            <a:off x="5940360" y="3500280"/>
            <a:ext cx="3203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у детей четкого понимания скрытой опасности огня, игры со спичками, взрывоопасными и легковоспламеняющимися предметам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4" descr="http://priroda77.narod.ru/animation/svechi/12.gif"/>
          <p:cNvPicPr/>
          <p:nvPr/>
        </p:nvPicPr>
        <p:blipFill>
          <a:blip r:embed="rId1"/>
          <a:stretch/>
        </p:blipFill>
        <p:spPr>
          <a:xfrm>
            <a:off x="7093080" y="3860640"/>
            <a:ext cx="1500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619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осознанного и ответственного отношения к выполнению правил пожарной безопасности, вооружение знаниями, умениями и навыками необходимыми дл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в экстремальных ситуация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173640" y="2060640"/>
            <a:ext cx="29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94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чувство осторожности и самосохранения при обращении с огн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представления о профессии пожарног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ктическим действиям в случае возникновения пожар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p100_det16"/>
          <p:cNvPicPr/>
          <p:nvPr/>
        </p:nvPicPr>
        <p:blipFill>
          <a:blip r:embed="rId1"/>
          <a:srcRect l="0" t="0" r="0" b="24242"/>
          <a:stretch/>
        </p:blipFill>
        <p:spPr>
          <a:xfrm>
            <a:off x="5364000" y="1989000"/>
            <a:ext cx="3554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453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одготавительны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брать методическую, научно-популярную и художественную литературу, иллюстрационный материал, игрушки, атрибуты для игровой деятельности по противопожарной тема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творческой деятельности 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31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 желание родителей принять участие в работе по проекту (анкет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kitchen-fire-safety-800x800"/>
          <p:cNvPicPr/>
          <p:nvPr/>
        </p:nvPicPr>
        <p:blipFill>
          <a:blip r:embed="rId1"/>
          <a:stretch/>
        </p:blipFill>
        <p:spPr>
          <a:xfrm>
            <a:off x="6429240" y="0"/>
            <a:ext cx="27147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5280" y="1989000"/>
          <a:ext cx="8424720" cy="39132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396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 воспитателя «С огнем не играйте, с огнем не шалите!», «История возникновения пожарной охраны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ы: «Мы – пожарные», «Сигнал «Тревога!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ые ситуации: «Помоги Мишутке вызвать пожарную службу», «Дым в квартире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– толкование пословиц и поговорок о безопасности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47" descr="firefighter-girl"/>
          <p:cNvPicPr/>
          <p:nvPr/>
        </p:nvPicPr>
        <p:blipFill>
          <a:blip r:embed="rId1"/>
          <a:stretch/>
        </p:blipFill>
        <p:spPr>
          <a:xfrm>
            <a:off x="7093080" y="165240"/>
            <a:ext cx="1871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785520"/>
            <a:ext cx="80010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989000"/>
          <a:ext cx="8353440" cy="3840480"/>
        </p:xfrm>
        <a:graphic>
          <a:graphicData uri="http://schemas.openxmlformats.org/drawingml/2006/table">
            <a:tbl>
              <a:tblPr/>
              <a:tblGrid>
                <a:gridCol w="2089080"/>
                <a:gridCol w="2448000"/>
                <a:gridCol w="38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област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курсия в пожарную часть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ини-музея «01»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, исследовательская, речев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е ситуаций и обмен мнениями «Действия при пожаре», «Опасные соседи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Из чего делают одежду пожарных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cc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ическая игра с моделями во время ситуации «Пожар»;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94" descr="firefighter-girl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54:23Z</dcterms:created>
  <dc:creator>Юля</dc:creator>
  <dc:description/>
  <dc:language>en-US</dc:language>
  <cp:lastModifiedBy>Admin</cp:lastModifiedBy>
  <dcterms:modified xsi:type="dcterms:W3CDTF">2012-04-01T14:27:57Z</dcterms:modified>
  <cp:revision>19</cp:revision>
  <dc:subject/>
  <dc:title>Тема проекта:</dc:title>
</cp:coreProperties>
</file>