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180-CB23-4AC6-8439-26C96F50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8A5-0A7E-4C90-B4A2-548E933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3E4-75EE-44C7-A630-E1D01218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D98-E91B-4730-8184-AAC9DA34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DBD-FD1E-415F-BE83-11845C5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BE2-F17C-4BBD-AEF8-232D179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084-CA70-4E60-A486-80F2171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2CA-7343-4FC4-B90F-CAD96ED3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0E2-0E39-49CA-8C3B-A298F4B1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D06-8331-441C-A091-E0F22C7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2FD-2746-401D-AC11-8F0F7D9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A12-D8D8-4DC8-9072-78CF891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1E0-5F60-4F99-9D8F-6F15AB2FE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47920" y="1523880"/>
            <a:ext cx="6476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be0e3"/>
                </a:solidFill>
                <a:latin typeface="Arial"/>
              </a:rPr>
              <a:t>Радиационн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2388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Тема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44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