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C57-C21E-4C4D-A892-D1DC446E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7EE-210C-496D-B58D-4A53A57F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317-B739-4AC5-87AF-D7CAF07B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37C-D319-4F6D-9708-47B0E3E4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170-FF9B-4494-ADCA-9F94166C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C1D-91AD-4F35-BCEB-9041E243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A2F-5793-4BD2-8F05-4F516D3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337-DAD6-4F24-B343-7BC1CAF3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59E-0213-44D5-9B4E-0DA71F9C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C92-E8F0-4FDF-8157-541DD68D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1D7-B3A4-4A71-A8F5-3E403A1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8CC-9195-463F-A858-7B7102E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C57A-B2D3-42BF-9D75-EBD1FD0AA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diacia"/>
          <p:cNvPicPr/>
          <p:nvPr/>
        </p:nvPicPr>
        <p:blipFill>
          <a:blip r:embed="rId1"/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447920" y="1523880"/>
            <a:ext cx="64767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be0e3"/>
                </a:solidFill>
                <a:latin typeface="Arial"/>
              </a:rPr>
              <a:t>Радиационн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523880" y="4343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Тема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733920" y="152280"/>
            <a:ext cx="160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09480" y="9144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, что, находясь в зоне радиоактивного заражения, человек облучается, и у него может возни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евая боле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ковое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специфический резкий запах нашатырного спи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лется по земле на небольшой выс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меет запаха, цвета, вк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ься по высокой траве и кустарнику; периодически снимать средства индивидуальной защиты и отряхивать их от пыли; принимать пищу и пить только при ясной безветренной пог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 без надобности не садиться и не прикасаться к местным предметам; избегать движения по высокой траве и кустарнику; не принимать пищу, не пить, не курить; 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>
            <a:hlinkClick r:id="rId2" action="ppaction://hlinksldjump"/>
          </p:cNvPr>
          <p:cNvSpPr/>
          <p:nvPr/>
        </p:nvSpPr>
        <p:spPr>
          <a:xfrm>
            <a:off x="533520" y="1523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>
            <a:hlinkClick r:id="rId3" action="ppaction://hlinksldjump"/>
          </p:cNvPr>
          <p:cNvSpPr/>
          <p:nvPr/>
        </p:nvSpPr>
        <p:spPr>
          <a:xfrm>
            <a:off x="533520" y="1828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53352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53352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533520" y="3200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33520" y="3505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533520" y="4572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53352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85345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371600" y="2666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ьно,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33520" y="281952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правильно. Подумай ещё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8229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2286000" y="380880"/>
            <a:ext cx="4648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85800" y="1371600"/>
            <a:ext cx="77724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евая боле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по защите населения от радиационной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2" action="ppaction://hlinksldjump"/>
          </p:cNvPr>
          <p:cNvSpPr/>
          <p:nvPr/>
        </p:nvSpPr>
        <p:spPr>
          <a:xfrm>
            <a:off x="38088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>
            <a:hlinkClick r:id="rId3" action="ppaction://hlinksldjump"/>
          </p:cNvPr>
          <p:cNvSpPr/>
          <p:nvPr/>
        </p:nvSpPr>
        <p:spPr>
          <a:xfrm>
            <a:off x="38088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4" action="ppaction://hlinksldjump"/>
          </p:cNvPr>
          <p:cNvSpPr/>
          <p:nvPr/>
        </p:nvSpPr>
        <p:spPr>
          <a:xfrm>
            <a:off x="380880" y="2819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>
            <a:hlinkClick r:id="rId5" action="ppaction://hlinksldjump"/>
          </p:cNvPr>
          <p:cNvSpPr/>
          <p:nvPr/>
        </p:nvSpPr>
        <p:spPr>
          <a:xfrm>
            <a:off x="380880" y="3276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rId6" action="ppaction://hlinksldjump"/>
          </p:cNvPr>
          <p:cNvSpPr/>
          <p:nvPr/>
        </p:nvSpPr>
        <p:spPr>
          <a:xfrm>
            <a:off x="380880" y="4952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rId7" action="ppaction://hlinksldjump"/>
          </p:cNvPr>
          <p:cNvSpPr/>
          <p:nvPr/>
        </p:nvSpPr>
        <p:spPr>
          <a:xfrm>
            <a:off x="380880" y="3733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rId8" action="ppaction://hlinksldjump"/>
          </p:cNvPr>
          <p:cNvSpPr/>
          <p:nvPr/>
        </p:nvSpPr>
        <p:spPr>
          <a:xfrm>
            <a:off x="380880" y="4191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9" action="ppaction://hlinksldjump"/>
          </p:cNvPr>
          <p:cNvSpPr/>
          <p:nvPr/>
        </p:nvSpPr>
        <p:spPr>
          <a:xfrm>
            <a:off x="38088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>
            <a:hlinkClick r:id="" action="ppaction://hlinkshowjump?jump=endshow"/>
          </p:cNvPr>
          <p:cNvSpPr/>
          <p:nvPr/>
        </p:nvSpPr>
        <p:spPr>
          <a:xfrm>
            <a:off x="830592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914400" y="426708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о-опасный объект (РОО) - объект, на котором хранят, перерабатывают, используют или транспортируют радиоактивные вещества, при аварии на котором или его разрушении может произойти облучение ионизирующим излучением или радиоактивное загрязнение людей, сельскохозяйственных животных и растений, объектов экономики, а также окружающей природ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4400" y="533520"/>
            <a:ext cx="7391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Radiacia_AES"/>
          <p:cNvPicPr/>
          <p:nvPr/>
        </p:nvPicPr>
        <p:blipFill>
          <a:blip r:embed="rId2"/>
          <a:stretch/>
        </p:blipFill>
        <p:spPr>
          <a:xfrm>
            <a:off x="2133720" y="1143000"/>
            <a:ext cx="51051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914400" y="12193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вария на радиационно-опасном объекте, приводящая к выходу или выбросу радиоактивных веществ и (или) ионизирующих излучений за предусмотренные проектом для нормальной эксплуатации данного объекта границы в количествах, превышающих установленные пределы безопасности его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38080" y="380880"/>
            <a:ext cx="746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14520" cy="303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9">
            <a:hlinkClick r:id="rId3" action="ppaction://hlinksldjump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57200" y="22860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438280" y="167652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сь на улице, немедленно защитите органы дыхания и поспешите в укрытие.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568160" cy="2133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0" name="Picture 8" descr="{39441403-C54E-4212-8271-6BC6585C1045}"/>
          <p:cNvPicPr/>
          <p:nvPr/>
        </p:nvPicPr>
        <p:blipFill>
          <a:blip r:embed="rId3"/>
          <a:stretch/>
        </p:blipFill>
        <p:spPr>
          <a:xfrm>
            <a:off x="6172200" y="4038480"/>
            <a:ext cx="2305080" cy="184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" name="Text Box 9"/>
          <p:cNvSpPr/>
          <p:nvPr/>
        </p:nvSpPr>
        <p:spPr>
          <a:xfrm>
            <a:off x="457200" y="3962520"/>
            <a:ext cx="571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ите йодную профилактику. Принимайте в течение 7 дней по одной таблетке (0,125г) йодистого калия, детям до 2-х лет – ¼ таблетки (0,04г) или йодистый раствор: 3-5 капель 5% раствора йода на стакан воды, детям – 1-2 кап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>
            <a:hlinkClick r:id="rId4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752480" y="228600"/>
            <a:ext cx="586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{55FE17F1-1123-4EDA-AC18-C100F72C4D2C}"/>
          <p:cNvPicPr/>
          <p:nvPr/>
        </p:nvPicPr>
        <p:blipFill>
          <a:blip r:embed="rId2"/>
          <a:stretch/>
        </p:blipFill>
        <p:spPr>
          <a:xfrm>
            <a:off x="1371600" y="1523880"/>
            <a:ext cx="6629400" cy="497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{1050A855-ED3A-4226-A7EA-7DBDCEBF61EA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9" name="AutoShape 7">
            <a:hlinkClick r:id="rId3" action="ppaction://hlinksldjump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33520" y="2209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надобности не садиться и не прикасаться к местным предм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ть движения по высокой траве и кустар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инимать пищу, не пить, не кур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90720" y="5335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04920" y="380880"/>
            <a:ext cx="8381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581280" cy="247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Text Box 10"/>
          <p:cNvSpPr/>
          <p:nvPr/>
        </p:nvSpPr>
        <p:spPr>
          <a:xfrm>
            <a:off x="533520" y="5410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ясь в зоне радиоактивного заражения, человек облучается и в результате у него может возникнуть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уче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33520" y="1371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>
            <a:hlinkClick r:id="rId3" action="ppaction://hlinksldjump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{08C53A3D-C782-41DD-9954-1D121ACA6A80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" name="AutoShape 6">
            <a:hlinkClick r:id="rId3" action="ppaction://hlinksldjump"/>
          </p:cNvPr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8T11:44:2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