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28C-42F4-49A8-BAFC-E6DE02A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7C6-63D3-47AA-9CE2-B5582C7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085-F9E9-452A-8042-B27FD704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AD4-E067-43D7-B937-E22120FD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460-96AA-4168-83B8-38C6277D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202-D2AC-4935-AAFC-8A5A1D2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057B-3AC2-44ED-97A3-3C1E084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6FEF-F736-4185-B766-C75E479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AAAE-7550-44CC-8D76-00289028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BC33-F11C-4552-B4BE-3075517C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BEA-F446-406B-BFF1-A56605B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A95-3F56-4F4B-B34C-1F7C189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FA9-76B7-4134-938F-4B8DCBAF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CAB-4839-43C6-9F6E-35F3530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B49-49CC-4C62-9FAD-8E13FB43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6393-4AB6-4C5E-A531-72A426C9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F31-D3AB-43B4-807D-8DA450C3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48C-43F9-4711-AA42-503CE27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DBD-82A8-4322-89D7-E09AC30F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165-E60E-4E07-8B03-1A097C0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794-6FF2-482D-931C-FD1A0A3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9CC-A33E-406B-B026-09537AF5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CBF-440F-4E80-B7FE-21DCC45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49A-E6CE-438D-A552-1AB7854B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CC9-9222-46A7-B119-C4E6ECA5C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914-4E5E-47D5-AF27-369F93A63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15094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ДД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2349000"/>
            <a:ext cx="640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ПРАВИЛА ДЛ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ВЕЛОСИПЕДИС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33400" y="907920"/>
            <a:ext cx="476784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МОУ СОШ с.СТАРАЯ КАМ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ензе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08464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Лане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Екатерина Артуро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187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4824360" cy="2968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5003640" cy="2060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264360" cy="220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3863880" cy="388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3280" y="2681280"/>
            <a:ext cx="4005360" cy="3800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77760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очень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доб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и распространё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ид транспорта для передвижения, особенно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сельской местно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Езда на велосипеде доступ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для лиц самого различного возраст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16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46083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1353960" cy="264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64000" y="5340240"/>
            <a:ext cx="354492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68360" y="1700280"/>
            <a:ext cx="2884320" cy="1652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Вот они какие разные и предназначение у них разно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опасный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вид транспорт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9a4"/>
                </a:solidFill>
                <a:uFillTx/>
                <a:latin typeface="Arial"/>
              </a:rPr>
              <a:t>Почти все ребята умеют ездить на велосипедах. Но многие думают так: сел в седло, держи руль и крути педали — вот и все правила! Нет, это не так. Во-первых, не каждому можно ездить по дорог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30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2640" y="577080"/>
            <a:ext cx="5770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помните правила: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1.HE ВЫЕЗЖАЙ НА ВЕЛОСИПЕДЕ НА ДОРОГУ, ЕСЛИ ТЕБЕ НЕТ 14 ЛЕТ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2. НЕЛЬЗЯ ЕЗДИТЬ НА ВЕЛОСИПЕДЕ ПО ТРОТУАРАМ!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Детям до 14 лет можно ездить на велосипедах во дворах, на школьных площадках и стадионах, по дорожкам детских автогородков в школах и пар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3.С помощью взрослых приведите свой велосипед в порядок, отремонтируйте его ходовую часть, надёжно закрепите седло и руль , проверьте исправлен   ли тормоз .установите звон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4.НЕЛЬЗЯ ЕЗДИТЬ вдвоём на одноместном  велосип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5.Запрещено также перевозить на велосипеде громоздкие пред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6.НЕЛЬЗЯ ПОВОРАЧИВАТЬ НАЛЕВО ИЛИ РАЗВОРАЧИВАТЬСЯ С УЛИЦ, ПО КОТОРЫМ ДВИЖЕНИЕ ВОЗМОЖНО В НЕСКОЛЬКО РЯДОВ, ИЛИ С УЛИЦ С ТРАМВАЙНЫМ 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ОПАСНО ДЛЯ ЖИЗН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2833560" cy="212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156360" y="981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79280" y="3757680"/>
            <a:ext cx="3024360" cy="217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76720" y="370368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300720" y="3699000"/>
            <a:ext cx="25923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87680" y="3068640"/>
            <a:ext cx="58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торять не рекомендуе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6093000"/>
            <a:ext cx="58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жалейт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ебя, родных и близких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30:39Z</dcterms:created>
  <dc:creator>Admin</dc:creator>
  <dc:description/>
  <dc:language>en-US</dc:language>
  <cp:lastModifiedBy>Admin</cp:lastModifiedBy>
  <dcterms:modified xsi:type="dcterms:W3CDTF">2009-04-29T18:45:57Z</dcterms:modified>
  <cp:revision>3</cp:revision>
  <dc:subject/>
  <dc:title>ПДД </dc:title>
</cp:coreProperties>
</file>