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CCE-1957-4754-8267-DEAC321D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73C-AE4D-46ED-ACBA-461F0728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4CD-4221-41C6-B3AE-2E1E525B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463-93AB-42EE-A48D-0F7A7526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36FD-E372-4957-AF4D-DDE29992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B6BF-4CCA-4B0F-9343-7160F869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3D3F-E0A0-4FD6-B80A-92FBAE15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D6D9-77AF-42B5-B132-1656505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F022-F96B-4251-8E0B-640EC2D9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6291-47EA-4178-B05E-56DAEFC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0518-31FA-48F3-BCCA-9A17D2B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F19-8581-4183-B095-33BEA6B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883-0AF9-4DCF-8C09-4F9919A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B368-33DC-4389-AB3D-41085ED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F8A4-100E-470D-924C-F6D553D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31A0-F90E-4FDF-AB41-E07948A3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EA65-8DE9-4CA9-BCCA-22C5CA9A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826-816F-4B00-8BD7-74CED0BF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5F5-550B-43D4-84AE-68ED571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ABF-5055-4977-BDA0-783CEB7B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BE1-5F55-4371-BA8F-B42A537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56A-0052-4775-9FCC-173C3C83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410-26A8-44AD-9BD6-BB9E756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8AA-520A-4F6E-8DD0-2FB16A53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6F9F-F8A2-40FA-A10C-FDD673D4E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1515-6F79-4C7A-9D73-22BBC5222F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150948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ДД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2349000"/>
            <a:ext cx="640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ПРАВИЛА ДЛ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ВЕЛОСИПЕДИСТ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33400" y="907920"/>
            <a:ext cx="476784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МОУ СОШ с.СТАРАЯ КАМ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ензе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08464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Учите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Лане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Екатерина Артуров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136000" cy="1873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4824360" cy="2968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40360" y="4797360"/>
            <a:ext cx="5003640" cy="2060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264360" cy="220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2637000"/>
            <a:ext cx="3863880" cy="3889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643280" y="2681280"/>
            <a:ext cx="4005360" cy="3800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lus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77760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елосипед- очень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удоб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и распространён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ид транспорта для передвижения, особенно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сельской местност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Езда на велосипеде доступн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для лиц самого различного возраст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211640" cy="16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4608360" cy="178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4000" y="3860640"/>
            <a:ext cx="1353960" cy="264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64000" y="5340240"/>
            <a:ext cx="3544920" cy="151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468360" y="1700280"/>
            <a:ext cx="2884320" cy="1652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Вот они какие разные и предназначение у них разно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Велосипед- 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опасный</a:t>
            </a:r>
            <a:r>
              <a:rPr b="0" i="1" lang="en-US" sz="4000" spc="-1" strike="noStrike">
                <a:solidFill>
                  <a:srgbClr val="000066"/>
                </a:solidFill>
                <a:latin typeface="Arial"/>
              </a:rPr>
              <a:t> вид транспорт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79a4"/>
                </a:solidFill>
                <a:uFillTx/>
                <a:latin typeface="Arial"/>
              </a:rPr>
              <a:t>Почти все ребята умеют ездить на велосипедах. Но многие думают так: сел в седло, держи руль и крути педали — вот и все правила! Нет, это не так. Во-первых, не каждому можно ездить по дорога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"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302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122640" y="577080"/>
            <a:ext cx="5770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помните правила: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1.HE ВЫЕЗЖАЙ НА ВЕЛОСИПЕДЕ НА ДОРОГУ, ЕСЛИ ТЕБЕ НЕТ 14 ЛЕТ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2. НЕЛЬЗЯ ЕЗДИТЬ НА ВЕЛОСИПЕДЕ ПО ТРОТУАРАМ!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Детям до 14 лет можно ездить на велосипедах во дворах, на школьных площадках и стадионах, по дорожкам детских автогородков в школах и пар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3.С помощью взрослых приведите свой велосипед в порядок, отремонтируйте его ходовую часть, надёжно закрепите седло и руль , проверьте исправлен   ли тормоз .установите звон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4.НЕЛЬЗЯ ЕЗДИТЬ вдвоём на одноместном  велосип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5.Запрещено также перевозить на велосипеде громоздкие предме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6.НЕЛЬЗЯ ПОВОРАЧИВАТЬ НАЛЕВО ИЛИ РАЗВОРАЧИВАТЬСЯ С УЛИЦ, ПО КОТОРЫМ ДВИЖЕНИЕ ВОЗМОЖНО В НЕСКОЛЬКО РЯДОВ, ИЛИ С УЛИЦ С ТРАМВАЙНЫМ ДВИЖ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">
    <p:push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ОПАСНО ДЛЯ ЖИЗН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203640" y="981000"/>
            <a:ext cx="2833560" cy="212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156360" y="98100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79280" y="3757680"/>
            <a:ext cx="3024360" cy="2173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276720" y="370368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300720" y="3699000"/>
            <a:ext cx="25923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87680" y="3068640"/>
            <a:ext cx="58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вторять не рекомендуе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6093000"/>
            <a:ext cx="58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жалейт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ебя, родных и близких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7:30:39Z</dcterms:created>
  <dc:creator>Admin</dc:creator>
  <dc:description/>
  <dc:language>en-US</dc:language>
  <cp:lastModifiedBy>Admin</cp:lastModifiedBy>
  <dcterms:modified xsi:type="dcterms:W3CDTF">2009-04-29T18:45:57Z</dcterms:modified>
  <cp:revision>3</cp:revision>
  <dc:subject/>
  <dc:title>ПДД </dc:title>
</cp:coreProperties>
</file>