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FA25-3232-44C6-8F5B-6B8442214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B3A3-6EED-46DC-9CFB-8E374E019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162B-F8EB-4D9D-9BBB-71EAB3D41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4FA5-38D1-4B56-A05E-461617122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FE4E3-244C-424F-A091-34758D4EB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C8C97-9877-49DE-8D74-29E2F3A6D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5CCAB-BCC5-4543-99CC-7D87D5FE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D9A39-ACA7-4917-8C65-A6BCA45A6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F4D0C-7F91-4FAA-83DC-875F5C3CB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18F43-AC07-4077-B96D-3FEFF9495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E0D8A-5415-450A-B65F-B5625454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8758-C707-481A-94A1-3ACD63559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E10F0-EB5C-40A2-86C0-F538296F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70020-D19D-43F4-9CF9-115D3C82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5D387-9C7F-4674-9E51-5567A2946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CF638-EA82-499C-BF7A-DDEBDD803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1D0BF-FF8B-49FB-8C8A-F3B4EAA4A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0399-10F7-4291-AA42-53F4DA5B4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7A00-5A7F-479A-8B25-87CD90F07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5993-AD26-4373-B3CB-00BD2D4B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B127-918C-43B2-8C4A-F9A804BC8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5722-FEE8-4A13-A862-A2440C2B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3481-9E9F-4BE6-A8C5-68C2AA6F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6622-8505-473C-AF80-64B8A694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86709-CDF8-4946-991F-002D2827AA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F800F-82B1-48D7-92F1-03B72269FD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150948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ПДД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763640" y="2349000"/>
            <a:ext cx="640872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"/>
              </a:rPr>
              <a:t>ПРАВИЛА ДЛЯ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66"/>
                </a:solidFill>
                <a:latin typeface="Arial"/>
              </a:rPr>
              <a:t>ВЕЛОСИПЕДИСТО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633400" y="907920"/>
            <a:ext cx="4767840" cy="8254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МОУ СОШ с.СТАРАЯ КАМЕН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Пензенского райо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56000" y="508464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Учител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ru-RU" sz="3600" spc="-1" strike="noStrike">
                <a:solidFill>
                  <a:srgbClr val="000066"/>
                </a:solidFill>
                <a:latin typeface="Arial"/>
              </a:rPr>
              <a:t>Лане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Arial"/>
              </a:rPr>
              <a:t>Екатерина Артуровн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5000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8136000" cy="18730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24000" y="2421000"/>
            <a:ext cx="4824360" cy="29685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140360" y="4797360"/>
            <a:ext cx="5003640" cy="206064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pull dir="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619280" y="333360"/>
            <a:ext cx="6264360" cy="2205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250920" y="2637000"/>
            <a:ext cx="3863880" cy="3889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4643280" y="2681280"/>
            <a:ext cx="4005360" cy="380052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plus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24000" y="777600"/>
            <a:ext cx="8424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66"/>
                </a:solidFill>
                <a:latin typeface="Arial"/>
              </a:rPr>
              <a:t>Велосипед- очень </a:t>
            </a:r>
            <a:r>
              <a:rPr b="1" i="1" lang="en-US" sz="4000" spc="-1" strike="noStrike">
                <a:solidFill>
                  <a:srgbClr val="000066"/>
                </a:solidFill>
                <a:latin typeface="Arial"/>
              </a:rPr>
              <a:t>удобны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000066"/>
                </a:solidFill>
                <a:latin typeface="Arial"/>
              </a:rPr>
              <a:t>и распространённы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000066"/>
                </a:solidFill>
                <a:latin typeface="Arial"/>
              </a:rPr>
              <a:t>вид транспорта для передвижения, особенно в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66"/>
                </a:solidFill>
                <a:latin typeface="Arial"/>
              </a:rPr>
              <a:t>сельской местности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66"/>
                </a:solidFill>
                <a:latin typeface="Arial"/>
              </a:rPr>
              <a:t>Езда на велосипеде доступн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66"/>
                </a:solidFill>
                <a:latin typeface="Arial"/>
              </a:rPr>
              <a:t>для лиц самого различного возраста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5000">
    <p:push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43280" y="1700280"/>
            <a:ext cx="4211640" cy="1658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979640" y="3429000"/>
            <a:ext cx="4608360" cy="1782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24000" y="3860640"/>
            <a:ext cx="1353960" cy="26402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5364000" y="5340240"/>
            <a:ext cx="3544920" cy="15177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468360" y="1700280"/>
            <a:ext cx="2884320" cy="16524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Вот они какие разные и предназначение у них разное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5000">
    <p:push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66"/>
                </a:solidFill>
                <a:latin typeface="Arial"/>
              </a:rPr>
              <a:t>Велосипед- </a:t>
            </a:r>
            <a:r>
              <a:rPr b="1" i="1" lang="en-US" sz="4000" spc="-1" strike="noStrike">
                <a:solidFill>
                  <a:srgbClr val="000066"/>
                </a:solidFill>
                <a:latin typeface="Arial"/>
              </a:rPr>
              <a:t>опасный</a:t>
            </a:r>
            <a:r>
              <a:rPr b="0" i="1" lang="en-US" sz="4000" spc="-1" strike="noStrike">
                <a:solidFill>
                  <a:srgbClr val="000066"/>
                </a:solidFill>
                <a:latin typeface="Arial"/>
              </a:rPr>
              <a:t> вид транспорта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79a4"/>
                </a:solidFill>
                <a:uFillTx/>
                <a:latin typeface="Arial"/>
              </a:rPr>
              <a:t>Почти все ребята умеют ездить на велосипедах. Но многие думают так: сел в седло, держи руль и крути педали — вот и все правила! Нет, это не так. Во-первых, не каждому можно ездить по дорогам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30000">
    <p:push dir="r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273024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122640" y="577080"/>
            <a:ext cx="57704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Запомните правила: </a:t>
            </a: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1.HE ВЫЕЗЖАЙ НА ВЕЛОСИПЕДЕ НА ДОРОГУ, ЕСЛИ ТЕБЕ НЕТ 14 ЛЕТ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2. НЕЛЬЗЯ ЕЗДИТЬ НА ВЕЛОСИПЕДЕ ПО ТРОТУАРАМ!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Детям до 14 лет можно ездить на велосипедах во дворах, на школьных площадках и стадионах, по дорожкам детских автогородков в школах и парк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3.С помощью взрослых приведите свой велосипед в порядок, отремонтируйте его ходовую часть, надёжно закрепите седло и руль , проверьте исправлен   ли тормоз .установите звоно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4.НЕЛЬЗЯ ЕЗДИТЬ вдвоём на одноместном  велосипед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5.Запрещено также перевозить на велосипеде громоздкие предмет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6.НЕЛЬЗЯ ПОВОРАЧИВАТЬ НАЛЕВО ИЛИ РАЗВОРАЧИВАТЬСЯ С УЛИЦ, ПО КОТОРЫМ ДВИЖЕНИЕ ВОЗМОЖНО В НЕСКОЛЬКО РЯДОВ, ИЛИ С УЛИЦ С ТРАМВАЙНЫМ ДВИЖЕНИ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30000">
    <p:push dir="r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ОПАСНО ДЛЯ ЖИЗНИ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50920" y="981000"/>
            <a:ext cx="2808360" cy="2106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3203640" y="981000"/>
            <a:ext cx="2833560" cy="2125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6156360" y="981000"/>
            <a:ext cx="2736720" cy="20541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179280" y="3757680"/>
            <a:ext cx="3024360" cy="21733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3276720" y="3703680"/>
            <a:ext cx="2950920" cy="2212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6300720" y="3699000"/>
            <a:ext cx="2592360" cy="21891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687680" y="3068640"/>
            <a:ext cx="589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Повторять не рекомендуем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24000" y="6093000"/>
            <a:ext cx="58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Пожалейте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себя, родных и близких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5000">
    <p:push dir="r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9T17:30:39Z</dcterms:created>
  <dc:creator>Admin</dc:creator>
  <dc:description/>
  <dc:language>en-US</dc:language>
  <cp:lastModifiedBy>Admin</cp:lastModifiedBy>
  <dcterms:modified xsi:type="dcterms:W3CDTF">2009-04-29T18:45:57Z</dcterms:modified>
  <cp:revision>3</cp:revision>
  <dc:subject/>
  <dc:title>ПДД </dc:title>
</cp:coreProperties>
</file>