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9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16.png" ContentType="image/png"/>
  <Override PartName="/ppt/media/image20.gif" ContentType="image/gif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24.png" ContentType="image/png"/>
  <Override PartName="/ppt/media/image1.png" ContentType="image/png"/>
  <Override PartName="/ppt/media/image21.gif" ContentType="image/gif"/>
  <Override PartName="/ppt/media/image23.gif" ContentType="image/gif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457-0F8F-4746-A71C-C320151D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A0E2-091F-4E93-A0FD-56FF137C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C8C-8D0C-412E-8712-1AAF1096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64D-66A0-47F2-A78C-FAD189E0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05A-8438-4B5C-A533-26E2647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EAC-600C-4B0A-B44F-0D0B1673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D0D-A062-4695-BD00-7579199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C9E-067B-43DB-A2F6-E203A1EB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336-8824-4D03-BCB1-AB149C4A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746-E6CA-4834-B117-99205852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7E1-FA5F-4D3A-A741-48300BF5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0CB-CB39-4359-BB5D-E2B3F4F2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F576-8681-4100-BF3F-D1AA7BE00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262080" y="1085760"/>
            <a:ext cx="8766000" cy="15843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2182680" y="4578480"/>
            <a:ext cx="59976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403848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рутой берег может быть хорошей горкой. Но прежде чем съехать с неё, вспомни о том, что санки – это не лодка, а твои лыжи не во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неизвестное фото 009"/>
          <p:cNvPicPr/>
          <p:nvPr/>
        </p:nvPicPr>
        <p:blipFill>
          <a:blip r:embed="rId1"/>
          <a:stretch/>
        </p:blipFill>
        <p:spPr>
          <a:xfrm>
            <a:off x="3851280" y="1197000"/>
            <a:ext cx="50785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днажды в холодную, зимнюю п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из лесу вышел. Был сильны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ляжу, опускается медленно в прору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ой-то детина…торчит только н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начала я принял его за мор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Спасите!»- вдруг крикнул детина, дро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62064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дняга, наверно, он шёл на рыба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друг угодил в полынью с гол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я протянул ему лыжную пал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вскоре он выбрался, полу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 что вам ещё рассказать про дети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реке распугал он всех раков и ры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то воспаленье поймал и анг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студу и насморк, и кашель, и грипп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то делать, если ты провалился под лё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виться от тяжёлых, сковывающих движение вещ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ться на лёд в местах, где произошло па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ерять времени на освобождение от одежды, т.к. в первые минуты, до полного намокания она удерживает человека на поверх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ться найти опору на ль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зать на лёд, перекатываясь со спины на живо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аляться от полыньи ползком по собственным сле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 помочь пострадавш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попутчик должен лечь на лёд с раскинутыми в сторону руками и ногами и ползком продвигаться к вам на расстояние, позволяющее подать палку, шест или бросить конец шарфа, ремень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отползти назад и постепенно вытаскивать вас на крепкий л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неизвестное фото 011"/>
          <p:cNvPicPr/>
          <p:nvPr/>
        </p:nvPicPr>
        <p:blipFill>
          <a:blip r:embed="rId1"/>
          <a:stretch/>
        </p:blipFill>
        <p:spPr>
          <a:xfrm>
            <a:off x="4643280" y="2462040"/>
            <a:ext cx="43214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неизвестное фото 010"/>
          <p:cNvPicPr/>
          <p:nvPr/>
        </p:nvPicPr>
        <p:blipFill>
          <a:blip r:embed="rId1"/>
          <a:stretch/>
        </p:blipFill>
        <p:spPr>
          <a:xfrm>
            <a:off x="3857760" y="1500120"/>
            <a:ext cx="4932360" cy="4210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773360"/>
            <a:ext cx="375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 ходи один по ль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жешь ты попасть в бед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лунку или в полын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загубишь жизнь св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b0ba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авила безопасного поведения при проведении новогодней ё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hrist"/>
          <p:cNvPicPr/>
          <p:nvPr/>
        </p:nvPicPr>
        <p:blipFill>
          <a:blip r:embed="rId1"/>
          <a:stretch/>
        </p:blipFill>
        <p:spPr>
          <a:xfrm>
            <a:off x="2168640" y="1413000"/>
            <a:ext cx="47116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о время проведения новогодней ёлки запрещается приносить с собой бенгальские огни, , петарды, хлоп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прещается использовать хлопушки, бенгальские огни  вблизи ё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14"/>
          <p:cNvPicPr/>
          <p:nvPr/>
        </p:nvPicPr>
        <p:blipFill>
          <a:blip r:embed="rId1"/>
          <a:stretch/>
        </p:blipFill>
        <p:spPr>
          <a:xfrm>
            <a:off x="4356000" y="1417680"/>
            <a:ext cx="446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b6c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newy41"/>
          <p:cNvPicPr/>
          <p:nvPr/>
        </p:nvPicPr>
        <p:blipFill>
          <a:blip r:embed="rId1"/>
          <a:stretch/>
        </p:blipFill>
        <p:spPr>
          <a:xfrm>
            <a:off x="5508720" y="1628640"/>
            <a:ext cx="3166920" cy="2872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95280" y="549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Любые пиротехнические изделия сами по себе представляют огромную опас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жары от неправильного применения пиротехнических изделий уносят жизни сотен людей и уничтожают дома, кварти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Хлопушки, бенгальские огни, фейерверки и свечи зажигайте только вдали от ёлки, занавесей, других горючих предметов и детей, одетых в новогодние костю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newy34"/>
          <p:cNvPicPr/>
          <p:nvPr/>
        </p:nvPicPr>
        <p:blipFill>
          <a:blip r:embed="rId1"/>
          <a:stretch/>
        </p:blipFill>
        <p:spPr>
          <a:xfrm>
            <a:off x="4716360" y="981000"/>
            <a:ext cx="395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395280" y="2349360"/>
            <a:ext cx="8062920" cy="15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авила безопасного по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c4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сли во время новогоднего праздника у вас на ёлке загорелась гирлянда – не панику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обходимо обесточить гирлянду, выдернув сетевую вилку из роз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3m4"/>
          <p:cNvPicPr/>
          <p:nvPr/>
        </p:nvPicPr>
        <p:blipFill>
          <a:blip r:embed="rId1"/>
          <a:stretch/>
        </p:blipFill>
        <p:spPr>
          <a:xfrm rot="1564200">
            <a:off x="4201920" y="1800000"/>
            <a:ext cx="4599000" cy="14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i-lights-left-29x120"/>
          <p:cNvPicPr/>
          <p:nvPr/>
        </p:nvPicPr>
        <p:blipFill>
          <a:blip r:embed="rId2"/>
          <a:stretch/>
        </p:blipFill>
        <p:spPr>
          <a:xfrm rot="5400000">
            <a:off x="6466320" y="3695040"/>
            <a:ext cx="747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410364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горении опасен ядовитый дым, поэтому покидая помещение необходимо дышать через тк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ри эвакуации из помещения не толкаться, не создавать пробки в двер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Рисунок1"/>
          <p:cNvPicPr/>
          <p:nvPr/>
        </p:nvPicPr>
        <p:blipFill>
          <a:blip r:embed="rId1"/>
          <a:stretch/>
        </p:blipFill>
        <p:spPr>
          <a:xfrm>
            <a:off x="5364000" y="1844640"/>
            <a:ext cx="2870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 горении элементов ёлки опасен ядовитый д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m5"/>
          <p:cNvPicPr/>
          <p:nvPr/>
        </p:nvPicPr>
        <p:blipFill>
          <a:blip r:embed="rId1"/>
          <a:stretch/>
        </p:blipFill>
        <p:spPr>
          <a:xfrm>
            <a:off x="4643280" y="1428840"/>
            <a:ext cx="4248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0cb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апомнить и взрослым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Чаще в пожарах гибнут от дым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исунок1"/>
          <p:cNvPicPr/>
          <p:nvPr/>
        </p:nvPicPr>
        <p:blipFill>
          <a:blip r:embed="rId1"/>
          <a:stretch/>
        </p:blipFill>
        <p:spPr>
          <a:xfrm>
            <a:off x="5184720" y="549360"/>
            <a:ext cx="3195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c6d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 возникновении    пожара немедленно сообщить в пожарную охрану по телефон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01».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Рисунок2О"/>
          <p:cNvPicPr/>
          <p:nvPr/>
        </p:nvPicPr>
        <p:blipFill>
          <a:blip r:embed="rId1"/>
          <a:stretch/>
        </p:blipFill>
        <p:spPr>
          <a:xfrm>
            <a:off x="4336920" y="1413000"/>
            <a:ext cx="4349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и в коем случае не зажигай фейерверки, свечи или бенгальские огни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(и вообще лучше это делать только со взрослым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9r2"/>
          <p:cNvPicPr/>
          <p:nvPr/>
        </p:nvPicPr>
        <p:blipFill>
          <a:blip r:embed="rId1"/>
          <a:stretch/>
        </p:blipFill>
        <p:spPr>
          <a:xfrm rot="20881800">
            <a:off x="5110200" y="1356840"/>
            <a:ext cx="4033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c1ce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Text_4"/>
          <p:cNvPicPr/>
          <p:nvPr/>
        </p:nvPicPr>
        <p:blipFill>
          <a:blip r:embed="rId1"/>
          <a:stretch/>
        </p:blipFill>
        <p:spPr>
          <a:xfrm>
            <a:off x="2119320" y="484200"/>
            <a:ext cx="4905360" cy="723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newy39"/>
          <p:cNvPicPr/>
          <p:nvPr/>
        </p:nvPicPr>
        <p:blipFill>
          <a:blip r:embed="rId2"/>
          <a:stretch/>
        </p:blipFill>
        <p:spPr>
          <a:xfrm>
            <a:off x="2335320" y="1773360"/>
            <a:ext cx="3316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6"/>
          <p:cNvSpPr txBox="1"/>
          <p:nvPr/>
        </p:nvSpPr>
        <p:spPr>
          <a:xfrm>
            <a:off x="684360" y="1557360"/>
            <a:ext cx="799308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збежать опасной криминогенной ситуации.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ведение на ули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909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Избегайте прогулок в одиночестве в вечернее время и малолюдны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  Для передвижения выбирайте оживлённые и хорошо освещённые у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1" descr="Безымянный"/>
          <p:cNvPicPr/>
          <p:nvPr/>
        </p:nvPicPr>
        <p:blipFill>
          <a:blip r:embed="rId1"/>
          <a:stretch/>
        </p:blipFill>
        <p:spPr>
          <a:xfrm>
            <a:off x="5003640" y="1268280"/>
            <a:ext cx="3737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арайтесь не привлекать к себе внимание дорогими украш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держите в руках мобильные телефоны, если в этом нет необ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бирайте маршрут не короткий, а безоп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by23"/>
          <p:cNvPicPr/>
          <p:nvPr/>
        </p:nvPicPr>
        <p:blipFill>
          <a:blip r:embed="rId1"/>
          <a:stretch/>
        </p:blipFill>
        <p:spPr>
          <a:xfrm>
            <a:off x="6086520" y="1484280"/>
            <a:ext cx="2317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d22e"/>
            </a:gs>
            <a:gs pos="100000">
              <a:srgbClr val="b434b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5"/>
          <p:cNvSpPr txBox="1"/>
          <p:nvPr/>
        </p:nvSpPr>
        <p:spPr>
          <a:xfrm>
            <a:off x="755640" y="189000"/>
            <a:ext cx="6553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сть на ль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17" descr="неизвестное фото 006"/>
          <p:cNvPicPr/>
          <p:nvPr/>
        </p:nvPicPr>
        <p:blipFill>
          <a:blip r:embed="rId1"/>
          <a:stretch/>
        </p:blipFill>
        <p:spPr>
          <a:xfrm>
            <a:off x="2700360" y="2565360"/>
            <a:ext cx="3421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икогда и ни при каких обстоятельствах не садитесь в машину к незнакомым и малознакомым людям и не заходите в чужие дома и квартиры, даже если вас об этом будут убедительно прос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ходя к подъезду или дому будь максимально внимате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сли вы столкнулись с преступнико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тарайтесь запомнить его словесный портрет: во что одет, цвет глаз, шра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первому требованию грабителя отдать деньги, ц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вступать в пререкания, не отвечать на вызывающее повед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оворить спокойно и медленно, уверенно в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знь и здоровье дороже любой ве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ель – выпутаться из неприятностей, а не победить в схват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45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ледуйте принципам безопасного пове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двидеть опасн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возможности избегать е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 необходимости – действовать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Рисунок6"/>
          <p:cNvPicPr/>
          <p:nvPr/>
        </p:nvPicPr>
        <p:blipFill>
          <a:blip r:embed="rId1"/>
          <a:srcRect l="0" t="0" r="0" b="-22"/>
          <a:stretch/>
        </p:blipFill>
        <p:spPr>
          <a:xfrm>
            <a:off x="3929040" y="2000160"/>
            <a:ext cx="48974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9"/>
          <p:cNvSpPr txBox="1"/>
          <p:nvPr/>
        </p:nvSpPr>
        <p:spPr>
          <a:xfrm>
            <a:off x="755640" y="1341360"/>
            <a:ext cx="7561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лавная опасность на реке или пруду зимой – это непрочный и тонкий лёд. Поэтому избегай мест, где лёд может быть тонк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обы не провалиться под лёд, следует учиты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выходить на лёд с палкой в ру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ходить по льду во время оттепели, в одиночку, в темноте, с большим груз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ти по льду большой группе людей можно лишь при толщине льда в 7-9 см, причём каждый человек должен идти на расстоянии 5-6 м друг от дру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рыгать на льду и топать, проверяя его прочность, особенно возле берега, где движение воды истончает лё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икогда не ходи по льду один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14360" y="1571400"/>
            <a:ext cx="6329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Человек!  Ты – не пинг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Не гуляй один средь льди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неизвестное фото 007"/>
          <p:cNvPicPr/>
          <p:nvPr/>
        </p:nvPicPr>
        <p:blipFill>
          <a:blip r:embed="rId1"/>
          <a:stretch/>
        </p:blipFill>
        <p:spPr>
          <a:xfrm>
            <a:off x="2268360" y="3284640"/>
            <a:ext cx="56898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онким и хрупким лёд может быть в тех местах, где впадают ручьи или бьют ключи, рядом с кустами и камышами, на середине водоём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тех местах, где бьют ключ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бегут к реке ручьи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ли где стоит завод–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й, что там непрочен л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неизвестное фото 008"/>
          <p:cNvPicPr/>
          <p:nvPr/>
        </p:nvPicPr>
        <p:blipFill>
          <a:blip r:embed="rId1"/>
          <a:stretch/>
        </p:blipFill>
        <p:spPr>
          <a:xfrm>
            <a:off x="3348000" y="2492280"/>
            <a:ext cx="554508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Лучше будет, если ты возьмёшь с собой крепкую палку и будешь с её помощью проверять прочность льда перед собой. Если после удара палкой о лёд появится вода, нужно сразу же возвращаться к бере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07:34Z</dcterms:created>
  <dc:creator>MICHAEL</dc:creator>
  <dc:description/>
  <dc:language>en-US</dc:language>
  <cp:lastModifiedBy>Николай</cp:lastModifiedBy>
  <dcterms:modified xsi:type="dcterms:W3CDTF">2013-07-01T10:19:07Z</dcterms:modified>
  <cp:revision>13</cp:revision>
  <dc:subject/>
  <dc:title>Поведение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19000000000001024140</vt:lpwstr>
  </property>
</Properties>
</file>