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16.png" ContentType="image/png"/>
  <Override PartName="/ppt/media/image20.gif" ContentType="image/gif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24.png" ContentType="image/png"/>
  <Override PartName="/ppt/media/image1.png" ContentType="image/png"/>
  <Override PartName="/ppt/media/image21.gif" ContentType="image/gif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E6F-9E94-4EB5-87CA-A3DEEA5C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8F7-567B-4C3B-AA81-AAB021A8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CE5-D90C-4FE9-A907-2F41C139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79B-A3D9-49DD-A769-1E741E16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BE8-2F2F-4E62-828F-AAD9C3DF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7AA-AFA6-4C7C-8C0E-F67A7DA9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816-D32E-4E2F-BA14-CFF6CF4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44F-FD3A-4B3F-9AE0-5725F757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5ED-8350-42C8-A47E-6953B11E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894-E9ED-4D98-933F-206C2454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819-86FD-4753-B0BE-BA2CF94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FB0-229B-4F44-B537-BEA5C33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4733-39BC-4409-81B8-146160265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62080" y="1085760"/>
            <a:ext cx="8766000" cy="15843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2182680" y="4578480"/>
            <a:ext cx="59976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403848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утой берег может быть хорошей горкой. Но прежде чем съехать с неё, вспомни о том, что санки – это не лодка, а твои лыжи не во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неизвестное фото 009"/>
          <p:cNvPicPr/>
          <p:nvPr/>
        </p:nvPicPr>
        <p:blipFill>
          <a:blip r:embed="rId1"/>
          <a:stretch/>
        </p:blipFill>
        <p:spPr>
          <a:xfrm>
            <a:off x="3851280" y="1197000"/>
            <a:ext cx="50785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днажды в холодную, зимнюю п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из лесу вышел. Был сильны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ляжу, опускается медленно в прору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ой-то детина…торчит только н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начала я принял его за мор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Спасите!»- вдруг крикнул детина, дро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62064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дняга, наверно, он шёл на рыба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друг угодил в полынью с гол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я протянул ему лыжную пал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скоре он выбрался, полу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 что вам ещё рассказать про дет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реке распугал он всех раков и ры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то воспаленье поймал и анг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студу и насморк, и кашель, и грипп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то делать, если ты провалился под лё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виться от тяжёлых, сковывающих движение вещ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ся на лёд в местах, где произошло па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ерять времени на освобождение от одежды, т.к. в первые минуты, до полного намокания она удерживает человека на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ться найти опору на ль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зать на лёд, перекатываясь со спины на жив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ся от полыньи ползком по собственным сле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 помочь пострадавш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попутчик должен лечь на лёд с раскинутыми в сторону руками и ногами и ползком продвигаться к вам на расстояние, позволяющее подать палку, шест или бросить конец шарфа, ремень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отползти назад и постепенно вытаскивать вас на крепкий л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неизвестное фото 011"/>
          <p:cNvPicPr/>
          <p:nvPr/>
        </p:nvPicPr>
        <p:blipFill>
          <a:blip r:embed="rId1"/>
          <a:stretch/>
        </p:blipFill>
        <p:spPr>
          <a:xfrm>
            <a:off x="4643280" y="2462040"/>
            <a:ext cx="43214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неизвестное фото 010"/>
          <p:cNvPicPr/>
          <p:nvPr/>
        </p:nvPicPr>
        <p:blipFill>
          <a:blip r:embed="rId1"/>
          <a:stretch/>
        </p:blipFill>
        <p:spPr>
          <a:xfrm>
            <a:off x="3857760" y="1500120"/>
            <a:ext cx="4932360" cy="4210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773360"/>
            <a:ext cx="375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 ходи один по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жешь ты попасть в бед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лунку или в полын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загубишь жизнь св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hrist"/>
          <p:cNvPicPr/>
          <p:nvPr/>
        </p:nvPicPr>
        <p:blipFill>
          <a:blip r:embed="rId1"/>
          <a:stretch/>
        </p:blipFill>
        <p:spPr>
          <a:xfrm>
            <a:off x="2168640" y="1413000"/>
            <a:ext cx="47116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бенгальские огни, , петарды, хлоп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прещается использовать хлопушки, бенгальские огни  вблизи ё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жары от неправильного применения пиротехнических изделий уносят жизни сотен людей и уничтожают дома, кварти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 и дет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395280" y="2349360"/>
            <a:ext cx="80629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безопасного по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410364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горении опасен ядовитый дым, поэтому покидая помещение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эвакуации из помещения не толкаться, не создавать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апомнить и взрослым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 возникновении    пожара немедленно сообщить в пожарную охрану по телефон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01».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и в коем случае не зажигай фейерверки, свечи или бенгальские огни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(и вообще лучше это делать только со взрослы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6"/>
          <p:cNvSpPr txBox="1"/>
          <p:nvPr/>
        </p:nvSpPr>
        <p:spPr>
          <a:xfrm>
            <a:off x="684360" y="1557360"/>
            <a:ext cx="79930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збежать опасной криминогенной ситуации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ведение на ули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909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Избегайте прогулок в одиночестве в вечернее время и малолюдны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Для передвижения выбирайте оживлённые и хорошо освещённые у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1" descr="Безымянный"/>
          <p:cNvPicPr/>
          <p:nvPr/>
        </p:nvPicPr>
        <p:blipFill>
          <a:blip r:embed="rId1"/>
          <a:stretch/>
        </p:blipFill>
        <p:spPr>
          <a:xfrm>
            <a:off x="5003640" y="1268280"/>
            <a:ext cx="3737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райтесь не привлекать к себе внимание дорогими укра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держите в руках мобильные телефоны, если в этом нет необ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бирайте маршрут не короткий, а безоп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by23"/>
          <p:cNvPicPr/>
          <p:nvPr/>
        </p:nvPicPr>
        <p:blipFill>
          <a:blip r:embed="rId1"/>
          <a:stretch/>
        </p:blipFill>
        <p:spPr>
          <a:xfrm>
            <a:off x="6086520" y="1484280"/>
            <a:ext cx="2317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5"/>
          <p:cNvSpPr txBox="1"/>
          <p:nvPr/>
        </p:nvSpPr>
        <p:spPr>
          <a:xfrm>
            <a:off x="755640" y="18900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сть на ль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17" descr="неизвестное фото 006"/>
          <p:cNvPicPr/>
          <p:nvPr/>
        </p:nvPicPr>
        <p:blipFill>
          <a:blip r:embed="rId1"/>
          <a:stretch/>
        </p:blipFill>
        <p:spPr>
          <a:xfrm>
            <a:off x="2700360" y="2565360"/>
            <a:ext cx="3421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икогда и ни при каких обстоятельствах не садитесь в машину к незнакомым и малознакомым людям и не заходите в чужие дома и квартиры, даже если вас об этом будут убедительно про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ходя к подъезду или дому будь максимально внимате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сли вы столкнулись с преступни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тарайтесь запомнить его словесный портрет: во что одет, цвет глаз, шр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первому требованию грабителя отдать деньги, ц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вступать в пререкания, не отвечать на вызывающее пове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ворить спокойно и медленно, уверенно в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знь и здоровье дороже любой ве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ь – выпутаться из неприятностей, а не победить в схват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45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ледуйте принципам безопасного пове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двидеть опасн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возможности избегать е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 необходимости – действоват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Рисунок6"/>
          <p:cNvPicPr/>
          <p:nvPr/>
        </p:nvPicPr>
        <p:blipFill>
          <a:blip r:embed="rId1"/>
          <a:srcRect l="0" t="0" r="0" b="-22"/>
          <a:stretch/>
        </p:blipFill>
        <p:spPr>
          <a:xfrm>
            <a:off x="3929040" y="2000160"/>
            <a:ext cx="48974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9"/>
          <p:cNvSpPr txBox="1"/>
          <p:nvPr/>
        </p:nvSpPr>
        <p:spPr>
          <a:xfrm>
            <a:off x="755640" y="1341360"/>
            <a:ext cx="7561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авная опасность на реке или пруду зимой – это непрочный и тонкий лёд. Поэтому избегай мест, где лёд может быть тонк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обы не провалиться под лёд, следует учиты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выходить на лёд с палкой в ру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ходить по льду во время оттепели, в одиночку, в темноте, с большим груз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ти по льду большой группе людей можно лишь при толщине льда в 7-9 см, причём каждый человек должен идти на расстоянии 5-6 м друг от дру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рыгать на льду и топать, проверяя его прочность, особенно возле берега, где движение воды истончает лё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икогда не ходи по льду один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14360" y="1571400"/>
            <a:ext cx="6329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Человек!  Ты – не пинг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Не гуляй один средь льди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неизвестное фото 007"/>
          <p:cNvPicPr/>
          <p:nvPr/>
        </p:nvPicPr>
        <p:blipFill>
          <a:blip r:embed="rId1"/>
          <a:stretch/>
        </p:blipFill>
        <p:spPr>
          <a:xfrm>
            <a:off x="2268360" y="3284640"/>
            <a:ext cx="5689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онким и хрупким лёд может быть в тех местах, где впадают ручьи или бьют ключи, рядом с кустами и камышами, на середине водоём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тех местах, где бьют ключ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бегут к реке ручь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ли где стоит завод–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й, что там непрочен л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неизвестное фото 008"/>
          <p:cNvPicPr/>
          <p:nvPr/>
        </p:nvPicPr>
        <p:blipFill>
          <a:blip r:embed="rId1"/>
          <a:stretch/>
        </p:blipFill>
        <p:spPr>
          <a:xfrm>
            <a:off x="3348000" y="2492280"/>
            <a:ext cx="55450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Лучше будет, если ты возьмёшь с собой крепкую палку и будешь с её помощью проверять прочность льда перед собой. Если после удара палкой о лёд появится вода, нужно сразу же возвращаться к бере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Николай</cp:lastModifiedBy>
  <dcterms:modified xsi:type="dcterms:W3CDTF">2013-07-01T10:19:07Z</dcterms:modified>
  <cp:revision>13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