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0.gif" ContentType="image/gif"/>
  <Override PartName="/ppt/media/image9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13.gif" ContentType="image/gif"/>
  <Override PartName="/ppt/media/image16.png" ContentType="image/png"/>
  <Override PartName="/ppt/media/image20.gif" ContentType="image/gif"/>
  <Override PartName="/ppt/media/image19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24.png" ContentType="image/png"/>
  <Override PartName="/ppt/media/image1.png" ContentType="image/png"/>
  <Override PartName="/ppt/media/image21.gif" ContentType="image/gif"/>
  <Override PartName="/ppt/media/image23.gif" ContentType="image/gif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A77-85CA-4CB1-8516-6E464AAE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4509-01E8-4465-9F28-79472ED9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C00F-0C42-4D47-8264-50873123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2E4D-DD5B-4778-9FFF-DD77B7CC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72CE-9AD5-4EF0-A5DE-74E4F7A1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983-F056-4CF0-B98E-017CA68D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70FA-A275-4C46-8FB8-0E37B5C6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BE5-63F2-4F66-8539-6A005D86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345F-636D-498B-A65C-2F1AB214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A4B4-C473-4437-B552-07E93D00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C8D-4673-46D3-8C73-CC2DEF45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CA97-3840-40FC-9B35-090121BD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d22e"/>
            </a:gs>
            <a:gs pos="100000">
              <a:srgbClr val="b434b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0E3A-416C-4E28-80C0-0EA4B06F90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262080" y="1085760"/>
            <a:ext cx="8766000" cy="15843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2"/>
          <a:stretch/>
        </p:blipFill>
        <p:spPr>
          <a:xfrm>
            <a:off x="2182680" y="4578480"/>
            <a:ext cx="599760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403848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рутой берег может быть хорошей горкой. Но прежде чем съехать с неё, вспомни о том, что санки – это не лодка, а твои лыжи не вод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неизвестное фото 009"/>
          <p:cNvPicPr/>
          <p:nvPr/>
        </p:nvPicPr>
        <p:blipFill>
          <a:blip r:embed="rId1"/>
          <a:stretch/>
        </p:blipFill>
        <p:spPr>
          <a:xfrm>
            <a:off x="3851280" y="1197000"/>
            <a:ext cx="507852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днажды в холодную, зимнюю п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Я из лесу вышел. Был сильный мор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Гляжу, опускается медленно в проруб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акой-то детина…торчит только н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начала я принял его за морж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«Спасите!»- вдруг крикнул детина, дрож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68360" y="62064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Бедняга, наверно, он шёл на рыбал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вдруг угодил в полынью с голо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я протянул ему лыжную пал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вскоре он выбрался, полу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у что вам ещё рассказать про детин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реке распугал он всех раков и рыб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то воспаленье поймал и ангин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остуду и насморк, и кашель, и грипп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Что делать, если ты провалился под лёд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авиться от тяжёлых, сковывающих движение вещ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ираться на лёд в местах, где произошло па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терять времени на освобождение от одежды, т.к. в первые минуты, до полного намокания она удерживает человека на поверх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ться найти опору на льд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зать на лёд, перекатываясь со спины на живо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яться от полыньи ползком по собственным сле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Как помочь пострадавш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 попутчик должен лечь на лёд с раскинутыми в сторону руками и ногами и ползком продвигаться к вам на расстояние, позволяющее подать палку, шест или бросить конец шарфа, ремень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отползти назад и постепенно вытаскивать вас на крепкий лё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неизвестное фото 011"/>
          <p:cNvPicPr/>
          <p:nvPr/>
        </p:nvPicPr>
        <p:blipFill>
          <a:blip r:embed="rId1"/>
          <a:stretch/>
        </p:blipFill>
        <p:spPr>
          <a:xfrm>
            <a:off x="4643280" y="2462040"/>
            <a:ext cx="43214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неизвестное фото 010"/>
          <p:cNvPicPr/>
          <p:nvPr/>
        </p:nvPicPr>
        <p:blipFill>
          <a:blip r:embed="rId1"/>
          <a:stretch/>
        </p:blipFill>
        <p:spPr>
          <a:xfrm>
            <a:off x="3857760" y="1500120"/>
            <a:ext cx="4932360" cy="4210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773360"/>
            <a:ext cx="375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е ходи один по ль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ожешь ты попасть в беду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лунку или в полынь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 загубишь жизнь св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ab0ba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авила безопасного поведения при проведении новогодней ёл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Christ"/>
          <p:cNvPicPr/>
          <p:nvPr/>
        </p:nvPicPr>
        <p:blipFill>
          <a:blip r:embed="rId1"/>
          <a:stretch/>
        </p:blipFill>
        <p:spPr>
          <a:xfrm>
            <a:off x="2168640" y="1413000"/>
            <a:ext cx="47116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c6d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о время проведения новогодней ёлки запрещается приносить с собой бенгальские огни, , петарды, хлоп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прещается использовать хлопушки, бенгальские огни  вблизи ё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14"/>
          <p:cNvPicPr/>
          <p:nvPr/>
        </p:nvPicPr>
        <p:blipFill>
          <a:blip r:embed="rId1"/>
          <a:stretch/>
        </p:blipFill>
        <p:spPr>
          <a:xfrm>
            <a:off x="4356000" y="1417680"/>
            <a:ext cx="4464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b6c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newy41"/>
          <p:cNvPicPr/>
          <p:nvPr/>
        </p:nvPicPr>
        <p:blipFill>
          <a:blip r:embed="rId1"/>
          <a:stretch/>
        </p:blipFill>
        <p:spPr>
          <a:xfrm>
            <a:off x="5508720" y="1628640"/>
            <a:ext cx="3166920" cy="2872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95280" y="549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юбые пиротехнические изделия сами по себе представляют огромную опас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ожары от неправильного применения пиротехнических изделий уносят жизни сотен людей и уничтожают дома, кварти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Хлопушки, бенгальские огни, фейерверки и свечи зажигайте только вдали от ёлки, занавесей, других горючих предметов и детей, одетых в новогодние костю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newy34"/>
          <p:cNvPicPr/>
          <p:nvPr/>
        </p:nvPicPr>
        <p:blipFill>
          <a:blip r:embed="rId1"/>
          <a:stretch/>
        </p:blipFill>
        <p:spPr>
          <a:xfrm>
            <a:off x="4716360" y="981000"/>
            <a:ext cx="395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395280" y="2349360"/>
            <a:ext cx="8062920" cy="15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авила безопасного поведе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c4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сли во время новогоднего праздника у вас на ёлке загорелась гирлянда – не панику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обходимо обесточить гирлянду, выдернув сетевую вилку из роз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3m4"/>
          <p:cNvPicPr/>
          <p:nvPr/>
        </p:nvPicPr>
        <p:blipFill>
          <a:blip r:embed="rId1"/>
          <a:stretch/>
        </p:blipFill>
        <p:spPr>
          <a:xfrm rot="1564200">
            <a:off x="4201920" y="1800000"/>
            <a:ext cx="4599000" cy="1458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ani-lights-left-29x120"/>
          <p:cNvPicPr/>
          <p:nvPr/>
        </p:nvPicPr>
        <p:blipFill>
          <a:blip r:embed="rId2"/>
          <a:stretch/>
        </p:blipFill>
        <p:spPr>
          <a:xfrm rot="5400000">
            <a:off x="6466320" y="3695040"/>
            <a:ext cx="747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1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4103640" cy="47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При горении опасен ядовитый дым, поэтому покидая помещение необходимо дышать через тка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При эвакуации из помещения не толкаться, не создавать пробки в двер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3" descr="Рисунок1"/>
          <p:cNvPicPr/>
          <p:nvPr/>
        </p:nvPicPr>
        <p:blipFill>
          <a:blip r:embed="rId1"/>
          <a:stretch/>
        </p:blipFill>
        <p:spPr>
          <a:xfrm>
            <a:off x="5364000" y="1844640"/>
            <a:ext cx="2870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 горении элементов ёлки опасен ядовитый ды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m5"/>
          <p:cNvPicPr/>
          <p:nvPr/>
        </p:nvPicPr>
        <p:blipFill>
          <a:blip r:embed="rId1"/>
          <a:stretch/>
        </p:blipFill>
        <p:spPr>
          <a:xfrm>
            <a:off x="4643280" y="1428840"/>
            <a:ext cx="424836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Запомнить и взрослым необходим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Чаще в пожарах гибнут от дым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Рисунок1"/>
          <p:cNvPicPr/>
          <p:nvPr/>
        </p:nvPicPr>
        <p:blipFill>
          <a:blip r:embed="rId1"/>
          <a:stretch/>
        </p:blipFill>
        <p:spPr>
          <a:xfrm>
            <a:off x="5184720" y="549360"/>
            <a:ext cx="31957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c6d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О возникновении    пожара немедленно сообщить в пожарную охрану по телефон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«01».</a:t>
            </a:r>
            <a:br>
              <a:rPr sz="3200"/>
            </a:b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Рисунок2О"/>
          <p:cNvPicPr/>
          <p:nvPr/>
        </p:nvPicPr>
        <p:blipFill>
          <a:blip r:embed="rId1"/>
          <a:stretch/>
        </p:blipFill>
        <p:spPr>
          <a:xfrm>
            <a:off x="4336920" y="1413000"/>
            <a:ext cx="434988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Ни в коем случае не зажигай фейерверки, свечи или бенгальские огни до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(и вообще лучше это делать только со взрослым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9r2"/>
          <p:cNvPicPr/>
          <p:nvPr/>
        </p:nvPicPr>
        <p:blipFill>
          <a:blip r:embed="rId1"/>
          <a:stretch/>
        </p:blipFill>
        <p:spPr>
          <a:xfrm rot="20881800">
            <a:off x="5110200" y="1356840"/>
            <a:ext cx="40338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Text_4"/>
          <p:cNvPicPr/>
          <p:nvPr/>
        </p:nvPicPr>
        <p:blipFill>
          <a:blip r:embed="rId1"/>
          <a:stretch/>
        </p:blipFill>
        <p:spPr>
          <a:xfrm>
            <a:off x="2119320" y="484200"/>
            <a:ext cx="4905360" cy="723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newy39"/>
          <p:cNvPicPr/>
          <p:nvPr/>
        </p:nvPicPr>
        <p:blipFill>
          <a:blip r:embed="rId2"/>
          <a:stretch/>
        </p:blipFill>
        <p:spPr>
          <a:xfrm>
            <a:off x="2335320" y="1773360"/>
            <a:ext cx="3316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6"/>
          <p:cNvSpPr txBox="1"/>
          <p:nvPr/>
        </p:nvSpPr>
        <p:spPr>
          <a:xfrm>
            <a:off x="684360" y="1557360"/>
            <a:ext cx="7993080" cy="22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 избежать опасной криминогенной ситуации.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ведение на улиц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39092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 Избегайте прогулок в одиночестве в вечернее время и малолюдных мес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 Для передвижения выбирайте оживлённые и хорошо освещённые ул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1" descr="Безымянный"/>
          <p:cNvPicPr/>
          <p:nvPr/>
        </p:nvPicPr>
        <p:blipFill>
          <a:blip r:embed="rId1"/>
          <a:stretch/>
        </p:blipFill>
        <p:spPr>
          <a:xfrm>
            <a:off x="5003640" y="1268280"/>
            <a:ext cx="37371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9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9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арайтесь не привлекать к себе внимание дорогими украш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 держите в руках мобильные телефоны, если в этом нет необходи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ыбирайте маршрут не короткий, а безопас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aby23"/>
          <p:cNvPicPr/>
          <p:nvPr/>
        </p:nvPicPr>
        <p:blipFill>
          <a:blip r:embed="rId1"/>
          <a:stretch/>
        </p:blipFill>
        <p:spPr>
          <a:xfrm>
            <a:off x="6086520" y="1484280"/>
            <a:ext cx="2317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d22e"/>
            </a:gs>
            <a:gs pos="100000">
              <a:srgbClr val="b434b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15"/>
          <p:cNvSpPr txBox="1"/>
          <p:nvPr/>
        </p:nvSpPr>
        <p:spPr>
          <a:xfrm>
            <a:off x="755640" y="189000"/>
            <a:ext cx="65530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зопасность на льд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17" descr="неизвестное фото 006"/>
          <p:cNvPicPr/>
          <p:nvPr/>
        </p:nvPicPr>
        <p:blipFill>
          <a:blip r:embed="rId1"/>
          <a:stretch/>
        </p:blipFill>
        <p:spPr>
          <a:xfrm>
            <a:off x="2700360" y="2565360"/>
            <a:ext cx="3421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икогда и ни при каких обстоятельствах не садитесь в машину к незнакомым и малознакомым людям и не заходите в чужие дома и квартиры, даже если вас об этом будут убедительно прос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дходя к подъезду или дому будь максимально внимател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Если вы столкнулись с преступнико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старайтесь запомнить его словесный портрет: во что одет, цвет глаз, шра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 первому требованию грабителя отдать деньги, ц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е вступать в пререкания, не отвечать на вызывающее повед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Говорить спокойно и медленно, уверенно в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000"/>
                            </p:stCondLst>
                            <p:childTnLst>
                              <p:par>
                                <p:cTn id="5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Жизнь и здоровье дороже любой вещ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Цель – выпутаться из неприятностей, а не победить в схват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450"/>
                            </p:stCondLst>
                            <p:childTnLst>
                              <p:par>
                                <p:cTn id="6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ледуйте принципам безопасного повед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едвидеть опаснос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 возможности избегать е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 необходимости – действовать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Рисунок6"/>
          <p:cNvPicPr/>
          <p:nvPr/>
        </p:nvPicPr>
        <p:blipFill>
          <a:blip r:embed="rId1"/>
          <a:srcRect l="0" t="0" r="0" b="-22"/>
          <a:stretch/>
        </p:blipFill>
        <p:spPr>
          <a:xfrm>
            <a:off x="3929040" y="2000160"/>
            <a:ext cx="48974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9"/>
          <p:cNvSpPr txBox="1"/>
          <p:nvPr/>
        </p:nvSpPr>
        <p:spPr>
          <a:xfrm>
            <a:off x="755640" y="1341360"/>
            <a:ext cx="756144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ВСЕМ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Главная опасность на реке или пруду зимой – это непрочный и тонкий лёд. Поэтому избегай мест, где лёд может быть тонки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Чтобы не провалиться под лёд, следует учитыв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да выходить на лёд с палкой в ру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льзя ходить по льду во время оттепели, в одиночку, в темноте, с большим груз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ти по льду большой группе людей можно лишь при толщине льда в 7-9 см, причём каждый человек должен идти на расстоянии 5-6 м друг от дру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льзя прыгать на льду и топать, проверяя его прочность, особенно возле берега, где движение воды истончает лё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Никогда не ходи по льду один!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14360" y="1571400"/>
            <a:ext cx="63295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Arial"/>
              </a:rPr>
              <a:t>Человек!  Ты – не пингв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Arial"/>
              </a:rPr>
              <a:t>Не гуляй один средь льди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неизвестное фото 007"/>
          <p:cNvPicPr/>
          <p:nvPr/>
        </p:nvPicPr>
        <p:blipFill>
          <a:blip r:embed="rId1"/>
          <a:stretch/>
        </p:blipFill>
        <p:spPr>
          <a:xfrm>
            <a:off x="2268360" y="3284640"/>
            <a:ext cx="56898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Тонким и хрупким лёд может быть в тех местах, где впадают ручьи или бьют ключи, рядом с кустами и камышами, на середине водоём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тех местах, где бьют ключи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 бегут к реке ручьи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ли где стоит завод–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най, что там непрочен лё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неизвестное фото 008"/>
          <p:cNvPicPr/>
          <p:nvPr/>
        </p:nvPicPr>
        <p:blipFill>
          <a:blip r:embed="rId1"/>
          <a:stretch/>
        </p:blipFill>
        <p:spPr>
          <a:xfrm>
            <a:off x="3348000" y="2492280"/>
            <a:ext cx="554508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Лучше будет, если ты возьмёшь с собой крепкую палку и будешь с её помощью проверять прочность льда перед собой. Если после удара палкой о лёд появится вода, нужно сразу же возвращаться к берег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07:34Z</dcterms:created>
  <dc:creator>MICHAEL</dc:creator>
  <dc:description/>
  <dc:language>en-US</dc:language>
  <cp:lastModifiedBy>Николай</cp:lastModifiedBy>
  <dcterms:modified xsi:type="dcterms:W3CDTF">2013-07-01T10:19:07Z</dcterms:modified>
  <cp:revision>13</cp:revision>
  <dc:subject/>
  <dc:title>Поведение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19000000000001024140</vt:lpwstr>
  </property>
</Properties>
</file>