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112-83B5-4F2A-9DE6-BB9A8EE9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485-EFA0-4CF1-8C6C-42462E05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FEF-C2B1-4021-B58E-8CC8713D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192-D285-46FE-8823-34BA2153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CF5-9D1F-43D7-9C0F-B70EC3D4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B8D-3915-412D-BC53-84449934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7A6-E3CF-4211-A4FA-64BC30F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495-E1E6-4AD7-8D6B-C75ADFD6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B7D-01C9-499A-A67E-8774FE47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7D5-7F73-4E45-951F-3E6F96E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8A2-3DB3-4EE0-84F7-8C0E75B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065-0515-4431-9260-E878C91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F54-23E1-4681-BA87-19DA345A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6d82ef6834d2b54e4dba121aecd56300242a63e325f6184c8866e5c09252d40&amp;h=768&amp;w=1024&amp;cp=770ebcc438c18d92948b2de1c7942f9a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f3c10f75539af14c2567641e648540de9a14aeecffc5c9249bbd84f4a73c7b63&amp;h=768&amp;w=1024&amp;cp=770ebcc438c18d92948b2de1c7942f9a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2dfc9e9fca7bb434b14e51e4b054885b2edbe73d82f04fd138ed79a4a5fc644b&amp;h=1200&amp;w=1600&amp;cp=770ebcc438c18d92948b2de1c7942f9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006.mylivepage.com/chunk6/73302/55/&#1053;&#1077;&#1079;&#1072;&#1073;&#1091;&#1076;&#1082;&#1080;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a215fb8120d8e027e549ae16e4734d856cbd005b8ce571ca7c151b4309b14b12&amp;h=1024&amp;w=1280&amp;cp=770ebcc438c18d92948b2de1c7942f9a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db154f84df892b7200b04e40e47c9e8cf372b136b2b09fa33eed2b3754a0349e&amp;h=1024&amp;w=1280&amp;cp=770ebcc438c18d92948b2de1c7942f9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6.rimg.info/file.php__server_id=6&amp;id=515a36d09c048bc947684583418aa9d0b21659481194c5ee1a44ff02babd941e&amp;h=800&amp;w=1280&amp;cp=770ebcc438c18d92948b2de1c7942f9a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П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241720"/>
            <a:ext cx="59785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Т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-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Х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557360"/>
            <a:ext cx="6659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Г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684360" y="1773360"/>
            <a:ext cx="7441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258920" y="1844640"/>
            <a:ext cx="70102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900000" y="1835280"/>
            <a:ext cx="758664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64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64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614600"/>
            <a:ext cx="701064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У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обои Фото # 8278"/>
          <p:cNvPicPr/>
          <p:nvPr/>
        </p:nvPicPr>
        <p:blipFill>
          <a:blip r:embed="rId1"/>
          <a:stretch/>
        </p:blipFill>
        <p:spPr>
          <a:xfrm>
            <a:off x="1258920" y="170028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Ш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042920" y="1413000"/>
            <a:ext cx="73454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9900"/>
                </a:solidFill>
                <a:latin typeface="Arial"/>
              </a:rPr>
              <a:t>ДА</a:t>
            </a: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en-US" sz="6500" spc="-1" strike="noStrike">
                <a:solidFill>
                  <a:srgbClr val="99cc00"/>
                </a:solidFill>
                <a:latin typeface="Arial"/>
              </a:rPr>
              <a:t>РА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78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СИ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Ч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изображение уменьшено на экране, после окончания загрузки Вы можете нажать на изображения для просмотра в 100%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Б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ДЯ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irsium vulgare (Бодяк обыкновенный)"/>
          <p:cNvPicPr/>
          <p:nvPr/>
        </p:nvPicPr>
        <p:blipFill>
          <a:blip r:embed="rId1"/>
          <a:stretch/>
        </p:blipFill>
        <p:spPr>
          <a:xfrm>
            <a:off x="1116000" y="1628640"/>
            <a:ext cx="7192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3421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ЛО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Ч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обои Фото # 3203"/>
          <p:cNvPicPr/>
          <p:nvPr/>
        </p:nvPicPr>
        <p:blipFill>
          <a:blip r:embed="rId1"/>
          <a:stretch/>
        </p:blipFill>
        <p:spPr>
          <a:xfrm>
            <a:off x="1116000" y="148428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Б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Е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Ц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Бедренец-камнеломка"/>
          <p:cNvPicPr/>
          <p:nvPr/>
        </p:nvPicPr>
        <p:blipFill>
          <a:blip r:embed="rId1"/>
          <a:stretch/>
        </p:blipFill>
        <p:spPr>
          <a:xfrm>
            <a:off x="1403280" y="155736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А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otentilla egedii (Лапчатка Эгеде)"/>
          <p:cNvPicPr/>
          <p:nvPr/>
        </p:nvPicPr>
        <p:blipFill>
          <a:blip r:embed="rId1"/>
          <a:stretch/>
        </p:blipFill>
        <p:spPr>
          <a:xfrm>
            <a:off x="1476360" y="1844640"/>
            <a:ext cx="6402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Ь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Ю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73360"/>
            <a:ext cx="6202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Н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ЗА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БУ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КИ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величить картинку Незабудки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77336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Ж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М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484280"/>
            <a:ext cx="6491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ЛЬ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НЯ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628640"/>
            <a:ext cx="62042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7000" spc="-1" strike="noStrike">
                <a:solidFill>
                  <a:srgbClr val="009900"/>
                </a:solidFill>
                <a:latin typeface="Arial"/>
              </a:rPr>
              <a:t>ВЕ</a:t>
            </a:r>
            <a:r>
              <a:rPr b="1" lang="en-US" sz="7000" spc="-1" strike="noStrike">
                <a:solidFill>
                  <a:srgbClr val="99cc00"/>
                </a:solidFill>
                <a:latin typeface="Arial"/>
              </a:rPr>
              <a:t>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773360"/>
            <a:ext cx="6553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2:29:54Z</dcterms:created>
  <dc:creator>Artiom &amp; Ksjuha</dc:creator>
  <dc:description/>
  <dc:language>en-US</dc:language>
  <cp:lastModifiedBy>Artiom &amp; Ksjuha</cp:lastModifiedBy>
  <dcterms:modified xsi:type="dcterms:W3CDTF">2007-04-06T12:34:56Z</dcterms:modified>
  <cp:revision>2</cp:revision>
  <dc:subject/>
  <dc:title>Слайд 1</dc:title>
</cp:coreProperties>
</file>