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5B6-4BBE-4C8C-8CBD-1053C17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2E0-1D76-4E19-AD02-6F6523E7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E18-A3EA-49E0-B8DF-F258E108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2B9-C764-44B2-868B-6D3BC66D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FAB-F7A0-4EB3-AAAD-36B1159A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034-1BF9-452D-8ECC-F9E4B69B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AA0-89F2-40AF-9F79-03A9C1D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A3D-7CFA-4F5A-ACF6-9E5C0D8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AB3-D585-4EC7-8A1A-7D7DF27E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E8C-EB80-4CD9-B3C9-5E29D48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94E-F0D3-4871-AF2B-CCA52EDD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1A9-2C30-478D-8369-C4ED99F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A873-F7D6-4606-AB46-B4951AD3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6d82ef6834d2b54e4dba121aecd56300242a63e325f6184c8866e5c09252d40&amp;h=768&amp;w=1024&amp;cp=770ebcc438c18d92948b2de1c7942f9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f3c10f75539af14c2567641e648540de9a14aeecffc5c9249bbd84f4a73c7b63&amp;h=768&amp;w=1024&amp;cp=770ebcc438c18d92948b2de1c7942f9a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2dfc9e9fca7bb434b14e51e4b054885b2edbe73d82f04fd138ed79a4a5fc644b&amp;h=1200&amp;w=1600&amp;cp=770ebcc438c18d92948b2de1c7942f9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006.mylivepage.com/chunk6/73302/55/&#1053;&#1077;&#1079;&#1072;&#1073;&#1091;&#1076;&#1082;&#1080;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215fb8120d8e027e549ae16e4734d856cbd005b8ce571ca7c151b4309b14b12&amp;h=1024&amp;w=1280&amp;cp=770ebcc438c18d92948b2de1c7942f9a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db154f84df892b7200b04e40e47c9e8cf372b136b2b09fa33eed2b3754a0349e&amp;h=1024&amp;w=1280&amp;cp=770ebcc438c18d92948b2de1c7942f9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515a36d09c048bc947684583418aa9d0b21659481194c5ee1a44ff02babd941e&amp;h=800&amp;w=1280&amp;cp=770ebcc438c18d92948b2de1c7942f9a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241720"/>
            <a:ext cx="59785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Т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Х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557360"/>
            <a:ext cx="6659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684360" y="1773360"/>
            <a:ext cx="7441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844640"/>
            <a:ext cx="70102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900000" y="1835280"/>
            <a:ext cx="758664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614600"/>
            <a:ext cx="7010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обои Фото # 8278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Ш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ДА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Р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78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ДЯ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irsium vulgare (Бодяк обыкновенный)"/>
          <p:cNvPicPr/>
          <p:nvPr/>
        </p:nvPicPr>
        <p:blipFill>
          <a:blip r:embed="rId1"/>
          <a:stretch/>
        </p:blipFill>
        <p:spPr>
          <a:xfrm>
            <a:off x="1116000" y="1628640"/>
            <a:ext cx="7192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3421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обои Фото # 3203"/>
          <p:cNvPicPr/>
          <p:nvPr/>
        </p:nvPicPr>
        <p:blipFill>
          <a:blip r:embed="rId1"/>
          <a:stretch/>
        </p:blipFill>
        <p:spPr>
          <a:xfrm>
            <a:off x="1116000" y="148428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Бедренец-камнеломка"/>
          <p:cNvPicPr/>
          <p:nvPr/>
        </p:nvPicPr>
        <p:blipFill>
          <a:blip r:embed="rId1"/>
          <a:stretch/>
        </p:blipFill>
        <p:spPr>
          <a:xfrm>
            <a:off x="1403280" y="155736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tentilla egedii (Лапчатка Эгеде)"/>
          <p:cNvPicPr/>
          <p:nvPr/>
        </p:nvPicPr>
        <p:blipFill>
          <a:blip r:embed="rId1"/>
          <a:stretch/>
        </p:blipFill>
        <p:spPr>
          <a:xfrm>
            <a:off x="1476360" y="1844640"/>
            <a:ext cx="6402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Ь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73360"/>
            <a:ext cx="6202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З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Б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величить картинку Незабудки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77336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Ж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М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484280"/>
            <a:ext cx="6491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Я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042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6553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2:29:54Z</dcterms:created>
  <dc:creator>Artiom &amp; Ksjuha</dc:creator>
  <dc:description/>
  <dc:language>en-US</dc:language>
  <cp:lastModifiedBy>Artiom &amp; Ksjuha</cp:lastModifiedBy>
  <dcterms:modified xsi:type="dcterms:W3CDTF">2007-04-06T12:34:56Z</dcterms:modified>
  <cp:revision>2</cp:revision>
  <dc:subject/>
  <dc:title>Слайд 1</dc:title>
</cp:coreProperties>
</file>