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80D-4D7D-44E8-9FE6-6C803350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18A-A052-492A-B8D2-337A500E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4DA-9053-49C5-91D8-FAF7BCD6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C26-F5E6-490D-911C-6A55E117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23A-272C-4CAB-8B71-D60D0B3B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E8AD-F0FB-427F-91DE-74E46E3A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5F6A-6E45-40C5-AA24-3C59566A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3B53-B17F-47F0-9512-A849FA15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14BD-8BC0-4DC3-815B-179FAEB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071D-7CDF-4223-9F57-78993BA9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83FA-A31F-4A88-A9E7-AB544C95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FBA-381A-44F8-A890-C0E939B2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788E-06F6-4A36-AD30-C447F2AD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40F2-C064-4575-AAE9-6DF22AF4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8ECF-6F72-428B-94CC-7C4A664F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3700-1096-4CF0-93C8-4CCAF017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23E1-705C-4EAB-9CE1-9D0DD0D2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87AB7-814D-4EC9-B9BE-8832CE67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534E4-0DD3-44D3-915A-14C5425C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7EA6A-CC9D-465D-BEB0-71E179EF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E437C-9262-42F8-8300-BE177A7C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726E3-72C8-476E-8624-A29174B4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BAD-3EFE-4EE8-9365-BFB9D2FD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DE214-06A0-4FED-8318-3A42593D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28C64-13E3-4F20-AA13-D96BE21E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13B4F-59BC-4D7F-89DC-83955923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C2FE3-9F35-4C87-80F1-0150AE0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33EED-5A5F-4758-8D17-78735962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7CA8D-1874-4612-90C1-CF818280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ED9C1-596F-4966-BC61-C7B180E1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2238-BCBD-4C28-8EF8-FF8E9173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5CBD-4F70-4DE2-8228-E54B5E56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E60A-7122-404A-BAC9-04DB8EA0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EB3-08CD-4897-BEA2-0F93CBBB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3267-FFFA-49C7-8C73-D2AE4E4A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DBCF-7395-4EA1-9A3F-1D8C7AC2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2234-C5EB-4EEB-9485-7DF0F06D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27348-E573-471F-99CF-67BCE00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365B-0856-4BCB-BCCD-E76EE85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3B1D-A1D7-4D85-A699-BFB39D0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4858-6DB1-4AFC-83B1-B4FB08A6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EF88-AE6A-4BDB-B4F0-C0A91C30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D1EA-9DC7-43A1-A70B-2FFDCCA4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49A1F-C4DF-4598-8427-5F8162A6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F26-1DDD-4D51-BED9-EC39559A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B0482-7A6E-4C78-8946-B822A719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6E62C-C091-4BED-993A-F673286C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F841E-0B65-4414-925B-683AD5B8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EDBB0-2445-4B42-B07B-54AB044A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AE603-9953-4E51-B02F-6CCE8041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0BBB2-989D-4F35-9972-AF9F58AC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C1500-09E9-4964-80BB-97428048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89340-59B7-45C2-A5FB-CF5A28C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45816-F320-45FD-898D-4A0FF979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F06737-56BE-405A-B316-5B367102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3F3-28B4-4C7D-A9F3-0CF73ADD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6A364-4CE4-4106-B664-C39E6A35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62AC0-DCD8-432F-8A5C-C28F7351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C1A74-0E1E-4FBC-AAEA-84AD4EC5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F90D6-12A0-4BFE-91CA-705B39F0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A4F5E-8546-4302-A90F-10703200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8998B-6247-45EE-9F02-D9AE41FA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532AF-F820-49A0-AEC0-3ABF446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3A62D-9A38-47EF-93E0-C696B4C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2EC62-3CF9-46C4-92BE-06822C7D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21359-FADC-4CF5-88DB-F0F43B0E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4DA-3EEA-462D-957B-01A185B6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6EDD23-2A3C-4C8C-B0C9-156D2D23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D7544-7411-42FB-926E-F234A497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9917B-09AC-41A8-97AA-4829F932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09F10F-D3AC-46CC-B240-864BE162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A7ED7-10CD-46B0-A8CA-FF618331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89C4A-AEE3-4465-BB1C-F11DDDE5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A3F93-A38E-4F7A-BDD0-29EFBEE9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65079-9DC9-407A-9892-75247105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13276-66BB-41F4-A0E3-894528AA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6C1A7-95E1-4B69-8F80-2D4FAB81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144-477A-49F5-A3CF-E464F71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160C5-9A3F-40A9-BEBA-2FA1A7D2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6FD2B-7428-47F1-924A-BB6D43DE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43EF28-856C-4345-BAF7-1CAF166F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773F9-016C-4871-9562-3788D167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CC5F4-781E-4E21-B07B-3E8A4FDB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E02-253D-45B5-B811-9F351490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753A-5DAD-4525-861A-BAAC35199F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1CA-1253-432C-BAEE-95A02E97CF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3FE7-208B-46D3-A2E0-7CB2951BCE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4849-73B0-4E84-8E81-A08EBB6873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FC1C-70A3-464D-B192-D11ABEA8E6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5EBB-F49D-4A36-BBF6-5E960B83466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349F-79A0-487F-AF82-1B1BC4189DB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ozimetr.biz/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e5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entury Schoolbook"/>
              </a:rPr>
              <a:t>ПИТАНИЕ И РАДИАЦИ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3"/>
          <p:cNvSpPr/>
          <p:nvPr/>
        </p:nvSpPr>
        <p:spPr>
          <a:xfrm>
            <a:off x="500040" y="200016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же бороться с зараженными продуктами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ять их перед покупкой! Самый простой способ — </a:t>
            </a:r>
            <a:r>
              <a:rPr b="0" lang="ru-RU" sz="2800" spc="-1" strike="noStrike" u="sng">
                <a:solidFill>
                  <a:srgbClr val="d2611c"/>
                </a:solidFill>
                <a:uFillTx/>
                <a:latin typeface="Arial"/>
                <a:ea typeface="Arial"/>
                <a:hlinkClick r:id="rId1"/>
              </a:rPr>
              <a:t>купить дозиметр радиаци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81160" y="-549360"/>
            <a:ext cx="7783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ДИОАКТИВНЫЕ ЯГОДЫ И ГРИБЫ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400" y="1285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ры леса чаще всего являются источниками радиации. В Советские времена именно в лесах, часто стихийно, закапывали отходы ядерной промышленности. Ионизирующее излучение, проходящее через деревья, кустарники, растения, грибы и ягоды накапливается в них, делая их также радиоактивными. К тому же не следует забывать о естественном уровне радиации: так, грибы и ягоды, произрастающие рядом с залежами гранита и других пород, также становятся радиоактивными. Доказано, что вред от употребления таких продуктов питания в разы больше, чем от внешнего излучения. Когда источник радиации находится внутри, он непосредственно воздействует на желудок, кишечник и другие органы человека, и поэтому даже мельчайшая доза может вызвать самые тяжелые последствия для здоровь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ДИОАКТИВНЫЕ ЯГОДЫ И ГРИБЫ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entury Schoolbook"/>
              </a:rPr>
              <a:t>Норма радиоактивного фона для ягод и грибов колеблется в пределах 0,14-0,15 микрорентген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ВОЩИ И ФРУКТЫ С ЗАРАЖЕННЫХ ОГОРОДОВ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сле аварии на Чернобыльской АЭС радиацией были загрязнены многие районы Украины, Белоруссии и России. Атмосферные осадки распространили радиоактивное облако на сотни километров, на некоторых огородах счётчики Гейгера зашкаливают и сегодня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Безусловно, при однократном употреблении никакого эффекта Вы не заметите, но при систематическом не избежать серьезнейших проблем со здоровьем. К сожалению, на наших рынках и в магазинах нет системы обязательной проверки радиационного фона продуктов, поэтому персики, яблоки, помидоры или огурцы, выращенные по уверению продавца в ближайшем районе, вполне могут отказаться "гостями" из зараженной радиацией местно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РИМЕНЕНИЕ ИОНИЗИРУЮЩЕГО ИЗЛУЧЕНИЯ В СЕЛЬСКОМ ХОЗЯЙСТВЕ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онизирующее излучение активно применяется в сельском хозяйстве. С его помощью проводят дезинфекцию продуктов питания, облучают зерно, чтобы оно быстрее прорастало, уничтожают вредителей. Для украинских производителей подобные методы слишком дороги, но они широко применяются в США и Китае.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ногие ученые убеждены, что обработанные таким образом продукты питания также несут в себе микрозаряд, который при попадании в организм человека наносит значительный ущерб его здоровью, провоцирует развитие онкопатологий, вносит изменения в структуру ДНК, приводит к мутациям и нежизнеспособности последующих поколен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ИТАНИЕ ЧЕЛОВЕКА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 В ПЕРИОДЫ ПОВЫШЕННОГО РАДИАЦИОННОГО ВОЗДЕЙСТВИЯ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лноценное, разнообразное, содержать большое количество высококалорийных питательных веществ, витаминов, макро- и микроэлементов, аминокислот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Многие макроэлементы (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натрий, калий, кальций, фосфор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и др.) являются конкурентными антагонистами некоторых радионуклидов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комендуется увеличить содержание в пищевом рационе сгущенного молока, твердых и плавленых сыров, кальцинированного хлеба, говядины и яиц, а также растительных продуктов, богатых минеральными солями и витаминами (абрикосы, айва, вишни, черешни, цитрусовые, смородина, шиповник, виноград, малина, кабачки, петрушка, укроп и др.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МЕХАНИЗМ ЕСТЕСТВЕННЫХ РАДИОПРОТЕКТОР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альц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является ионным конкуренто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диоактивных стронция и рад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али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ионный конкурент цезия-1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итамины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, Е, Р, С, группы 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прочность сосудистой стенки, улучшение кроветворения, защищают многие биологические вещества от окисл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ВЕТЫ ПО ПРИГОТОВЛЕНИЮ ПИЩ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 овощи и фрукты перед употреблением следует тщательно вымыть и очистить, а отвары, оставшиеся после их кулинарной обработки – вылив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желательно отваривать и запекать овощи в кожур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ясо и рыбу отваривать и готовить на па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99680" y="9288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Из костей рыбы с повышенным содержанием стронция-90 в бульон, уху, суп переходит 10— 40 % стронция. Из говяжьих костей в кислую среду (борщ) может переходить до 60—70 % стронция-90, в обычный бульон — до 40 %. При приготовлении птицы, содержащей стронций-90, из костей в бульон переходит только 2—11 % стронци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22:25:14Z</dcterms:created>
  <dc:creator>Admin</dc:creator>
  <dc:description/>
  <dc:language>en-US</dc:language>
  <cp:lastModifiedBy>Admin</cp:lastModifiedBy>
  <dcterms:modified xsi:type="dcterms:W3CDTF">2011-12-15T23:08:46Z</dcterms:modified>
  <cp:revision>5</cp:revision>
  <dc:subject/>
  <dc:title>Питание и радиация</dc:title>
</cp:coreProperties>
</file>