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4BD-2DB6-4642-B03C-93E64E46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E86-CE03-4368-B657-5A584EAC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5D8-BED7-43EB-8517-E26BF720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B09-B6DA-4EE1-9CFF-82645693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7A63-0108-4333-8D24-75733CE4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425-F14B-480F-87C5-7A685801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949B-A3B4-4D25-B79C-15183CE4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5905-56DB-46D6-9696-0C5DF3C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8C1D-663E-4074-8A67-422C49A3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63EF-C912-45B0-AE0F-208AD27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87A6-205A-4DAC-BBAA-BBD6F747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0CE-F476-40F3-AAE4-813C3E6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2BE-6114-4790-822E-C0A040F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120A-281A-4F3E-A6AE-45BA1281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E774-4F2B-46BC-A452-5F5A9B5B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871-A0AA-4649-A4B0-C3006BFD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1C61-659E-48FE-8EFF-953B855E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EFA8E-74B2-4764-94E6-7608E394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DA89E-EFA5-4317-8A75-B3C71BDA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70E16-2435-4184-9407-FCEDA46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B19F0-7B49-45A5-B8D6-4313EBF7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25F00-EBC8-4990-BF67-B5966D3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217-2BE3-4326-8F97-72DC7EA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E4A18-1928-412E-A209-713D3C91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CFEFD-ABF2-4F09-90B3-90F5359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5237B-1EB0-415D-93BF-56384D4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A8168-100D-4035-9430-8D6DFC21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159BF-3E6E-4404-B95A-12A86842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77909-5452-4D73-8136-E1276EE4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8543B-8980-4B0B-9A19-FDE5E2A8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E467-36F1-42F9-9390-3609F88F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2AAB3-3051-46A5-AC5B-FD7B6443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C285-57B5-41CC-B9A2-6891A8B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4F1-08B1-43FA-868A-AB77D685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8579-08D4-471C-B322-3E8F2FF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B0A2-D78B-45A6-89A7-5384153F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3A9E-3A23-4008-A38B-07EA45C4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5FFE-6E15-45F8-A6D3-2C952E72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85A1-79CD-4E5D-90C0-C7617F17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9D4C-9134-435E-8261-22B39355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8676-29B6-40BF-BD07-362B4CF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40DC-739B-4CC1-A2C3-FC81EE4E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9E4B0-40CC-4656-A7FB-3FA144BF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A76B9-7D26-423D-9699-DDBABD91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84F-189B-4F19-9CBE-575168A6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B71AC-CE86-4F7A-A7AE-95EB533E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1E433-16D7-4AA1-B307-B4C34E7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D910F-1841-4D64-BF95-9798E7D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AACF9-9D97-42A0-A803-46D41040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E2E91-652A-4A5E-B169-48AAE24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AA112-6901-478C-949A-A68BAF3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3BECE-9BE2-4DEB-A19A-2890D3A0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73043-9AB8-4301-ADA2-3B692A4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9F13C-4E95-449B-BBD9-5332D513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54647-8440-49F5-8822-EABACBCE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7D2-1C48-4C0F-8155-154D20E1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731BA-CB2E-4012-A4CD-6A7155FE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536DD-5AC8-4F69-99B4-6A56ED2A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9EDB3-C7AC-4819-B627-E0FAA022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DEDB0-44CB-40CC-8CC4-4AE7652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93C19-6534-48D6-B175-D018B6E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6112D-13BA-445B-836D-A592A519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FB73D-2BCB-4EC7-A3E4-DEA9AF9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0EAB2-9F78-4E2C-AA5F-99A677C2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311D2-28CA-449F-A5EB-17A8A57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77B1F-BCBE-45D1-B178-1417138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EE3-86E5-4BA3-B283-2542DEA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E439A-60B3-4D4F-9B9A-64EF7367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586D0-77AD-4E21-89E8-77FF424E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C9077-A7C8-45B1-848F-ED7F6DFC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5632A-09E2-427F-BDD4-2FE3FC2D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62629-83BA-4D9B-AD33-C1DB82A0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6CF6D-B7E5-4FEE-8974-508A9DAD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2A148-63B4-47D9-9706-28835A0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C32E3-FA30-4A98-8DC3-DF62D09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F43EF-9DAB-441E-953E-31EA228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6A88C-015E-483C-8C06-041850C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7EE-15F7-4E91-B44B-6BC815A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95043-50DF-453C-9566-7C94F374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E46AA-16BC-4FF0-AAA2-83FBDF5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C2A24-C2AA-4FEB-B1D3-86A2DC0E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8F2B5-4D95-43DB-9B38-D7D60E0A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5265E-393B-438E-80DA-A8BA793C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43A-946E-4E40-987D-D0C4337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775E-1586-4D50-8311-9651947F36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99A3-B9F7-4869-BD2E-636BED4989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3FDC-37FB-4959-BCF8-2C789F5A5D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C6BF-4103-497B-B435-F6E6850110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59B-CA0A-4E69-880E-97C98A5FBE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AF10-0CEA-4807-9DE0-2560A27357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B280-6467-46FF-9C5F-D3964191C9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zimetr.biz/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e5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entury Schoolbook"/>
              </a:rPr>
              <a:t>ПИТАНИЕ И РАДИАЦИ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3"/>
          <p:cNvSpPr/>
          <p:nvPr/>
        </p:nvSpPr>
        <p:spPr>
          <a:xfrm>
            <a:off x="500040" y="200016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же бороться с зараженными продуктами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ять их перед покупкой! Самый простой способ — 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Arial"/>
                <a:ea typeface="Arial"/>
                <a:hlinkClick r:id="rId1"/>
              </a:rPr>
              <a:t>купить дозиметр радиаци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81160" y="-549360"/>
            <a:ext cx="7783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ДИОАКТИВНЫЕ ЯГОДЫ И ГРИБ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40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ры леса чаще всего являются источниками радиации. В Советские времена именно в лесах, часто стихийно, закапывали отходы ядерной промышленности. Ионизирующее излучение, проходящее через деревья, кустарники, растения, грибы и ягоды накапливается в них, делая их также радиоактивными. К тому же не следует забывать о естественном уровне радиации: так, грибы и ягоды, произрастающие рядом с залежами гранита и других пород, также становятся радиоактивными. Доказано, что вред от употребления таких продуктов питания в разы больше, чем от внешнего излучения. Когда источник радиации находится внутри, он непосредственно воздействует на желудок, кишечник и другие органы человека, и поэтому даже мельчайшая доза может вызвать самые тяжелые последствия для здоровь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ДИОАКТИВНЫЕ ЯГОДЫ И ГРИБ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Schoolbook"/>
              </a:rPr>
              <a:t>Норма радиоактивного фона для ягод и грибов колеблется в пределах 0,14-0,15 микрорентген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ВОЩИ И ФРУКТЫ С ЗАРАЖЕННЫХ ОГОРОД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сле аварии на Чернобыльской АЭС радиацией были загрязнены многие районы Украины, Белоруссии и России. Атмосферные осадки распространили радиоактивное облако на сотни километров, на некоторых огородах счётчики Гейгера зашкаливают и сегодн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езусловно, при однократном употреблении никакого эффекта Вы не заметите, но при систематическом не избежать серьезнейших проблем со здоровьем. К сожалению, на наших рынках и в магазинах нет системы обязательной проверки радиационного фона продуктов, поэтому персики, яблоки, помидоры или огурцы, выращенные по уверению продавца в ближайшем районе, вполне могут отказаться "гостями" из зараженной радиацией мест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ИМЕНЕНИЕ ИОНИЗИРУЮЩЕГО ИЗЛУЧЕНИЯ В СЕЛЬСКОМ ХОЗЯЙСТВЕ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онизирующее излучение активно применяется в сельском хозяйстве. С его помощью проводят дезинфекцию продуктов питания, облучают зерно, чтобы оно быстрее прорастало, уничтожают вредителей. Для украинских производителей подобные методы слишком дороги, но они широко применяются в США и Китае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ногие ученые убеждены, что обработанные таким образом продукты питания также несут в себе микрозаряд, который при попадании в организм человека наносит значительный ущерб его здоровью, провоцирует развитие онкопатологий, вносит изменения в структуру ДНК, приводит к мутациям и нежизнеспособности последующих поколен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ИТАНИЕ ЧЕЛОВЕКА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В ПЕРИОДЫ ПОВЫШЕННОГО РАДИАЦИОННОГО ВОЗДЕЙСТВ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ноценное, разнообразное, содержать большое количество высококалорийных питательных веществ, витаминов, макро- и микроэлементов, аминокислот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ногие макроэлементы (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атрий, калий, кальций, фосф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и др.) являются конкурентными антагонистами некоторых радионуклидов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комендуется увеличить содержание в пищевом рационе сгущенного молока, твердых и плавленых сыров, кальцинированного хлеба, говядины и яиц, а также растительных продуктов, богатых минеральными солями и витаминами (абрикосы, айва, вишни, черешни, цитрусовые, смородина, шиповник, виноград, малина, кабачки, петрушка, укроп и др.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ЕХАНИЗМ ЕСТЕСТВЕННЫХ РАДИОПРОТЕКТОР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льц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является ионным конкуренто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диоактивных стронция и рад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л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ионный конкурент цезия-1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тамины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, Е, Р, С, группы 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прочность сосудистой стенки, улучшение кроветворения, защищают многие биологические вещества от окисл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ВЕТЫ ПО ПРИГОТОВЛЕНИЮ ПИЩ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овощи и фрукты перед употреблением следует тщательно вымыть и очистить, а отвары, оставшиеся после их кулинарной обработки – вылив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желательно отваривать и запекать овощи в кожур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со и рыбу отваривать и готовить на па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9968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Из костей рыбы с повышенным содержанием стронция-90 в бульон, уху, суп переходит 10— 40 % стронция. Из говяжьих костей в кислую среду (борщ) может переходить до 60—70 % стронция-90, в обычный бульон — до 40 %. При приготовлении птицы, содержащей стронций-90, из костей в бульон переходит только 2—11 % стронц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2:25:14Z</dcterms:created>
  <dc:creator>Admin</dc:creator>
  <dc:description/>
  <dc:language>en-US</dc:language>
  <cp:lastModifiedBy>Admin</cp:lastModifiedBy>
  <dcterms:modified xsi:type="dcterms:W3CDTF">2011-12-15T23:08:46Z</dcterms:modified>
  <cp:revision>5</cp:revision>
  <dc:subject/>
  <dc:title>Питание и радиация</dc:title>
</cp:coreProperties>
</file>