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4B4-A144-4F7F-8A10-22D43445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7C70-F518-419F-BB32-E243E394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E64-2408-4713-A040-9C0F6C12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5B1-5419-41E7-8AFE-7378871F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062A-DB75-4B3D-827A-CDC3A806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D441-9D1C-4FA4-BBBE-A8784221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4BD5-6EAD-4F0C-B70E-E2FFF658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3000-3140-46FF-8515-67896F8D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62C3-0267-40B0-AF3F-B496ACCD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53AE-ABC8-49E1-955A-5BF938CB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40CE-1EDD-4684-8933-D119A7A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54E-3506-41CC-AE6D-2F497B04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96B6-DDD8-4B80-A715-50D7B047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405E-358B-4A9F-809A-16E40920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7E0E-5DD8-4844-A2BF-72644D32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35D6-BF93-4145-9A94-D88F6497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2802-B929-42CF-89B2-259F3C5B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8E6E3-44C4-4AD7-BFEF-7BC6D1A5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A0869-4112-4BD2-A625-025938A6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58B22-A6AA-41A2-B1E0-5326AE18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DD42A-78D5-49AF-8310-885A9C7A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DD6DC-93EB-4CB5-ACE0-21788186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AA3-E5C2-4165-B1EA-A0D5BD62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18D63-9763-4462-83F5-7D99901B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D19F5-01E9-4374-85E3-3A7519DC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F2092-4BE9-43C4-A27E-E9069D2C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3ABB6-54A9-4809-9AFB-0895B99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4210B-ABD4-4CEB-A4D4-DA1F341A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B3D29-7A3A-4BB4-881E-337E2F69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51B1A-32A0-48D3-970E-77BBC6F3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6179F-A139-45F5-BA4E-B32A4A07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9022C-3C1C-453A-B62B-97D7A5EB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1705B-19D1-4069-B356-5DE33129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EA8-6536-4E23-B1D3-1BF91B4D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FC560-1F49-4F56-ABA5-2A9DAE75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FC01B-F343-46A0-9EFD-D352FB33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77FA4-CA0A-4C8A-9FC6-21653D86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E08BF-6CFC-4688-8ECD-DC27DB4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1FB77-8AAA-44EE-BE56-3B37BF5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EDD22-5818-478A-8986-C13652EF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047E-5EF9-4958-896C-2D5317E0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8BED-3ED8-4C0C-A418-45E54DC7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91E1D-CE45-434A-BACE-96CD9446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1BC53-C5EB-472E-8580-A21F3F90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FFB-D09D-459A-A349-C3454560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C503A-6E21-4795-9DB0-50C8B315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A8306-E7B7-425D-B247-404585C0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E6B35-FD71-4B88-9EDB-2D3E6F75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533A5-161D-48F9-90EE-7BA4E53E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B7C29-0564-4A28-AA7B-BB4AA6C4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3A5C4-2DD1-41F3-9C06-1F91104E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02413-4D7F-47C9-8AA4-8367E62C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04458-C31B-49FF-95C3-B09CDD3C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A8223-E5E8-4857-8C94-1A183461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2484D-2DCB-4712-A73D-ABDEABCF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08C-9DAC-48B1-B199-04A6716A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F802A-2936-4D31-B6C0-8EE78E33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4811B-6209-42CA-A6AE-AE670E46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CD7958-EB12-4758-9B66-62B721E5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DCA58-52D6-48D6-8DFC-23A387AA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0BB97-E285-47E3-8F4A-12DCEFCC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D3A71-88AD-419F-96A4-E811FA1F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E7533-DF53-4934-9251-1468F9AD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55580C-9C84-44C5-9162-41357E18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CE533-B90B-4DDD-AB85-A6455899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A70C9-EA72-4B3E-8306-39411037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1A7-1EA7-45C4-8A3E-D54AB965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26BD1-7559-44A1-BD4A-C5228F3F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F508B-6A6D-4BEB-89CE-73D97A05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61639E-1E4C-4302-A865-5A2A1A19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4468A-C127-4226-B092-3584F38E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608C9-61BF-4AEB-A6CA-C760458E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A00B3-BF5C-4136-AEBD-A4AF4CB8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8ABA7-D2E3-4883-9CA5-A89694AB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47211-3338-4FC9-8EDB-9F96BF34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B744A-FC7B-4990-8F19-CBC956B5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13888-483A-43DC-A016-8B479C18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EE0-B8CC-44A5-9FD8-B6081662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C3882-7ABD-483B-B4DE-442E11D5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3FAF7-F5CB-4FC0-8E5E-F7DD8FBE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55BC0-3A10-4345-BF09-83B33ACA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5E099-9299-484F-835A-278DCBCB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A0D64-BD35-4C96-BD7F-D34B52E8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BDC-BF34-458B-AA31-1511F121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D194-2A59-4DB1-8259-28AE6DD56D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0F44-BE86-4A6A-8734-0629CA973F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D3FC-180D-4474-9394-F9DB2A99E6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D965-07A3-41E8-A9F8-734F64B30B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9EB5-22FA-4824-8AB4-5F422896DBB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6F3E-36BA-4F68-B747-D4D33363F5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CA41-11F4-4196-AB2D-4F5B8CDBDC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ozimetr.biz/" TargetMode="Externa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e5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entury Schoolbook"/>
              </a:rPr>
              <a:t>ПИТАНИЕ И РАДИАЦИ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3"/>
          <p:cNvSpPr/>
          <p:nvPr/>
        </p:nvSpPr>
        <p:spPr>
          <a:xfrm>
            <a:off x="500040" y="2000160"/>
            <a:ext cx="80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же бороться с зараженными продуктами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ять их перед покупкой! Самый простой способ — 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Arial"/>
                <a:ea typeface="Arial"/>
                <a:hlinkClick r:id="rId1"/>
              </a:rPr>
              <a:t>купить дозиметр радиаци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81160" y="-549360"/>
            <a:ext cx="7783200" cy="74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ДИОАКТИВНЫЕ ЯГОДЫ И ГРИБЫ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8400" y="1285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ары леса чаще всего являются источниками радиации. В Советские времена именно в лесах, часто стихийно, закапывали отходы ядерной промышленности. Ионизирующее излучение, проходящее через деревья, кустарники, растения, грибы и ягоды накапливается в них, делая их также радиоактивными. К тому же не следует забывать о естественном уровне радиации: так, грибы и ягоды, произрастающие рядом с залежами гранита и других пород, также становятся радиоактивными. Доказано, что вред от употребления таких продуктов питания в разы больше, чем от внешнего излучения. Когда источник радиации находится внутри, он непосредственно воздействует на желудок, кишечник и другие органы человека, и поэтому даже мельчайшая доза может вызвать самые тяжелые последствия для здоровь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ДИОАКТИВНЫЕ ЯГОДЫ И ГРИБЫ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entury Schoolbook"/>
              </a:rPr>
              <a:t>Норма радиоактивного фона для ягод и грибов колеблется в пределах 0,14-0,15 микрорентген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ОВОЩИ И ФРУКТЫ С ЗАРАЖЕННЫХ ОГОРОДОВ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8296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сле аварии на Чернобыльской АЭС радиацией были загрязнены многие районы Украины, Белоруссии и России. Атмосферные осадки распространили радиоактивное облако на сотни километров, на некоторых огородах счётчики Гейгера зашкаливают и сегодня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езусловно, при однократном употреблении никакого эффекта Вы не заметите, но при систематическом не избежать серьезнейших проблем со здоровьем. К сожалению, на наших рынках и в магазинах нет системы обязательной проверки радиационного фона продуктов, поэтому персики, яблоки, помидоры или огурцы, выращенные по уверению продавца в ближайшем районе, вполне могут отказаться "гостями" из зараженной радиацией местнос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РИМЕНЕНИЕ ИОНИЗИРУЮЩЕГО ИЗЛУЧЕНИЯ В СЕЛЬСКОМ ХОЗЯЙСТВЕ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онизирующее излучение активно применяется в сельском хозяйстве. С его помощью проводят дезинфекцию продуктов питания, облучают зерно, чтобы оно быстрее прорастало, уничтожают вредителей. Для украинских производителей подобные методы слишком дороги, но они широко применяются в США и Китае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ногие ученые убеждены, что обработанные таким образом продукты питания также несут в себе микрозаряд, который при попадании в организм человека наносит значительный ущерб его здоровью, провоцирует развитие онкопатологий, вносит изменения в структуру ДНК, приводит к мутациям и нежизнеспособности последующих поколен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ИТАНИЕ ЧЕЛОВЕКА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В ПЕРИОДЫ ПОВЫШЕННОГО РАДИАЦИОННОГО ВОЗДЕЙСТВИЯ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лноценное, разнообразное, содержать большое количество высококалорийных питательных веществ, витаминов, макро- и микроэлементов, аминокислот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ногие макроэлементы (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натрий, калий, кальций, фосфо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и др.) являются конкурентными антагонистами некоторых радионуклидов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екомендуется увеличить содержание в пищевом рационе сгущенного молока, твердых и плавленых сыров, кальцинированного хлеба, говядины и яиц, а также растительных продуктов, богатых минеральными солями и витаминами (абрикосы, айва, вишни, черешни, цитрусовые, смородина, шиповник, виноград, малина, кабачки, петрушка, укроп и др.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ЕХАНИЗМ ЕСТЕСТВЕННЫХ РАДИОПРОТЕКТОР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альц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является ионным конкурентом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диоактивных стронция и рад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ал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- ионный конкурент цезия-13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итамины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, Е, Р, С, группы 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- прочность сосудистой стенки, улучшение кроветворения, защищают многие биологические вещества от окисл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ВЕТЫ ПО ПРИГОТОВЛЕНИЮ ПИЩ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овощи и фрукты перед употреблением следует тщательно вымыть и очистить, а отвары, оставшиеся после их кулинарной обработки – вылива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желательно отваривать и запекать овощи в кожур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ясо и рыбу отваривать и готовить на па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99680" y="9288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Из костей рыбы с повышенным содержанием стронция-90 в бульон, уху, суп переходит 10— 40 % стронция. Из говяжьих костей в кислую среду (борщ) может переходить до 60—70 % стронция-90, в обычный бульон — до 40 %. При приготовлении птицы, содержащей стронций-90, из костей в бульон переходит только 2—11 % стронци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22:25:14Z</dcterms:created>
  <dc:creator>Admin</dc:creator>
  <dc:description/>
  <dc:language>en-US</dc:language>
  <cp:lastModifiedBy>Admin</cp:lastModifiedBy>
  <dcterms:modified xsi:type="dcterms:W3CDTF">2011-12-15T23:08:46Z</dcterms:modified>
  <cp:revision>5</cp:revision>
  <dc:subject/>
  <dc:title>Питание и радиация</dc:title>
</cp:coreProperties>
</file>