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8.gif" ContentType="image/gif"/>
  <Override PartName="/ppt/media/image18.jpeg" ContentType="image/jpeg"/>
  <Override PartName="/ppt/media/image31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38.jpeg" ContentType="image/jpeg"/>
  <Override PartName="/ppt/media/image44.jpeg" ContentType="image/jpeg"/>
  <Override PartName="/ppt/media/image33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DF4E-3662-473B-8D2F-26A8DE9EAA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AF9C-1AB0-4006-A9A9-B38CF7D720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8EE-8671-43F7-B451-1AC1CF22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6F3-7A7F-4AC4-8946-A5020DD6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7BF-01DE-494C-B32D-C448A9D7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645-E01B-4711-A9E1-3B5F007B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6998-FB72-4225-B842-5BF13D71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1158-774F-40B1-8590-09DE608C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7FEB-29C2-4463-9BAF-EB51671A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8D86-35A5-47D6-BD8E-0F33FE36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A7C5-DDB4-42FA-90B0-1ECF08B1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9470-0366-4384-9D96-F799D1EE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2A25-875C-471A-B8B5-57B01BC7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A9B-215E-4579-B7E9-BC7B44E1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3F8C-7F89-46D2-878E-12E3E7E7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BF29-6F7B-422A-AA96-87759080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5556-EE54-4339-892D-8652BD98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600F-86D0-42E7-A699-5D6EA2B8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EFDE-2F05-4720-9152-B3882252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90E1-63D0-4F79-B46C-E716F725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455D-C0E2-4A25-8548-C908F7B1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15A-5584-4EDF-BAE8-AD6B3EB8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184-677A-403D-A79F-7F7B3EC9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C838-8120-4335-A8B5-51B3118D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4A6-25E8-4F0D-B49C-75FFAF38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42A6-E3D1-4177-B08F-7B723E0A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EAC1-1413-4D44-8280-12EA2521E8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prstGeom prst="pie">
            <a:avLst/>
          </a:pr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47DE-26FF-4AA6-B1A1-A22B239092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2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Arial"/>
              </a:rPr>
              <a:t>Охрана природы</a:t>
            </a:r>
            <a:r>
              <a:rPr b="0" i="1" lang="ru-RU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никова Ольга Вита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ибановской СОШ №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ронеж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яц беля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одержимое 3" descr="Bielak2.jpg"/>
          <p:cNvPicPr/>
          <p:nvPr/>
        </p:nvPicPr>
        <p:blipFill>
          <a:blip r:embed="rId1"/>
          <a:stretch/>
        </p:blipFill>
        <p:spPr>
          <a:xfrm>
            <a:off x="0" y="2971800"/>
            <a:ext cx="4267080" cy="3352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-360" y="837720"/>
            <a:ext cx="89917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як живёт в лесу – это лесной заяц. Днём он спит, а ночью выходит на кормёж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5" descr="598aae3e7cb08db1d679537f5db_prev.jpg"/>
          <p:cNvPicPr/>
          <p:nvPr/>
        </p:nvPicPr>
        <p:blipFill>
          <a:blip r:embed="rId2"/>
          <a:stretch/>
        </p:blipFill>
        <p:spPr>
          <a:xfrm>
            <a:off x="4567320" y="2895480"/>
            <a:ext cx="4576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рунду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143000"/>
            <a:ext cx="8762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орный и ловкий, похож на маленькую белку. Живёт под деревьями, в земляных неглубоких но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3" descr="0a04459987acff8ca5d38ded848cf739.jpg"/>
          <p:cNvPicPr/>
          <p:nvPr/>
        </p:nvPicPr>
        <p:blipFill>
          <a:blip r:embed="rId1"/>
          <a:stretch/>
        </p:blipFill>
        <p:spPr>
          <a:xfrm>
            <a:off x="0" y="2514600"/>
            <a:ext cx="3352680" cy="24591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898293.jpg"/>
          <p:cNvPicPr/>
          <p:nvPr/>
        </p:nvPicPr>
        <p:blipFill>
          <a:blip r:embed="rId2"/>
          <a:stretch/>
        </p:blipFill>
        <p:spPr>
          <a:xfrm>
            <a:off x="6019920" y="2133720"/>
            <a:ext cx="3035160" cy="29718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6" descr="post-3-12807915629022.jpg"/>
          <p:cNvPicPr/>
          <p:nvPr/>
        </p:nvPicPr>
        <p:blipFill>
          <a:blip r:embed="rId3"/>
          <a:stretch/>
        </p:blipFill>
        <p:spPr>
          <a:xfrm>
            <a:off x="2971800" y="4343400"/>
            <a:ext cx="327672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оп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единственный пернатый хищник, который питается только рыбой. Внешним видом скопа напоминает одновременно сову и корш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3" descr="360426655.jpg"/>
          <p:cNvPicPr/>
          <p:nvPr/>
        </p:nvPicPr>
        <p:blipFill>
          <a:blip r:embed="rId1"/>
          <a:stretch/>
        </p:blipFill>
        <p:spPr>
          <a:xfrm>
            <a:off x="4876920" y="3048120"/>
            <a:ext cx="4165560" cy="31240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5401f821360e.jpg"/>
          <p:cNvPicPr/>
          <p:nvPr/>
        </p:nvPicPr>
        <p:blipFill>
          <a:blip r:embed="rId2"/>
          <a:stretch/>
        </p:blipFill>
        <p:spPr>
          <a:xfrm>
            <a:off x="152280" y="3048120"/>
            <a:ext cx="46483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лин – пернатая кош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1430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шумный полёт, способность видеть в темноте, острый слух, мгновенная реакция – качества, за которые в народе прозвали их пернатыми кош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hq-wallpapers_ru_animals_6916_1024x768.jpg"/>
          <p:cNvPicPr/>
          <p:nvPr/>
        </p:nvPicPr>
        <p:blipFill>
          <a:blip r:embed="rId1"/>
          <a:stretch/>
        </p:blipFill>
        <p:spPr>
          <a:xfrm>
            <a:off x="533520" y="289548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7" descr="filin_4.jpg"/>
          <p:cNvPicPr/>
          <p:nvPr/>
        </p:nvPicPr>
        <p:blipFill>
          <a:blip r:embed="rId2"/>
          <a:stretch/>
        </p:blipFill>
        <p:spPr>
          <a:xfrm>
            <a:off x="5943600" y="2590920"/>
            <a:ext cx="3000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9840" y="274680"/>
            <a:ext cx="7086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гантская вечерниц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самой крупной летучей мышью в Европе и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3" descr="ryzhaya_vechernica_big.jpg"/>
          <p:cNvPicPr/>
          <p:nvPr/>
        </p:nvPicPr>
        <p:blipFill>
          <a:blip r:embed="rId1"/>
          <a:stretch/>
        </p:blipFill>
        <p:spPr>
          <a:xfrm>
            <a:off x="0" y="2971800"/>
            <a:ext cx="4572000" cy="32367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noctule-bat.jpg"/>
          <p:cNvPicPr/>
          <p:nvPr/>
        </p:nvPicPr>
        <p:blipFill>
          <a:blip r:embed="rId2"/>
          <a:stretch/>
        </p:blipFill>
        <p:spPr>
          <a:xfrm>
            <a:off x="4624560" y="2971800"/>
            <a:ext cx="4519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274680"/>
            <a:ext cx="7086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к – оле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5960" y="12193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большой жук в Европе. Это очень красивый и величественный ж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4" descr="IMG_9826.jpg"/>
          <p:cNvPicPr/>
          <p:nvPr/>
        </p:nvPicPr>
        <p:blipFill>
          <a:blip r:embed="rId1"/>
          <a:stretch/>
        </p:blipFill>
        <p:spPr>
          <a:xfrm>
            <a:off x="4495680" y="2716200"/>
            <a:ext cx="4476960" cy="2852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5" descr="24060849.jpg"/>
          <p:cNvPicPr/>
          <p:nvPr/>
        </p:nvPicPr>
        <p:blipFill>
          <a:blip r:embed="rId2"/>
          <a:stretch/>
        </p:blipFill>
        <p:spPr>
          <a:xfrm>
            <a:off x="152280" y="2743200"/>
            <a:ext cx="4232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и природу, паренё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евочка, люб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загрязнений защищ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ё ты не губ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травляй полей и р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ей, лесов и г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в них отходы не слив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дителям – позо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и природу, челов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ё ты охраня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ину выжженной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я, не оставля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6" descr="868.jpg"/>
          <p:cNvPicPr/>
          <p:nvPr/>
        </p:nvPicPr>
        <p:blipFill>
          <a:blip r:embed="rId1"/>
          <a:stretch/>
        </p:blipFill>
        <p:spPr>
          <a:xfrm>
            <a:off x="4343400" y="0"/>
            <a:ext cx="2381400" cy="16765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7" descr="874.jpg"/>
          <p:cNvPicPr/>
          <p:nvPr/>
        </p:nvPicPr>
        <p:blipFill>
          <a:blip r:embed="rId2"/>
          <a:stretch/>
        </p:blipFill>
        <p:spPr>
          <a:xfrm>
            <a:off x="6629400" y="1523880"/>
            <a:ext cx="2514600" cy="16588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872.jpg"/>
          <p:cNvPicPr/>
          <p:nvPr/>
        </p:nvPicPr>
        <p:blipFill>
          <a:blip r:embed="rId3"/>
          <a:stretch/>
        </p:blipFill>
        <p:spPr>
          <a:xfrm>
            <a:off x="4419720" y="3124080"/>
            <a:ext cx="2381040" cy="17528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870.jpg"/>
          <p:cNvPicPr/>
          <p:nvPr/>
        </p:nvPicPr>
        <p:blipFill>
          <a:blip r:embed="rId4"/>
          <a:stretch/>
        </p:blipFill>
        <p:spPr>
          <a:xfrm>
            <a:off x="6762600" y="4800600"/>
            <a:ext cx="2381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523520" y="1600200"/>
            <a:ext cx="76201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 челове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ицательно сказывается на окружающей нас природе, что приводит к исчезновению многих редких видов животных, птиц,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3" descr="1_Agroprom_366.jpg"/>
          <p:cNvPicPr/>
          <p:nvPr/>
        </p:nvPicPr>
        <p:blipFill>
          <a:blip r:embed="rId1"/>
          <a:stretch/>
        </p:blipFill>
        <p:spPr>
          <a:xfrm>
            <a:off x="228600" y="358128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267004318.jpg"/>
          <p:cNvPicPr/>
          <p:nvPr/>
        </p:nvPicPr>
        <p:blipFill>
          <a:blip r:embed="rId2"/>
          <a:stretch/>
        </p:blipFill>
        <p:spPr>
          <a:xfrm>
            <a:off x="152280" y="33526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57772.jpg"/>
          <p:cNvPicPr/>
          <p:nvPr/>
        </p:nvPicPr>
        <p:blipFill>
          <a:blip r:embed="rId3"/>
          <a:stretch/>
        </p:blipFill>
        <p:spPr>
          <a:xfrm>
            <a:off x="4952880" y="3429000"/>
            <a:ext cx="3708360" cy="27828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247737020.jpg"/>
          <p:cNvPicPr/>
          <p:nvPr/>
        </p:nvPicPr>
        <p:blipFill>
          <a:blip r:embed="rId4"/>
          <a:stretch/>
        </p:blipFill>
        <p:spPr>
          <a:xfrm>
            <a:off x="4800600" y="3333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51920" y="228600"/>
            <a:ext cx="89154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люди слышат крик о помощ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ний и животных, которым  сейчас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трудно выжить. Они создали красную книгу, в которую записывают всех редких животных и рас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" descr="39.jpg"/>
          <p:cNvPicPr/>
          <p:nvPr/>
        </p:nvPicPr>
        <p:blipFill>
          <a:blip r:embed="rId1"/>
          <a:stretch/>
        </p:blipFill>
        <p:spPr>
          <a:xfrm>
            <a:off x="0" y="2666880"/>
            <a:ext cx="3051000" cy="39625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redbru00.jpg"/>
          <p:cNvPicPr/>
          <p:nvPr/>
        </p:nvPicPr>
        <p:blipFill>
          <a:blip r:embed="rId2"/>
          <a:stretch/>
        </p:blipFill>
        <p:spPr>
          <a:xfrm>
            <a:off x="3124080" y="2666880"/>
            <a:ext cx="2830680" cy="39625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index.2.gif"/>
          <p:cNvPicPr/>
          <p:nvPr/>
        </p:nvPicPr>
        <p:blipFill>
          <a:blip r:embed="rId3"/>
          <a:stretch/>
        </p:blipFill>
        <p:spPr>
          <a:xfrm>
            <a:off x="6107040" y="2666880"/>
            <a:ext cx="3036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52280" y="152280"/>
            <a:ext cx="876312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сохранить редкие растения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отных созданы заповедники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ые па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оронежской области созданы два заповед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ронежский биосферный заповедник основан в 1927 году и Хопёрский заповедник основан в 1935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3" descr="Karta_zapovednika.jpg"/>
          <p:cNvPicPr/>
          <p:nvPr/>
        </p:nvPicPr>
        <p:blipFill>
          <a:blip r:embed="rId1"/>
          <a:stretch/>
        </p:blipFill>
        <p:spPr>
          <a:xfrm>
            <a:off x="152280" y="2743200"/>
            <a:ext cx="3353040" cy="38307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28.jpg"/>
          <p:cNvPicPr/>
          <p:nvPr/>
        </p:nvPicPr>
        <p:blipFill>
          <a:blip r:embed="rId2"/>
          <a:stretch/>
        </p:blipFill>
        <p:spPr>
          <a:xfrm>
            <a:off x="3962520" y="2786040"/>
            <a:ext cx="48006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274680"/>
            <a:ext cx="68580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сь – великан из семейства оле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 большие длинноногие животные любят жить вблизи водоёмов, как поодиночке, так и групп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sa79-35.jpg"/>
          <p:cNvPicPr/>
          <p:nvPr/>
        </p:nvPicPr>
        <p:blipFill>
          <a:blip r:embed="rId1"/>
          <a:stretch/>
        </p:blipFill>
        <p:spPr>
          <a:xfrm>
            <a:off x="152280" y="3178080"/>
            <a:ext cx="4343400" cy="32227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4" descr="los2.jpg"/>
          <p:cNvPicPr/>
          <p:nvPr/>
        </p:nvPicPr>
        <p:blipFill>
          <a:blip r:embed="rId2"/>
          <a:stretch/>
        </p:blipFill>
        <p:spPr>
          <a:xfrm>
            <a:off x="4673520" y="3124080"/>
            <a:ext cx="4367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рсук – самый большой лежеб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сука увидеть трудно, потому что он любит поспать. Летом спит весь день, а зимой – день и ночь. Лишь изредка он просыпается и бродит по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3" descr="badger21.jpg"/>
          <p:cNvPicPr/>
          <p:nvPr/>
        </p:nvPicPr>
        <p:blipFill>
          <a:blip r:embed="rId1"/>
          <a:stretch/>
        </p:blipFill>
        <p:spPr>
          <a:xfrm>
            <a:off x="38160" y="3276720"/>
            <a:ext cx="4533840" cy="30384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x_46a58a16.jpg"/>
          <p:cNvPicPr/>
          <p:nvPr/>
        </p:nvPicPr>
        <p:blipFill>
          <a:blip r:embed="rId2"/>
          <a:stretch/>
        </p:blipFill>
        <p:spPr>
          <a:xfrm>
            <a:off x="4648320" y="3276720"/>
            <a:ext cx="43448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7468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ухоль- живой памятник прир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280" y="1371240"/>
            <a:ext cx="88394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ухоль относится к одной из древнейших групп млекопитающих, представители которой жили ещё 30 миллионов лет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3" descr="44a9ff92f71cd36abb642b110ab.jpg"/>
          <p:cNvPicPr/>
          <p:nvPr/>
        </p:nvPicPr>
        <p:blipFill>
          <a:blip r:embed="rId1"/>
          <a:stretch/>
        </p:blipFill>
        <p:spPr>
          <a:xfrm>
            <a:off x="79200" y="3200400"/>
            <a:ext cx="4781880" cy="31240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287_14_3.jpg"/>
          <p:cNvPicPr/>
          <p:nvPr/>
        </p:nvPicPr>
        <p:blipFill>
          <a:blip r:embed="rId2"/>
          <a:stretch/>
        </p:blipFill>
        <p:spPr>
          <a:xfrm>
            <a:off x="4925880" y="3200400"/>
            <a:ext cx="40276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бр – речной инжене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68580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бр уже давно пользуется всеобщим уважением, как искусный четвероногий инженер, лесоруб и создатель запруд. Он не только стал символом трудолюбия и упорства, но и многому научил люд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3" descr="bober999.jpg"/>
          <p:cNvPicPr/>
          <p:nvPr/>
        </p:nvPicPr>
        <p:blipFill>
          <a:blip r:embed="rId1"/>
          <a:stretch/>
        </p:blipFill>
        <p:spPr>
          <a:xfrm>
            <a:off x="0" y="3352680"/>
            <a:ext cx="4419720" cy="30481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post-436-1144619745_thumb.jpg"/>
          <p:cNvPicPr/>
          <p:nvPr/>
        </p:nvPicPr>
        <p:blipFill>
          <a:blip r:embed="rId2"/>
          <a:stretch/>
        </p:blipFill>
        <p:spPr>
          <a:xfrm>
            <a:off x="4457880" y="3273480"/>
            <a:ext cx="468612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дра – беспечная резвуш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447560"/>
            <a:ext cx="8534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ры превосходно приспособлены для обитания в воде. Они ведут активный образ жизни и днём и ноч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3" descr="img_07.jpg"/>
          <p:cNvPicPr/>
          <p:nvPr/>
        </p:nvPicPr>
        <p:blipFill>
          <a:blip r:embed="rId1"/>
          <a:stretch/>
        </p:blipFill>
        <p:spPr>
          <a:xfrm>
            <a:off x="5791320" y="2819520"/>
            <a:ext cx="3200400" cy="20984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otter-8603.jpg"/>
          <p:cNvPicPr/>
          <p:nvPr/>
        </p:nvPicPr>
        <p:blipFill>
          <a:blip r:embed="rId2"/>
          <a:stretch/>
        </p:blipFill>
        <p:spPr>
          <a:xfrm>
            <a:off x="152280" y="2895480"/>
            <a:ext cx="3237120" cy="20574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604116001200wydra-drap.jpg"/>
          <p:cNvPicPr/>
          <p:nvPr/>
        </p:nvPicPr>
        <p:blipFill>
          <a:blip r:embed="rId3"/>
          <a:stretch/>
        </p:blipFill>
        <p:spPr>
          <a:xfrm>
            <a:off x="3200400" y="449568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1-09-14T17:34:27Z</dcterms:modified>
  <cp:revision>44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200000000000010250300207f7000400038000</vt:lpwstr>
  </property>
  <property fmtid="{D5CDD505-2E9C-101B-9397-08002B2CF9AE}" pid="3" name="Version">
    <vt:r8>1</vt:r8>
  </property>
</Properties>
</file>