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3733-13F2-489C-8F62-A24038825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D22F-34EC-45CA-8589-47EDE5F5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4DC8-A358-49EB-8CB9-ECF670C75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7679-A1AB-4FFB-AD1D-2047322A4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6093-BEB9-4705-8128-C00A2C832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884B-DEBD-4AA6-9D79-79056285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A9E9-8834-4975-8181-718E5D6B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5773-F4B3-43B9-870C-F9D6F931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7B15-0AA7-4629-A51A-8FF6D178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033C-9A6F-4551-8480-1FD45B7A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C6BE-D049-47BB-A3C7-46676711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C76E-ED2A-4D94-BC0C-9BEF3010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ED7B-D96D-4942-853A-890E98A0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57F8-B357-44F9-A18F-FCB22E01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9ED9-561D-45EF-BD15-467D91C6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DA0F-597E-46C0-98EA-2480F3DC9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ED93-2730-4C6F-BC84-5157E16AA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49FC-A5E6-4118-B5EC-A943181C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4C37-C4FF-4068-8203-CDED624A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4EBF-A0F3-49CE-A276-52F09D31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B51C-5E4D-4440-86BE-6AF45C25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4789-6845-475B-B093-6A7651B5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B60F-2DDB-41D0-95AF-08CD61B0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2D6A-439D-46F4-A720-967E9EF8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D390-71C0-4020-90FD-C1F7A2E6A17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DD10-13F3-48CB-A386-D56D703492A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amospas.ru/fire/t_blank" TargetMode="External"/><Relationship Id="rId2" Type="http://schemas.openxmlformats.org/officeDocument/2006/relationships/hyperlink" Target="http://www.samospas.ru/fire/t_blank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lang="ru-RU" sz="6600" spc="-1" strike="noStrike">
                <a:solidFill>
                  <a:srgbClr val="ffffcc"/>
                </a:solidFill>
                <a:latin typeface="Tahoma"/>
              </a:rPr>
              <a:t>Огонь  ошибок не </a:t>
            </a:r>
            <a:br>
              <a:rPr sz="6600"/>
            </a:br>
            <a:br>
              <a:rPr sz="6600"/>
            </a:br>
            <a:r>
              <a:rPr b="0" lang="ru-RU" sz="6600" spc="-1" strike="noStrike">
                <a:solidFill>
                  <a:srgbClr val="ffffcc"/>
                </a:solidFill>
                <a:latin typeface="Tahoma"/>
              </a:rPr>
              <a:t>прощает</a:t>
            </a:r>
            <a:br>
              <a:rPr sz="72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                                   подготовила: учитель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                                                Парталян О.С.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МБОУСОШ № 11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огнь"/>
          <p:cNvPicPr/>
          <p:nvPr/>
        </p:nvPicPr>
        <p:blipFill>
          <a:blip r:embed="rId1"/>
          <a:stretch/>
        </p:blipFill>
        <p:spPr>
          <a:xfrm>
            <a:off x="228600" y="457200"/>
            <a:ext cx="8610480" cy="55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-360" y="304920"/>
            <a:ext cx="43434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ничтожается 160 стро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4 человека погиба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7 человек получают трав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лее 2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лн.ущерб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6" descr="мчс1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2193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огонь6"/>
          <p:cNvPicPr/>
          <p:nvPr/>
        </p:nvPicPr>
        <p:blipFill>
          <a:blip r:embed="rId2"/>
          <a:stretch/>
        </p:blipFill>
        <p:spPr>
          <a:xfrm>
            <a:off x="4648320" y="1828800"/>
            <a:ext cx="2895480" cy="2328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огонь2"/>
          <p:cNvPicPr/>
          <p:nvPr/>
        </p:nvPicPr>
        <p:blipFill>
          <a:blip r:embed="rId3"/>
          <a:stretch/>
        </p:blipFill>
        <p:spPr>
          <a:xfrm>
            <a:off x="4267080" y="4191120"/>
            <a:ext cx="4267440" cy="247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Памят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Как вести себя на пожар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сли огонь небольшой, можно попробовать сразу же затушить его, набросив на него плотную ткань, одеяло или вылив кастрюлю во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сли огонь сразу не погас, немедленно убегай из дома в безопасное место. И только после этого звони в пожарную охрану по телефону "О 1" или попроси об этом сосед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сли не можешь убежать из горящей квартиры, сразу же позвони по телефону "01" и сообщи пожарным точный адрес и номер своей квартиры. После этого из окна зови на помощь соседей и прохожих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98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сли чувствуешь, что задыхаешься от дыма, опустись на корточки или продвигайся к выходу ползком - внизу меньше дым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и пожаре в подъезде никогда не садись в лифт, он может отключиться, и ты задохнешьс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жидая приезда пожарных, не теряй головы и не выпрыгивай из окна, тебя обязательно спасу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гда приедут пожарные, во всем их слушайся и не бойся, они лучше знают, как тебя спасти.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01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       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     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Телефон пожарной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службы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РОМЕТЕ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52880" y="1599840"/>
            <a:ext cx="3733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гонек всегда такой –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 хороший, и плохой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н и светит, он и греет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 проказничать уме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пром"/>
          <p:cNvPicPr/>
          <p:nvPr/>
        </p:nvPicPr>
        <p:blipFill>
          <a:blip r:embed="rId1"/>
          <a:stretch/>
        </p:blipFill>
        <p:spPr>
          <a:xfrm>
            <a:off x="457200" y="1371600"/>
            <a:ext cx="4292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ОЖАР. Что это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400800" y="1599840"/>
            <a:ext cx="2743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Пожар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(fire)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- неконтролируемое горение, причиняющее материальный ущерб, вред жизни и здоровью граждан, интересам общества и государств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Пожар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(fire)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- огонь, способный самостоятельно распространяться вне мест, специально предназначенных для его разведения и поддержания. При этом огонь не обязательно появляется в виде открытого пламени, достаточно тления и горения (накаливания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огонь"/>
          <p:cNvPicPr/>
          <p:nvPr/>
        </p:nvPicPr>
        <p:blipFill>
          <a:blip r:embed="rId3"/>
          <a:stretch/>
        </p:blipFill>
        <p:spPr>
          <a:xfrm>
            <a:off x="0" y="1371600"/>
            <a:ext cx="64771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057040" y="228600"/>
            <a:ext cx="7086600" cy="643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1549 году Иван Грозный издал указ о пожарной безопасности, который обязывал обывателей иметь средства пожаротушения в каждом доме.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30(17) апреля - День работников пожарной охран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В этот день в 1649 году царь Алексей Михайлович подписал указ о создании первой российской противопожарной служб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нем создания единой противопожарной службы на территории бывшего Советского Союза считае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7 апреля 1918 года, когда был подписан декрет "Об организации государственных мер борьбы с огнем"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6" descr="иван"/>
          <p:cNvPicPr/>
          <p:nvPr/>
        </p:nvPicPr>
        <p:blipFill>
          <a:blip r:embed="rId1"/>
          <a:stretch/>
        </p:blipFill>
        <p:spPr>
          <a:xfrm>
            <a:off x="152280" y="228600"/>
            <a:ext cx="222264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029200" y="38052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auhaus 93"/>
              </a:rPr>
              <a:t>Государственна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auhaus 93"/>
              </a:rPr>
              <a:t>Противопожар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auhaus 93"/>
              </a:rPr>
              <a:t>служба (ГПС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uhaus 93"/>
              </a:rPr>
              <a:t>в составе МЧС Рос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3" descr="мчс1"/>
          <p:cNvPicPr/>
          <p:nvPr/>
        </p:nvPicPr>
        <p:blipFill>
          <a:blip r:embed="rId1"/>
          <a:stretch/>
        </p:blipFill>
        <p:spPr>
          <a:xfrm>
            <a:off x="4606920" y="4038480"/>
            <a:ext cx="4537080" cy="2514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мчс2"/>
          <p:cNvPicPr/>
          <p:nvPr/>
        </p:nvPicPr>
        <p:blipFill>
          <a:blip r:embed="rId2"/>
          <a:stretch/>
        </p:blipFill>
        <p:spPr>
          <a:xfrm>
            <a:off x="0" y="2849400"/>
            <a:ext cx="4651200" cy="4008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мчс"/>
          <p:cNvPicPr/>
          <p:nvPr/>
        </p:nvPicPr>
        <p:blipFill>
          <a:blip r:embed="rId3"/>
          <a:stretch/>
        </p:blipFill>
        <p:spPr>
          <a:xfrm>
            <a:off x="228600" y="228600"/>
            <a:ext cx="466560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огонь1"/>
          <p:cNvPicPr/>
          <p:nvPr/>
        </p:nvPicPr>
        <p:blipFill>
          <a:blip r:embed="rId1"/>
          <a:stretch/>
        </p:blipFill>
        <p:spPr>
          <a:xfrm>
            <a:off x="457200" y="380880"/>
            <a:ext cx="4240080" cy="61722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5"/>
          <p:cNvSpPr/>
          <p:nvPr/>
        </p:nvSpPr>
        <p:spPr>
          <a:xfrm>
            <a:off x="5029200" y="668520"/>
            <a:ext cx="3581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жарное дело - для крепких парне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жарное дело - спасение люде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жарное дело - отвага и чест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жарное дело - так было и есть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ahoma"/>
              </a:rPr>
              <a:t>7. Государственная противопожарная служба (ГПС)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щная оперативная служба в составе МЧС России, обладающая квалифицированны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драми, современной техникой, имеющая научную и учебную баз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ее составе 220 000 человек, 13 600 зданий и сооружений, в числе которых более 4000 зданий пожарных  депо, 18 634 основных и специальных пожарных  автомобилей, 49 пожарных   катер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3886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ричины пожар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3733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осторожность с огне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осторожность при курен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рушение правил эксплуатации электрооборудова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етская шал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 огне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джог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4" descr="огон"/>
          <p:cNvPicPr/>
          <p:nvPr/>
        </p:nvPicPr>
        <p:blipFill>
          <a:blip r:embed="rId1"/>
          <a:stretch/>
        </p:blipFill>
        <p:spPr>
          <a:xfrm>
            <a:off x="6172200" y="3429000"/>
            <a:ext cx="2971800" cy="2776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ого"/>
          <p:cNvPicPr/>
          <p:nvPr/>
        </p:nvPicPr>
        <p:blipFill>
          <a:blip r:embed="rId2"/>
          <a:stretch/>
        </p:blipFill>
        <p:spPr>
          <a:xfrm>
            <a:off x="3352680" y="4419720"/>
            <a:ext cx="2575080" cy="2438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огонь5"/>
          <p:cNvPicPr/>
          <p:nvPr/>
        </p:nvPicPr>
        <p:blipFill>
          <a:blip r:embed="rId3"/>
          <a:stretch/>
        </p:blipFill>
        <p:spPr>
          <a:xfrm>
            <a:off x="4191120" y="152280"/>
            <a:ext cx="495288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-304920"/>
            <a:ext cx="8915400" cy="693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cc"/>
                </a:solidFill>
                <a:latin typeface="Tahoma"/>
              </a:rPr>
              <a:t>Но самые главные виновники пожара - люди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3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3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3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3-15T12:27:32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