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0B5-01CF-47D0-BFEA-2CB5B8AC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F32-0D88-41C6-A5B3-AAACB46C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F5F-9078-49B3-A000-0B8F71ED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3629-8A8B-46BD-99A6-918E5CB2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ED32-7DF6-4C13-B13F-20CA96CF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52BD-F21E-4481-8B78-7BA3F27D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B8B8-F7FB-4D13-ABA4-4CFED776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D204-E078-44D3-92B2-663DA6DF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072E-1609-4344-A973-D835A78C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9FC7-CFBE-4D29-A333-32EA7A5F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9AFA-E799-4797-86EF-9FA91630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001-4F6A-4E98-9875-1D404F9E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BCFE-07AE-4B52-89FB-69951F70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D2B7-55AA-433A-88D8-08C0424F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6897-02F6-4F02-9B2E-E4768314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38E6-C2B6-4B31-A2C8-CEE4318E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EE33-EC9C-4920-BC05-4D8414B2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E28-1D91-4674-B018-B7BEC8EA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F40-D9AD-4552-9108-1DBAC240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72D6-235F-4F7C-9ACD-9FC52875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F5F-275A-4E1F-A6AF-548E4A18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E80-E37B-479A-A839-367BE383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00F3-7291-4FD1-B52E-B8442E60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B8BB-492B-4D16-85CC-FF44EC85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BB28-DA15-4658-92C9-51DF2473D4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E4AC-0752-4E4D-9EE6-9E1F51AF91D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amospas.ru/fire/t_blank" TargetMode="External"/><Relationship Id="rId2" Type="http://schemas.openxmlformats.org/officeDocument/2006/relationships/hyperlink" Target="http://www.samospas.ru/fire/t_blank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ru-RU" sz="6600" spc="-1" strike="noStrike">
                <a:solidFill>
                  <a:srgbClr val="ffffcc"/>
                </a:solidFill>
                <a:latin typeface="Tahoma"/>
              </a:rPr>
              <a:t>Огонь  ошибок не </a:t>
            </a:r>
            <a:br>
              <a:rPr sz="6600"/>
            </a:br>
            <a:br>
              <a:rPr sz="6600"/>
            </a:br>
            <a:r>
              <a:rPr b="0" lang="ru-RU" sz="6600" spc="-1" strike="noStrike">
                <a:solidFill>
                  <a:srgbClr val="ffffcc"/>
                </a:solidFill>
                <a:latin typeface="Tahoma"/>
              </a:rPr>
              <a:t>прощает</a:t>
            </a:r>
            <a:br>
              <a:rPr sz="72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                                  подготовила: учитель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                                               Парталян О.С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МБОУСОШ № 11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огнь"/>
          <p:cNvPicPr/>
          <p:nvPr/>
        </p:nvPicPr>
        <p:blipFill>
          <a:blip r:embed="rId1"/>
          <a:stretch/>
        </p:blipFill>
        <p:spPr>
          <a:xfrm>
            <a:off x="228600" y="457200"/>
            <a:ext cx="8610480" cy="55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43434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ничтожается 160 стро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4 человека погиба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7 человек получают трав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ее 2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лн.ущерб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мчс1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2193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огонь6"/>
          <p:cNvPicPr/>
          <p:nvPr/>
        </p:nvPicPr>
        <p:blipFill>
          <a:blip r:embed="rId2"/>
          <a:stretch/>
        </p:blipFill>
        <p:spPr>
          <a:xfrm>
            <a:off x="4648320" y="1828800"/>
            <a:ext cx="2895480" cy="232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огонь2"/>
          <p:cNvPicPr/>
          <p:nvPr/>
        </p:nvPicPr>
        <p:blipFill>
          <a:blip r:embed="rId3"/>
          <a:stretch/>
        </p:blipFill>
        <p:spPr>
          <a:xfrm>
            <a:off x="4267080" y="4191120"/>
            <a:ext cx="4267440" cy="247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амя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ак вести себя на пожар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огонь небольшой, можно попробовать сразу же затушить его, набросив на него плотную ткань, одеяло или вылив кастрюлю в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огонь сразу не погас, немедленно убегай из дома в безопасное место. И только после этого звони в пожарную охрану по телефону "О 1" или попроси об этом сосед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не можешь убежать из горящей квартиры, сразу же позвони по телефону "01" и сообщи пожарным точный адрес и номер своей квартиры. После этого из окна зови на помощь соседей и прохожи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9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чувствуешь, что задыхаешься от дыма, опустись на корточки или продвигайся к выходу ползком - внизу меньше дым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пожаре в подъезде никогда не садись в лифт, он может отключиться, и ты задохнешь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жидая приезда пожарных, не теряй головы и не выпрыгивай из окна, тебя обязательно спасу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гда приедут пожарные, во всем их слушайся и не бойся, они лучше знают, как тебя спасти.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01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       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    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елефон пожарной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лужбы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МЕТЕ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2880" y="159984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гонек всегда такой 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хороший, и плохой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и светит, он и греет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проказничать уме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пром"/>
          <p:cNvPicPr/>
          <p:nvPr/>
        </p:nvPicPr>
        <p:blipFill>
          <a:blip r:embed="rId1"/>
          <a:stretch/>
        </p:blipFill>
        <p:spPr>
          <a:xfrm>
            <a:off x="457200" y="1371600"/>
            <a:ext cx="4292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ЖАР. Что это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400800" y="159984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ожар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(fire)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неконтролируемое горение, причиняющее материальный ущерб, вред жизни и здоровью граждан, интересам общества и государств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Пожар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(fire)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огонь, способный самостоятельно распространяться вне мест, специально предназначенных для его разведения и поддержания. При этом огонь не обязательно появляется в виде открытого пламени, достаточно тления и горения (накаливания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огонь"/>
          <p:cNvPicPr/>
          <p:nvPr/>
        </p:nvPicPr>
        <p:blipFill>
          <a:blip r:embed="rId3"/>
          <a:stretch/>
        </p:blipFill>
        <p:spPr>
          <a:xfrm>
            <a:off x="0" y="1371600"/>
            <a:ext cx="6477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057040" y="228600"/>
            <a:ext cx="7086600" cy="64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1549 году Иван Грозный издал указ о пожарной безопасности, который обязывал обывателей иметь средства пожаротушения в каждом доме.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30(17) апреля - День работников пожарной охран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В этот день в 1649 году царь Алексей Михайлович подписал указ о создании первой российской противопожарной служб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нем создания единой противопожарной службы на территории бывшего Советского Союза счит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7 апреля 1918 года, когда был подписан декрет "Об организации государственных мер борьбы с огнем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иван"/>
          <p:cNvPicPr/>
          <p:nvPr/>
        </p:nvPicPr>
        <p:blipFill>
          <a:blip r:embed="rId1"/>
          <a:stretch/>
        </p:blipFill>
        <p:spPr>
          <a:xfrm>
            <a:off x="152280" y="228600"/>
            <a:ext cx="22226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029200" y="38052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auhaus 93"/>
              </a:rPr>
              <a:t>Государствен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auhaus 93"/>
              </a:rPr>
              <a:t>Противопожар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auhaus 93"/>
              </a:rPr>
              <a:t>служба (ГПС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в составе МЧС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3" descr="мчс1"/>
          <p:cNvPicPr/>
          <p:nvPr/>
        </p:nvPicPr>
        <p:blipFill>
          <a:blip r:embed="rId1"/>
          <a:stretch/>
        </p:blipFill>
        <p:spPr>
          <a:xfrm>
            <a:off x="4606920" y="4038480"/>
            <a:ext cx="4537080" cy="2514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мчс2"/>
          <p:cNvPicPr/>
          <p:nvPr/>
        </p:nvPicPr>
        <p:blipFill>
          <a:blip r:embed="rId2"/>
          <a:stretch/>
        </p:blipFill>
        <p:spPr>
          <a:xfrm>
            <a:off x="0" y="2849400"/>
            <a:ext cx="4651200" cy="4008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мчс"/>
          <p:cNvPicPr/>
          <p:nvPr/>
        </p:nvPicPr>
        <p:blipFill>
          <a:blip r:embed="rId3"/>
          <a:stretch/>
        </p:blipFill>
        <p:spPr>
          <a:xfrm>
            <a:off x="228600" y="228600"/>
            <a:ext cx="46656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огонь1"/>
          <p:cNvPicPr/>
          <p:nvPr/>
        </p:nvPicPr>
        <p:blipFill>
          <a:blip r:embed="rId1"/>
          <a:stretch/>
        </p:blipFill>
        <p:spPr>
          <a:xfrm>
            <a:off x="457200" y="380880"/>
            <a:ext cx="4240080" cy="61722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5029200" y="668520"/>
            <a:ext cx="3581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жарное дело - для крепких парне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жарное дело - спасение люде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жарное дело - отвага и чес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жарное дело - так было и есть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7. Государственная противопожарная служба (ГПС)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щная оперативная служба в составе МЧС России, обладающая квалифицированны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драми, современной техникой, имеющая научную и учебную баз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ее составе 220 000 человек, 13 600 зданий и сооружений, в числе которых более 4000 зданий пожарных  депо, 18 634 основных и специальных пожарных  автомобилей, 49 пожарных   кате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3886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ичины пожа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3733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осторожность с огне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осторожность при кур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рушение правил эксплуатации электрооборудов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тская шал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огне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жог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огон"/>
          <p:cNvPicPr/>
          <p:nvPr/>
        </p:nvPicPr>
        <p:blipFill>
          <a:blip r:embed="rId1"/>
          <a:stretch/>
        </p:blipFill>
        <p:spPr>
          <a:xfrm>
            <a:off x="6172200" y="3429000"/>
            <a:ext cx="2971800" cy="2776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ого"/>
          <p:cNvPicPr/>
          <p:nvPr/>
        </p:nvPicPr>
        <p:blipFill>
          <a:blip r:embed="rId2"/>
          <a:stretch/>
        </p:blipFill>
        <p:spPr>
          <a:xfrm>
            <a:off x="3352680" y="4419720"/>
            <a:ext cx="2575080" cy="2438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огонь5"/>
          <p:cNvPicPr/>
          <p:nvPr/>
        </p:nvPicPr>
        <p:blipFill>
          <a:blip r:embed="rId3"/>
          <a:stretch/>
        </p:blipFill>
        <p:spPr>
          <a:xfrm>
            <a:off x="4191120" y="152280"/>
            <a:ext cx="495288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8915400" cy="693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cc"/>
                </a:solidFill>
                <a:latin typeface="Tahoma"/>
              </a:rPr>
              <a:t>Но самые главные виновники пожара - люди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3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3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3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3-15T12:27:3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