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B7BA-7AD4-4FB3-9E31-BA315566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87C-43F0-4877-931F-FC298375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09E-7A87-47A2-92BA-5FA0947A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C8B-8906-498B-BE5F-EAA11C3A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FA02-140A-44A7-8236-22988691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4FD6-D28F-444D-B725-884160D8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E49A-A81F-43F4-8777-EAA71D9F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0942-1B09-4359-AB58-066EE371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D8F9-5C54-4865-B422-D8214A78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6991-ABD5-4D91-B0A9-EF8FB1BB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318F-F7AF-4502-9692-035E036D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30D8-F264-41C2-ADB1-0F7449A1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F800-E892-4A38-A5A0-2B676B86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4975-C397-4763-87DC-0CF2B9B5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85D3-3A8E-4DCD-8E31-099E8941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DF46-A403-43F3-B177-FA89F060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DAFA-13C5-4815-B666-66509847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57C-36DA-459C-9672-945CC523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E1D-7F98-4F33-9DC2-6D10D491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3A8-F090-4D4A-A1BD-6FFB6C28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E5D-AE36-4B81-AF74-B9FFBAD4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1CE-40A4-4A15-B77D-DC7AF4FB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B08-34EA-4030-869D-963D7836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85C2-4E20-4718-A861-F125E56D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F97B-A249-4D71-80EC-6101CAEDC6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0F51-F3B0-4A05-8398-76F38DF324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amospas.ru/fire/t_blank" TargetMode="External"/><Relationship Id="rId2" Type="http://schemas.openxmlformats.org/officeDocument/2006/relationships/hyperlink" Target="http://www.samospas.ru/fire/t_blank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ru-RU" sz="6600" spc="-1" strike="noStrike">
                <a:solidFill>
                  <a:srgbClr val="ffffcc"/>
                </a:solidFill>
                <a:latin typeface="Tahoma"/>
              </a:rPr>
              <a:t>Огонь  ошибок не </a:t>
            </a:r>
            <a:br>
              <a:rPr sz="6600"/>
            </a:br>
            <a:br>
              <a:rPr sz="6600"/>
            </a:br>
            <a:r>
              <a:rPr b="0" lang="ru-RU" sz="6600" spc="-1" strike="noStrike">
                <a:solidFill>
                  <a:srgbClr val="ffffcc"/>
                </a:solidFill>
                <a:latin typeface="Tahoma"/>
              </a:rPr>
              <a:t>прощает</a:t>
            </a:r>
            <a:br>
              <a:rPr sz="72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                                  подготовила: учитель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                                               Парталян О.С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МБОУСОШ № 11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огнь"/>
          <p:cNvPicPr/>
          <p:nvPr/>
        </p:nvPicPr>
        <p:blipFill>
          <a:blip r:embed="rId1"/>
          <a:stretch/>
        </p:blipFill>
        <p:spPr>
          <a:xfrm>
            <a:off x="228600" y="457200"/>
            <a:ext cx="8610480" cy="55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43434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ничтожается 160 стро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4 человека погиба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7 человек получают трав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ее 2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лн.ущерб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мчс1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2193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огонь6"/>
          <p:cNvPicPr/>
          <p:nvPr/>
        </p:nvPicPr>
        <p:blipFill>
          <a:blip r:embed="rId2"/>
          <a:stretch/>
        </p:blipFill>
        <p:spPr>
          <a:xfrm>
            <a:off x="4648320" y="1828800"/>
            <a:ext cx="2895480" cy="232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огонь2"/>
          <p:cNvPicPr/>
          <p:nvPr/>
        </p:nvPicPr>
        <p:blipFill>
          <a:blip r:embed="rId3"/>
          <a:stretch/>
        </p:blipFill>
        <p:spPr>
          <a:xfrm>
            <a:off x="4267080" y="4191120"/>
            <a:ext cx="4267440" cy="247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амя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ак вести себя на пожар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огонь небольшой, можно попробовать сразу же затушить его, набросив на него плотную ткань, одеяло или вылив кастрюлю в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огонь сразу не погас, немедленно убегай из дома в безопасное место. И только после этого звони в пожарную охрану по телефону "О 1" или попроси об этом сосед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не можешь убежать из горящей квартиры, сразу же позвони по телефону "01" и сообщи пожарным точный адрес и номер своей квартиры. После этого из окна зови на помощь соседей и прохожи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9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чувствуешь, что задыхаешься от дыма, опустись на корточки или продвигайся к выходу ползком - внизу меньше дым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пожаре в подъезде никогда не садись в лифт, он может отключиться, и ты задохнешь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жидая приезда пожарных, не теряй головы и не выпрыгивай из окна, тебя обязательно спасу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гда приедут пожарные, во всем их слушайся и не бойся, они лучше знают, как тебя спасти.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01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       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    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елефон пожарной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лужбы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МЕТЕ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2880" y="159984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гонек всегда такой 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хороший, и плохой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и светит, он и греет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проказничать уме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пром"/>
          <p:cNvPicPr/>
          <p:nvPr/>
        </p:nvPicPr>
        <p:blipFill>
          <a:blip r:embed="rId1"/>
          <a:stretch/>
        </p:blipFill>
        <p:spPr>
          <a:xfrm>
            <a:off x="457200" y="1371600"/>
            <a:ext cx="4292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ЖАР. Что это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400800" y="159984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ожар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(fire)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неконтролируемое горение, причиняющее материальный ущерб, вред жизни и здоровью граждан, интересам общества и государств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Пожар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(fire)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огонь, способный самостоятельно распространяться вне мест, специально предназначенных для его разведения и поддержания. При этом огонь не обязательно появляется в виде открытого пламени, достаточно тления и горения (накаливания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огонь"/>
          <p:cNvPicPr/>
          <p:nvPr/>
        </p:nvPicPr>
        <p:blipFill>
          <a:blip r:embed="rId3"/>
          <a:stretch/>
        </p:blipFill>
        <p:spPr>
          <a:xfrm>
            <a:off x="0" y="1371600"/>
            <a:ext cx="6477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057040" y="228600"/>
            <a:ext cx="7086600" cy="64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1549 году Иван Грозный издал указ о пожарной безопасности, который обязывал обывателей иметь средства пожаротушения в каждом доме.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30(17) апреля - День работников пожарной охран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В этот день в 1649 году царь Алексей Михайлович подписал указ о создании первой российской противопожарной служб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нем создания единой противопожарной службы на территории бывшего Советского Союза счит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7 апреля 1918 года, когда был подписан декрет "Об организации государственных мер борьбы с огнем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иван"/>
          <p:cNvPicPr/>
          <p:nvPr/>
        </p:nvPicPr>
        <p:blipFill>
          <a:blip r:embed="rId1"/>
          <a:stretch/>
        </p:blipFill>
        <p:spPr>
          <a:xfrm>
            <a:off x="152280" y="228600"/>
            <a:ext cx="22226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029200" y="38052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auhaus 93"/>
              </a:rPr>
              <a:t>Государствен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auhaus 93"/>
              </a:rPr>
              <a:t>Противопожар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auhaus 93"/>
              </a:rPr>
              <a:t>служба (ГПС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в составе МЧС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3" descr="мчс1"/>
          <p:cNvPicPr/>
          <p:nvPr/>
        </p:nvPicPr>
        <p:blipFill>
          <a:blip r:embed="rId1"/>
          <a:stretch/>
        </p:blipFill>
        <p:spPr>
          <a:xfrm>
            <a:off x="4606920" y="4038480"/>
            <a:ext cx="4537080" cy="2514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мчс2"/>
          <p:cNvPicPr/>
          <p:nvPr/>
        </p:nvPicPr>
        <p:blipFill>
          <a:blip r:embed="rId2"/>
          <a:stretch/>
        </p:blipFill>
        <p:spPr>
          <a:xfrm>
            <a:off x="0" y="2849400"/>
            <a:ext cx="4651200" cy="4008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мчс"/>
          <p:cNvPicPr/>
          <p:nvPr/>
        </p:nvPicPr>
        <p:blipFill>
          <a:blip r:embed="rId3"/>
          <a:stretch/>
        </p:blipFill>
        <p:spPr>
          <a:xfrm>
            <a:off x="228600" y="228600"/>
            <a:ext cx="46656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огонь1"/>
          <p:cNvPicPr/>
          <p:nvPr/>
        </p:nvPicPr>
        <p:blipFill>
          <a:blip r:embed="rId1"/>
          <a:stretch/>
        </p:blipFill>
        <p:spPr>
          <a:xfrm>
            <a:off x="457200" y="380880"/>
            <a:ext cx="4240080" cy="61722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5029200" y="668520"/>
            <a:ext cx="3581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жарное дело - для крепких парне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жарное дело - спасение люде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жарное дело - отвага и чес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жарное дело - так было и есть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7. Государственная противопожарная служба (ГПС)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щная оперативная служба в составе МЧС России, обладающая квалифицированны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драми, современной техникой, имеющая научную и учебную баз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ее составе 220 000 человек, 13 600 зданий и сооружений, в числе которых более 4000 зданий пожарных  депо, 18 634 основных и специальных пожарных  автомобилей, 49 пожарных   кате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3886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ичины пожа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3733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осторожность с огне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осторожность при кур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рушение правил эксплуатации электрооборудов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тская шал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огне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жог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огон"/>
          <p:cNvPicPr/>
          <p:nvPr/>
        </p:nvPicPr>
        <p:blipFill>
          <a:blip r:embed="rId1"/>
          <a:stretch/>
        </p:blipFill>
        <p:spPr>
          <a:xfrm>
            <a:off x="6172200" y="3429000"/>
            <a:ext cx="2971800" cy="2776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ого"/>
          <p:cNvPicPr/>
          <p:nvPr/>
        </p:nvPicPr>
        <p:blipFill>
          <a:blip r:embed="rId2"/>
          <a:stretch/>
        </p:blipFill>
        <p:spPr>
          <a:xfrm>
            <a:off x="3352680" y="4419720"/>
            <a:ext cx="2575080" cy="2438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огонь5"/>
          <p:cNvPicPr/>
          <p:nvPr/>
        </p:nvPicPr>
        <p:blipFill>
          <a:blip r:embed="rId3"/>
          <a:stretch/>
        </p:blipFill>
        <p:spPr>
          <a:xfrm>
            <a:off x="4191120" y="152280"/>
            <a:ext cx="495288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8915400" cy="693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cc"/>
                </a:solidFill>
                <a:latin typeface="Tahoma"/>
              </a:rPr>
              <a:t>Но самые главные виновники пожара - люди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3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3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3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3-15T12:27:3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