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8C7-7D6E-4754-87F9-4714E46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9E3-E716-4C6A-94E0-ECFE2F4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E9B-ABA1-4B41-B7B5-D7C5FFF9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29B-A015-46E5-95C1-34ED1626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398-63B8-4538-9525-50193E93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8C9-2F50-4AB9-BBEF-4FFDCD2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582-2E89-4C8C-9BF3-C98172AD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26D-8AAA-4BC6-B121-E6DC7CE8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320-1999-4072-B16F-0B6C4D5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4D9-E3C1-4C69-ADFB-E5D998C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6B8-D44B-46BA-BABE-F7C0BDCE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718-E517-40B1-A195-6A3D283B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e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532-B271-46FA-9445-21ECB0E14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81080" y="91440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днокоренны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(родственные )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лов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AutoShape 7">
            <a:hlinkClick r:id="" action="ppaction://hlinkshowjump?jump=nextslide"/>
          </p:cNvPr>
          <p:cNvSpPr/>
          <p:nvPr/>
        </p:nvSpPr>
        <p:spPr>
          <a:xfrm>
            <a:off x="0" y="3657600"/>
            <a:ext cx="4724280" cy="3200400"/>
          </a:xfrm>
          <a:custGeom>
            <a:avLst/>
            <a:gdLst>
              <a:gd name="textAreaLeft" fmla="*/ 207360 w 4724280"/>
              <a:gd name="textAreaRight" fmla="*/ 4516920 w 472428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1884" h="21600">
                <a:moveTo>
                  <a:pt x="0" y="0"/>
                </a:moveTo>
                <a:lnTo>
                  <a:pt x="31884" y="0"/>
                </a:lnTo>
                <a:lnTo>
                  <a:pt x="31884" y="21600"/>
                </a:lnTo>
                <a:lnTo>
                  <a:pt x="0" y="21600"/>
                </a:lnTo>
                <a:close/>
              </a:path>
              <a:path fill="lightenLess" w="31884" h="21600">
                <a:moveTo>
                  <a:pt x="0" y="0"/>
                </a:moveTo>
                <a:lnTo>
                  <a:pt x="31884" y="0"/>
                </a:lnTo>
                <a:lnTo>
                  <a:pt x="30484" y="1400"/>
                </a:lnTo>
                <a:lnTo>
                  <a:pt x="1400" y="1400"/>
                </a:lnTo>
                <a:close/>
              </a:path>
              <a:path fill="darken" w="31884" h="21600">
                <a:moveTo>
                  <a:pt x="31884" y="0"/>
                </a:moveTo>
                <a:lnTo>
                  <a:pt x="31884" y="21600"/>
                </a:lnTo>
                <a:lnTo>
                  <a:pt x="30484" y="20200"/>
                </a:lnTo>
                <a:lnTo>
                  <a:pt x="30484" y="1400"/>
                </a:lnTo>
                <a:close/>
              </a:path>
              <a:path fill="darkenLess" w="31884" h="21600">
                <a:moveTo>
                  <a:pt x="31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84" y="20200"/>
                </a:lnTo>
                <a:close/>
              </a:path>
              <a:path fill="lighten" w="31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952880" y="3962520"/>
            <a:ext cx="327672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ачать тест, нажми на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>
            <a:hlinkClick r:id="" action="ppaction://hlinkshowjump?jump=lastslide"/>
          </p:cNvPr>
          <p:cNvSpPr/>
          <p:nvPr/>
        </p:nvSpPr>
        <p:spPr>
          <a:xfrm>
            <a:off x="8229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ДО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ЛЕД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ЛК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ЧАС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МАЛЫШ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УХ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14400" y="1066680"/>
            <a:ext cx="35053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ыдущий результат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16765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го заданий выпол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38080" y="23623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ено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30481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н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14800" y="3733920"/>
            <a:ext cx="15238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219320" y="822960"/>
            <a:ext cx="7086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arlow Solid Italic"/>
              </a:rPr>
              <a:t>Тест составлен по обучающим материалам</a:t>
            </a:r>
            <a:r>
              <a:rPr b="0" lang="ru-RU" sz="2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«Создание интерактивных тестов в </a:t>
            </a:r>
            <a:r>
              <a:rPr b="1" lang="en-US" sz="2400" spc="-1" strike="noStrike">
                <a:solidFill>
                  <a:srgbClr val="000000"/>
                </a:solidFill>
                <a:latin typeface="Harlow Solid Italic"/>
              </a:rPr>
              <a:t>MS PowerPoint c</a:t>
            </a: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 использованием </a:t>
            </a:r>
            <a:r>
              <a:rPr b="1" lang="en-US" sz="2400" spc="-1" strike="noStrike">
                <a:solidFill>
                  <a:srgbClr val="000000"/>
                </a:solidFill>
                <a:latin typeface="Harlow Solid Italic"/>
              </a:rPr>
              <a:t>Visual Basic for Application</a:t>
            </a: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».</a:t>
            </a:r>
            <a:r>
              <a:rPr b="1" lang="ru-RU" sz="2800" spc="-1" strike="noStrike">
                <a:solidFill>
                  <a:srgbClr val="000000"/>
                </a:solidFill>
                <a:latin typeface="Harlow Solid Italic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arlow Solid Italic"/>
              </a:rPr>
              <a:t>Автор:</a:t>
            </a:r>
            <a:r>
              <a:rPr b="1" lang="en-US" sz="2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Harlow Solid Italic"/>
              </a:rPr>
              <a:t>Домнин Константин Михайло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>
            <a:hlinkClick r:id="" action="ppaction://hlinkshowjump?jump=firstslide"/>
          </p:cNvPr>
          <p:cNvSpPr/>
          <p:nvPr/>
        </p:nvSpPr>
        <p:spPr>
          <a:xfrm>
            <a:off x="822960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38080" y="914400"/>
            <a:ext cx="7696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10-23T08:33:5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