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449E-43AF-47E2-94F3-790682BF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904-11DD-4624-8619-F28A6792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968B-687B-4DEA-A8DF-00D9580C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60D6-BF53-4143-89B2-66F0AAE2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57CD-3048-4A2F-97CB-4D8929EB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699A-E417-460D-A00D-2011F6F3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DF84-203C-4FA4-8DD5-1F99A4E7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A66-FD69-446D-B1DF-6A3144CF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D9C8-999E-40B5-881D-BE287C2B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CC9-2991-4ADC-B9AB-EA0153F4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4842-B6EA-4F1F-A25C-6CD273ED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863-1E8F-475F-9214-E74099F1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ee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FADE-2DCE-4322-AEE5-9F942E4D8D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981080" y="914400"/>
            <a:ext cx="57913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Однокоренные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(родственные )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слов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AutoShape 7">
            <a:hlinkClick r:id="" action="ppaction://hlinkshowjump?jump=nextslide"/>
          </p:cNvPr>
          <p:cNvSpPr/>
          <p:nvPr/>
        </p:nvSpPr>
        <p:spPr>
          <a:xfrm>
            <a:off x="0" y="3657600"/>
            <a:ext cx="4724280" cy="3200400"/>
          </a:xfrm>
          <a:custGeom>
            <a:avLst/>
            <a:gdLst>
              <a:gd name="textAreaLeft" fmla="*/ 207360 w 4724280"/>
              <a:gd name="textAreaRight" fmla="*/ 4516920 w 4724280"/>
              <a:gd name="textAreaTop" fmla="*/ 207360 h 3200400"/>
              <a:gd name="textAreaBottom" fmla="*/ 2993040 h 3200400"/>
            </a:gdLst>
            <a:ahLst/>
            <a:rect l="textAreaLeft" t="textAreaTop" r="textAreaRight" b="textAreaBottom"/>
            <a:pathLst>
              <a:path w="31884" h="21600">
                <a:moveTo>
                  <a:pt x="0" y="0"/>
                </a:moveTo>
                <a:lnTo>
                  <a:pt x="31884" y="0"/>
                </a:lnTo>
                <a:lnTo>
                  <a:pt x="31884" y="21600"/>
                </a:lnTo>
                <a:lnTo>
                  <a:pt x="0" y="21600"/>
                </a:lnTo>
                <a:close/>
              </a:path>
              <a:path fill="lightenLess" w="31884" h="21600">
                <a:moveTo>
                  <a:pt x="0" y="0"/>
                </a:moveTo>
                <a:lnTo>
                  <a:pt x="31884" y="0"/>
                </a:lnTo>
                <a:lnTo>
                  <a:pt x="30484" y="1400"/>
                </a:lnTo>
                <a:lnTo>
                  <a:pt x="1400" y="1400"/>
                </a:lnTo>
                <a:close/>
              </a:path>
              <a:path fill="darken" w="31884" h="21600">
                <a:moveTo>
                  <a:pt x="31884" y="0"/>
                </a:moveTo>
                <a:lnTo>
                  <a:pt x="31884" y="21600"/>
                </a:lnTo>
                <a:lnTo>
                  <a:pt x="30484" y="20200"/>
                </a:lnTo>
                <a:lnTo>
                  <a:pt x="30484" y="1400"/>
                </a:lnTo>
                <a:close/>
              </a:path>
              <a:path fill="darkenLess" w="31884" h="21600">
                <a:moveTo>
                  <a:pt x="31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484" y="20200"/>
                </a:lnTo>
                <a:close/>
              </a:path>
              <a:path fill="lighten" w="31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4952880" y="3962520"/>
            <a:ext cx="3276720" cy="703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начать тест, нажми на карти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1">
            <a:hlinkClick r:id="" action="ppaction://hlinkshowjump?jump=lastslide"/>
          </p:cNvPr>
          <p:cNvSpPr/>
          <p:nvPr/>
        </p:nvSpPr>
        <p:spPr>
          <a:xfrm>
            <a:off x="82296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9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ДОМ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СЛЕД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БЕЛКА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ЧАС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МАЛЫШ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УХО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6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914400" y="1066680"/>
            <a:ext cx="3505320" cy="3988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ыдущий результат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Monotype Corsi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38080" y="1676520"/>
            <a:ext cx="480060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го заданий выполн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838080" y="2362320"/>
            <a:ext cx="480060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полнено 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838080" y="3048120"/>
            <a:ext cx="480060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цент вы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114800" y="3733920"/>
            <a:ext cx="152388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1219320" y="822960"/>
            <a:ext cx="70866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35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Harlow Solid Italic"/>
              </a:rPr>
              <a:t>Тест составлен по обучающим материалам</a:t>
            </a:r>
            <a:r>
              <a:rPr b="0" lang="ru-RU" sz="2800" spc="-1" strike="noStrike">
                <a:solidFill>
                  <a:srgbClr val="000000"/>
                </a:solidFill>
                <a:latin typeface="Harlow Solid Ital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35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Harlow Solid Italic"/>
              </a:rPr>
              <a:t>«Создание интерактивных тестов в </a:t>
            </a:r>
            <a:r>
              <a:rPr b="1" lang="en-US" sz="2400" spc="-1" strike="noStrike">
                <a:solidFill>
                  <a:srgbClr val="000000"/>
                </a:solidFill>
                <a:latin typeface="Harlow Solid Italic"/>
              </a:rPr>
              <a:t>MS PowerPoint c</a:t>
            </a:r>
            <a:r>
              <a:rPr b="1" lang="ru-RU" sz="2400" spc="-1" strike="noStrike">
                <a:solidFill>
                  <a:srgbClr val="000000"/>
                </a:solidFill>
                <a:latin typeface="Harlow Solid Italic"/>
              </a:rPr>
              <a:t> использованием </a:t>
            </a:r>
            <a:r>
              <a:rPr b="1" lang="en-US" sz="2400" spc="-1" strike="noStrike">
                <a:solidFill>
                  <a:srgbClr val="000000"/>
                </a:solidFill>
                <a:latin typeface="Harlow Solid Italic"/>
              </a:rPr>
              <a:t>Visual Basic for Application</a:t>
            </a:r>
            <a:r>
              <a:rPr b="1" lang="ru-RU" sz="2400" spc="-1" strike="noStrike">
                <a:solidFill>
                  <a:srgbClr val="000000"/>
                </a:solidFill>
                <a:latin typeface="Harlow Solid Italic"/>
              </a:rPr>
              <a:t>».</a:t>
            </a:r>
            <a:r>
              <a:rPr b="1" lang="ru-RU" sz="2800" spc="-1" strike="noStrike">
                <a:solidFill>
                  <a:srgbClr val="000000"/>
                </a:solidFill>
                <a:latin typeface="Harlow Solid Italic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35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35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Harlow Solid Italic"/>
              </a:rPr>
              <a:t>Автор:</a:t>
            </a:r>
            <a:r>
              <a:rPr b="1" lang="en-US" sz="2800" spc="-1" strike="noStrike">
                <a:solidFill>
                  <a:srgbClr val="000000"/>
                </a:solidFill>
                <a:latin typeface="Harlow Solid Ital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Harlow Solid Italic"/>
              </a:rPr>
              <a:t>Домнин Константин Михайлови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35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>
            <a:hlinkClick r:id="" action="ppaction://hlinkshowjump?jump=firstslide"/>
          </p:cNvPr>
          <p:cNvSpPr/>
          <p:nvPr/>
        </p:nvSpPr>
        <p:spPr>
          <a:xfrm>
            <a:off x="8229600" y="6172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8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838080" y="914400"/>
            <a:ext cx="769644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</cp:lastModifiedBy>
  <dcterms:modified xsi:type="dcterms:W3CDTF">2012-10-23T08:33:5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