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3E2D5-7AAC-4BD3-AEE9-BDFD72B92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51D38-E485-4DA1-9D4A-5207C3337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B951F-C14D-47D6-9E99-A703B48FC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EDBD6-1A51-43D0-AB39-3DC6314D9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E96A45-93FD-4327-8CC5-2111A2D327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6FEB5-2ABE-4A32-A748-5E6083F68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60FC1-71A1-4931-8472-5112F7029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1D622-9298-4D0A-B33F-618446D7E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5E7A7-0FEA-4F44-BC8B-FAFB55EB0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687E9-E925-4AA8-85BA-7F2C7D1B6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AC6EB-4D03-4667-AE30-16A571B7E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922C0-4692-4543-8A11-41C1A3C0C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3C9A4-9529-4C1E-8E33-A1B50628F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A9D56-88EC-4021-AAEA-94A99D1BC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8C43B-7B8F-473D-9632-886F9A7FA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8F21C6-7093-4740-9833-63825C1C3C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21400F-92D5-4903-BB82-8B8ACFB5C1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6B0D11-155B-4A25-9CD7-48DBD87472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0B7897-BB5C-4A04-8B96-8F0C66EF8E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C76BBF-9D6F-448D-BA23-BEF0666752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EC4F58-7C74-41B0-A3EE-E621A23686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86A7B1-F369-4FA1-ADA0-4978268C5E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857B7-AA85-49FD-8CD8-BECCC4EEE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75B96A-60BF-440C-B8B0-62F2BAB25E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D5DE4F-59E2-4DB1-8BB1-07F350F035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E9A2AF-2D95-48D0-BFC3-25F501A5C9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D6BF5B-F67F-46CC-9518-DB1EA349CF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600C99-2ACE-4F41-90AB-7D2E5D02E2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E4270A-56F7-4A66-88E4-068A7E8FD4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372D0F-699E-4B3B-899A-57CED232C3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81D1D2-EBAF-4C07-9E82-6CBB42FEE9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CE1F9A-C58F-4C7E-A062-C4642C78AA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8FB7E7-0704-4752-8464-71DB50A16B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C07CD-34DE-492B-97EB-3B11F633B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952305-4A75-494C-BC59-E18ADF4A6D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F98A04-C5C7-45B8-A10B-F91D1D94DA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A09F06-C637-4A94-833E-AA2B26E744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0CF05F-D938-4038-834E-0D6866348C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39C5F5-32E2-499F-8FDB-E043BC3FD1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17AD57-403D-4E2D-A81F-0B25BA8D59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16CE92-1BD2-407F-87D0-6CBB109CAC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746172-7DC4-4AC6-8712-06026C37C7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E4F4EA-81E2-4617-860A-9558FA3F82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66B2E-936E-43AB-8F3C-F06930FC7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026FF-6A06-48CD-A7F6-1047FC3B1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19BD6-D326-46C4-B4B1-3FEF17554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7B371-A98C-4B23-B49B-CABA4DB88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9DD0C-B43A-481E-9C8E-FFB0496D7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9D19-DC4D-450D-9FB0-B5B63FB5B470}"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E7DC-A375-4E4F-8467-12C86220F5BC}"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327D0-9943-4CE4-AA05-8B3C6E213B18}"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306F5-C8B3-49F1-8B80-3551B46CD7E2}"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p3ps.files.wordpress.com/2010/04/plotina1.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249120" y="853920"/>
            <a:ext cx="8609040" cy="377856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95280" y="260280"/>
            <a:ext cx="8291520" cy="6408720"/>
          </a:xfrm>
          <a:prstGeom prst="rect">
            <a:avLst/>
          </a:prstGeom>
          <a:noFill/>
          <a:ln w="0">
            <a:noFill/>
          </a:ln>
        </p:spPr>
        <p:txBody>
          <a:bodyPr anchor="t">
            <a:normAutofit fontScale="95000"/>
          </a:bodyPr>
          <a:p>
            <a:pPr marL="259200" indent="-2592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После страшной аварии на Саяно-Шушенской ГЭС возникли сомнения в надежности многих гидротехнических сооружений России. Эксперты призывают обратить внимание на старые водные сооружения, авария на которых может привести к десяткам жертв. </a:t>
            </a:r>
            <a:endParaRPr b="0" lang="en-US" sz="2200" spc="-1" strike="noStrike">
              <a:solidFill>
                <a:srgbClr val="000000"/>
              </a:solidFill>
              <a:latin typeface="Constantia"/>
            </a:endParaRPr>
          </a:p>
          <a:p>
            <a:pPr marL="259200" indent="-2592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onstantia"/>
              </a:rPr>
              <a:t>Причины</a:t>
            </a:r>
            <a:r>
              <a:rPr b="1" lang="ru-RU" sz="2200" spc="-1" strike="noStrike">
                <a:solidFill>
                  <a:srgbClr val="000000"/>
                </a:solidFill>
                <a:latin typeface="Constantia"/>
              </a:rPr>
              <a:t> Превышение нормативных сроков эксплуатации оборудования, не готовность плотин к крупным природным катаклизмам, не соответствие гидротехнических объектов нормам безопасности. </a:t>
            </a:r>
            <a:endParaRPr b="0" lang="en-US" sz="2200" spc="-1" strike="noStrike">
              <a:solidFill>
                <a:srgbClr val="000000"/>
              </a:solidFill>
              <a:latin typeface="Constantia"/>
            </a:endParaRPr>
          </a:p>
          <a:p>
            <a:pPr marL="259200" indent="-2592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onstantia"/>
              </a:rPr>
              <a:t>Состояние дел в отрасли</a:t>
            </a:r>
            <a:r>
              <a:rPr b="1" lang="ru-RU" sz="2200" spc="-1" strike="noStrike">
                <a:solidFill>
                  <a:srgbClr val="000000"/>
                </a:solidFill>
                <a:latin typeface="Constantia"/>
              </a:rPr>
              <a:t> Топливно-энергетический комплекс России использует 350 гидротехнических сооружений, из которых 100 – гидроэлектростанции с крупными водохранилищами. Еще около 700 водохранилищ используются для судоходства, 200 - в сельском хозяйстве. Более двух десятков тысяч мелких прудов и водохранилищ используются для других хозяйственных целей.</a:t>
            </a:r>
            <a:endParaRPr b="0" lang="en-US" sz="2200" spc="-1" strike="noStrike">
              <a:solidFill>
                <a:srgbClr val="000000"/>
              </a:solidFill>
              <a:latin typeface="Constantia"/>
            </a:endParaRPr>
          </a:p>
          <a:p>
            <a:pPr marL="259200" indent="-2592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onstantia"/>
              </a:rPr>
              <a:t>Прогнозы</a:t>
            </a:r>
            <a:r>
              <a:rPr b="1" lang="ru-RU" sz="2200" spc="-1" strike="noStrike">
                <a:solidFill>
                  <a:srgbClr val="000000"/>
                </a:solidFill>
                <a:latin typeface="Constantia"/>
              </a:rPr>
              <a:t> "В первую очередь надо опасаться самых крупных возможных катастроф - для России это прорывы плотин на Волге и на сибирских реках, что может привести к миллионам жертв", - предупреждает эксперт по глобальным катастрофам Алексей Турчин. </a:t>
            </a:r>
            <a:endParaRPr b="0" lang="en-US" sz="2200" spc="-1" strike="noStrike">
              <a:solidFill>
                <a:srgbClr val="000000"/>
              </a:solidFill>
              <a:latin typeface="Constantia"/>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755280" y="115920"/>
            <a:ext cx="7931160" cy="633744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Не исключены аварии на шламонакопителях", - добавляет руководитель программ "Гринпис" Иван Блоков. "По сути это гидротехнические объекты, которые стареют, из которых многие сотни, если не тысячи, не соответствуют требованиям безопасности. Практически все они за малым исключением были построены в советские времена и рассчитаны на 10-20, какие-то на 30 лет. Предсказать, когда что-то произойдет, довольно сложно, но с каждым годом повышается вероятность того, что где-то на них произойдет авария", - отмечает представитель "зеленых".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onstantia"/>
              </a:rPr>
              <a:t>История катастроф</a:t>
            </a:r>
            <a:r>
              <a:rPr b="1" lang="ru-RU" sz="1800" spc="-1" strike="noStrike">
                <a:solidFill>
                  <a:srgbClr val="000000"/>
                </a:solidFill>
                <a:latin typeface="Constantia"/>
              </a:rPr>
              <a:t> Наиболее крупная авария на гидросооружениях в истории современной России произошла 17 августа 2009г. на крупнейшей в России гидроэлектростанции - Саяно-Шушенской ГЭС. 3 из 10 генерирующих гидроагрегатов были полностью уничтожены, а все остальные повреждены. Погибли 75 человек. Саяно-Шушенская ГЭС обеспечивала потребности в электроэнергии для четверти Сибири. Восстановительные работы на гидроэлектростанции закончатся не ранее 2014г.</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Самой разрушительной катастрофой за всю историю существования ГЭС стал прорыв плотины китайского водохранилища Баньцяо на реке Жухэ в провинции Хэнань в 1975 году. В результате ЧП погибло более 170 000 человек, пострадало 11 млн. человек.</a:t>
            </a:r>
            <a:br>
              <a:rPr sz="1800"/>
            </a:br>
            <a:r>
              <a:rPr b="1" lang="ru-RU"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C:\Users\User\Desktop\1318410553_0351_250x200.jpg"/>
          <p:cNvPicPr/>
          <p:nvPr/>
        </p:nvPicPr>
        <p:blipFill>
          <a:blip r:embed="rId1"/>
          <a:stretch/>
        </p:blipFill>
        <p:spPr>
          <a:xfrm>
            <a:off x="0" y="0"/>
            <a:ext cx="9144000" cy="6858000"/>
          </a:xfrm>
          <a:prstGeom prst="rect">
            <a:avLst/>
          </a:prstGeom>
          <a:ln w="0">
            <a:noFill/>
          </a:ln>
        </p:spPr>
      </p:pic>
    </p:spTree>
  </p:cSld>
  <p:transition>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Картинка 10 из 1893"/>
          <p:cNvPicPr/>
          <p:nvPr/>
        </p:nvPicPr>
        <p:blipFill>
          <a:blip r:embed="rId1"/>
          <a:stretch/>
        </p:blipFill>
        <p:spPr>
          <a:xfrm>
            <a:off x="0" y="0"/>
            <a:ext cx="9161640" cy="6858000"/>
          </a:xfrm>
          <a:prstGeom prst="rect">
            <a:avLst/>
          </a:prstGeom>
          <a:ln w="0">
            <a:noFill/>
          </a:ln>
        </p:spPr>
      </p:pic>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Картинка 52 из 1893"/>
          <p:cNvPicPr/>
          <p:nvPr/>
        </p:nvPicPr>
        <p:blipFill>
          <a:blip r:embed="rId1"/>
          <a:stretch/>
        </p:blipFill>
        <p:spPr>
          <a:xfrm>
            <a:off x="0" y="0"/>
            <a:ext cx="9144000" cy="6858000"/>
          </a:xfrm>
          <a:prstGeom prst="rect">
            <a:avLst/>
          </a:prstGeom>
          <a:ln w="0">
            <a:noFill/>
          </a:ln>
        </p:spPr>
      </p:pic>
    </p:spTree>
  </p:cSld>
  <p:transition>
    <p:wheel spokes="3"/>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Картинка 9 из 7759"/>
          <p:cNvPicPr/>
          <p:nvPr/>
        </p:nvPicPr>
        <p:blipFill>
          <a:blip r:embed="rId1"/>
          <a:stretch/>
        </p:blipFill>
        <p:spPr>
          <a:xfrm>
            <a:off x="0" y="0"/>
            <a:ext cx="9161640" cy="6858000"/>
          </a:xfrm>
          <a:prstGeom prst="rect">
            <a:avLst/>
          </a:prstGeom>
          <a:ln w="0">
            <a:noFill/>
          </a:ln>
        </p:spPr>
      </p:pic>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523880" y="1397160"/>
          <a:ext cx="6096240" cy="4485960"/>
        </p:xfrm>
        <a:graphic>
          <a:graphicData uri="http://schemas.openxmlformats.org/drawingml/2006/table">
            <a:tbl>
              <a:tblPr/>
              <a:tblGrid>
                <a:gridCol w="1119240"/>
                <a:gridCol w="49770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Групп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Мероприят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01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постоянно</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остоянный надзор за безопасностью функционирования сооружений и накопители жидких отходов  промышленности. Периодическое обследование гидротехнических сооружений и проверка организации надзора за ним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во время ЧС</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Ликвидация последствий Ч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спасение люд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осстановление доро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доставка населению продовольствия, вод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осстановление объектов экономик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nstantia"/>
                        </a:rPr>
                        <a:t>постоянно</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Организация подготовки населения к безопасному поведению при угрозе возникновения ЧС на ГС и во время неё</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Box 6"/>
          <p:cNvSpPr/>
          <p:nvPr/>
        </p:nvSpPr>
        <p:spPr>
          <a:xfrm>
            <a:off x="1071720" y="1000080"/>
            <a:ext cx="7429320" cy="41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70c0"/>
                </a:solidFill>
                <a:uFillTx/>
                <a:latin typeface="Arial"/>
              </a:rPr>
              <a:t>Как подготовиться к ГД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нать попадает ли ваш населённый пункт в зону затопления и в зону волны проры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нать расположение возвышенностей вблизи дом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нать порядок эвакуации, место сбора при эвакуац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ть быстро собрать документы и вещ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иться пользоваться плавательными средства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3"/>
          <p:cNvSpPr/>
          <p:nvPr/>
        </p:nvSpPr>
        <p:spPr>
          <a:xfrm>
            <a:off x="1428840" y="1857240"/>
            <a:ext cx="68580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6"/>
          <p:cNvSpPr/>
          <p:nvPr/>
        </p:nvSpPr>
        <p:spPr>
          <a:xfrm>
            <a:off x="571680" y="1571760"/>
            <a:ext cx="7286400" cy="353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 </a:t>
            </a:r>
            <a:r>
              <a:rPr b="0" lang="ru-RU" sz="2800" spc="-1" strike="noStrike" u="sng">
                <a:solidFill>
                  <a:srgbClr val="0070c0"/>
                </a:solidFill>
                <a:uFillTx/>
                <a:latin typeface="Arial"/>
              </a:rPr>
              <a:t>Как действовать при угрозе ГД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при получении информации немедленно эвакуировать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зять с собой документы, вещи, продукты и воду</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мущество перенести на верхние этаж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д уходом из дома выключить свет, воду, га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отно закройте окна и двер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Box 9"/>
          <p:cNvSpPr/>
          <p:nvPr/>
        </p:nvSpPr>
        <p:spPr>
          <a:xfrm>
            <a:off x="285840" y="1643040"/>
            <a:ext cx="8858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 </a:t>
            </a:r>
            <a:r>
              <a:rPr b="0" lang="ru-RU" sz="2400" spc="-1" strike="noStrike" u="sng">
                <a:solidFill>
                  <a:srgbClr val="0070c0"/>
                </a:solidFill>
                <a:uFillTx/>
                <a:latin typeface="Arial"/>
              </a:rPr>
              <a:t>В условиях наводнения при ГД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внезапном затоплении для спасения от волны прорыва срочно займите возвышенное место, заберитесь на верхние этажи устойчивых зданий или на крепкие деревь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азавшись в воде, вплавь или с помощью подручных средств выбираться на возвышенное мест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ли вы дома поднимитесь на чердак, взяв с собой всё необходимое, фонарик, отключите электричество, газ, вод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вакуироваться самостоятельно в крайнем случа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2"/>
          <p:cNvSpPr/>
          <p:nvPr/>
        </p:nvSpPr>
        <p:spPr>
          <a:xfrm>
            <a:off x="1285920" y="1000080"/>
            <a:ext cx="750096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70c0"/>
                </a:solidFill>
                <a:uFillTx/>
                <a:latin typeface="Arial"/>
              </a:rPr>
              <a:t>Как действовать после Г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бедиться в отсутствии повреждения перекрытий и сте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ветрить зда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использовать источники открытого огн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верить с помощью внешнего осмотра  исправность электропроводки,труб газо и водоснабжения и канализац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сушить помещ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брать грязь с пола и стен,откачать воду из подвал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не употреблять пищевые продукты, которые находились в контакте с водо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87280" y="350640"/>
            <a:ext cx="74995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Аварии на гидротехнических сооружениях</a:t>
            </a:r>
            <a:endParaRPr b="0" lang="en-US" sz="4500" spc="-1" strike="noStrike">
              <a:solidFill>
                <a:srgbClr val="04617b"/>
              </a:solidFill>
              <a:latin typeface="Calibri"/>
            </a:endParaRPr>
          </a:p>
        </p:txBody>
      </p:sp>
      <p:sp>
        <p:nvSpPr>
          <p:cNvPr id="203" name=""/>
          <p:cNvSpPr txBox="1"/>
          <p:nvPr/>
        </p:nvSpPr>
        <p:spPr>
          <a:xfrm>
            <a:off x="179280" y="1628280"/>
            <a:ext cx="8686800" cy="5048280"/>
          </a:xfrm>
          <a:prstGeom prst="rect">
            <a:avLst/>
          </a:prstGeom>
          <a:noFill/>
          <a:ln w="0">
            <a:noFill/>
          </a:ln>
        </p:spPr>
        <p:txBody>
          <a:bodyPr anchor="t">
            <a:normAutofit fontScale="98000"/>
          </a:bodyPr>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Опасность возникновения затопления низинных районов происходит при разрушении плотин, дамб и гидроузлов. Непосредственную опасность представляет стремительный и мощный поток воды, вызывающий поражения, затопления и разрушения зданий и сооружений. </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ысота и скорость волны прорыва зависят от того, где происходит - в верхнем или нижнем бьефах. Для равнинных районов скорость движения прорыва колеблется от 3 до 25 км/ч, в горных местностях доходит до 100 км/ч. </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Значительные участки местности через 15-30 мин. обычно оказываются затопленными слоем воды толщиной от 0,5 до 10 м и более. Время, в течение которого территории могут находиться под водой, колеблется от нескольких часов до нескольких суток. </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По каждому гидроузлу имеются схемы и карты, где показаны границы затопления и дается характеристика волны прорыва. В этой зоне запрещено строительство жилья и предприятий. Однако в Республике Башкортостан, Воронежской, Ростовской и Рязанской областях подобные нарушения начинают приобретать устойчивый характер. Здесь можно ждать очередных чрезвычайных ситуаций с гибелью людей. Так, в 1994 г. дважды прорывались плотины в Башкортостане и Екатеринбургской области, дамбы в Оренбургской. В г. Серово 250 домов и 12 предприятий оказались в зоне затопления. </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 случае прорыва плотины для оповещения населения используются все средства: сирены, радио, телевидение, телефон и средства громкоговорящей связи. Получив сигнал, надо немедленно эвакуироваться на ближайшие возвышенные участки. В безопасном месте следует находиться до тех пор, пока не спадет вода или будет получено сообщение о том, что опасность миновала. </a:t>
            </a:r>
            <a:endParaRPr b="0" lang="en-US" sz="1600" spc="-1" strike="noStrike">
              <a:solidFill>
                <a:srgbClr val="000000"/>
              </a:solidFill>
              <a:latin typeface="Constantia"/>
            </a:endParaRPr>
          </a:p>
          <a:p>
            <a:pPr marL="267120" indent="-2671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p:transition>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15640" y="115920"/>
            <a:ext cx="617220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Плотина Вайонт</a:t>
            </a:r>
            <a:r>
              <a:rPr b="0" lang="ru-RU" sz="4500" spc="-1" strike="noStrike">
                <a:solidFill>
                  <a:srgbClr val="04617b"/>
                </a:solidFill>
                <a:latin typeface="Calibri"/>
              </a:rPr>
              <a:t> </a:t>
            </a:r>
            <a:endParaRPr b="0" lang="en-US" sz="4500" spc="-1" strike="noStrike">
              <a:solidFill>
                <a:srgbClr val="04617b"/>
              </a:solidFill>
              <a:latin typeface="Calibri"/>
            </a:endParaRPr>
          </a:p>
        </p:txBody>
      </p:sp>
      <p:sp>
        <p:nvSpPr>
          <p:cNvPr id="205" name=""/>
          <p:cNvSpPr txBox="1"/>
          <p:nvPr/>
        </p:nvSpPr>
        <p:spPr>
          <a:xfrm>
            <a:off x="4140000" y="981000"/>
            <a:ext cx="4354200" cy="5688000"/>
          </a:xfrm>
          <a:prstGeom prst="rect">
            <a:avLst/>
          </a:prstGeom>
          <a:noFill/>
          <a:ln w="0">
            <a:noFill/>
          </a:ln>
        </p:spPr>
        <p:txBody>
          <a:bodyPr anchor="t">
            <a:normAutofit fontScale="96000"/>
          </a:bodyPr>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9 октября 1963 года около 22:35 по Гринвичу здесь произошла одна из самых крупных аварий в истории гидротехнического строительства, унесшая жизни, по разным оценкам, от 2 до 3 тысяч человек. В чашу водохранилища за 20—30 с обрушился огромный горный массив длиной 2 км, площадью 2 км² и объёмом около 0,2—0,3 км³, который до этого находился в состоянии незначительной подвижности. Чаша водохранилища оказалась заполненной горной породой до высоты 175 м над уровнем воды. Оползень вызвал перелив воды через гребень плотины объёмом более 50 млн м³ слоем 150—250 м (по разным источникам). Водяной вал, прошедший со скоростью 8—12 м/с по нижележащим территориям, имел высоту до 90 м. Помимо человеческих жертв, было разрушено несколько сёл и деревень, хотя с момента возникновения оползня до полного разрушения объектов в нижнем бьефе прошло всего 7 минут.</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Основными причинами, послужившими началу оползня, считаются</a:t>
            </a:r>
            <a:r>
              <a:rPr b="0" lang="ru-RU" sz="1400" spc="-1" strike="noStrike" u="sng" baseline="30000">
                <a:solidFill>
                  <a:srgbClr val="e2d700"/>
                </a:solidFill>
                <a:uFillTx/>
                <a:latin typeface="Constantia"/>
                <a:hlinkClick r:id="rId1"/>
              </a:rPr>
              <a:t>[1]</a:t>
            </a:r>
            <a:r>
              <a:rPr b="0" lang="ru-RU" sz="1400" spc="-1" strike="noStrike">
                <a:solidFill>
                  <a:srgbClr val="000000"/>
                </a:solidFill>
                <a:latin typeface="Constantia"/>
              </a:rPr>
              <a:t>:</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поднятие горизонта грунтовых вод в долине, вызванное строительством плотины;</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продолжительные дожди летом 1963 года.</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Плотина устояла, хотя и выдержала нагрузку в несколько раз превышающую расчетную. На уровне гребня было смыто лишь около метра бетона.</a:t>
            </a:r>
            <a:endParaRPr b="0" lang="en-US" sz="1400" spc="-1" strike="noStrike">
              <a:solidFill>
                <a:srgbClr val="000000"/>
              </a:solidFill>
              <a:latin typeface="Constantia"/>
            </a:endParaRPr>
          </a:p>
          <a:p>
            <a:pPr marL="261720" indent="-26172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206" name="Picture 2" descr="Картинка 1 из 60"/>
          <p:cNvPicPr/>
          <p:nvPr/>
        </p:nvPicPr>
        <p:blipFill>
          <a:blip r:embed="rId2"/>
          <a:stretch/>
        </p:blipFill>
        <p:spPr>
          <a:xfrm>
            <a:off x="179280" y="1989000"/>
            <a:ext cx="3851280" cy="4362480"/>
          </a:xfrm>
          <a:prstGeom prst="rect">
            <a:avLst/>
          </a:prstGeom>
          <a:ln w="0">
            <a:noFill/>
          </a:ln>
        </p:spPr>
      </p:pic>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4617b"/>
                </a:solidFill>
                <a:latin typeface="Calibri"/>
              </a:rPr>
              <a:t>АВАРИЯ НА СШГЭС</a:t>
            </a:r>
            <a:endParaRPr b="0" lang="en-US" sz="5000" spc="-1" strike="noStrike">
              <a:solidFill>
                <a:srgbClr val="04617b"/>
              </a:solidFill>
              <a:latin typeface="Calibri"/>
            </a:endParaRPr>
          </a:p>
        </p:txBody>
      </p:sp>
      <p:sp>
        <p:nvSpPr>
          <p:cNvPr id="208" name=""/>
          <p:cNvSpPr txBox="1"/>
          <p:nvPr/>
        </p:nvSpPr>
        <p:spPr>
          <a:xfrm>
            <a:off x="5219280" y="1981080"/>
            <a:ext cx="3467160" cy="4114800"/>
          </a:xfrm>
          <a:prstGeom prst="rect">
            <a:avLst/>
          </a:prstGeom>
          <a:noFill/>
          <a:ln w="0">
            <a:noFill/>
          </a:ln>
        </p:spPr>
        <p:txBody>
          <a:bodyPr anchor="t">
            <a:normAutofit fontScale="95000"/>
          </a:bodyPr>
          <a:p>
            <a:pPr marL="259200" indent="-2592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Трагическая авария на Саяно-Шушенской ГЭС привела к обвалу капитализации РусГидро, дав инвесторам очень неплохую возможность заработать. Конечно, точные потери компании еще не совсем ясны. Однако, когда наступит ясность, бумаги будут уже стоить значительно дороже. До аварии акции РусГидро были одной из наиболее недооцененных фишек, с таргетом 1.8-2 руб. Исходя из имеющейся информации о вероятных потерях компании, разумный дисконт в оценке составляет 10%, т.е. новый диапазон оценки – 1.62-1.8 руб. При этом после завершения негативного потока новостей отскок в бумагах будет очень резким. Акции РусГидро, с нашей точки зрения, хорошая как спекулятивная, так и инвестиционная идея</a:t>
            </a:r>
            <a:endParaRPr b="0" lang="en-US" sz="1400" spc="-1" strike="noStrike">
              <a:solidFill>
                <a:srgbClr val="000000"/>
              </a:solidFill>
              <a:latin typeface="Constantia"/>
            </a:endParaRPr>
          </a:p>
        </p:txBody>
      </p:sp>
      <p:pic>
        <p:nvPicPr>
          <p:cNvPr id="209" name="Picture 2" descr="Авария на СШГЭС: кто следующий?"/>
          <p:cNvPicPr/>
          <p:nvPr/>
        </p:nvPicPr>
        <p:blipFill>
          <a:blip r:embed="rId1"/>
          <a:stretch/>
        </p:blipFill>
        <p:spPr>
          <a:xfrm>
            <a:off x="179280" y="1916280"/>
            <a:ext cx="4878360" cy="4549680"/>
          </a:xfrm>
          <a:prstGeom prst="rect">
            <a:avLst/>
          </a:prstGeom>
          <a:ln w="0">
            <a:noFill/>
          </a:ln>
        </p:spPr>
      </p:pic>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9T10:15:08Z</dcterms:created>
  <dc:creator>User</dc:creator>
  <dc:description/>
  <dc:language>en-US</dc:language>
  <cp:lastModifiedBy>Sergey</cp:lastModifiedBy>
  <dcterms:modified xsi:type="dcterms:W3CDTF">2014-02-12T12:00:18Z</dcterms:modified>
  <cp:revision>12</cp:revision>
  <dc:subject/>
  <dc:title>Аварии на гидротехнических сооружениях.</dc:title>
</cp:coreProperties>
</file>