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110413" cy="10245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3F4D-D9DB-4361-9CDD-39EEA6E8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FA56-D447-4885-85C0-20947308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1B84-5DBB-44B6-8684-04792F05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642F-20D6-44AE-B71F-34155F1D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5291-3C3E-4265-8528-DC4B680F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5CC5-F32D-4761-AF1D-024449BA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6C26-12A7-4F8B-94F0-0E3D3EF9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C3EF-F58E-44D9-9E10-D2FFE462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54F5-0B4A-4518-95FD-2C077E51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BBD9-408B-45ED-A225-FA76CB5C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F225-F882-49E2-B059-7DA52302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611A-3E98-44DF-9F1E-1280D7B4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5B00-B77F-46C7-BE43-336526F704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iki.iteach.ru/index.php/&#1048;&#1079;&#1086;&#1073;&#1088;&#1072;&#1078;&#1077;&#1085;&#1080;&#1077;:Potts.jp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5029200"/>
            <a:ext cx="84582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5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Красный. Жёлтый. Зелёный.</a:t>
            </a:r>
            <a:endParaRPr b="0" i="1" lang="en-US" sz="1800" spc="1" strike="noStrike">
              <a:ln w="25560">
                <a:solidFill>
                  <a:srgbClr val="005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5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? Где? Когда?"</a:t>
            </a:r>
            <a:endParaRPr b="0" i="1" lang="en-US" sz="1800" spc="1" strike="noStrike">
              <a:ln w="25560">
                <a:solidFill>
                  <a:srgbClr val="005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3839" t="1646" r="7798" b="1646"/>
          <a:stretch/>
        </p:blipFill>
        <p:spPr>
          <a:xfrm>
            <a:off x="246240" y="152280"/>
            <a:ext cx="368136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Изображение:105th-Euclid.jpg"/>
          <p:cNvPicPr/>
          <p:nvPr/>
        </p:nvPicPr>
        <p:blipFill>
          <a:blip r:embed="rId2"/>
          <a:stretch/>
        </p:blipFill>
        <p:spPr>
          <a:xfrm>
            <a:off x="380880" y="130320"/>
            <a:ext cx="8353440" cy="672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В Австралии в 30-х годах изобрели и такой необычный светофор, который работал по принципу часов – действовать нужно было в зависимости от цвета поля, на котором в данный момент находилась стрелка"/>
          <p:cNvPicPr/>
          <p:nvPr/>
        </p:nvPicPr>
        <p:blipFill>
          <a:blip r:embed="rId2"/>
          <a:stretch/>
        </p:blipFill>
        <p:spPr>
          <a:xfrm>
            <a:off x="380880" y="311040"/>
            <a:ext cx="8420400" cy="6230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1341000"/>
            <a:ext cx="8839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Красный цвет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сдерживает нас, призывает к осторожности. Вот почему красному сигналу светофора поручили останавливать транспорт и пеше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c507"/>
                </a:solidFill>
                <a:latin typeface="Arial Narrow"/>
              </a:rPr>
              <a:t>Желтый цвет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напоминает нам солнышко, оно может быть другом или врагом (если перегреться). Солнышко, как бы предупреждает: “Внимание! Будь осторожен, не торопись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871c"/>
                </a:solidFill>
                <a:latin typeface="Arial Narrow"/>
              </a:rPr>
              <a:t>Зеленый цвет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: зеленые поля, леса, луга. Словом все, что связано у нас с покоем и отдыхом. Это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23224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86000" y="0"/>
            <a:ext cx="48690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981080" y="0"/>
            <a:ext cx="514368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048120" y="304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286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День рождения светофора - 5 августа 1914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7221" t="1545" r="8076" b="1545"/>
          <a:stretch/>
        </p:blipFill>
        <p:spPr>
          <a:xfrm>
            <a:off x="228600" y="1523880"/>
            <a:ext cx="3865680" cy="5181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3880" y="5029200"/>
            <a:ext cx="65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ванова Марина Василье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читель начальной школы  МАОУСОШ №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г. Старая Ру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38480" y="152280"/>
            <a:ext cx="4953240" cy="2043720"/>
          </a:xfrm>
          <a:prstGeom prst="rect">
            <a:avLst/>
          </a:prstGeom>
          <a:gradFill rotWithShape="0">
            <a:gsLst>
              <a:gs pos="0">
                <a:srgbClr val="f3fc9a"/>
              </a:gs>
              <a:gs pos="100000">
                <a:srgbClr val="bdff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5c00"/>
                </a:solidFill>
                <a:latin typeface="Arial Narrow"/>
              </a:rPr>
              <a:t>Он и вежливый, и строг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5c00"/>
                </a:solidFill>
                <a:latin typeface="Arial Narrow"/>
              </a:rPr>
              <a:t>Он известен на весь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5c00"/>
                </a:solidFill>
                <a:latin typeface="Arial Narrow"/>
              </a:rPr>
              <a:t>Он на улице шир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5c00"/>
                </a:solidFill>
                <a:latin typeface="Arial Narrow"/>
              </a:rPr>
              <a:t>Самый главный команд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22391" t="3225" r="24682" b="0"/>
          <a:stretch/>
        </p:blipFill>
        <p:spPr>
          <a:xfrm>
            <a:off x="2666880" y="0"/>
            <a:ext cx="29718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8544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1910 год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Массовое производство автомобилей вынуждает развивать дорожно-транспортную инфраструктуру и, в частности, регулировать движение с помощью светофоров"/>
          <p:cNvPicPr/>
          <p:nvPr/>
        </p:nvPicPr>
        <p:blipFill>
          <a:blip r:embed="rId2"/>
          <a:stretch/>
        </p:blipFill>
        <p:spPr>
          <a:xfrm>
            <a:off x="2438280" y="0"/>
            <a:ext cx="584208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37124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1912 год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14600" y="0"/>
            <a:ext cx="484812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Изображение:Woodward-adams.jpg"/>
          <p:cNvPicPr/>
          <p:nvPr/>
        </p:nvPicPr>
        <p:blipFill>
          <a:blip r:embed="rId2"/>
          <a:stretch/>
        </p:blipFill>
        <p:spPr>
          <a:xfrm>
            <a:off x="1512720" y="0"/>
            <a:ext cx="616932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76104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1920 год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Уильям Поттс - изобретатель трёхцветного светофор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4476600" y="1989000"/>
            <a:ext cx="1904760" cy="1857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-4476600" y="3772080"/>
            <a:ext cx="142560" cy="104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Изображение:Potts.jpg"/>
          <p:cNvPicPr/>
          <p:nvPr/>
        </p:nvPicPr>
        <p:blipFill>
          <a:blip r:embed="rId5"/>
          <a:stretch/>
        </p:blipFill>
        <p:spPr>
          <a:xfrm>
            <a:off x="2133720" y="71280"/>
            <a:ext cx="6791040" cy="662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819520" y="0"/>
            <a:ext cx="361152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Картинка 4 из 155"/>
          <p:cNvPicPr/>
          <p:nvPr/>
        </p:nvPicPr>
        <p:blipFill>
          <a:blip r:embed="rId2"/>
          <a:stretch/>
        </p:blipFill>
        <p:spPr>
          <a:xfrm>
            <a:off x="2286000" y="0"/>
            <a:ext cx="51786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1-18T18:03:42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