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110413" cy="10245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115-0BD0-444C-B139-AD07082D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956-E5E0-405A-B23E-0112821E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951-7B13-40A4-A61C-43452777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439-5BC0-4B58-A6C7-ACB014EF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7C7-4EDD-4142-B74D-157CB68D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721-2303-45C0-A654-C63CE45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826-C8EA-4040-8A3C-043B48D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5DB-1020-4A81-B042-C7639941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58B-4294-47A1-ACDB-13ED9E3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2C9-A395-4AD0-9745-C8C7DEA0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ABF-BBE0-4AC9-B32A-053F961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A1F-3CC6-4B5E-BBF5-0C5B5DB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4935-1521-4F39-BF21-0E840795A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iteach.ru/index.php/&#1048;&#1079;&#1086;&#1073;&#1088;&#1072;&#1078;&#1077;&#1085;&#1080;&#1077;:Potts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5029200"/>
            <a:ext cx="84582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расный. Жёлтый. Зелёный.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5560">
                  <a:solidFill>
                    <a:srgbClr val="005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? Где? Когда?"</a:t>
            </a:r>
            <a:endParaRPr b="0" i="1" lang="en-US" sz="1800" spc="1" strike="noStrike">
              <a:ln w="25560">
                <a:solidFill>
                  <a:srgbClr val="005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3839" t="1646" r="7798" b="1646"/>
          <a:stretch/>
        </p:blipFill>
        <p:spPr>
          <a:xfrm>
            <a:off x="246240" y="152280"/>
            <a:ext cx="368136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Изображение:105th-Euclid.jpg"/>
          <p:cNvPicPr/>
          <p:nvPr/>
        </p:nvPicPr>
        <p:blipFill>
          <a:blip r:embed="rId2"/>
          <a:stretch/>
        </p:blipFill>
        <p:spPr>
          <a:xfrm>
            <a:off x="380880" y="130320"/>
            <a:ext cx="8353440" cy="672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В Австралии в 30-х годах изобрели и такой необычный светофор, который работал по принципу часов – действовать нужно было в зависимости от цвета поля, на котором в данный момент находилась стрелка"/>
          <p:cNvPicPr/>
          <p:nvPr/>
        </p:nvPicPr>
        <p:blipFill>
          <a:blip r:embed="rId2"/>
          <a:stretch/>
        </p:blipFill>
        <p:spPr>
          <a:xfrm>
            <a:off x="380880" y="311040"/>
            <a:ext cx="8420400" cy="623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34100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Крас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сдерживает нас, призывает к осторожности. Вот почему красному сигналу светофора поручили останавливать транспорт и пеше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c507"/>
                </a:solidFill>
                <a:latin typeface="Arial Narrow"/>
              </a:rPr>
              <a:t>Желт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напоминает нам солнышко, оно может быть другом или врагом (если перегреться). Солнышко, как бы предупреждает: “Внимание! Будь осторожен, не торопись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871c"/>
                </a:solidFill>
                <a:latin typeface="Arial Narrow"/>
              </a:rPr>
              <a:t>Зеленый цве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 зеленые поля, леса, луга. Словом все, что связано у нас с покоем и отдыхом. Это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23224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0" y="0"/>
            <a:ext cx="4869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51436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0481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День рождения светофора - 5 августа 1914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7221" t="1545" r="8076" b="1545"/>
          <a:stretch/>
        </p:blipFill>
        <p:spPr>
          <a:xfrm>
            <a:off x="228600" y="1523880"/>
            <a:ext cx="38656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5029200"/>
            <a:ext cx="65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ванова Марина Васил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итель начальной школы  МАОУСОШ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 Старая Ру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152280"/>
            <a:ext cx="4953240" cy="2043720"/>
          </a:xfrm>
          <a:prstGeom prst="rect">
            <a:avLst/>
          </a:prstGeom>
          <a:gradFill rotWithShape="0">
            <a:gsLst>
              <a:gs pos="0">
                <a:srgbClr val="f3fc9a"/>
              </a:gs>
              <a:gs pos="100000">
                <a:srgbClr val="bdffb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 вежливый, и ст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известен на весь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Он на улице шир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5c00"/>
                </a:solidFill>
                <a:latin typeface="Arial Narrow"/>
              </a:rPr>
              <a:t>Самый главный команд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2391" t="3225" r="24682" b="0"/>
          <a:stretch/>
        </p:blipFill>
        <p:spPr>
          <a:xfrm>
            <a:off x="2666880" y="0"/>
            <a:ext cx="29718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854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0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Массовое производство автомобилей вынуждает развивать дорожно-транспортную инфраструктуру и, в частности, регулировать движение с помощью светофоров"/>
          <p:cNvPicPr/>
          <p:nvPr/>
        </p:nvPicPr>
        <p:blipFill>
          <a:blip r:embed="rId2"/>
          <a:stretch/>
        </p:blipFill>
        <p:spPr>
          <a:xfrm>
            <a:off x="2438280" y="0"/>
            <a:ext cx="584208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37124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912 год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0"/>
            <a:ext cx="48481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Изображение:Woodward-adams.jpg"/>
          <p:cNvPicPr/>
          <p:nvPr/>
        </p:nvPicPr>
        <p:blipFill>
          <a:blip r:embed="rId2"/>
          <a:stretch/>
        </p:blipFill>
        <p:spPr>
          <a:xfrm>
            <a:off x="1512720" y="0"/>
            <a:ext cx="61693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7610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920 го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Уильям Поттс - изобретатель трёхцветного светоф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76600" y="198900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4476600" y="3772080"/>
            <a:ext cx="142560" cy="1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Изображение:Potts.jpg"/>
          <p:cNvPicPr/>
          <p:nvPr/>
        </p:nvPicPr>
        <p:blipFill>
          <a:blip r:embed="rId5"/>
          <a:stretch/>
        </p:blipFill>
        <p:spPr>
          <a:xfrm>
            <a:off x="2133720" y="71280"/>
            <a:ext cx="6791040" cy="662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19520" y="0"/>
            <a:ext cx="361152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Картинка 4 из 155"/>
          <p:cNvPicPr/>
          <p:nvPr/>
        </p:nvPicPr>
        <p:blipFill>
          <a:blip r:embed="rId2"/>
          <a:stretch/>
        </p:blipFill>
        <p:spPr>
          <a:xfrm>
            <a:off x="2286000" y="0"/>
            <a:ext cx="51786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18T18:03:42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