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110413" cy="10245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138-420F-40A5-AAFE-F473EB86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D31-785E-4976-B9BC-5E4EBF44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100-510A-418D-A5EB-FB61C1DC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C76-A424-42D7-ABC4-C66BE7EC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5A0-2649-436C-9246-F6105489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987-6179-4C99-A8D3-10420E91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42E-BF20-4C2E-AEB9-C1A5C4B2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4E8-A6DD-4977-9CD0-BFB33F16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910-D295-4204-8DA4-0AE73A2E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849-EE5F-4E01-9D7F-05E55158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423-1521-4EBD-9AD4-66C10718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8CF-9B7B-4CC6-BE2E-26DBA185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4C3D-2D67-49EF-88FE-08B67618A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iteach.ru/index.php/&#1048;&#1079;&#1086;&#1073;&#1088;&#1072;&#1078;&#1077;&#1085;&#1080;&#1077;:Potts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5029200"/>
            <a:ext cx="84582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5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расный. Жёлтый. Зелёный.</a:t>
            </a:r>
            <a:endParaRPr b="0" i="1" lang="en-US" sz="1800" spc="1" strike="noStrike">
              <a:ln w="25560">
                <a:solidFill>
                  <a:srgbClr val="005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5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? Где? Когда?"</a:t>
            </a:r>
            <a:endParaRPr b="0" i="1" lang="en-US" sz="1800" spc="1" strike="noStrike">
              <a:ln w="25560">
                <a:solidFill>
                  <a:srgbClr val="005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3839" t="1646" r="7798" b="1646"/>
          <a:stretch/>
        </p:blipFill>
        <p:spPr>
          <a:xfrm>
            <a:off x="246240" y="152280"/>
            <a:ext cx="368136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Изображение:105th-Euclid.jpg"/>
          <p:cNvPicPr/>
          <p:nvPr/>
        </p:nvPicPr>
        <p:blipFill>
          <a:blip r:embed="rId2"/>
          <a:stretch/>
        </p:blipFill>
        <p:spPr>
          <a:xfrm>
            <a:off x="380880" y="130320"/>
            <a:ext cx="8353440" cy="672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В Австралии в 30-х годах изобрели и такой необычный светофор, который работал по принципу часов – действовать нужно было в зависимости от цвета поля, на котором в данный момент находилась стрелка"/>
          <p:cNvPicPr/>
          <p:nvPr/>
        </p:nvPicPr>
        <p:blipFill>
          <a:blip r:embed="rId2"/>
          <a:stretch/>
        </p:blipFill>
        <p:spPr>
          <a:xfrm>
            <a:off x="380880" y="311040"/>
            <a:ext cx="8420400" cy="623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134100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Красный цве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сдерживает нас, призывает к осторожности. Вот почему красному сигналу светофора поручили останавливать транспорт и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c507"/>
                </a:solidFill>
                <a:latin typeface="Arial Narrow"/>
              </a:rPr>
              <a:t>Желтый цве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напоминает нам солнышко, оно может быть другом или врагом (если перегреться). Солнышко, как бы предупреждает: “Внимание! Будь осторожен, не торопис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871c"/>
                </a:solidFill>
                <a:latin typeface="Arial Narrow"/>
              </a:rPr>
              <a:t>Зеленый цве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: зеленые поля, леса, луга. Словом все, что связано у нас с покоем и отдыхом. Это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23224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4869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0481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ень рождения светофора - 5 августа 1914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7221" t="1545" r="8076" b="1545"/>
          <a:stretch/>
        </p:blipFill>
        <p:spPr>
          <a:xfrm>
            <a:off x="228600" y="1523880"/>
            <a:ext cx="3865680" cy="5181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502920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ванова Марина Васил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читель начальной школы  МАОУСОШ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. Старая Ру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152280"/>
            <a:ext cx="4953240" cy="2043720"/>
          </a:xfrm>
          <a:prstGeom prst="rect">
            <a:avLst/>
          </a:prstGeom>
          <a:gradFill rotWithShape="0">
            <a:gsLst>
              <a:gs pos="0">
                <a:srgbClr val="f3fc9a"/>
              </a:gs>
              <a:gs pos="100000">
                <a:srgbClr val="bdff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Он и вежливый, и ст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Он известен на весь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Он на улице шир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Самый главный команд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2391" t="3225" r="24682" b="0"/>
          <a:stretch/>
        </p:blipFill>
        <p:spPr>
          <a:xfrm>
            <a:off x="2666880" y="0"/>
            <a:ext cx="29718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854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910 год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Массовое производство автомобилей вынуждает развивать дорожно-транспортную инфраструктуру и, в частности, регулировать движение с помощью светофоров"/>
          <p:cNvPicPr/>
          <p:nvPr/>
        </p:nvPicPr>
        <p:blipFill>
          <a:blip r:embed="rId2"/>
          <a:stretch/>
        </p:blipFill>
        <p:spPr>
          <a:xfrm>
            <a:off x="2438280" y="0"/>
            <a:ext cx="584208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37124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912 год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14600" y="0"/>
            <a:ext cx="484812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Изображение:Woodward-adams.jpg"/>
          <p:cNvPicPr/>
          <p:nvPr/>
        </p:nvPicPr>
        <p:blipFill>
          <a:blip r:embed="rId2"/>
          <a:stretch/>
        </p:blipFill>
        <p:spPr>
          <a:xfrm>
            <a:off x="1512720" y="0"/>
            <a:ext cx="616932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610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920 год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Уильям Поттс - изобретатель трёхцветного светоф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476600" y="198900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-4476600" y="3772080"/>
            <a:ext cx="142560" cy="1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Изображение:Potts.jpg"/>
          <p:cNvPicPr/>
          <p:nvPr/>
        </p:nvPicPr>
        <p:blipFill>
          <a:blip r:embed="rId5"/>
          <a:stretch/>
        </p:blipFill>
        <p:spPr>
          <a:xfrm>
            <a:off x="2133720" y="71280"/>
            <a:ext cx="6791040" cy="662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819520" y="0"/>
            <a:ext cx="361152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4 из 155"/>
          <p:cNvPicPr/>
          <p:nvPr/>
        </p:nvPicPr>
        <p:blipFill>
          <a:blip r:embed="rId2"/>
          <a:stretch/>
        </p:blipFill>
        <p:spPr>
          <a:xfrm>
            <a:off x="2286000" y="0"/>
            <a:ext cx="51786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18T18:03:42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