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9.png" ContentType="image/png"/>
  <Override PartName="/ppt/media/image18.jpeg" ContentType="image/jpeg"/>
  <Override PartName="/ppt/media/image3.gif" ContentType="image/gif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6.gif" ContentType="image/gif"/>
  <Override PartName="/ppt/media/image2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5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F6F4-AF0B-45EB-9AC2-9ABA24E1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D1A5-1C28-475D-8F16-709E8E06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BB7C-3320-4384-B488-76BC5131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2A05-A431-407F-B648-E3B25DF1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6D29-03F0-442D-A103-868377F7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B64C-84D6-4E13-A9DA-B61D48BA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575A-672E-4E2C-8F51-BA04EDE6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31A2-E729-4FDC-8AED-92496C27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6D59-8946-4200-B6FC-9D7376E9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779C-85ED-4D8A-8154-87F503B9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E7FE-439A-4D39-A19E-79367525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A779-AEB3-43EC-9565-6D01AFEC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81EE-772A-4E3F-96ED-6375B2F1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65EE-2000-47BC-9570-806DBCBB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2FD1-02AB-4F3C-9D73-C040DDE5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7FFE-6B42-4766-9B26-3721D03E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9801-4F31-4EEB-9BB5-FEE00122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C0BC-0463-4897-A505-E1E5ACE2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A2FE-225B-402C-BCA3-7A28486B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B8C-3C12-4097-A76A-575ECCB7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6CB0-A1C1-493C-A9C7-37207D39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A741-97DF-4B17-BCCE-2D49D253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2F15-36B2-4989-9639-BD96A878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39E9-74BB-411D-AF0E-44EF61F9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B1EE-0963-4DC8-B0E2-3B56053FCE2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A4C0-DBCA-43B0-8E97-46F691E10CE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 rot="20313000">
            <a:off x="307800" y="2461680"/>
            <a:ext cx="826776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вести себя в конфликтной ситации!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943600" y="3352680"/>
            <a:ext cx="2158920" cy="2882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217944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38080" y="3808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дно из самых важных правил при решении любого рода конфликтов - это хорошее владение соб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 поддаваться эмоциям, а, в первую очередь, сохраняя спокойствие, разрешать конфликт с помощью логики и знаний определенных психологических прием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36576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до учиться правильному поведению в конфликтных ситуациях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начала дайте партнеру или клиенту выпустить пар. Выслушайте спокойно и терпеливо все его заявления и претензии, не перебивайте и не комментируйте его высказыв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1571400" cy="2514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867280" y="609480"/>
            <a:ext cx="281952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57200" y="304920"/>
            <a:ext cx="434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едложите своему клиенту обосновать претензии. После того, как человек выплеснулся эмоционально, он готов к разговору, к диалогу, тем более, если ему предлагают высказаться. Но, главное, не позволяйте клиенту опять переходить на эмоции, все время тактично направляйте его на интеллектуальные выв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3352680"/>
            <a:ext cx="44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спользуйте нестандартные приемы. Как это сделать? Вызвать у человека положительные эмоции, напомнив ему о вашем предыдущем хорошем сотрудничестве, попросив у него совета и т.д. Если клиент - женщина, то можно сделать искренний комплимент. Обязательно искренний, потому что лесть и обман всегда чувствуется. Можно разрядить обстановку, рассказав какой-нибудь анекд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34120" y="380880"/>
            <a:ext cx="3047760" cy="2613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676520" y="3505320"/>
            <a:ext cx="1577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441972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 давайте отрицательную оценку ситуации, и упомяните о своих чувствах. Например: "Я расстроен всей данной ситуацией". Таким образом, вы напоминаете ему, что в конфликте вас участвует двое и, кроме его точки зрения, может существовать еще и друг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457200"/>
            <a:ext cx="4038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старайтесь совместно сформулировать проблему спора и его конечный результат. Почему это важно? Потому что, как показывает практика, партнеры или клиенты зачастую по-разному видят суть проблемы. Чтобы придти к единому пониманию того, что вы хотите совместно достигнуть, нужно согласие. Поэтому следующий этап решения спора - это нахождение общих точек понимания проблемы. Для этого надо сначала совместно сформулировать, что вы оба понимаете под сутью решаемой проблемы, а потом описать тот конечный результат, к которому вы оба хотите прид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Содержимое 6" descr="12195_0.tmp"/>
          <p:cNvPicPr/>
          <p:nvPr/>
        </p:nvPicPr>
        <p:blipFill>
          <a:blip r:embed="rId1"/>
          <a:stretch/>
        </p:blipFill>
        <p:spPr>
          <a:xfrm>
            <a:off x="2209680" y="2133720"/>
            <a:ext cx="2376720" cy="2377800"/>
          </a:xfrm>
          <a:prstGeom prst="rect">
            <a:avLst/>
          </a:prstGeom>
          <a:ln w="0">
            <a:noFill/>
          </a:ln>
        </p:spPr>
      </p:pic>
      <p:pic>
        <p:nvPicPr>
          <p:cNvPr id="166" name="Содержимое 5" descr="37052157_0.tmp"/>
          <p:cNvPicPr/>
          <p:nvPr/>
        </p:nvPicPr>
        <p:blipFill>
          <a:blip r:embed="rId2"/>
          <a:stretch/>
        </p:blipFill>
        <p:spPr>
          <a:xfrm>
            <a:off x="380880" y="304920"/>
            <a:ext cx="2432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2280" y="22860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йдите общую основу. Общей основой могут быть законы, факты из практики компании, прецеденты из деятельности других компаний, какое-либо авторитетное мн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182880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йте возможность партнеру сохранить "свое лицо". Если проявлять уважение даже к сильно разгневанному партнеру или клиенту, то такая реакция произведет на него впечатление. Давать оценку его действиям, не затрагивая при этом его лич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96252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черкивайте внимание к человеку. Можно в беседе переспрашивать партнера или клиента. Например: "Скажите, у вас есть другая точка зрения?", "Давайте уточним, правильно ли мы поняли друг друга?" Такие вопросы позволяют подчеркнуть внимание к человеку и уменьшить его агресс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8" descr="iCAPAKXDY.jpg"/>
          <p:cNvPicPr/>
          <p:nvPr/>
        </p:nvPicPr>
        <p:blipFill>
          <a:blip r:embed="rId2"/>
          <a:stretch/>
        </p:blipFill>
        <p:spPr>
          <a:xfrm>
            <a:off x="5562720" y="0"/>
            <a:ext cx="2314440" cy="173664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35" descr="iCAOIDT4D.jpg"/>
          <p:cNvPicPr/>
          <p:nvPr/>
        </p:nvPicPr>
        <p:blipFill>
          <a:blip r:embed="rId3"/>
          <a:stretch/>
        </p:blipFill>
        <p:spPr>
          <a:xfrm>
            <a:off x="914400" y="1981080"/>
            <a:ext cx="297180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2280" y="380880"/>
            <a:ext cx="472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же в самой острой стадии конфликта - держитесь на равных. Выдержите спокойную уверенность, не срывайтесь на ответную ругань или крик, а если виноваты вы - то, извинитесь. Извинения - это не слабость, наоборот, на извинения способны зрелые и умные сотрудн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4019400"/>
            <a:ext cx="4724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ков бы ни был результат - старайтесь сохранить взаимоотношения. После любого конфликта остаются неприятные воспоминания. Но ведь и любой конфликт рано или поздно проходит, а бизнес, и длительные взаимоотношения с партнерами и клиентами остаются. Поэтому, несмотря на конфликт, выскажите надежду на продолжение дальнейшего сотрудниче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Рисунок 28" descr="iCAF42C9T.jpg"/>
          <p:cNvPicPr/>
          <p:nvPr/>
        </p:nvPicPr>
        <p:blipFill>
          <a:blip r:embed="rId1"/>
          <a:stretch/>
        </p:blipFill>
        <p:spPr>
          <a:xfrm>
            <a:off x="5791320" y="838080"/>
            <a:ext cx="2209680" cy="1747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2735280" cy="1709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33520" y="4800600"/>
            <a:ext cx="26272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819520" y="259092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любой конфликтной ситуации надо учитывать интересы противной стороны, тогда ее проще разреши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6000" y="304920"/>
            <a:ext cx="47242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лючение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261120" y="4800600"/>
            <a:ext cx="2882880" cy="1838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1717560" cy="2098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7589880" y="228600"/>
            <a:ext cx="1554120" cy="3382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0" y="4846680"/>
            <a:ext cx="3019320" cy="2011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3352680" y="4038480"/>
            <a:ext cx="297180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nek</cp:lastModifiedBy>
  <dcterms:modified xsi:type="dcterms:W3CDTF">2013-01-22T17:04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