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E29-C4B7-4705-B6E1-59FB5F9F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A51-8898-4810-AB46-FC53F71D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49D-159B-4013-892F-11C96BB6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70F-012C-434D-861A-4FE76A51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02D6-DD00-4C7F-ADD3-4A7C4942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B2A4-EDC4-4850-8C19-702C24F9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48EB-0E69-4738-948C-EE3506A6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B5EC-D86F-430B-BF25-CBC207D2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0638-26CB-48B1-BBB0-0FF9F5D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C264-187E-4880-9307-DD676644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B269-3CA6-476B-8CA7-2552681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40F-FBE3-49AA-AECE-B01697B7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6152-EFCC-4D10-9F43-0E087BF8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24CC-0311-4A7D-9251-B294704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4467-032E-446F-9DED-BD271AB1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528E-4891-4E38-8B04-7268F097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CF83-E29B-40C3-8825-B8837000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BE3-52AB-4311-B2E5-5A29E9AC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DF4-8E8B-466F-83CF-8A92A4DC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ADA-F06A-4B8E-B55B-5C5AA866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615-A28E-42D9-BFA8-3A9ED5F3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7C5-4F45-4E6C-AB0E-C903473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9E3-314F-41D3-9053-8FEE4A16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FA0-7357-48E8-A271-439CF9BC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C2BC-A617-4DF4-9E7D-11975C8AF8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26AD-E4D2-419B-939E-16046123B3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 rot="20313000">
            <a:off x="307800" y="2461680"/>
            <a:ext cx="82677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вести себя в конфликтной ситации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3600" y="3352680"/>
            <a:ext cx="2158920" cy="288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21794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380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о из самых важных правил при решении любого рода конфликтов - это хорошее владение соб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поддаваться эмоциям, а, в первую очередь, сохраняя спокойствие, разрешать конфликт с помощью логики и знаний определенных психологических прие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36576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до учиться правильному поведению в конфликтных ситуация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начала дайте партнеру или клиенту выпустить пар. Выслушайте спокойно и терпеливо все его заявления и претензии, не перебивайте и не комментируйте его высказы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1571400" cy="251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28195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30492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ложите своему клиенту обосновать претензии. После того, как человек выплеснулся эмоционально, он готов к разговору, к диалогу, тем более, если ему предлагают высказаться. Но, главное, не позволяйте клиенту опять переходить на эмоции, все время тактично направляйте его на интеллектуальные вы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335268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пользуйте нестандартные приемы. Как это сделать? Вызвать у человека положительные эмоции, напомнив ему о вашем предыдущем хорошем сотрудничестве, попросив у него совета и т.д. Если клиент - женщина, то можно сделать искренний комплимент. Обязательно искренний, потому что лесть и обман всегда чувствуется. Можно разрядить обстановку, рассказав какой-нибудь анекд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047760" cy="261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1577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44197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давайте отрицательную оценку ситуации, и упомяните о своих чувствах. Например: "Я расстроен всей данной ситуацией". Таким образом, вы напоминаете ему, что в конфликте вас участвует двое и, кроме его точки зрения, может существовать еще и друг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45720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тарайтесь совместно сформулировать проблему спора и его конечный результат. Почему это важно? Потому что, как показывает практика, партнеры или клиенты зачастую по-разному видят суть проблемы. Чтобы придти к единому пониманию того, что вы хотите совместно достигнуть, нужно согласие. Поэтому следующий этап решения спора - это нахождение общих точек понимания проблемы. Для этого надо сначала совместно сформулировать, что вы оба понимаете под сутью решаемой проблемы, а потом описать тот конечный результат, к которому вы оба хотите прид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Содержимое 6" descr="12195_0.tmp"/>
          <p:cNvPicPr/>
          <p:nvPr/>
        </p:nvPicPr>
        <p:blipFill>
          <a:blip r:embed="rId1"/>
          <a:stretch/>
        </p:blipFill>
        <p:spPr>
          <a:xfrm>
            <a:off x="2209680" y="2133720"/>
            <a:ext cx="2376720" cy="2377800"/>
          </a:xfrm>
          <a:prstGeom prst="rect">
            <a:avLst/>
          </a:prstGeom>
          <a:ln w="0">
            <a:noFill/>
          </a:ln>
        </p:spPr>
      </p:pic>
      <p:pic>
        <p:nvPicPr>
          <p:cNvPr id="166" name="Содержимое 5" descr="37052157_0.tmp"/>
          <p:cNvPicPr/>
          <p:nvPr/>
        </p:nvPicPr>
        <p:blipFill>
          <a:blip r:embed="rId2"/>
          <a:stretch/>
        </p:blipFill>
        <p:spPr>
          <a:xfrm>
            <a:off x="380880" y="304920"/>
            <a:ext cx="2432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280" y="2286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йдите общую основу. Общей основой могут быть законы, факты из практики компании, прецеденты из деятельности других компаний, какое-либо авторитетное м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18288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йте возможность партнеру сохранить "свое лицо". Если проявлять уважение даже к сильно разгневанному партнеру или клиенту, то такая реакция произведет на него впечатление. Давать оценку его действиям, не затрагивая при этом его л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9625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черкивайте внимание к человеку. Можно в беседе переспрашивать партнера или клиента. Например: "Скажите, у вас есть другая точка зрения?", "Давайте уточним, правильно ли мы поняли друг друга?" Такие вопросы позволяют подчеркнуть внимание к человеку и уменьшить его агресс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8" descr="iCAPAKXDY.jpg"/>
          <p:cNvPicPr/>
          <p:nvPr/>
        </p:nvPicPr>
        <p:blipFill>
          <a:blip r:embed="rId2"/>
          <a:stretch/>
        </p:blipFill>
        <p:spPr>
          <a:xfrm>
            <a:off x="5562720" y="0"/>
            <a:ext cx="2314440" cy="1736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5" descr="iCAOIDT4D.jpg"/>
          <p:cNvPicPr/>
          <p:nvPr/>
        </p:nvPicPr>
        <p:blipFill>
          <a:blip r:embed="rId3"/>
          <a:stretch/>
        </p:blipFill>
        <p:spPr>
          <a:xfrm>
            <a:off x="914400" y="1981080"/>
            <a:ext cx="29718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380880"/>
            <a:ext cx="47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же в самой острой стадии конфликта - держитесь на равных. Выдержите спокойную уверенность, не срывайтесь на ответную ругань или крик, а если виноваты вы - то, извинитесь. Извинения - это не слабость, наоборот, на извинения способны зрелые и умные сотруд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401940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ов бы ни был результат - старайтесь сохранить взаимоотношения. После любого конфликта остаются неприятные воспоминания. Но ведь и любой конфликт рано или поздно проходит, а бизнес, и длительные взаимоотношения с партнерами и клиентами остаются. Поэтому, несмотря на конфликт, выскажите надежду на продолжение дальнейшего сотрудни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8" descr="iCAF42C9T.jpg"/>
          <p:cNvPicPr/>
          <p:nvPr/>
        </p:nvPicPr>
        <p:blipFill>
          <a:blip r:embed="rId1"/>
          <a:stretch/>
        </p:blipFill>
        <p:spPr>
          <a:xfrm>
            <a:off x="5791320" y="838080"/>
            <a:ext cx="2209680" cy="1747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6272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19520" y="25909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любой конфликтной ситуации надо учитывать интересы противной стороны, тогда ее проще разреш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304920"/>
            <a:ext cx="4724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люче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61120" y="4800600"/>
            <a:ext cx="2882880" cy="1838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717560" cy="209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589880" y="228600"/>
            <a:ext cx="1554120" cy="338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4846680"/>
            <a:ext cx="3019320" cy="2011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29718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ek</cp:lastModifiedBy>
  <dcterms:modified xsi:type="dcterms:W3CDTF">2013-01-22T17:04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