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9.png" ContentType="image/pn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7B7-46A9-4F7C-8588-2C395354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48A-7E18-4BD8-A384-002ABB3E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0E7-FB4C-4955-B982-0B310806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33F8-152C-4206-BA67-5B7AF7EA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88D6-A995-403F-A996-208A7F42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B594-DFC0-4154-94B8-663DFBCB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F361-CEE2-44AD-8C71-926F10B2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9368-7084-4043-B47B-A47C7336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40CD-51C0-4872-B838-876A1EDC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14A9-9F64-4CA1-B54D-6560F3EE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1D55-FB88-4A28-B993-B966C224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7241-A46F-4F0F-96E5-EE9C1DAC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6FF5-017E-463B-B0E4-B2FB28D6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0703-D3C9-4312-872B-C731A9BB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0BC6-0C33-4D71-820E-2CF96E79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1ECA-2E8E-474A-815A-ED4B6FCE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5DE5-5AE0-4000-924E-30A4F4C2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24B-C6C5-4532-A158-8D4CA98C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005-5B37-4464-825D-03C57B71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2C5-483A-449D-94A5-77E7B9E7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B11-3843-455D-91BF-F0CF4BAC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947-A57E-4CFA-A273-89D80E2D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74F-15B0-4A44-8EE9-4DBF724F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9DC-CDE0-4386-A43A-A7FC5704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5853-9522-473D-AAB5-273F79A8E2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5D31-3B54-4027-A19F-A45D5FEBDE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 rot="20313000">
            <a:off x="307800" y="2461680"/>
            <a:ext cx="826776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вести себя в конфликтной ситации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43600" y="3352680"/>
            <a:ext cx="2158920" cy="2882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21794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8080" y="380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о из самых важных правил при решении любого рода конфликтов - это хорошее владение соб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поддаваться эмоциям, а, в первую очередь, сохраняя спокойствие, разрешать конфликт с помощью логики и знаний определенных психологических прие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36576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до учиться правильному поведению в конфликтных ситуация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начала дайте партнеру или клиенту выпустить пар. Выслушайте спокойно и терпеливо все его заявления и претензии, не перебивайте и не комментируйте его высказы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1571400" cy="2514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867280" y="609480"/>
            <a:ext cx="28195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30492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ложите своему клиенту обосновать претензии. После того, как человек выплеснулся эмоционально, он готов к разговору, к диалогу, тем более, если ему предлагают высказаться. Но, главное, не позволяйте клиенту опять переходить на эмоции, все время тактично направляйте его на интеллектуальные вы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335268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пользуйте нестандартные приемы. Как это сделать? Вызвать у человека положительные эмоции, напомнив ему о вашем предыдущем хорошем сотрудничестве, попросив у него совета и т.д. Если клиент - женщина, то можно сделать искренний комплимент. Обязательно искренний, потому что лесть и обман всегда чувствуется. Можно разрядить обстановку, рассказав какой-нибудь анекд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047760" cy="2613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1577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44197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давайте отрицательную оценку ситуации, и упомяните о своих чувствах. Например: "Я расстроен всей данной ситуацией". Таким образом, вы напоминаете ему, что в конфликте вас участвует двое и, кроме его точки зрения, может существовать еще и друг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457200"/>
            <a:ext cx="403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старайтесь совместно сформулировать проблему спора и его конечный результат. Почему это важно? Потому что, как показывает практика, партнеры или клиенты зачастую по-разному видят суть проблемы. Чтобы придти к единому пониманию того, что вы хотите совместно достигнуть, нужно согласие. Поэтому следующий этап решения спора - это нахождение общих точек понимания проблемы. Для этого надо сначала совместно сформулировать, что вы оба понимаете под сутью решаемой проблемы, а потом описать тот конечный результат, к которому вы оба хотите прид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Содержимое 6" descr="12195_0.tmp"/>
          <p:cNvPicPr/>
          <p:nvPr/>
        </p:nvPicPr>
        <p:blipFill>
          <a:blip r:embed="rId1"/>
          <a:stretch/>
        </p:blipFill>
        <p:spPr>
          <a:xfrm>
            <a:off x="2209680" y="2133720"/>
            <a:ext cx="2376720" cy="2377800"/>
          </a:xfrm>
          <a:prstGeom prst="rect">
            <a:avLst/>
          </a:prstGeom>
          <a:ln w="0">
            <a:noFill/>
          </a:ln>
        </p:spPr>
      </p:pic>
      <p:pic>
        <p:nvPicPr>
          <p:cNvPr id="166" name="Содержимое 5" descr="37052157_0.tmp"/>
          <p:cNvPicPr/>
          <p:nvPr/>
        </p:nvPicPr>
        <p:blipFill>
          <a:blip r:embed="rId2"/>
          <a:stretch/>
        </p:blipFill>
        <p:spPr>
          <a:xfrm>
            <a:off x="380880" y="304920"/>
            <a:ext cx="2432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280" y="22860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йдите общую основу. Общей основой могут быть законы, факты из практики компании, прецеденты из деятельности других компаний, какое-либо авторитетное м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18288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йте возможность партнеру сохранить "свое лицо". Если проявлять уважение даже к сильно разгневанному партнеру или клиенту, то такая реакция произведет на него впечатление. Давать оценку его действиям, не затрагивая при этом его лич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9625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черкивайте внимание к человеку. Можно в беседе переспрашивать партнера или клиента. Например: "Скажите, у вас есть другая точка зрения?", "Давайте уточним, правильно ли мы поняли друг друга?" Такие вопросы позволяют подчеркнуть внимание к человеку и уменьшить его агресс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8" descr="iCAPAKXDY.jpg"/>
          <p:cNvPicPr/>
          <p:nvPr/>
        </p:nvPicPr>
        <p:blipFill>
          <a:blip r:embed="rId2"/>
          <a:stretch/>
        </p:blipFill>
        <p:spPr>
          <a:xfrm>
            <a:off x="5562720" y="0"/>
            <a:ext cx="2314440" cy="17366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5" descr="iCAOIDT4D.jpg"/>
          <p:cNvPicPr/>
          <p:nvPr/>
        </p:nvPicPr>
        <p:blipFill>
          <a:blip r:embed="rId3"/>
          <a:stretch/>
        </p:blipFill>
        <p:spPr>
          <a:xfrm>
            <a:off x="914400" y="1981080"/>
            <a:ext cx="29718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380880"/>
            <a:ext cx="472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же в самой острой стадии конфликта - держитесь на равных. Выдержите спокойную уверенность, не срывайтесь на ответную ругань или крик, а если виноваты вы - то, извинитесь. Извинения - это не слабость, наоборот, на извинения способны зрелые и умные сотруд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401940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ов бы ни был результат - старайтесь сохранить взаимоотношения. После любого конфликта остаются неприятные воспоминания. Но ведь и любой конфликт рано или поздно проходит, а бизнес, и длительные взаимоотношения с партнерами и клиентами остаются. Поэтому, несмотря на конфликт, выскажите надежду на продолжение дальнейшего сотрудни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8" descr="iCAF42C9T.jpg"/>
          <p:cNvPicPr/>
          <p:nvPr/>
        </p:nvPicPr>
        <p:blipFill>
          <a:blip r:embed="rId1"/>
          <a:stretch/>
        </p:blipFill>
        <p:spPr>
          <a:xfrm>
            <a:off x="5791320" y="838080"/>
            <a:ext cx="2209680" cy="1747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26272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819520" y="25909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любой конфликтной ситуации надо учитывать интересы противной стороны, тогда ее проще разреш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0" y="304920"/>
            <a:ext cx="4724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люче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261120" y="4800600"/>
            <a:ext cx="2882880" cy="1838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1717560" cy="209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589880" y="228600"/>
            <a:ext cx="1554120" cy="3382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4846680"/>
            <a:ext cx="3019320" cy="2011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29718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nek</cp:lastModifiedBy>
  <dcterms:modified xsi:type="dcterms:W3CDTF">2013-01-22T17:04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