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5643-D39A-4856-8963-F8E6CFB0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2E62-0019-4B5A-BB35-59DA232D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3152-33D0-4CEF-9F91-D8196C77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9258-7258-47C2-829F-D945FFB5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E308-D0F1-43FB-B0F7-2C3A5724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93EC-CD6F-4B77-B712-65B8D526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0789-9EE6-4171-A889-DDD1F0A5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6917-AEEA-4F84-9F38-511F06DB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E5B7-26A4-46C8-9299-36AE47A5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E5A9-EEBF-40EC-B836-222450DD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5985-F930-4231-A1BA-483175F6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2699-94F8-4231-A5DE-7BF5F3BB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D111-3249-493D-B979-B641F76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2C7A-504A-4D49-BC0A-564B31E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D8C2-43EF-473D-8B2D-1CE66D1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2AFB-7BD9-425A-8D6E-0B2A6933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CE10-3E5B-4677-8546-407E2D77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15B4-A37D-4C22-97D2-C23EE681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E581C-42BD-42DA-9989-80017EFE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99C3-266C-473B-ACF5-171E4D21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EF98-CDD4-43A3-854D-EC3956C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3DAC-CEC5-44D0-829C-8FB1A20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079F-EE23-4DAF-92B1-C4AADE9A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B20D-8A91-4A2B-9136-D6A82C7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A8C4-F30E-4BC5-AADF-56286105E2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1C61-5F31-42B8-9C6E-ACCB3CF2B3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ндивидуальные средства самооборо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606920" cy="140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19160" cy="2816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19320" y="3344760"/>
            <a:ext cx="3276360" cy="280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257800" y="4495680"/>
          <a:ext cx="3657600" cy="1635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16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ила действия различных ирритан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1600200"/>
          <a:ext cx="4035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5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557280" y="2202480"/>
            <a:ext cx="3838680" cy="3321000"/>
            <a:chOff x="557280" y="2202480"/>
            <a:chExt cx="3838680" cy="3321000"/>
          </a:xfrm>
        </p:grpSpPr>
        <p:sp>
          <p:nvSpPr>
            <p:cNvPr id="143" name="_s50185"/>
            <p:cNvSpPr/>
            <p:nvPr/>
          </p:nvSpPr>
          <p:spPr>
            <a:xfrm flipV="1">
              <a:off x="1996920" y="2202120"/>
              <a:ext cx="959040" cy="830520"/>
            </a:xfrm>
            <a:custGeom>
              <a:avLst/>
              <a:gdLst>
                <a:gd name="textAreaLeft" fmla="*/ 344160 w 959040"/>
                <a:gd name="textAreaRight" fmla="*/ 614880 w 959040"/>
                <a:gd name="textAreaTop" fmla="*/ 298080 h 830520"/>
                <a:gd name="textAreaBottom" fmla="*/ 532440 h 83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Verdana"/>
                </a:rPr>
                <a:t>C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50188"/>
            <p:cNvSpPr/>
            <p:nvPr/>
          </p:nvSpPr>
          <p:spPr>
            <a:xfrm flipV="1">
              <a:off x="1517760" y="3033360"/>
              <a:ext cx="1917720" cy="829440"/>
            </a:xfrm>
            <a:custGeom>
              <a:avLst/>
              <a:gdLst>
                <a:gd name="textAreaLeft" fmla="*/ 421560 w 1917720"/>
                <a:gd name="textAreaRight" fmla="*/ 1496160 w 1917720"/>
                <a:gd name="textAreaTop" fmla="*/ 182160 h 829440"/>
                <a:gd name="textAreaBottom" fmla="*/ 647280 h 82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О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50186"/>
            <p:cNvSpPr/>
            <p:nvPr/>
          </p:nvSpPr>
          <p:spPr>
            <a:xfrm flipV="1">
              <a:off x="1036800" y="3862440"/>
              <a:ext cx="2879640" cy="830520"/>
            </a:xfrm>
            <a:custGeom>
              <a:avLst/>
              <a:gdLst>
                <a:gd name="textAreaLeft" fmla="*/ 499680 w 2879640"/>
                <a:gd name="textAreaRight" fmla="*/ 2379960 w 2879640"/>
                <a:gd name="textAreaTop" fmla="*/ 144000 h 830520"/>
                <a:gd name="textAreaBottom" fmla="*/ 686520 h 83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МПК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50187"/>
            <p:cNvSpPr/>
            <p:nvPr/>
          </p:nvSpPr>
          <p:spPr>
            <a:xfrm flipV="1">
              <a:off x="557280" y="4694040"/>
              <a:ext cx="3838680" cy="829440"/>
            </a:xfrm>
            <a:custGeom>
              <a:avLst/>
              <a:gdLst>
                <a:gd name="textAreaLeft" fmla="*/ 577440 w 3838680"/>
                <a:gd name="textAreaRight" fmla="*/ 3261240 w 3838680"/>
                <a:gd name="textAreaTop" fmla="*/ 124560 h 829440"/>
                <a:gd name="textAreaBottom" fmla="*/ 704880 h 82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99cc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C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тика примен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92400"/>
            <a:ext cx="3810240" cy="3255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91320" y="1752480"/>
            <a:ext cx="1973160" cy="4432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едостатки газовых баллончи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льзя применять при сильном ветр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льзя применять в закрытых помещениях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здают небольшую поражающую область (эффективное расстояние 1-1,5 м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огут не сработать на холод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астая проблема – неисправность клапан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Человек в состоянии алкогольного или наркотического опьянения слабо реагирует на раздражающие веществ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обходимо прицеливаться (при использовании струйных баллончиков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e5ff"/>
                </a:solidFill>
                <a:uFillTx/>
                <a:latin typeface="Garamond"/>
              </a:rPr>
              <a:t>Устройство дозированного аэрозольного распыления ("УДАР"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требует лиценз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она поражения 2-4 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изкая стоимо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омпакт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нцип действия: прицельное метание жидк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ует обычные ирритант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обойме 5 патр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0402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ый пистоле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ебуется лиценз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она поражения 2 – 4 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водит противника из строя на 10-20 мин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йма на 8 – 12 патрон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нцип действия: распыление облака иррита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72464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ормативно-правовая б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едеральный закон №150-ФЗ «Об оруж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едеральный закон №184-ФЗ «О техническом регулирован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осударственный кадастр гражданского и служебного оружия и патронов к нем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57200" y="274680"/>
            <a:ext cx="8228880" cy="5849640"/>
            <a:chOff x="457200" y="274680"/>
            <a:chExt cx="8228880" cy="5849640"/>
          </a:xfrm>
        </p:grpSpPr>
        <p:cxnSp>
          <p:nvCxnSpPr>
            <p:cNvPr id="107" name="_s25614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5430240" y="1758600"/>
              <a:ext cx="1162800" cy="288072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25613"/>
            <p:cNvCxnSpPr>
              <a:stCxn id="111" idx="0"/>
              <a:endCxn id="109" idx="2"/>
            </p:cNvCxnSpPr>
            <p:nvPr/>
          </p:nvCxnSpPr>
          <p:spPr>
            <a:xfrm flipV="1">
              <a:off x="4571280" y="2617920"/>
              <a:ext cx="3240" cy="1162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25612"/>
            <p:cNvCxnSpPr>
              <a:stCxn id="113" idx="0"/>
              <a:endCxn id="109" idx="2"/>
            </p:cNvCxnSpPr>
            <p:nvPr/>
          </p:nvCxnSpPr>
          <p:spPr>
            <a:xfrm flipH="1" flipV="1" rot="5400000">
              <a:off x="2549880" y="1758960"/>
              <a:ext cx="1162800" cy="2880720"/>
            </a:xfrm>
            <a:prstGeom prst="bentConnector3">
              <a:avLst>
                <a:gd name="adj1" fmla="val 98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9" name="_s25608"/>
            <p:cNvSpPr/>
            <p:nvPr/>
          </p:nvSpPr>
          <p:spPr>
            <a:xfrm>
              <a:off x="3337200" y="27468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Оруж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5609"/>
            <p:cNvSpPr/>
            <p:nvPr/>
          </p:nvSpPr>
          <p:spPr>
            <a:xfrm>
              <a:off x="45720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Гражданск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5610"/>
            <p:cNvSpPr/>
            <p:nvPr/>
          </p:nvSpPr>
          <p:spPr>
            <a:xfrm>
              <a:off x="333720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Служеб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25611"/>
            <p:cNvSpPr/>
            <p:nvPr/>
          </p:nvSpPr>
          <p:spPr>
            <a:xfrm>
              <a:off x="6217560" y="3780720"/>
              <a:ext cx="2468520" cy="2343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Боев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руч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стрелков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Verdana"/>
                </a:rPr>
                <a:t>и холодно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ражданское оруж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 самооборо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хотничь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ортивно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игнальное оруж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, используемое в культурных и образовательных целя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ружие, предназначенное для ношения с национальной одеждой (казачья фор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ружие самооборо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9360" y="1503000"/>
            <a:ext cx="4264920" cy="4148280"/>
            <a:chOff x="2439360" y="1503000"/>
            <a:chExt cx="4264920" cy="4148280"/>
          </a:xfrm>
        </p:grpSpPr>
        <p:sp>
          <p:nvSpPr>
            <p:cNvPr id="118" name="_s33806"/>
            <p:cNvSpPr/>
            <p:nvPr/>
          </p:nvSpPr>
          <p:spPr>
            <a:xfrm flipH="1">
              <a:off x="3544920" y="4373640"/>
              <a:ext cx="513000" cy="320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33805"/>
            <p:cNvSpPr/>
            <p:nvPr/>
          </p:nvSpPr>
          <p:spPr>
            <a:xfrm>
              <a:off x="2439360" y="4375800"/>
              <a:ext cx="118512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Электрошоков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33804"/>
            <p:cNvSpPr/>
            <p:nvPr/>
          </p:nvSpPr>
          <p:spPr>
            <a:xfrm>
              <a:off x="5083560" y="4375800"/>
              <a:ext cx="514440" cy="31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33803"/>
            <p:cNvSpPr/>
            <p:nvPr/>
          </p:nvSpPr>
          <p:spPr>
            <a:xfrm>
              <a:off x="5519160" y="4375800"/>
              <a:ext cx="118512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Газов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33802"/>
            <p:cNvSpPr/>
            <p:nvPr/>
          </p:nvSpPr>
          <p:spPr>
            <a:xfrm flipV="1">
              <a:off x="4571640" y="2778480"/>
              <a:ext cx="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33801"/>
            <p:cNvSpPr/>
            <p:nvPr/>
          </p:nvSpPr>
          <p:spPr>
            <a:xfrm>
              <a:off x="3979080" y="1503000"/>
              <a:ext cx="118548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Огнестрельно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33800"/>
            <p:cNvSpPr/>
            <p:nvPr/>
          </p:nvSpPr>
          <p:spPr>
            <a:xfrm>
              <a:off x="3979080" y="3418560"/>
              <a:ext cx="1185480" cy="12754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Оружие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ое оруж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азовый баллонч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азовый пистол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тройство дозированного аэрозольного распыления («УДАР»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азовый баллончи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Эффективное средство самооборон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нужна лиценз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высокая стоимо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сты в применен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 требуют специальных навык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большие размер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ребуют минимального ух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1464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304920"/>
            <a:ext cx="8228520" cy="5787720"/>
            <a:chOff x="457200" y="304920"/>
            <a:chExt cx="8228520" cy="5787720"/>
          </a:xfrm>
        </p:grpSpPr>
        <p:cxnSp>
          <p:nvCxnSpPr>
            <p:cNvPr id="131" name="_s38925"/>
            <p:cNvCxnSpPr>
              <a:stCxn id="132" idx="0"/>
              <a:endCxn id="133" idx="2"/>
            </p:cNvCxnSpPr>
            <p:nvPr/>
          </p:nvCxnSpPr>
          <p:spPr>
            <a:xfrm flipV="1" rot="16200000">
              <a:off x="5100480" y="2090520"/>
              <a:ext cx="1157760" cy="2215440"/>
            </a:xfrm>
            <a:prstGeom prst="bentConnector3">
              <a:avLst>
                <a:gd name="adj1" fmla="val 986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4" name="_s38923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2884320" y="2090520"/>
              <a:ext cx="1157760" cy="2216160"/>
            </a:xfrm>
            <a:prstGeom prst="bentConnector3">
              <a:avLst>
                <a:gd name="adj1" fmla="val 986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3" name="_s38919"/>
            <p:cNvSpPr/>
            <p:nvPr/>
          </p:nvSpPr>
          <p:spPr>
            <a:xfrm>
              <a:off x="2673000" y="30492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Газовые баллончик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8920"/>
            <p:cNvSpPr/>
            <p:nvPr/>
          </p:nvSpPr>
          <p:spPr>
            <a:xfrm>
              <a:off x="457200" y="377748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Струйны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38922"/>
            <p:cNvSpPr/>
            <p:nvPr/>
          </p:nvSpPr>
          <p:spPr>
            <a:xfrm>
              <a:off x="4888080" y="3777480"/>
              <a:ext cx="3797640" cy="23151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Verdana"/>
                </a:rPr>
                <a:t>Распыляющие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держимое баллончи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324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S (о-хлорбензилиденмалонодинитрил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OC (олеорезин капсикум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ПК (морфолид пеларгоновой кислоты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R (дибензоксазепи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S+МП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CR+МП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230976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04:55:39Z</dcterms:created>
  <dc:creator>Анна</dc:creator>
  <dc:description/>
  <dc:language>en-US</dc:language>
  <cp:lastModifiedBy>Анна</cp:lastModifiedBy>
  <dcterms:modified xsi:type="dcterms:W3CDTF">2012-09-12T14:36:3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