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8819-3D80-4A11-ADB7-71E126B0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E5E85-51FF-4B54-934C-CFC60EE3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E1F6-5F93-41F9-BE35-4C827EC6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59B87-2CBF-49B3-AF8B-C157B8A6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E4A7-A2A8-41CF-A846-B23F0921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D76F-B75B-4FAF-BE09-C696E8EB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672C-5CD3-4B7D-BD51-2D0432DC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93D5-E795-4C95-B708-34094F92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E0C0-0FB9-4770-BAF1-18BDA4C9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9D8B-03BF-408C-B0C5-398FC01B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A7F7-CDD9-43E7-AB19-29B252C3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5CA8-4CFC-44AC-B82A-5BAC226B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93F3-485C-431A-8863-60E8C465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E48D-8E76-49D5-B759-98A807B9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39C0-D546-4917-8559-6B319D9A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765D-8790-426C-AD1B-9BB38747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A4B9-3CC1-424F-BA38-27B037D3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EA91-61AE-4C58-ACDD-F1F15905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81B5-75A3-4A3B-BE6F-7A53A0C6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45164-9011-4779-9CA6-19379B14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14DD5-0425-49A6-BE22-F5D2848D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C0352-CFDB-4873-AB4C-4B957FF3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79B4-0B2A-4844-AA04-DCB917C1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7A572-8995-4BFF-AF70-8B311F98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6756-2ABD-418F-8917-F286244695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E85F-518D-48A3-9E0C-B04B9A4B60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ндивидуальные средства самооборон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606920" cy="1403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2819160" cy="2816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219320" y="3344760"/>
            <a:ext cx="3276360" cy="280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5257800" y="4495680"/>
          <a:ext cx="3657600" cy="1635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16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ила действия различных ирритан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8320" y="1600200"/>
          <a:ext cx="40352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0352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557280" y="2202480"/>
            <a:ext cx="3838680" cy="3321000"/>
            <a:chOff x="557280" y="2202480"/>
            <a:chExt cx="3838680" cy="3321000"/>
          </a:xfrm>
        </p:grpSpPr>
        <p:sp>
          <p:nvSpPr>
            <p:cNvPr id="143" name="_s50185"/>
            <p:cNvSpPr/>
            <p:nvPr/>
          </p:nvSpPr>
          <p:spPr>
            <a:xfrm flipV="1">
              <a:off x="1996920" y="2202120"/>
              <a:ext cx="959040" cy="830520"/>
            </a:xfrm>
            <a:custGeom>
              <a:avLst/>
              <a:gdLst>
                <a:gd name="textAreaLeft" fmla="*/ 344160 w 959040"/>
                <a:gd name="textAreaRight" fmla="*/ 614880 w 959040"/>
                <a:gd name="textAreaTop" fmla="*/ 298080 h 830520"/>
                <a:gd name="textAreaBottom" fmla="*/ 532440 h 83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Verdana"/>
                </a:rPr>
                <a:t>C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50188"/>
            <p:cNvSpPr/>
            <p:nvPr/>
          </p:nvSpPr>
          <p:spPr>
            <a:xfrm flipV="1">
              <a:off x="1517760" y="3033360"/>
              <a:ext cx="1917720" cy="829440"/>
            </a:xfrm>
            <a:custGeom>
              <a:avLst/>
              <a:gdLst>
                <a:gd name="textAreaLeft" fmla="*/ 421560 w 1917720"/>
                <a:gd name="textAreaRight" fmla="*/ 1496160 w 1917720"/>
                <a:gd name="textAreaTop" fmla="*/ 182160 h 829440"/>
                <a:gd name="textAreaBottom" fmla="*/ 647280 h 82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ОС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50186"/>
            <p:cNvSpPr/>
            <p:nvPr/>
          </p:nvSpPr>
          <p:spPr>
            <a:xfrm flipV="1">
              <a:off x="1036800" y="3862440"/>
              <a:ext cx="2879640" cy="830520"/>
            </a:xfrm>
            <a:custGeom>
              <a:avLst/>
              <a:gdLst>
                <a:gd name="textAreaLeft" fmla="*/ 499680 w 2879640"/>
                <a:gd name="textAreaRight" fmla="*/ 2379960 w 2879640"/>
                <a:gd name="textAreaTop" fmla="*/ 144000 h 830520"/>
                <a:gd name="textAreaBottom" fmla="*/ 686520 h 83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МПК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50187"/>
            <p:cNvSpPr/>
            <p:nvPr/>
          </p:nvSpPr>
          <p:spPr>
            <a:xfrm flipV="1">
              <a:off x="557280" y="4694040"/>
              <a:ext cx="3838680" cy="829440"/>
            </a:xfrm>
            <a:custGeom>
              <a:avLst/>
              <a:gdLst>
                <a:gd name="textAreaLeft" fmla="*/ 577440 w 3838680"/>
                <a:gd name="textAreaRight" fmla="*/ 3261240 w 3838680"/>
                <a:gd name="textAreaTop" fmla="*/ 124560 h 829440"/>
                <a:gd name="textAreaBottom" fmla="*/ 704880 h 82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Verdana"/>
                </a:rPr>
                <a:t>C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тика примен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192400"/>
            <a:ext cx="3810240" cy="3255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1973160" cy="4432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едостатки газовых баллончик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льзя применять при сильном ветр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льзя применять в закрытых помещениях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здают небольшую поражающую область (эффективное расстояние 1-1,5 м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огут не сработать на холод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Частая проблема – неисправность клапан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Человек в состоянии алкогольного или наркотического опьянения слабо реагирует на раздражающие вещест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обходимо прицеливаться (при использовании струйных баллончиков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e5ff"/>
                </a:solidFill>
                <a:uFillTx/>
                <a:latin typeface="Garamond"/>
              </a:rPr>
              <a:t>Устройство дозированного аэрозольного распыления ("УДАР"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 требует лицензи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Зона поражения 2-4 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изкая стоимость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омпактны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нцип действия: прицельное метание жидк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ует обычные ирритант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обойме 5 патро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040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азовый пистоле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ребуется лиценз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она поражения 2 – 4 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водит противника из строя на 10-20 мин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йма на 8 – 12 патрон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цип действия: распыление облака ирритан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72464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ормативно-правовая ба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едеральный закон №150-ФЗ «Об оружи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едеральный закон №184-ФЗ «О техническом регулировани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осударственный кадастр гражданского и служебного оружия и патронов к нем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57200" y="274680"/>
            <a:ext cx="8228880" cy="5849640"/>
            <a:chOff x="457200" y="274680"/>
            <a:chExt cx="8228880" cy="5849640"/>
          </a:xfrm>
        </p:grpSpPr>
        <p:cxnSp>
          <p:nvCxnSpPr>
            <p:cNvPr id="107" name="_s25614"/>
            <p:cNvCxnSpPr>
              <a:stCxn id="108" idx="0"/>
              <a:endCxn id="109" idx="2"/>
            </p:cNvCxnSpPr>
            <p:nvPr/>
          </p:nvCxnSpPr>
          <p:spPr>
            <a:xfrm flipV="1" rot="16200000">
              <a:off x="5430240" y="1758600"/>
              <a:ext cx="1162800" cy="2880720"/>
            </a:xfrm>
            <a:prstGeom prst="bentConnector3">
              <a:avLst>
                <a:gd name="adj1" fmla="val 98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25613"/>
            <p:cNvCxnSpPr>
              <a:stCxn id="111" idx="0"/>
              <a:endCxn id="109" idx="2"/>
            </p:cNvCxnSpPr>
            <p:nvPr/>
          </p:nvCxnSpPr>
          <p:spPr>
            <a:xfrm flipV="1">
              <a:off x="4571280" y="2617920"/>
              <a:ext cx="3240" cy="1162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25612"/>
            <p:cNvCxnSpPr>
              <a:stCxn id="113" idx="0"/>
              <a:endCxn id="109" idx="2"/>
            </p:cNvCxnSpPr>
            <p:nvPr/>
          </p:nvCxnSpPr>
          <p:spPr>
            <a:xfrm flipH="1" flipV="1" rot="5400000">
              <a:off x="2549880" y="1758960"/>
              <a:ext cx="1162800" cy="2880720"/>
            </a:xfrm>
            <a:prstGeom prst="bentConnector3">
              <a:avLst>
                <a:gd name="adj1" fmla="val 98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9" name="_s25608"/>
            <p:cNvSpPr/>
            <p:nvPr/>
          </p:nvSpPr>
          <p:spPr>
            <a:xfrm>
              <a:off x="3337200" y="274680"/>
              <a:ext cx="2468520" cy="2343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Оруж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25609"/>
            <p:cNvSpPr/>
            <p:nvPr/>
          </p:nvSpPr>
          <p:spPr>
            <a:xfrm>
              <a:off x="457200" y="3780720"/>
              <a:ext cx="2468520" cy="2343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Гражданск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25610"/>
            <p:cNvSpPr/>
            <p:nvPr/>
          </p:nvSpPr>
          <p:spPr>
            <a:xfrm>
              <a:off x="3337200" y="3780720"/>
              <a:ext cx="2468520" cy="2343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Служебн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25611"/>
            <p:cNvSpPr/>
            <p:nvPr/>
          </p:nvSpPr>
          <p:spPr>
            <a:xfrm>
              <a:off x="6217560" y="3780720"/>
              <a:ext cx="2468520" cy="2343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Боев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ручн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стрелков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и холодн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ражданское оруж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ружие самооборо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хотничье оруж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портивное оруж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игнальное оруж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ружие, используемое в культурных и образовательных целях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ружие, предназначенное для ношения с национальной одеждой (казачья форм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ружие самооборо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39360" y="1503000"/>
            <a:ext cx="4264920" cy="4148280"/>
            <a:chOff x="2439360" y="1503000"/>
            <a:chExt cx="4264920" cy="4148280"/>
          </a:xfrm>
        </p:grpSpPr>
        <p:sp>
          <p:nvSpPr>
            <p:cNvPr id="118" name="_s33806"/>
            <p:cNvSpPr/>
            <p:nvPr/>
          </p:nvSpPr>
          <p:spPr>
            <a:xfrm flipH="1">
              <a:off x="3544920" y="4373640"/>
              <a:ext cx="513000" cy="320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33805"/>
            <p:cNvSpPr/>
            <p:nvPr/>
          </p:nvSpPr>
          <p:spPr>
            <a:xfrm>
              <a:off x="2439360" y="4375800"/>
              <a:ext cx="1185120" cy="12754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Электрошоково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33804"/>
            <p:cNvSpPr/>
            <p:nvPr/>
          </p:nvSpPr>
          <p:spPr>
            <a:xfrm>
              <a:off x="5083560" y="4375800"/>
              <a:ext cx="514440" cy="31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33803"/>
            <p:cNvSpPr/>
            <p:nvPr/>
          </p:nvSpPr>
          <p:spPr>
            <a:xfrm>
              <a:off x="5519160" y="4375800"/>
              <a:ext cx="1185120" cy="12754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Газово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33802"/>
            <p:cNvSpPr/>
            <p:nvPr/>
          </p:nvSpPr>
          <p:spPr>
            <a:xfrm flipV="1">
              <a:off x="4571640" y="2778480"/>
              <a:ext cx="0" cy="639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33801"/>
            <p:cNvSpPr/>
            <p:nvPr/>
          </p:nvSpPr>
          <p:spPr>
            <a:xfrm>
              <a:off x="3979080" y="1503000"/>
              <a:ext cx="1185480" cy="12754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Огнестрельно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33800"/>
            <p:cNvSpPr/>
            <p:nvPr/>
          </p:nvSpPr>
          <p:spPr>
            <a:xfrm>
              <a:off x="3979080" y="3418560"/>
              <a:ext cx="1185480" cy="12754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Оруж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азовое оруж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азовый баллонч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азовый пистол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тройство дозированного аэрозольного распыления («УДАР»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азовый баллончи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Эффективное средство самооборон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 нужна лиценз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высокая стоимость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сты в применени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 требуют специальных навык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большие размер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ребуют минимального ух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314640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304920"/>
            <a:ext cx="8228520" cy="5787720"/>
            <a:chOff x="457200" y="304920"/>
            <a:chExt cx="8228520" cy="5787720"/>
          </a:xfrm>
        </p:grpSpPr>
        <p:cxnSp>
          <p:nvCxnSpPr>
            <p:cNvPr id="131" name="_s38925"/>
            <p:cNvCxnSpPr>
              <a:stCxn id="132" idx="0"/>
              <a:endCxn id="133" idx="2"/>
            </p:cNvCxnSpPr>
            <p:nvPr/>
          </p:nvCxnSpPr>
          <p:spPr>
            <a:xfrm flipV="1" rot="16200000">
              <a:off x="5100480" y="2090520"/>
              <a:ext cx="1157760" cy="2215440"/>
            </a:xfrm>
            <a:prstGeom prst="bentConnector3">
              <a:avLst>
                <a:gd name="adj1" fmla="val 986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38923"/>
            <p:cNvCxnSpPr>
              <a:stCxn id="135" idx="0"/>
              <a:endCxn id="133" idx="2"/>
            </p:cNvCxnSpPr>
            <p:nvPr/>
          </p:nvCxnSpPr>
          <p:spPr>
            <a:xfrm flipH="1" flipV="1" rot="5400000">
              <a:off x="2884320" y="2090520"/>
              <a:ext cx="1157760" cy="2216160"/>
            </a:xfrm>
            <a:prstGeom prst="bentConnector3">
              <a:avLst>
                <a:gd name="adj1" fmla="val 986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3" name="_s38919"/>
            <p:cNvSpPr/>
            <p:nvPr/>
          </p:nvSpPr>
          <p:spPr>
            <a:xfrm>
              <a:off x="2673000" y="304920"/>
              <a:ext cx="3797640" cy="23151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Verdana"/>
                </a:rPr>
                <a:t>Газовые баллончик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38920"/>
            <p:cNvSpPr/>
            <p:nvPr/>
          </p:nvSpPr>
          <p:spPr>
            <a:xfrm>
              <a:off x="457200" y="3777480"/>
              <a:ext cx="3797640" cy="23151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Verdana"/>
                </a:rPr>
                <a:t>Струйные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38922"/>
            <p:cNvSpPr/>
            <p:nvPr/>
          </p:nvSpPr>
          <p:spPr>
            <a:xfrm>
              <a:off x="4888080" y="3777480"/>
              <a:ext cx="3797640" cy="23151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Verdana"/>
                </a:rPr>
                <a:t>Распыляющие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одержимое баллонч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6324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CS (о-хлорбензилиденмалонодинитрил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OC (олеорезин капсикум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ПК (морфолид пеларгоновой кислоты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CR (дибензоксазепи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CS+МП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CR+МП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1219320"/>
            <a:ext cx="2309760" cy="537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04:55:39Z</dcterms:created>
  <dc:creator>Анна</dc:creator>
  <dc:description/>
  <dc:language>en-US</dc:language>
  <cp:lastModifiedBy>Анна</cp:lastModifiedBy>
  <dcterms:modified xsi:type="dcterms:W3CDTF">2012-09-12T14:36:30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