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469F-4CB1-4884-ABF7-C5348375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2784-4401-44C8-9E44-D698DF7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D422-B462-4920-84FD-DDC8DA46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5DC8-7A6F-4303-B6DE-B6D5D28C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6D29-3C58-4332-8B79-735B8BC8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6CA-B019-4088-822C-B34D2F6B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B45-9E16-4120-8F66-A609BD4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E1FD-2902-46A2-A1C4-A7BF302B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5899-F558-4B31-9DE0-BD373E55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19C-9D0B-401E-A512-F743AAF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758-EDF8-40B2-8D72-85C863C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7621-99F5-4658-9656-7B361E3C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3E68-F2E1-46F3-B4E7-07D69C4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097-5BB7-4237-92D7-106FE07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1223-1D0A-4B47-99CF-BE440D1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66C3-BF71-445A-AC4E-FF7651C6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F67-48EB-43FA-82D7-91E90F17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48F4-6B92-4FB5-8396-F5A6174F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3A70-307F-40D3-BDAA-709A9DC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9BD9-0B6D-49E3-8F1B-82C58656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D711-7BC9-44E6-B404-9B81187F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61B8-45F1-41B8-8490-58A7FBD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1470-3663-4CF8-BAD1-96F4A50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6C80-5557-44AC-B687-510BE04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69C-EEF3-41EA-8CEF-C31CD32B4E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190E-D8EB-4087-BF20-F71280A7A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ндивидуальные средства самооборо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606920" cy="14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19160" cy="281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3344760"/>
            <a:ext cx="3276360" cy="28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257800" y="4495680"/>
          <a:ext cx="3657600" cy="1635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ла действия различных иррита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1600200"/>
          <a:ext cx="4035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5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557280" y="2202480"/>
            <a:ext cx="3838680" cy="3321000"/>
            <a:chOff x="557280" y="2202480"/>
            <a:chExt cx="3838680" cy="3321000"/>
          </a:xfrm>
        </p:grpSpPr>
        <p:sp>
          <p:nvSpPr>
            <p:cNvPr id="143" name="_s50185"/>
            <p:cNvSpPr/>
            <p:nvPr/>
          </p:nvSpPr>
          <p:spPr>
            <a:xfrm flipV="1">
              <a:off x="1996920" y="2202120"/>
              <a:ext cx="959040" cy="830520"/>
            </a:xfrm>
            <a:custGeom>
              <a:avLst/>
              <a:gdLst>
                <a:gd name="textAreaLeft" fmla="*/ 344160 w 959040"/>
                <a:gd name="textAreaRight" fmla="*/ 614880 w 959040"/>
                <a:gd name="textAreaTop" fmla="*/ 298080 h 830520"/>
                <a:gd name="textAreaBottom" fmla="*/ 53244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Verdana"/>
                </a:rPr>
                <a:t>C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50188"/>
            <p:cNvSpPr/>
            <p:nvPr/>
          </p:nvSpPr>
          <p:spPr>
            <a:xfrm flipV="1">
              <a:off x="1517760" y="3033360"/>
              <a:ext cx="1917720" cy="829440"/>
            </a:xfrm>
            <a:custGeom>
              <a:avLst/>
              <a:gdLst>
                <a:gd name="textAreaLeft" fmla="*/ 421560 w 1917720"/>
                <a:gd name="textAreaRight" fmla="*/ 1496160 w 1917720"/>
                <a:gd name="textAreaTop" fmla="*/ 182160 h 829440"/>
                <a:gd name="textAreaBottom" fmla="*/ 6472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О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50186"/>
            <p:cNvSpPr/>
            <p:nvPr/>
          </p:nvSpPr>
          <p:spPr>
            <a:xfrm flipV="1">
              <a:off x="1036800" y="3862440"/>
              <a:ext cx="2879640" cy="830520"/>
            </a:xfrm>
            <a:custGeom>
              <a:avLst/>
              <a:gdLst>
                <a:gd name="textAreaLeft" fmla="*/ 499680 w 2879640"/>
                <a:gd name="textAreaRight" fmla="*/ 2379960 w 2879640"/>
                <a:gd name="textAreaTop" fmla="*/ 144000 h 830520"/>
                <a:gd name="textAreaBottom" fmla="*/ 68652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МП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50187"/>
            <p:cNvSpPr/>
            <p:nvPr/>
          </p:nvSpPr>
          <p:spPr>
            <a:xfrm flipV="1">
              <a:off x="557280" y="4694040"/>
              <a:ext cx="3838680" cy="829440"/>
            </a:xfrm>
            <a:custGeom>
              <a:avLst/>
              <a:gdLst>
                <a:gd name="textAreaLeft" fmla="*/ 577440 w 3838680"/>
                <a:gd name="textAreaRight" fmla="*/ 3261240 w 3838680"/>
                <a:gd name="textAreaTop" fmla="*/ 124560 h 829440"/>
                <a:gd name="textAreaBottom" fmla="*/ 7048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C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тика примен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92400"/>
            <a:ext cx="3810240" cy="325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97316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едостатки газовых баллон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при сильном ветр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в закрытых помещени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здают небольшую поражающую область (эффективное расстояние 1-1,5 м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гут не сработать на хол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астая проблема – неисправность клапан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ловек в состоянии алкогольного или наркотического опьянения слабо реагирует на раздражающие вещест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обходимо прицеливаться (при использовании струйных баллончико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Устройство дозированного аэрозольного распыления ("УДАР"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ет лиценз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она поражения 2-4 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из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омпакт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цип действия: прицельное метание жидк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ует обычные ирритан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обойме 5 патр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040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пистол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буется лиценз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она поражения 2 – 4 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водит противника из строя на 10-20 мин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йма на 8 – 12 патрон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цип действия: распыление облака иррита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7246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ормативно-правовая б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50-ФЗ «Об оруж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84-ФЗ «О техническом регулирован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осударственный кадастр гражданского и служебного оружия и патронов к не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107" name="_s25614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430240" y="175860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25613"/>
            <p:cNvCxnSpPr>
              <a:stCxn id="111" idx="0"/>
              <a:endCxn id="109" idx="2"/>
            </p:cNvCxnSpPr>
            <p:nvPr/>
          </p:nvCxnSpPr>
          <p:spPr>
            <a:xfrm flipV="1">
              <a:off x="4571280" y="2617920"/>
              <a:ext cx="3240" cy="1162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5612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549880" y="175896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25608"/>
            <p:cNvSpPr/>
            <p:nvPr/>
          </p:nvSpPr>
          <p:spPr>
            <a:xfrm>
              <a:off x="3337200" y="27468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5609"/>
            <p:cNvSpPr/>
            <p:nvPr/>
          </p:nvSpPr>
          <p:spPr>
            <a:xfrm>
              <a:off x="45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Гражд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5610"/>
            <p:cNvSpPr/>
            <p:nvPr/>
          </p:nvSpPr>
          <p:spPr>
            <a:xfrm>
              <a:off x="333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лужеб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5611"/>
            <p:cNvSpPr/>
            <p:nvPr/>
          </p:nvSpPr>
          <p:spPr>
            <a:xfrm>
              <a:off x="621756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Бое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руч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трелко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и холод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ражданск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 самооборо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хотничь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гналь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используемое в культурных и образовательных целя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ошения с национальной одеждой (казачья фор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ужие самооборо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9360" y="1503000"/>
            <a:ext cx="4264920" cy="4148280"/>
            <a:chOff x="2439360" y="1503000"/>
            <a:chExt cx="4264920" cy="4148280"/>
          </a:xfrm>
        </p:grpSpPr>
        <p:sp>
          <p:nvSpPr>
            <p:cNvPr id="118" name="_s33806"/>
            <p:cNvSpPr/>
            <p:nvPr/>
          </p:nvSpPr>
          <p:spPr>
            <a:xfrm flipH="1">
              <a:off x="3544920" y="4373640"/>
              <a:ext cx="513000" cy="32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33805"/>
            <p:cNvSpPr/>
            <p:nvPr/>
          </p:nvSpPr>
          <p:spPr>
            <a:xfrm>
              <a:off x="24393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Электрошок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33804"/>
            <p:cNvSpPr/>
            <p:nvPr/>
          </p:nvSpPr>
          <p:spPr>
            <a:xfrm>
              <a:off x="5083560" y="4375800"/>
              <a:ext cx="514440" cy="31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33803"/>
            <p:cNvSpPr/>
            <p:nvPr/>
          </p:nvSpPr>
          <p:spPr>
            <a:xfrm>
              <a:off x="55191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Газ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33802"/>
            <p:cNvSpPr/>
            <p:nvPr/>
          </p:nvSpPr>
          <p:spPr>
            <a:xfrm flipV="1">
              <a:off x="4571640" y="2778480"/>
              <a:ext cx="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33801"/>
            <p:cNvSpPr/>
            <p:nvPr/>
          </p:nvSpPr>
          <p:spPr>
            <a:xfrm>
              <a:off x="3979080" y="150300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гнестрельн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3800"/>
            <p:cNvSpPr/>
            <p:nvPr/>
          </p:nvSpPr>
          <p:spPr>
            <a:xfrm>
              <a:off x="3979080" y="341856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баллонч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писто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тройство дозированного аэрозольного распыления («УДАР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баллончи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ффективное средство самооборон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нужна лиценз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высо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сты в применен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ют специальных навы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большие размер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ебуют минимального ух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1464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304920"/>
            <a:ext cx="8228520" cy="5787720"/>
            <a:chOff x="457200" y="304920"/>
            <a:chExt cx="8228520" cy="5787720"/>
          </a:xfrm>
        </p:grpSpPr>
        <p:cxnSp>
          <p:nvCxnSpPr>
            <p:cNvPr id="131" name="_s38925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100480" y="2090520"/>
              <a:ext cx="1157760" cy="221544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38923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2884320" y="2090520"/>
              <a:ext cx="1157760" cy="221616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38919"/>
            <p:cNvSpPr/>
            <p:nvPr/>
          </p:nvSpPr>
          <p:spPr>
            <a:xfrm>
              <a:off x="2673000" y="30492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Газовые баллончик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8920"/>
            <p:cNvSpPr/>
            <p:nvPr/>
          </p:nvSpPr>
          <p:spPr>
            <a:xfrm>
              <a:off x="45720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Струйны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38922"/>
            <p:cNvSpPr/>
            <p:nvPr/>
          </p:nvSpPr>
          <p:spPr>
            <a:xfrm>
              <a:off x="488808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Распыляющи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держимое баллонч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32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 (о-хлорбензилиденмалонодинитрил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OC (олеорезин капсикум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ПК (морфолид пеларгоновой кислот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 (дибензоксазеп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230976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4:55:39Z</dcterms:created>
  <dc:creator>Анна</dc:creator>
  <dc:description/>
  <dc:language>en-US</dc:language>
  <cp:lastModifiedBy>Анна</cp:lastModifiedBy>
  <dcterms:modified xsi:type="dcterms:W3CDTF">2012-09-12T14:36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