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3F6-03C4-4854-A75E-ADEF858B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46E-E11E-4D90-B353-2477DDEB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8289-593A-4F97-A7AA-C438D168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752-FCF1-4F04-89BF-19CAD2E4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85F3-785C-48E8-87DB-ACA58E01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F1E1-F3EA-4385-9DC1-5BCC1196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D4BA-20C3-4FC5-8392-088EA54E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D81E-2DE4-40F6-A27A-B3DC7926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2F7E-5633-4016-9E00-5A0869A2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91AC-BCC9-4CC2-A688-0BF112B1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9756-BCA2-4E76-A9AD-E499910D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E26-7792-48CB-B578-565FF604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F96E-AF16-4C58-AB72-B801D4A5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AD97-EAD8-42AE-AA0C-D57A7229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3471-4C1C-4ACB-93C8-A9941BF3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2957-2814-4263-A670-DD45D762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7CF3-F56E-478E-AF01-C8E11C20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440-5F30-4F8D-90B4-BE5DC193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D77-0F98-4B35-B498-D94D3F49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A32-2A13-45D4-8D24-A18BDF8B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953-C4B7-4984-9EBB-AF1BABDF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257-8009-4066-9A16-B4917C83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F97-D993-40EB-AAB6-29389A7E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DCF-927D-4B5A-9DAF-8E111E03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8764-2B83-4E52-AD29-5F4CE7B4C4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DBEE-961A-4F7D-A9F0-7657EAA41C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adiccion-a-internet"/>
          <p:cNvPicPr/>
          <p:nvPr/>
        </p:nvPicPr>
        <p:blipFill>
          <a:blip r:embed="rId1"/>
          <a:stretch/>
        </p:blipFill>
        <p:spPr>
          <a:xfrm>
            <a:off x="0" y="0"/>
            <a:ext cx="9144000" cy="7161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619280" y="270828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5e1efe"/>
                </a:solidFill>
                <a:uFillTx/>
                <a:latin typeface="Arial"/>
              </a:rPr>
              <a:t>Игровая зависимос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900000" y="115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472d8"/>
                </a:solidFill>
                <a:uFillTx/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4472d8"/>
                </a:solidFill>
                <a:uFillTx/>
                <a:latin typeface="Times New Roman"/>
              </a:rPr>
              <a:t>Стадии игровой завис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84360" y="54936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отражают мотивационную динамику гэмблинга. Этот процесс, исключая нулевую стадию или ее отсутствие, включает по А.Ю. Акопову следующие три стад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55640" y="1628640"/>
            <a:ext cx="838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адия иллюзорного восприятия игры и себ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игра на выигрыш, в мотивации доминирование иллюзий игро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стадия игры ради самой иг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безиллюзорное восприятие игры на фоне искаженного отношения к себе, своим возможностям; цель игры - сам проце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I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стадия деградации и полного опустошения личност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этой стадии игра идет не на выигрыш или ради самого процесса игры как такового независимо от выигрыша или проигрыша (1 и 2), а игра по навязчивому принуждению, без всякого удовольствия от процесса игры и при безразличии к ее результатам и возможным негатив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дств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данной стадии характерны расп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мьи, утрата друзей, потеря работы, жил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нищание, состояние бомжа, раба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we"/>
          <p:cNvPicPr/>
          <p:nvPr/>
        </p:nvPicPr>
        <p:blipFill>
          <a:blip r:embed="rId1"/>
          <a:stretch/>
        </p:blipFill>
        <p:spPr>
          <a:xfrm>
            <a:off x="5364000" y="3916440"/>
            <a:ext cx="3780000" cy="294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2746080" y="54936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ипология игровых адди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26920" y="1484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норы - «бойцы», безуспешно сражающиеся с игровыми автоматами, проигрывающие свои заначки, зарплаты, стипендии и т.д. Они - «питательная» основа игрового бизнеса, включающая эмоциональных романтиков, джентльменов удачи, верящих в сегодняшний, завтрашний и послезавтрашний выигры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ионалы. Эту группу представляют лица с высоким эмоционально-деятельностным контролем. Как правило, их игра ограничена ежедневным размером выигрыша или проигрыша в сумме $200-300. игра для данной группы людей является своеобразной профессиональной деятельностью. Они приходят в клубы или казино как на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ую группу составляют так называемые крупные игроки, которые ставят не меньше $10 тыс. за время игры. Соответственно, выигрыш или проигрыш таких людей может доходить до нескольких сотен тыся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шенники. Представители этой группы пытаются любыми средствами получить миллионный выигрыш. Они преследуются как владельцами клубов и казино, так и работниками мил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ozae40457"/>
          <p:cNvPicPr/>
          <p:nvPr/>
        </p:nvPicPr>
        <p:blipFill>
          <a:blip r:embed="rId1"/>
          <a:stretch/>
        </p:blipFill>
        <p:spPr>
          <a:xfrm>
            <a:off x="0" y="0"/>
            <a:ext cx="2490840" cy="3645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780000" y="1557360"/>
            <a:ext cx="489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еньги не выигрываются, а зарабатывают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. Один из играющих всегда проигрыва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3. Игробизнес существует за счет проигрышей кли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4. Игровые автоматы запрограммированы на выигрыш клуба или кази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5. Игровые автоматы производят для игробизнеса, а не для иг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6. Игробизнес в России, как и во всем мире, очень агрессивен и безжалосен, как ко взрослым, так и к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348000" y="18900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истеме психотерапевтических методов л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гровой аддикции и психологической помощи аддик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маловажное значение принадлежит формиров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декватных социальных  установок ти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9280" y="126828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72d8"/>
                </a:solidFill>
                <a:latin typeface="Times New Roman"/>
              </a:rPr>
              <a:t>Гэмблинг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- зависимость от азартных игр. Вид аддикции, при которой уход от реальности и изменение состояния достигается возбуждением во время азартной игры. 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Игровая зависимость (лудомания), по опыту всемирных наблюдений - одна из самых упорных и жестоких страстей, совершенно подобная наркомания. Лудомании были подвержены и гении русской литературы Пушкин и Достоевский.  Пристрастие Н.А. Некрасова  к картам нашло отражение в его завещании друзьям о том, что на протяжении сего его «последнего пути» они должны играть в карты на его гробе.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Игровые аддикции относятся к группе </a:t>
            </a:r>
            <a:r>
              <a:rPr b="0" lang="ru-RU" sz="2000" spc="-1" strike="noStrike" u="sng">
                <a:solidFill>
                  <a:srgbClr val="330033"/>
                </a:solidFill>
                <a:uFillTx/>
                <a:latin typeface="Times New Roman"/>
              </a:rPr>
              <a:t>нехимических, информационных,      социально-психологических аддикций.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Условным наркотикам выступает здесь игровая деятельность, азартная игра. Разновидностей игр много, однако, наиболее распространенными у нас - являются «однорукий бандит», карточная игра в покер в казино, различные лохотроны, компьютерные игры (по мировой статистике, попадает в зависимость каждый десятый, имеющий дело с компьютером), электронная рулетка, Интернет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4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0160" y="-153720"/>
            <a:ext cx="5407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числу специфических критериев игр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дикции можно отнести времен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альные и частотные показа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.А.Акопов выделяет следующие крит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11280" y="1844640"/>
            <a:ext cx="835344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игровой стаж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м он выше, тем больше завис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лительность одного сеанса непрерывной 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Ю. Акопов приводит рекордную для Санкт-Петербурга продолжительность игры, равную 60-часам непрерывной, не выходя из казино,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аксимальный проигрыш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ногда у «крупных» игроков он достигает $400000 за вечер. Чем выше проигрыш, тем больше завис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аксимальный выигрыш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ногда «крупные» игроки за один вечер выигрывают несколько десятков тысяч долларов. У игровых аддиктов выигрыш всегда только условный, промежуточный, полученный не под конец, а в процессе игры; такие игроки (с зависимостью) уходят всегда с пустыми карманами, полностью проигравш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12327764_kazino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2346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611280" y="1413000"/>
            <a:ext cx="85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змер минимальной стартовой суммы игро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ачальной стадии игры, определяемый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о-психологическ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обенностями, степени аддиктив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истрастности) и материального доста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Частотность посещений игровых залов, казино и т.д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если она носит систематический  характер, то это служит показателем игровой адди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39640" y="40464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умма общего долга за игровой период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Известен пример игрока в Санкт-Петербурге, который проиграл 1 млн. долл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online_gambling_addiction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3141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81560_112176_16"/>
          <p:cNvPicPr/>
          <p:nvPr/>
        </p:nvPicPr>
        <p:blipFill>
          <a:blip r:embed="rId2"/>
          <a:stretch/>
        </p:blipFill>
        <p:spPr>
          <a:xfrm>
            <a:off x="0" y="4076640"/>
            <a:ext cx="298764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116000" y="54936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тивационные основы игровой зависимости и поведения адди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864360" y="155628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7 иллюзий (А.Ю. Акопо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84360" y="1889280"/>
            <a:ext cx="84596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иллюзия крупного выигрыша - это изначальная наиболее стойкая  иллюзия, сопряженная с ориентацией на крупный выигрыш, который,  якобы разом решит все их жизненны проблемы. Близка к ней иллюзия возможности зарабатывать игрой, а также иллюзия возможности уйти с крупным выигрыш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иллюзия отыграться одним разом и тем самым полностью погасить долг. Игровых аддиктов отличает способность быстро зарабатывать, переживания по поводу крупного проигрыша быстро забываются, смываясь под натиском новой волны желания играть и в предвкушении выигрыша. На первых порах (стадиях зависимости) игрок еще может уйти с выигрышем. Правда, он будет жечь ему карман, и он может быстро спустить его тут же, по дороге домой или на следующий день в игре или бездумно потратить на пустяки: выигранные деньги игрок не считает своими, честно заработанными, их ему не жалко, в отличие от проигранных: «Проигрываешь свои, выигрываешь чуж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иллюзорная псевдовозможность управления игровой ситуацией и процессом игры (вплоть до безумного желания обыграть сами автоматы, а через них - и даже владельцев казино и автоматов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11280" y="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некоторых игроков возникает иллюзия возможности влияния на крупье, автомат, на порядок выпадения, комбинаций изображений, циф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иллюзии контроля своего игрового поведения, своей активности, в частности, психоэмоционального со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иллюзорное восприятие характера игры (элементы индивидуализации, персонификации, олицетворения, одушевления, отождествления, присвоения, вплоть до полного овладения объектом зависимости; иллюзия «игры с партнером», чаще - враждебны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игровое фантазирование как иллюзия суррогатного возмещения игры в период абстиненции, т.е. воздержания от игры, когда она по разным причинам невозможна (нет денег, автомата и т.д.) Игра подменяет для игрока реальную жизнь, а игровое фантазирование замещает игру (во сне и наяву в номерах машин, в груде помидоров игроку видятся «счастливые», призовые комбинации цифр, изображен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24000" y="4979880"/>
            <a:ext cx="8640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иллюзия возможности предвидения и контроля последствий игры, выражающейся в установках, что «Я особый, успешный» и мне чужды: проигрыши, большие долги, обнищание семьи, ее распад, потеря друзей и близких людей, работы, квартиры, маргинальность и личностная деградац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ако для большинства игровых аддиктов - это реальный фина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920" y="47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0)Отсутствие игровой зависимости («социальный» игрок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этой стадии игра обусловлена познавательным интересом и используется для развлечения, отвлечения, расслабления, отдыха, отключения от проблем (семейных, личностных, потенциальн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) Слабая, начальна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орьба мотивов незначительная, превалирует волевой отказ от игры при слабом желании играть. Не проигрывает все имеющиеся в начале игры деньги. Короткие игровые сеансы. Ставки маленькие, но растут. Незначительные выигрыши и проигр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) Средня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орьба мотивов «играть - не играть», она достаточно выражена. Как правило, реже удается не начинать игру при желании играть (т.е. не удается волевым усилием запретить себе играть); азарт контролируется плохо; «везет» реже; проигрыши постепенно имеют все больше субъективное  значение, чем выигрыши, стимулируя к продолжению игры; суммы текущих, промежуточных проигрышей и выигрышей растут, как и конечный проигрыш; удлиняется игровой сеанс, учащаются подходы в залы и казино. Игрок набирается опыта за счет попадания в зависимость, строит свои системы игры, игровой процесс все больше обрастает ритуалами, суевериями, проявляет игровое фантазирование (фантазирование по поводу игры вне ее, когда нет возможности играть): например, видит во сне любимые, счастливые комбинации цифр или изображений, везде замечает их наяву (в номерах машин и т.д.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412360" y="-108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епени игров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900000" y="17002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611280" y="1557360"/>
            <a:ext cx="81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менение отношения к деньгам: они утрачив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бственный смысл, свое значение и у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ринимаются не как денежные знаки, на которые можно все купить, а как простые «бумажки», но имеющие для игрока значение символа игры: наличные деньги отождествляются только с игрой, с возможностью играть, а это является главным смыслом существования, всей жизни при выраженной степени зависимости. Укорочение периода воздержания и всего игрового цикла (времени от окончания одной игры до завершения другой), увеличение длительности игрового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ная утрата контроля над своим состоянием и своег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грового поведения; неадекватная, субъектно-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страстная   оценка игровой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8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111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79983337"/>
          <p:cNvPicPr/>
          <p:nvPr/>
        </p:nvPicPr>
        <p:blipFill>
          <a:blip r:embed="rId2"/>
          <a:stretch/>
        </p:blipFill>
        <p:spPr>
          <a:xfrm>
            <a:off x="0" y="4352760"/>
            <a:ext cx="3132000" cy="25052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611280" y="11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 Выраженная стадия игровой зависим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ное отсутствие борьбы мотивов; игрок готов играть ежедневно и неограниченное время, играет всегда, когда есть время и любая сумма налич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02:52Z</dcterms:created>
  <dc:creator>1</dc:creator>
  <dc:description/>
  <dc:language>en-US</dc:language>
  <cp:lastModifiedBy>Николай</cp:lastModifiedBy>
  <dcterms:modified xsi:type="dcterms:W3CDTF">2013-04-29T07:50:09Z</dcterms:modified>
  <cp:revision>6</cp:revision>
  <dc:subject/>
  <dc:title>Слайд 1</dc:title>
</cp:coreProperties>
</file>