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B24-7D8A-4351-8576-1F986C3C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04C-9A12-49F3-9DCC-E79D1D31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D0E-A8A7-4630-940B-4DEC8CC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DE5-E3F4-4066-8B75-D00CD475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8DF-98D6-4BCA-9E8D-1B6D93B9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CD14-90EF-440E-9EAE-2142710B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831-E3C2-4279-B7AB-FC2B8B5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FE32-27AD-49A0-9939-F0EA7E9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715D-0E9D-418A-ADCB-0B01733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8B79-15D6-4507-8DB8-735E215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065-5D92-4962-B138-03FD6DD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A7B-0714-4517-9E41-A28592F5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921D-1527-4118-B8F0-5319737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53F-4A97-4D88-904D-F4A5B6D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B0BD-E517-472E-92D8-26242D37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CB6-32C9-4E0A-ACB1-D2C3082E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739-C8D6-4DCE-AF77-6DA0996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9B3-89EC-40E6-903F-CFF47AFA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730-3C6A-4D7B-B088-12667E84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F2C-1A1E-4DEF-9087-60FD6857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617-1333-4C0B-921B-C6282052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C96-A537-4A00-8930-6B82A5C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920-DA39-4E3F-AF1A-B9BDA6C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B97-63B8-4681-AFF0-22C8E35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44F-CEAF-470F-92D4-EA1746B25E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115-11A2-4C1E-9097-03ACB8661A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adiccion-a-internet"/>
          <p:cNvPicPr/>
          <p:nvPr/>
        </p:nvPicPr>
        <p:blipFill>
          <a:blip r:embed="rId1"/>
          <a:stretch/>
        </p:blipFill>
        <p:spPr>
          <a:xfrm>
            <a:off x="0" y="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619280" y="270828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5e1efe"/>
                </a:solidFill>
                <a:uFillTx/>
                <a:latin typeface="Arial"/>
              </a:rPr>
              <a:t>Игровая зависим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00000" y="11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Стадии игров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549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отражают мотивационную динамику гэмблинга. Этот процесс, исключая нулевую стадию или ее отсутствие, включает по А.Ю. Акопову следующие три ста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1628640"/>
            <a:ext cx="83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дия иллюзорного восприятия игры и себ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игра на выигрыш, в мотивации доминирование иллюзий иг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игры ради самой иг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безиллюзорное восприятие игры на фоне искаженного отношения к себе, своим возможностям; цель игры - сам проце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деградации и полного опустошения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этой стадии игра идет не на выигрыш или ради самого процесса игры как такового независимо от выигрыша или проигрыша (1 и 2), а игра по навязчивому принуждению, без всякого удовольствия от процесса игры и при безразличии к ее результатам и возможным нега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анной стадии характерны расп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и, утрата друзей, потеря работы, жил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нищание, состояние бомжа, раб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we"/>
          <p:cNvPicPr/>
          <p:nvPr/>
        </p:nvPicPr>
        <p:blipFill>
          <a:blip r:embed="rId1"/>
          <a:stretch/>
        </p:blipFill>
        <p:spPr>
          <a:xfrm>
            <a:off x="5364000" y="3916440"/>
            <a:ext cx="37800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2746080" y="54936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пология игровых адд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26920" y="1484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норы - «бойцы», безуспешно сражающиеся с игровыми автоматами, проигрывающие свои заначки, зарплаты, стипендии и т.д. Они - «питательная» основа игрового бизнеса, включающая эмоциональных романтиков, джентльменов удачи, верящих в сегодняшний, завтрашний и послезавтрашний выигр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ы. Эту группу представляют лица с высоким эмоционально-деятельностным контролем. Как правило, их игра ограничена ежедневным размером выигрыша или проигрыша в сумме $200-300. игра для данной группы людей является своеобразной профессиональной деятельностью. Они приходят в клубы или казино как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ую группу составляют так называемые крупные игроки, которые ставят не меньше $10 тыс. за время игры. Соответственно, выигрыш или проигрыш таких людей может доходить до нескольких сотен тыс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шенники. Представители этой группы пытаются любыми средствами получить миллионный выигрыш. Они преследуются как владельцами клубов и казино, так и работниками ми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zae40457"/>
          <p:cNvPicPr/>
          <p:nvPr/>
        </p:nvPicPr>
        <p:blipFill>
          <a:blip r:embed="rId1"/>
          <a:stretch/>
        </p:blipFill>
        <p:spPr>
          <a:xfrm>
            <a:off x="0" y="0"/>
            <a:ext cx="2490840" cy="364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780000" y="1557360"/>
            <a:ext cx="489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ньги не выигрываются, а зарабатываю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 Один из играющих всегда проигрыв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Игробизнес существует за счет проигрышей кли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 Игровые автоматы запрограммированы на выигрыш клуба или кази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Игровые автоматы производят для игробизнеса, а не для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6. Игробизнес в России, как и во всем мире, очень агрессивен и безжалосен, как ко взрослым, так и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348000" y="189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истеме психотерапевтических методов 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й аддикции и психологической помощи адди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аловажное значение принадлежит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екватных социальных  установок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126828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2d8"/>
                </a:solidFill>
                <a:latin typeface="Times New Roman"/>
              </a:rPr>
              <a:t>Гэмблинг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- зависимость от азартных игр. Вид аддикции, при которой уход от реальности и изменение состояния достигается возбуждением во время азартной игры.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Игровая зависимость (лудомания), по опыту всемирных наблюдений - одна из самых упорных и жестоких страстей, совершенно подобная наркомания. Лудомании были подвержены и гении русской литературы Пушкин и Достоевский.  Пристрастие Н.А. Некрасова  к картам нашло отражение в его завещании друзьям о том, что на протяжении сего его «последнего пути» они должны играть в карты на его гробе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Игровые аддикции относятся к группе </a:t>
            </a: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нехимических, информационных,      социально-психологических аддикций.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Условным наркотикам выступает здесь игровая деятельность, азартная игра. Разновидностей игр много, однако, наиболее распространенными у нас - являются «однорукий бандит», карточная игра в покер в казино, различные лохотроны, компьютерные игры (по мировой статистике, попадает в зависимость каждый десятый, имеющий дело с компьютером), электронная рулетка, Интернет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4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0160" y="-153720"/>
            <a:ext cx="5407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числу специфических критериев 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дикции можно отнести времен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и частотн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.А.Акопов выделяет следующие кри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11280" y="1844640"/>
            <a:ext cx="8353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игровой стаж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он выше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лительность одного сеанса непрерывной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Ю. Акопов приводит рекордную для Санкт-Петербурга продолжительность игры, равную 60-часам непрерывной, не выходя из казино,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про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у «крупных» игроков он достигает $400000 за вечер. Чем выше проигрыш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вы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«крупные» игроки за один вечер выигрывают несколько десятков тысяч долларов. У игровых аддиктов выигрыш всегда только условный, промежуточный, полученный не под конец, а в процессе игры; такие игроки (с зависимостью) уходят всегда с пустыми карманами, полностью проигра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12327764_kazino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34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611280" y="1413000"/>
            <a:ext cx="85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мер минимальной стартовой суммы иг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чальной стадии игры, определяемый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о-психологическ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енностями, степени аддик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страстности) и материального дост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астотность посещений игровых залов, казино и т.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ли она носит систематический  характер, то это служит показателем игровой адди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9640" y="4046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общего долга за игровой перио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звестен пример игрока в Санкт-Петербурге, который проиграл 1 млн. долл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online_gambling_addiction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81560_112176_16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16000" y="54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тивационные основы игровой зависимости и поведения адд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864360" y="155628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7 иллюзий (А.Ю. Акоп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84360" y="1889280"/>
            <a:ext cx="8459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ллюзия крупного выигрыша - это изначальная наиболее стойкая  иллюзия, сопряженная с ориентацией на крупный выигрыш, который,  якобы разом решит все их жизненны проблемы. Близка к ней иллюзия возможности зарабатывать игрой, а также иллюзия возможности уйти с крупным выигрыш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ллюзия отыграться одним разом и тем самым полностью погасить долг. Игровых аддиктов отличает способность быстро зарабатывать, переживания по поводу крупного проигрыша быстро забываются, смываясь под натиском новой волны желания играть и в предвкушении выигрыша. На первых порах (стадиях зависимости) игрок еще может уйти с выигрышем. Правда, он будет жечь ему карман, и он может быстро спустить его тут же, по дороге домой или на следующий день в игре или бездумно потратить на пустяки: выигранные деньги игрок не считает своими, честно заработанными, их ему не жалко, в отличие от проигранных: «Проигрываешь свои, выигрываешь чуж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иллюзорная псевдовозможность управления игровой ситуацией и процессом игры (вплоть до безумного желания обыграть сами автоматы, а через них - и даже владельцев казино и автомат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екоторых игроков возникает иллюзия возможности влияния на крупье, автомат, на порядок выпадения, комбинаций изображений,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ллюзии контроля своего игрового поведения, своей активности, в частности, психоэмоциональн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иллюзорное восприятие характера игры (элементы индивидуализации, персонификации, олицетворения, одушевления, отождествления, присвоения, вплоть до полного овладения объектом зависимости; иллюзия «игры с партнером», чаще - враждеб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игровое фантазирование как иллюзия суррогатного возмещения игры в период абстиненции, т.е. воздержания от игры, когда она по разным причинам невозможна (нет денег, автомата и т.д.) Игра подменяет для игрока реальную жизнь, а игровое фантазирование замещает игру (во сне и наяву в номерах машин, в груде помидоров игроку видятся «счастливые», призовые комбинации цифр, изображен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4979880"/>
            <a:ext cx="86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иллюзия возможности предвидения и контроля последствий игры, выражающейся в установках, что «Я особый, успешный» и мне чужды: проигрыши, большие долги, обнищание семьи, ее распад, потеря друзей и близких людей, работы, квартиры, маргинальность и личностная деград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для большинства игровых аддиктов - это реальный фин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0)Отсутствие игровой зависимости («социальный» игрок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этой стадии игра обусловлена познавательным интересом и используется для развлечения, отвлечения, расслабления, отдыха, отключения от проблем (семейных, личностных, потенциаль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) Слабая, начальна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незначительная, превалирует волевой отказ от игры при слабом желании играть. Не проигрывает все имеющиеся в начале игры деньги. Короткие игровые сеансы. Ставки маленькие, но растут. Незначительные выигрыши и проигр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) Средня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«играть - не играть», она достаточно выражена. Как правило, реже удается не начинать игру при желании играть (т.е. не удается волевым усилием запретить себе играть); азарт контролируется плохо; «везет» реже; проигрыши постепенно имеют все больше субъективное  значение, чем выигрыши, стимулируя к продолжению игры; суммы текущих, промежуточных проигрышей и выигрышей растут, как и конечный проигрыш; удлиняется игровой сеанс, учащаются подходы в залы и казино. Игрок набирается опыта за счет попадания в зависимость, строит свои системы игры, игровой процесс все больше обрастает ритуалами, суевериями, проявляет игровое фантазирование (фантазирование по поводу игры вне ее, когда нет возможности играть): например, видит во сне любимые, счастливые комбинации цифр или изображений, везде замечает их наяву (в номерах машин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12360" y="-108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пени игров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00000" y="1700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611280" y="155736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отношения к деньгам: они утрачи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ственный смысл, свое значение и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ринимаются не как денежные знаки, на которые можно все купить, а как простые «бумажки», но имеющие для игрока значение символа игры: наличные деньги отождествляются только с игрой, с возможностью играть, а это является главным смыслом существования, всей жизни при выраженной степени зависимости. Укорочение периода воздержания и всего игрового цикла (времени от окончания одной игры до завершения другой), увеличение длительности игрово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ая утрата контроля над своим состоянием и своег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го поведения; неадекватная, субъектно-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страстная   оценка игров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11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79983337"/>
          <p:cNvPicPr/>
          <p:nvPr/>
        </p:nvPicPr>
        <p:blipFill>
          <a:blip r:embed="rId2"/>
          <a:stretch/>
        </p:blipFill>
        <p:spPr>
          <a:xfrm>
            <a:off x="0" y="4352760"/>
            <a:ext cx="3132000" cy="250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11280" y="11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 Выраженная стадия игровой зависи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ое отсутствие борьбы мотивов; игрок готов играть ежедневно и неограниченное время, играет всегда, когда есть время и любая сумма на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2:52Z</dcterms:created>
  <dc:creator>1</dc:creator>
  <dc:description/>
  <dc:language>en-US</dc:language>
  <cp:lastModifiedBy>Николай</cp:lastModifiedBy>
  <dcterms:modified xsi:type="dcterms:W3CDTF">2013-04-29T07:50:09Z</dcterms:modified>
  <cp:revision>6</cp:revision>
  <dc:subject/>
  <dc:title>Слайд 1</dc:title>
</cp:coreProperties>
</file>