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64DE-14E9-4760-A51E-4630742F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2EA5-9120-46CD-B05C-27EEAD96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144-8FEA-40C8-A57E-169CDE5E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7233-6B5C-4ADF-AF49-ED5EECD2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4EBE-4F50-4E59-A1A6-85D54096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628E-9C93-4874-9B4D-87AD8815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F19F-B1D0-44A4-89E7-BBBBE7E3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0EE7-1476-461C-BD0E-CBDB4239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F2D9-1C0C-4A93-833A-AA1E15C0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0FA8-079A-4F98-861B-7B8DDCE0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84C7-59DD-433D-A04C-5C36B209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671-F1C5-4CBC-AF8A-E3A03E45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55F5-B66D-4C60-897C-7E9F20EA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1B72-2F63-4A90-98AF-85FEEF7B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36CD-914A-4966-B31B-9F2B0B6C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89C0-7B94-432B-BEF6-87A350B0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D75F-DB15-48FE-9EEA-5CA00A06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C5AE-98EC-476F-BBCE-A7E2B11E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4DF7-ADE1-4BBA-9A61-7144B687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2E9A-8951-4C6B-98CE-C5CFABED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79C3-6987-4560-A214-FAB2CE25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61A3-C94A-4274-9EA8-C142BFC0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5671-B7D4-4EAF-A17F-EA0256B7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D3B0-06C8-48C2-8DDD-C08EAAC7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5705-45DA-45B9-84CC-146245908CC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E0C1-2321-4E4F-B5A4-DA62622F70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adiccion-a-internet"/>
          <p:cNvPicPr/>
          <p:nvPr/>
        </p:nvPicPr>
        <p:blipFill>
          <a:blip r:embed="rId1"/>
          <a:stretch/>
        </p:blipFill>
        <p:spPr>
          <a:xfrm>
            <a:off x="0" y="0"/>
            <a:ext cx="9144000" cy="71611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1619280" y="2708280"/>
            <a:ext cx="64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5e1efe"/>
                </a:solidFill>
                <a:uFillTx/>
                <a:latin typeface="Arial"/>
              </a:rPr>
              <a:t>Игровая зависимос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900000" y="115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472d8"/>
                </a:solidFill>
                <a:uFillTx/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4472d8"/>
                </a:solidFill>
                <a:uFillTx/>
                <a:latin typeface="Times New Roman"/>
              </a:rPr>
              <a:t>Стадии игровой завис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84360" y="549360"/>
            <a:ext cx="86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и отражают мотивационную динамику гэмблинга. Этот процесс, исключая нулевую стадию или ее отсутствие, включает по А.Ю. Акопову следующие три стад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755640" y="1628640"/>
            <a:ext cx="838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адия иллюзорного восприятия игры и себ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игра на выигрыш, в мотивации доминирование иллюзий игро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I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стадия игры ради самой игр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безиллюзорное восприятие игры на фоне искаженного отношения к себе, своим возможностям; цель игры - сам проце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II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стадия деградации и полного опустошения личност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этой стадии игра идет не на выигрыш или ради самого процесса игры как такового независимо от выигрыша или проигрыша (1 и 2), а игра по навязчивому принуждению, без всякого удовольствия от процесса игры и при безразличии к ее результатам и возможным негатив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дств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данной стадии характерны расп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мьи, утрата друзей, потеря работы, жиль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нищание, состояние бомжа, раба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we"/>
          <p:cNvPicPr/>
          <p:nvPr/>
        </p:nvPicPr>
        <p:blipFill>
          <a:blip r:embed="rId1"/>
          <a:stretch/>
        </p:blipFill>
        <p:spPr>
          <a:xfrm>
            <a:off x="5364000" y="3916440"/>
            <a:ext cx="3780000" cy="294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2746080" y="54936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ипология игровых адди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26920" y="148428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норы - «бойцы», безуспешно сражающиеся с игровыми автоматами, проигрывающие свои заначки, зарплаты, стипендии и т.д. Они - «питательная» основа игрового бизнеса, включающая эмоциональных романтиков, джентльменов удачи, верящих в сегодняшний, завтрашний и послезавтрашний выигры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ессионалы. Эту группу представляют лица с высоким эмоционально-деятельностным контролем. Как правило, их игра ограничена ежедневным размером выигрыша или проигрыша в сумме $200-300. игра для данной группы людей является своеобразной профессиональной деятельностью. Они приходят в клубы или казино как на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ную группу составляют так называемые крупные игроки, которые ставят не меньше $10 тыс. за время игры. Соответственно, выигрыш или проигрыш таких людей может доходить до нескольких сотен тыся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шенники. Представители этой группы пытаются любыми средствами получить миллионный выигрыш. Они преследуются как владельцами клубов и казино, так и работниками мил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ozae40457"/>
          <p:cNvPicPr/>
          <p:nvPr/>
        </p:nvPicPr>
        <p:blipFill>
          <a:blip r:embed="rId1"/>
          <a:stretch/>
        </p:blipFill>
        <p:spPr>
          <a:xfrm>
            <a:off x="0" y="0"/>
            <a:ext cx="2490840" cy="3645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3780000" y="1557360"/>
            <a:ext cx="4897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еньги не выигрываются, а зарабатывают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2. Один из играющих всегда проигрыва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3. Игробизнес существует за счет проигрышей кли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4. Игровые автоматы запрограммированы на выигрыш клуба или кази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5. Игровые автоматы производят для игробизнеса, а не для игро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6. Игробизнес в России, как и во всем мире, очень агрессивен и безжалосен, как ко взрослым, так и к де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3348000" y="189000"/>
            <a:ext cx="59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истеме психотерапевтических методов л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гровой аддикции и психологической помощи аддик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маловажное значение принадлежит формирова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декватных социальных  установок тип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9280" y="126828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72d8"/>
                </a:solidFill>
                <a:latin typeface="Times New Roman"/>
              </a:rPr>
              <a:t>Гэмблинг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- зависимость от азартных игр. Вид аддикции, при которой уход от реальности и изменение состояния достигается возбуждением во время азартной игры. </a:t>
            </a:r>
            <a:br>
              <a:rPr sz="2000"/>
            </a:br>
            <a:br>
              <a:rPr sz="1600"/>
            </a:b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Игровая зависимость (лудомания), по опыту всемирных наблюдений - одна из самых упорных и жестоких страстей, совершенно подобная наркомания. Лудомании были подвержены и гении русской литературы Пушкин и Достоевский.  Пристрастие Н.А. Некрасова  к картам нашло отражение в его завещании друзьям о том, что на протяжении сего его «последнего пути» они должны играть в карты на его гробе. 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Игровые аддикции относятся к группе </a:t>
            </a:r>
            <a:r>
              <a:rPr b="0" lang="ru-RU" sz="2000" spc="-1" strike="noStrike" u="sng">
                <a:solidFill>
                  <a:srgbClr val="330033"/>
                </a:solidFill>
                <a:uFillTx/>
                <a:latin typeface="Times New Roman"/>
              </a:rPr>
              <a:t>нехимических, информационных,      социально-психологических аддикций.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Условным наркотикам выступает здесь игровая деятельность, азартная игра. Разновидностей игр много, однако, наиболее распространенными у нас - являются «однорукий бандит», карточная игра в покер в казино, различные лохотроны, компьютерные игры (по мировой статистике, попадает в зависимость каждый десятый, имеющий дело с компьютером), электронная рулетка, Интернет.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4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20160" y="-153720"/>
            <a:ext cx="5407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числу специфических критериев игр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дикции можно отнести временны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риальные и частотные показа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Ю.А.Акопов выделяет следующие крите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11280" y="1844640"/>
            <a:ext cx="835344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щий игровой стаж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м он выше, тем больше зависим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лительность одного сеанса непрерывной иг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.Ю. Акопов приводит рекордную для Санкт-Петербурга продолжительность игры, равную 60-часам непрерывной, не выходя из казино,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аксимальный проигрыш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ногда у «крупных» игроков он достигает $400000 за вечер. Чем выше проигрыш, тем больше зависим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аксимальный выигрыш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ногда «крупные» игроки за один вечер выигрывают несколько десятков тысяч долларов. У игровых аддиктов выигрыш всегда только условный, промежуточный, полученный не под конец, а в процессе игры; такие игроки (с зависимостью) уходят всегда с пустыми карманами, полностью проигравши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1212327764_kazino"/>
          <p:cNvPicPr/>
          <p:nvPr/>
        </p:nvPicPr>
        <p:blipFill>
          <a:blip r:embed="rId1"/>
          <a:stretch/>
        </p:blipFill>
        <p:spPr>
          <a:xfrm>
            <a:off x="5292720" y="0"/>
            <a:ext cx="3851280" cy="2346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611280" y="1413000"/>
            <a:ext cx="85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азмер минимальной стартовой суммы игро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начальной стадии игры, определяемый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дивидуально-психологическ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обенностями, степени аддиктив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ристрастности) и материального доста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Частотность посещений игровых залов, казино и т.д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если она носит систематический  характер, то это служит показателем игровой адди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539640" y="40464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умма общего долга за игровой период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Известен пример игрока в Санкт-Петербурге, который проиграл 1 млн. долла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online_gambling_addiction"/>
          <p:cNvPicPr/>
          <p:nvPr/>
        </p:nvPicPr>
        <p:blipFill>
          <a:blip r:embed="rId1"/>
          <a:stretch/>
        </p:blipFill>
        <p:spPr>
          <a:xfrm>
            <a:off x="5435640" y="0"/>
            <a:ext cx="3708360" cy="3141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81560_112176_16"/>
          <p:cNvPicPr/>
          <p:nvPr/>
        </p:nvPicPr>
        <p:blipFill>
          <a:blip r:embed="rId2"/>
          <a:stretch/>
        </p:blipFill>
        <p:spPr>
          <a:xfrm>
            <a:off x="0" y="4076640"/>
            <a:ext cx="298764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116000" y="54936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тивационные основы игровой зависимости и поведения адди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864360" y="155628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7 иллюзий (А.Ю. Акопов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84360" y="1889280"/>
            <a:ext cx="845964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иллюзия крупного выигрыша - это изначальная наиболее стойкая  иллюзия, сопряженная с ориентацией на крупный выигрыш, который,  якобы разом решит все их жизненны проблемы. Близка к ней иллюзия возможности зарабатывать игрой, а также иллюзия возможности уйти с крупным выигрыш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иллюзия отыграться одним разом и тем самым полностью погасить долг. Игровых аддиктов отличает способность быстро зарабатывать, переживания по поводу крупного проигрыша быстро забываются, смываясь под натиском новой волны желания играть и в предвкушении выигрыша. На первых порах (стадиях зависимости) игрок еще может уйти с выигрышем. Правда, он будет жечь ему карман, и он может быстро спустить его тут же, по дороге домой или на следующий день в игре или бездумно потратить на пустяки: выигранные деньги игрок не считает своими, честно заработанными, их ему не жалко, в отличие от проигранных: «Проигрываешь свои, выигрываешь чужи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иллюзорная псевдовозможность управления игровой ситуацией и процессом игры (вплоть до безумного желания обыграть сами автоматы, а через них - и даже владельцев казино и автоматов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611280" y="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некоторых игроков возникает иллюзия возможности влияния на крупье, автомат, на порядок выпадения, комбинаций изображений, циф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иллюзии контроля своего игрового поведения, своей активности, в частности, психоэмоционального состоя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иллюзорное восприятие характера игры (элементы индивидуализации, персонификации, олицетворения, одушевления, отождествления, присвоения, вплоть до полного овладения объектом зависимости; иллюзия «игры с партнером», чаще - враждебны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 игровое фантазирование как иллюзия суррогатного возмещения игры в период абстиненции, т.е. воздержания от игры, когда она по разным причинам невозможна (нет денег, автомата и т.д.) Игра подменяет для игрока реальную жизнь, а игровое фантазирование замещает игру (во сне и наяву в номерах машин, в груде помидоров игроку видятся «счастливые», призовые комбинации цифр, изображени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24000" y="4979880"/>
            <a:ext cx="8640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иллюзия возможности предвидения и контроля последствий игры, выражающейся в установках, что «Я особый, успешный» и мне чужды: проигрыши, большие долги, обнищание семьи, ее распад, потеря друзей и близких людей, работы, квартиры, маргинальность и личностная деградац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ако для большинства игровых аддиктов - это реальный фина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26920" y="475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0)Отсутствие игровой зависимости («социальный» игрок)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этой стадии игра обусловлена познавательным интересом и используется для развлечения, отвлечения, расслабления, отдыха, отключения от проблем (семейных, личностных, потенциальн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) Слабая, начальная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орьба мотивов незначительная, превалирует волевой отказ от игры при слабом желании играть. Не проигрывает все имеющиеся в начале игры деньги. Короткие игровые сеансы. Ставки маленькие, но растут. Незначительные выигрыши и проигры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2) Средняя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орьба мотивов «играть - не играть», она достаточно выражена. Как правило, реже удается не начинать игру при желании играть (т.е. не удается волевым усилием запретить себе играть); азарт контролируется плохо; «везет» реже; проигрыши постепенно имеют все больше субъективное  значение, чем выигрыши, стимулируя к продолжению игры; суммы текущих, промежуточных проигрышей и выигрышей растут, как и конечный проигрыш; удлиняется игровой сеанс, учащаются подходы в залы и казино. Игрок набирается опыта за счет попадания в зависимость, строит свои системы игры, игровой процесс все больше обрастает ритуалами, суевериями, проявляет игровое фантазирование (фантазирование по поводу игры вне ее, когда нет возможности играть): например, видит во сне любимые, счастливые комбинации цифр или изображений, везде замечает их наяву (в номерах машин и т.д.)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412360" y="-108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епени игровой завис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900000" y="170028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611280" y="1557360"/>
            <a:ext cx="81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менение отношения к деньгам: они утрачив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бственный смысл, свое значение и у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ринимаются не как денежные знаки, на которые можно все купить, а как простые «бумажки», но имеющие для игрока значение символа игры: наличные деньги отождествляются только с игрой, с возможностью играть, а это является главным смыслом существования, всей жизни при выраженной степени зависимости. Укорочение периода воздержания и всего игрового цикла (времени от окончания одной игры до завершения другой), увеличение длительности игрового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ная утрата контроля над своим состоянием и своего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грового поведения; неадекватная, субъектно-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страстная   оценка игровой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8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2111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79983337"/>
          <p:cNvPicPr/>
          <p:nvPr/>
        </p:nvPicPr>
        <p:blipFill>
          <a:blip r:embed="rId2"/>
          <a:stretch/>
        </p:blipFill>
        <p:spPr>
          <a:xfrm>
            <a:off x="0" y="4352760"/>
            <a:ext cx="3132000" cy="25052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611280" y="115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  Выраженная стадия игровой зависим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ное отсутствие борьбы мотивов; игрок готов играть ежедневно и неограниченное время, играет всегда, когда есть время и любая сумма налич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4:02:52Z</dcterms:created>
  <dc:creator>1</dc:creator>
  <dc:description/>
  <dc:language>en-US</dc:language>
  <cp:lastModifiedBy>Николай</cp:lastModifiedBy>
  <dcterms:modified xsi:type="dcterms:W3CDTF">2013-04-29T07:50:09Z</dcterms:modified>
  <cp:revision>6</cp:revision>
  <dc:subject/>
  <dc:title>Слайд 1</dc:title>
</cp:coreProperties>
</file>