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63BD-7371-426C-88A0-6CEBD007A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4046-FF32-4BEE-A69F-D59397D01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A1C9-87C3-4181-BD97-FBB1C3CBD8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FC93-2769-45F4-B8CE-D9E21C7FE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A60D-1C96-4218-9080-DDE2CB395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D005-4885-4215-9DF6-7EA912672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28D2-FBF8-4CAC-9E74-1EFF7C246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A971-033C-459D-8D04-4E6FC136E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1D0E-79DA-4A78-ACFF-EA3A9DEB5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25F6-03B3-4320-B9A2-F34F8AEFB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7695-9C29-421A-85B5-A79F778D5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96EC-CAA6-432A-AE79-20C86339C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D3F5-BE45-421F-A3ED-54F2A801CA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ECD4-3ADA-4B66-80E5-E10AB2F6D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D6BA-7E9B-44B4-8CC4-017742683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6ADE-CD3D-42D4-AA7C-9827D6551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FB17-B2A7-4A68-88C9-56A603B7A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A16-2FCB-4F4A-841E-4916593C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A53-56B7-4D82-9A24-7E1C8910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9DE-067E-4AA9-991A-CC5FED23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6CB-F06D-4744-9599-2EFD5CB4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388-0795-4A31-8239-820C2CA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A8E-8F13-41A5-AD3E-995DAA88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23A-016F-495A-8A9B-CE262D7D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F3E-FA75-4CD3-9B37-07A0F6D9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62B-4FC8-4267-A2B9-6E77EBE0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83D-FF51-44AB-BB15-F3256E4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7E6-AF49-481C-8B49-831BADE9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0FF-2BAE-4362-B2E9-9AABEB47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BFA3-C9C9-4BCC-A624-D9DB9F40F19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i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Охрана труда 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 техника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безопас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Ю. Поляков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кция ИОТ-014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3" descr=""/>
          <p:cNvPicPr/>
          <p:nvPr/>
        </p:nvPicPr>
        <p:blipFill>
          <a:blip r:embed="rId1"/>
          <a:stretch/>
        </p:blipFill>
        <p:spPr>
          <a:xfrm rot="20167800">
            <a:off x="6676560" y="5225760"/>
            <a:ext cx="19735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87B8-A8E6-4C2D-B448-94ED2C28226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12920" y="896760"/>
            <a:ext cx="840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каждым учеником закреплен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создает свою папку внутри папки своего клас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2214720" y="2800440"/>
            <a:ext cx="4889520" cy="3238200"/>
            <a:chOff x="2214720" y="2800440"/>
            <a:chExt cx="4889520" cy="323820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2252880" y="2800440"/>
              <a:ext cx="4851360" cy="32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5"/>
            <p:cNvSpPr/>
            <p:nvPr/>
          </p:nvSpPr>
          <p:spPr>
            <a:xfrm>
              <a:off x="2214720" y="4484520"/>
              <a:ext cx="2629080" cy="943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93FD-AB42-43C5-95D7-1D76DFCB6CD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2920" y="896760"/>
            <a:ext cx="8408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авливать и запускать посторонние программы (в т.ч. 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ть свои файлы в чужую па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ть и изменять содержимое чужой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крытые файлы и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операционной систем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5DD8-6334-463B-8906-3715C2CE9CB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с дискетами и дис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12920" y="896760"/>
            <a:ext cx="8408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е прав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пользовать дискеты для переноса своих учебных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еты должны быть проверены антивирусными сред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флэш-д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ировать на жесткий диск информацию с диске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ов)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жать компьютер с системной диске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7B46-3F7A-482B-9A08-4508588B10C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использования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2920" y="896760"/>
            <a:ext cx="84088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азрешается работать в сети Интернет, есл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предусмотрено темой урока, 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щийся выполнил и сдал задание данного уро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сайты, посвященные эротике, терроризму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игровые сай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ироваться на сайт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ересылать информацию в СМИ и другие 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авливать через Интернет любые программы, активные элементы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олнительные модули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78D3-1F72-4908-8513-14EDF6EB429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95280" y="189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в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12920" y="839880"/>
            <a:ext cx="840888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ть электронную почту на сайтах 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фейсом (</a:t>
            </a:r>
            <a:r>
              <a:rPr b="0" lang="en-US" sz="2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ail.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ать материалы и иллюстрации для рефер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качивание информации из сети Интерн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чивание файлов объемом более 1 Мб возможно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только с разрешения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 запускать любы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олученные через Интернет, в том числе самораспаковывающиеся архи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качанные файлы должны быть удалены со школьных компьютеров в кратчайшие ср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16CA-61F8-490F-8453-4B7ACC9E959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жнения для гл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41280" y="982800"/>
            <a:ext cx="837252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рыть глаза, сильно напрягая глазные мышцы, затем раскрыть глаза, расслабив мышцы глаз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переносицу и задержать взор. До усталости глаза не доводить. Затем открыть глаза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посмотреть направо и зафиксировать взгляд, затем посмотреть вдаль. Аналогично проводятся упражнения, но с фиксацией взгляда влево, вверх и вни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делать медленно круговые движения глазами вверх-вправо-вниз-влево и в обратную сторону: вверх-влево-вниз-вправо. Затем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указательный палец, удаленный от глаз на расстояние 25 - 30 см, потом перевести взор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9A66-1D8D-45E3-907A-8411B53E51F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е навредит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66840" y="941400"/>
            <a:ext cx="84787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н спрашивает у отца-программист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А почему солнце встает на восто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 западе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ы проверял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роверя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Ну и пусть работает, н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до ничего менять!!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526000" y="2290680"/>
            <a:ext cx="29750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11F2-9EE5-4B53-85A1-18F2EACFF5C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DCBE-AFED-46B0-95B3-EB193BFAC62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12920" y="896760"/>
            <a:ext cx="814068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чем это ну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жизни 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ебования к учащим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йти инструктаж (с 14 лет – под роспи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ть правила поведения (см. дал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ть требования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абинете должны бы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течка для оказания 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отный огнетуш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6777000" y="5175360"/>
            <a:ext cx="1027080" cy="79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7697880" y="5218200"/>
            <a:ext cx="1292040" cy="16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"/>
          <p:cNvPicPr/>
          <p:nvPr/>
        </p:nvPicPr>
        <p:blipFill>
          <a:blip r:embed="rId3"/>
          <a:stretch/>
        </p:blipFill>
        <p:spPr>
          <a:xfrm>
            <a:off x="6396120" y="928800"/>
            <a:ext cx="1982880" cy="1377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6"/>
          <p:cNvGrpSpPr/>
          <p:nvPr/>
        </p:nvGrpSpPr>
        <p:grpSpPr>
          <a:xfrm>
            <a:off x="4340160" y="1954080"/>
            <a:ext cx="1968120" cy="1519560"/>
            <a:chOff x="4340160" y="1954080"/>
            <a:chExt cx="1968120" cy="1519560"/>
          </a:xfrm>
        </p:grpSpPr>
        <p:pic>
          <p:nvPicPr>
            <p:cNvPr id="60" name="Picture 22" descr=""/>
            <p:cNvPicPr/>
            <p:nvPr/>
          </p:nvPicPr>
          <p:blipFill>
            <a:blip r:embed="rId4"/>
            <a:stretch/>
          </p:blipFill>
          <p:spPr>
            <a:xfrm>
              <a:off x="4340160" y="1954080"/>
              <a:ext cx="18208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25"/>
            <p:cNvSpPr/>
            <p:nvPr/>
          </p:nvSpPr>
          <p:spPr>
            <a:xfrm rot="16820400">
              <a:off x="5563080" y="273276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CF67-A292-413D-955D-599C96C50C5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пасности в компьютерном клас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12920" y="1022400"/>
            <a:ext cx="81406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й ток, 220 во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магнитное излучение мон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5"/>
          <p:cNvGrpSpPr/>
          <p:nvPr/>
        </p:nvGrpSpPr>
        <p:grpSpPr>
          <a:xfrm>
            <a:off x="2123280" y="1353960"/>
            <a:ext cx="1078560" cy="1684440"/>
            <a:chOff x="2123280" y="1353960"/>
            <a:chExt cx="1078560" cy="168444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2127240" y="1353960"/>
              <a:ext cx="10746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9"/>
            <p:cNvSpPr/>
            <p:nvPr/>
          </p:nvSpPr>
          <p:spPr>
            <a:xfrm rot="18114600">
              <a:off x="2220480" y="1672560"/>
              <a:ext cx="601560" cy="56340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6291360" y="3510000"/>
            <a:ext cx="149220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2436840" y="3718080"/>
            <a:ext cx="1825560" cy="1566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9"/>
          <p:cNvGrpSpPr/>
          <p:nvPr/>
        </p:nvGrpSpPr>
        <p:grpSpPr>
          <a:xfrm>
            <a:off x="4340160" y="3724200"/>
            <a:ext cx="2007360" cy="1492200"/>
            <a:chOff x="4340160" y="3724200"/>
            <a:chExt cx="2007360" cy="1492200"/>
          </a:xfrm>
        </p:grpSpPr>
        <p:sp>
          <p:nvSpPr>
            <p:cNvPr id="72" name="Freeform 15"/>
            <p:cNvSpPr/>
            <p:nvPr/>
          </p:nvSpPr>
          <p:spPr>
            <a:xfrm>
              <a:off x="4589640" y="3724200"/>
              <a:ext cx="1520640" cy="1492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4792680" y="4100400"/>
              <a:ext cx="289080" cy="1106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5457960" y="5091120"/>
              <a:ext cx="288720" cy="115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9"/>
            <p:cNvSpPr/>
            <p:nvPr/>
          </p:nvSpPr>
          <p:spPr>
            <a:xfrm>
              <a:off x="4340160" y="440856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 rot="9476400">
              <a:off x="5890320" y="479232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4" descr=""/>
          <p:cNvPicPr/>
          <p:nvPr/>
        </p:nvPicPr>
        <p:blipFill>
          <a:blip r:embed="rId4"/>
          <a:stretch/>
        </p:blipFill>
        <p:spPr>
          <a:xfrm>
            <a:off x="1141560" y="57484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5"/>
          <a:stretch/>
        </p:blipFill>
        <p:spPr>
          <a:xfrm>
            <a:off x="238608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6"/>
          <a:stretch/>
        </p:blipFill>
        <p:spPr>
          <a:xfrm>
            <a:off x="487512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7"/>
          <a:stretch/>
        </p:blipFill>
        <p:spPr>
          <a:xfrm>
            <a:off x="611964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8"/>
          <a:stretch/>
        </p:blipFill>
        <p:spPr>
          <a:xfrm>
            <a:off x="1255680" y="390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9"/>
          <a:stretch/>
        </p:blipFill>
        <p:spPr>
          <a:xfrm>
            <a:off x="1101600" y="1663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10"/>
          <a:stretch/>
        </p:blipFill>
        <p:spPr>
          <a:xfrm>
            <a:off x="7365960" y="5589720"/>
            <a:ext cx="787320" cy="111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11"/>
          <a:stretch/>
        </p:blipFill>
        <p:spPr>
          <a:xfrm>
            <a:off x="3630600" y="5748480"/>
            <a:ext cx="9525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40"/>
          <p:cNvGraphicFramePr/>
          <p:nvPr/>
        </p:nvGraphicFramePr>
        <p:xfrm>
          <a:off x="6581880" y="1023840"/>
          <a:ext cx="1500120" cy="2000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" name="Object 4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81880" y="1023840"/>
                    <a:ext cx="15001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48"/>
          <p:cNvGrpSpPr/>
          <p:nvPr/>
        </p:nvGrpSpPr>
        <p:grpSpPr>
          <a:xfrm>
            <a:off x="7870320" y="1074240"/>
            <a:ext cx="1041840" cy="721080"/>
            <a:chOff x="7870320" y="1074240"/>
            <a:chExt cx="1041840" cy="721080"/>
          </a:xfrm>
        </p:grpSpPr>
        <p:pic>
          <p:nvPicPr>
            <p:cNvPr id="88" name="Picture 41" descr=""/>
            <p:cNvPicPr/>
            <p:nvPr/>
          </p:nvPicPr>
          <p:blipFill>
            <a:blip r:embed="rId14"/>
            <a:stretch/>
          </p:blipFill>
          <p:spPr>
            <a:xfrm>
              <a:off x="7989840" y="1077840"/>
              <a:ext cx="92232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43"/>
            <p:cNvSpPr/>
            <p:nvPr/>
          </p:nvSpPr>
          <p:spPr>
            <a:xfrm rot="18114600">
              <a:off x="7956720" y="1183680"/>
              <a:ext cx="53676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5557680" y="1314360"/>
            <a:ext cx="1285560" cy="1294920"/>
            <a:chOff x="5557680" y="1314360"/>
            <a:chExt cx="1285560" cy="1294920"/>
          </a:xfrm>
        </p:grpSpPr>
        <p:pic>
          <p:nvPicPr>
            <p:cNvPr id="91" name="Picture 46" descr=""/>
            <p:cNvPicPr/>
            <p:nvPr/>
          </p:nvPicPr>
          <p:blipFill>
            <a:blip r:embed="rId15"/>
            <a:stretch/>
          </p:blipFill>
          <p:spPr>
            <a:xfrm rot="6243600">
              <a:off x="5665320" y="1433160"/>
              <a:ext cx="10699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42"/>
            <p:cNvSpPr/>
            <p:nvPr/>
          </p:nvSpPr>
          <p:spPr>
            <a:xfrm rot="18114600">
              <a:off x="5831280" y="160560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4"/>
          <p:cNvGrpSpPr/>
          <p:nvPr/>
        </p:nvGrpSpPr>
        <p:grpSpPr>
          <a:xfrm>
            <a:off x="3673440" y="1547640"/>
            <a:ext cx="1893240" cy="1411200"/>
            <a:chOff x="3673440" y="1547640"/>
            <a:chExt cx="1893240" cy="1411200"/>
          </a:xfrm>
        </p:grpSpPr>
        <p:pic>
          <p:nvPicPr>
            <p:cNvPr id="94" name="Picture 37" descr=""/>
            <p:cNvPicPr/>
            <p:nvPr/>
          </p:nvPicPr>
          <p:blipFill>
            <a:blip r:embed="rId16"/>
            <a:stretch/>
          </p:blipFill>
          <p:spPr>
            <a:xfrm>
              <a:off x="3673440" y="1547640"/>
              <a:ext cx="188280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33"/>
            <p:cNvSpPr/>
            <p:nvPr/>
          </p:nvSpPr>
          <p:spPr>
            <a:xfrm rot="18114600">
              <a:off x="4943520" y="1915920"/>
              <a:ext cx="53640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8ACB-8CAB-4B7D-A2E9-99AC788603C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д началом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12920" y="896760"/>
            <a:ext cx="8140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ить в кабинет в верхней одежде, грязной обуви, с громоздкими предме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ать, прыгать в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разговаривать, отвлекать други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сумки и портфел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омождать про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напряже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устройства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ADF6-EF4B-4838-A2A4-A3CED0ECD7A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12920" y="896760"/>
            <a:ext cx="8408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пита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при плохом самочув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неисправной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ка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с грязными или влажн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аться монитора, кабелей, разъемов, труб, бат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вигать с места монитор и систем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ь что-либо на клави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имать на клавиши с усилием или уд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устранять неиспра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8EE-F56B-4C00-903D-984CA3CD95D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12920" y="896760"/>
            <a:ext cx="84088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и выключать компьютер,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ать нау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кать посторонн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ть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ить в сеть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 со стола учителя дискеты, бумаги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компьютере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FC4F-D6EC-45F5-AA17-715D939DC43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12920" y="896760"/>
            <a:ext cx="840888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ремя непрерывной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7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 минут (30 +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ее время работы (в день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стояние от глаз до экрана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6-0,7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1318-64A4-4546-8778-98352FA8E1F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Аварийные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12920" y="896760"/>
            <a:ext cx="84088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лохом самочувствии и головной б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явлении необычного звука, запа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жар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уководством учителя покинуть каби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ражении электрическим ток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дленно отключить напряжение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ть первую помощь пострадав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вить его в мед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E49F-1F49-4DC0-82F2-4EE309FCFF2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окончании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12920" y="896760"/>
            <a:ext cx="840888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вести в порядок рабоче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ь окна все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ить свои файлы 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бочего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винуть кр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дать учителю выданные материалы, дискеты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необходимости выключить компью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питание системного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Шапарь О. И.</cp:lastModifiedBy>
  <dcterms:modified xsi:type="dcterms:W3CDTF">2009-05-13T05:19:44Z</dcterms:modified>
  <cp:revision>505</cp:revision>
  <dc:subject/>
  <dc:title>Программное обеспечение (ПО)</dc:title>
</cp:coreProperties>
</file>