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EE15-676A-4DED-9A94-93529EA1AE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6A6A-63FA-4044-9988-0160721932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40C7-B13F-49BE-AD88-02F0760C5B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C99E-C6E5-42D2-BE23-44EC0C38FA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3ACA-74B4-412C-87AA-73657C94CC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4641-B652-4F48-9B81-9C4A018EC1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C924-FC7F-48D8-87B6-0BB147E230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B694-8385-4A87-87C3-8791B9EAA6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6E5F-952A-40C1-B66A-39B1847E0A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CE95-3A86-4F10-A3DA-7648D2DDF2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3F37-A990-40E6-973D-C628A335B0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47C2-3392-41DA-8B92-2CD99A23C6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ADAB-38E0-4458-A260-1542CB6670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BEF2-BE78-4980-AACD-8CFFF9AD26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681B-0C56-48F1-9664-022D1AEC12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BE19-E713-494F-AB8B-8F0CE31188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7A97-295E-4093-AF55-7DB2A0907A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E42-66ED-423C-86C9-9C0132D6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BFA-0AA4-4D05-9613-6EFB4EFA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37D-3594-420E-A866-30135AB2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8BC-C827-44CF-AEA2-D3ACB461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6D8-B011-4D29-95B3-CDABBD3B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6D7A-C136-44E9-9FD8-FA050DC9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4EE-5DCF-4E81-BFDF-DE0B90F2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D00D-75D4-4E98-ABA4-C4CD1708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4BE-07DC-43E6-9326-73004077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1688-910A-4A5C-A0EB-CAE9EFD9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D6E0-0EAF-4AB7-878D-1A5F8030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3F9-0A65-414D-9968-146CB63D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240" y="134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B46A-D5ED-4454-94EF-B8D3D1AC434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ail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Охрана труда </a:t>
            </a:r>
            <a:br>
              <a:rPr sz="7200"/>
            </a:b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 техника</a:t>
            </a:r>
            <a:br>
              <a:rPr sz="7200"/>
            </a:b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безопасност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.Ю. Поляков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струкция ИОТ-014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3" descr=""/>
          <p:cNvPicPr/>
          <p:nvPr/>
        </p:nvPicPr>
        <p:blipFill>
          <a:blip r:embed="rId1"/>
          <a:stretch/>
        </p:blipFill>
        <p:spPr>
          <a:xfrm rot="20167800">
            <a:off x="6676560" y="5225760"/>
            <a:ext cx="197352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E7C5-4F79-4481-845D-30F879CD80B9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коллективной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12920" y="896760"/>
            <a:ext cx="840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 каждым учеником закреплен компью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ждый создает свою папку внутри папки своего класс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9"/>
          <p:cNvGrpSpPr/>
          <p:nvPr/>
        </p:nvGrpSpPr>
        <p:grpSpPr>
          <a:xfrm>
            <a:off x="2214720" y="2800440"/>
            <a:ext cx="4889520" cy="3238200"/>
            <a:chOff x="2214720" y="2800440"/>
            <a:chExt cx="4889520" cy="3238200"/>
          </a:xfrm>
        </p:grpSpPr>
        <p:pic>
          <p:nvPicPr>
            <p:cNvPr id="125" name="Picture 8" descr=""/>
            <p:cNvPicPr/>
            <p:nvPr/>
          </p:nvPicPr>
          <p:blipFill>
            <a:blip r:embed="rId1"/>
            <a:stretch/>
          </p:blipFill>
          <p:spPr>
            <a:xfrm>
              <a:off x="2252880" y="2800440"/>
              <a:ext cx="4851360" cy="32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Oval 5"/>
            <p:cNvSpPr/>
            <p:nvPr/>
          </p:nvSpPr>
          <p:spPr>
            <a:xfrm>
              <a:off x="2214720" y="4484520"/>
              <a:ext cx="2629080" cy="943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A776-B44C-4D4E-9D19-DF94A500A08E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коллективной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12920" y="896760"/>
            <a:ext cx="8408880" cy="38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ез разрешения учител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авливать и запускать посторонние программы (в т.ч. иг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ывать свои файлы в чужую пап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матривать и изменять содержимое чужой па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ть скрытые файлы и па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ть настройки компьютер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 операционной системы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0BF7-3026-4219-BB43-FA732D173EB5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работы с дискетами и дис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12920" y="896760"/>
            <a:ext cx="8408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щие прави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мож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пользовать дискеты для переноса своих учебных ф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кеты должны быть проверены антивирусными сред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ез разрешения учител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, DV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флэш-ди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пировать на жесткий диск информацию с дискет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, DVD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лэш-дисков) и наоб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ружать компьютер с системной дискеты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, DVD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лэш-дис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36F4-E925-49C0-9BC4-32C590B99CDE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использования сети Интерн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12920" y="896760"/>
            <a:ext cx="840888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Разрешается работать в сети Интернет, есл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предусмотрено темой урока, или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ащийся выполнил и сдал задание данного уро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Запрещается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ещать сайты, посвященные эротике, терроризму и т.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ещать игровые сай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гистрироваться на сайта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ересылать информацию в СМИ и другие орган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анавливать через Интернет любые программы, активные элементы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ctiveX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полнительные модули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lugi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2114-FD9F-4AC2-82F0-7A02E65A164B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95280" y="189000"/>
            <a:ext cx="849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работы в сети Интерн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12920" y="839880"/>
            <a:ext cx="8408880" cy="52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Можно</a:t>
            </a:r>
            <a:r>
              <a:rPr b="1" lang="ru-RU" sz="2600" spc="-1" strike="noStrike">
                <a:solidFill>
                  <a:srgbClr val="99cc00"/>
                </a:solidFill>
                <a:latin typeface="Arial"/>
              </a:rPr>
              <a:t>: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пользовать электронную почту на сайтах с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терфейсом (</a:t>
            </a:r>
            <a:r>
              <a:rPr b="0" lang="en-US" sz="26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www.mail.r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кать материалы и иллюстрации для рефера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Скачивание информации из сети Интерн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ачивание файлов объемом более 1 Мб возможно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только с разрешения учит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запрещается запускать любые программ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полученные через Интернет, в том числе самораспаковывающиеся архив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 скачанные файлы должны быть удалены со школьных компьютеров в кратчайшие сро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F96C-13AB-4ECC-83EC-E45C8B3587BD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жнения для гл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41280" y="982800"/>
            <a:ext cx="8372520" cy="50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рыть глаза, сильно напрягая глазные мышцы, затем раскрыть глаза, расслабив мышцы глаз, посмотреть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мотреть на переносицу и задержать взор. До усталости глаза не доводить. Затем открыть глаза, посмотреть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поворачивая головы, посмотреть направо и зафиксировать взгляд, затем посмотреть вдаль. Аналогично проводятся упражнения, но с фиксацией взгляда влево, вверх и вни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поворачивая головы, делать медленно круговые движения глазами вверх-вправо-вниз-влево и в обратную сторону: вверх-влево-вниз-вправо. Затем посмотреть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мотреть на указательный палец, удаленный от глаз на расстояние 25 - 30 см, потом перевести взор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46E3-2387-4FFE-B07B-A626059799D5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не навредить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66840" y="941400"/>
            <a:ext cx="84787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ын спрашивает у отца-программиста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А почему солнце встает на восто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заходи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на западе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Ты проверял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Проверя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Работает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Работает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Ну и пусть работает, не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надо ничего менять!!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5526000" y="2290680"/>
            <a:ext cx="29750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EFC9-996A-46FB-81F4-2B7672ECD7F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64EE-143A-4E8A-AB39-C6D91668F283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щие поло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412920" y="896760"/>
            <a:ext cx="814068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чем это нуж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е жизни и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е 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ребования к учащим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йти инструктаж (с 14 лет – под роспис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ать правила поведения (см. дале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ть требования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кабинете должны бы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течка для оказания перв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лекислотный огнетуш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"/>
          <p:cNvPicPr/>
          <p:nvPr/>
        </p:nvPicPr>
        <p:blipFill>
          <a:blip r:embed="rId1"/>
          <a:stretch/>
        </p:blipFill>
        <p:spPr>
          <a:xfrm>
            <a:off x="6777000" y="5175360"/>
            <a:ext cx="1027080" cy="793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"/>
          <p:cNvPicPr/>
          <p:nvPr/>
        </p:nvPicPr>
        <p:blipFill>
          <a:blip r:embed="rId2"/>
          <a:stretch/>
        </p:blipFill>
        <p:spPr>
          <a:xfrm>
            <a:off x="7697880" y="5218200"/>
            <a:ext cx="1292040" cy="163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"/>
          <p:cNvPicPr/>
          <p:nvPr/>
        </p:nvPicPr>
        <p:blipFill>
          <a:blip r:embed="rId3"/>
          <a:stretch/>
        </p:blipFill>
        <p:spPr>
          <a:xfrm>
            <a:off x="6396120" y="928800"/>
            <a:ext cx="1982880" cy="137772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26"/>
          <p:cNvGrpSpPr/>
          <p:nvPr/>
        </p:nvGrpSpPr>
        <p:grpSpPr>
          <a:xfrm>
            <a:off x="4340160" y="1954080"/>
            <a:ext cx="1968120" cy="1519560"/>
            <a:chOff x="4340160" y="1954080"/>
            <a:chExt cx="1968120" cy="1519560"/>
          </a:xfrm>
        </p:grpSpPr>
        <p:pic>
          <p:nvPicPr>
            <p:cNvPr id="60" name="Picture 22" descr=""/>
            <p:cNvPicPr/>
            <p:nvPr/>
          </p:nvPicPr>
          <p:blipFill>
            <a:blip r:embed="rId4"/>
            <a:stretch/>
          </p:blipFill>
          <p:spPr>
            <a:xfrm>
              <a:off x="4340160" y="1954080"/>
              <a:ext cx="182088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AutoShape 25"/>
            <p:cNvSpPr/>
            <p:nvPr/>
          </p:nvSpPr>
          <p:spPr>
            <a:xfrm rot="16820400">
              <a:off x="5563080" y="2732760"/>
              <a:ext cx="709920" cy="66348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FE52-933B-45D5-A3F5-48439A39B6FB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Опасности в компьютерном класс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12920" y="1022400"/>
            <a:ext cx="814068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ический ток, 220 воль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магнитное излучение мони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35"/>
          <p:cNvGrpSpPr/>
          <p:nvPr/>
        </p:nvGrpSpPr>
        <p:grpSpPr>
          <a:xfrm>
            <a:off x="2123280" y="1353960"/>
            <a:ext cx="1078560" cy="1684440"/>
            <a:chOff x="2123280" y="1353960"/>
            <a:chExt cx="1078560" cy="1684440"/>
          </a:xfrm>
        </p:grpSpPr>
        <p:pic>
          <p:nvPicPr>
            <p:cNvPr id="67" name="Picture 8" descr=""/>
            <p:cNvPicPr/>
            <p:nvPr/>
          </p:nvPicPr>
          <p:blipFill>
            <a:blip r:embed="rId1"/>
            <a:stretch/>
          </p:blipFill>
          <p:spPr>
            <a:xfrm>
              <a:off x="2127240" y="1353960"/>
              <a:ext cx="107460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AutoShape 9"/>
            <p:cNvSpPr/>
            <p:nvPr/>
          </p:nvSpPr>
          <p:spPr>
            <a:xfrm rot="18114600">
              <a:off x="2220480" y="1672560"/>
              <a:ext cx="601560" cy="56340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12" descr=""/>
          <p:cNvPicPr/>
          <p:nvPr/>
        </p:nvPicPr>
        <p:blipFill>
          <a:blip r:embed="rId2"/>
          <a:stretch/>
        </p:blipFill>
        <p:spPr>
          <a:xfrm>
            <a:off x="6291360" y="3510000"/>
            <a:ext cx="1492200" cy="178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3"/>
          <a:stretch/>
        </p:blipFill>
        <p:spPr>
          <a:xfrm>
            <a:off x="2436840" y="3718080"/>
            <a:ext cx="1825560" cy="15667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49"/>
          <p:cNvGrpSpPr/>
          <p:nvPr/>
        </p:nvGrpSpPr>
        <p:grpSpPr>
          <a:xfrm>
            <a:off x="4340160" y="3724200"/>
            <a:ext cx="2007360" cy="1492200"/>
            <a:chOff x="4340160" y="3724200"/>
            <a:chExt cx="2007360" cy="1492200"/>
          </a:xfrm>
        </p:grpSpPr>
        <p:sp>
          <p:nvSpPr>
            <p:cNvPr id="72" name="Freeform 15"/>
            <p:cNvSpPr/>
            <p:nvPr/>
          </p:nvSpPr>
          <p:spPr>
            <a:xfrm>
              <a:off x="4589640" y="3724200"/>
              <a:ext cx="1520640" cy="1492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4792680" y="4100400"/>
              <a:ext cx="289080" cy="1106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7"/>
            <p:cNvSpPr/>
            <p:nvPr/>
          </p:nvSpPr>
          <p:spPr>
            <a:xfrm>
              <a:off x="5457960" y="5091120"/>
              <a:ext cx="288720" cy="115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19"/>
            <p:cNvSpPr/>
            <p:nvPr/>
          </p:nvSpPr>
          <p:spPr>
            <a:xfrm>
              <a:off x="4340160" y="4408560"/>
              <a:ext cx="414360" cy="307800"/>
            </a:xfrm>
            <a:custGeom>
              <a:avLst/>
              <a:gdLst>
                <a:gd name="textAreaLeft" fmla="*/ 51840 w 414360"/>
                <a:gd name="textAreaRight" fmla="*/ 362880 w 414360"/>
                <a:gd name="textAreaTop" fmla="*/ 77040 h 307800"/>
                <a:gd name="textAreaBottom" fmla="*/ 23112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22"/>
            <p:cNvSpPr/>
            <p:nvPr/>
          </p:nvSpPr>
          <p:spPr>
            <a:xfrm rot="9476400">
              <a:off x="5890320" y="4792320"/>
              <a:ext cx="414360" cy="307800"/>
            </a:xfrm>
            <a:custGeom>
              <a:avLst/>
              <a:gdLst>
                <a:gd name="textAreaLeft" fmla="*/ 51840 w 414360"/>
                <a:gd name="textAreaRight" fmla="*/ 362880 w 414360"/>
                <a:gd name="textAreaTop" fmla="*/ 77040 h 307800"/>
                <a:gd name="textAreaBottom" fmla="*/ 23112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24" descr=""/>
          <p:cNvPicPr/>
          <p:nvPr/>
        </p:nvPicPr>
        <p:blipFill>
          <a:blip r:embed="rId4"/>
          <a:stretch/>
        </p:blipFill>
        <p:spPr>
          <a:xfrm>
            <a:off x="1141560" y="574848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5"/>
          <a:stretch/>
        </p:blipFill>
        <p:spPr>
          <a:xfrm>
            <a:off x="2386080" y="57484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6"/>
          <a:stretch/>
        </p:blipFill>
        <p:spPr>
          <a:xfrm>
            <a:off x="4875120" y="57484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"/>
          <p:cNvPicPr/>
          <p:nvPr/>
        </p:nvPicPr>
        <p:blipFill>
          <a:blip r:embed="rId7"/>
          <a:stretch/>
        </p:blipFill>
        <p:spPr>
          <a:xfrm>
            <a:off x="6119640" y="57484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8" descr=""/>
          <p:cNvPicPr/>
          <p:nvPr/>
        </p:nvPicPr>
        <p:blipFill>
          <a:blip r:embed="rId8"/>
          <a:stretch/>
        </p:blipFill>
        <p:spPr>
          <a:xfrm>
            <a:off x="1255680" y="3905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9" descr=""/>
          <p:cNvPicPr/>
          <p:nvPr/>
        </p:nvPicPr>
        <p:blipFill>
          <a:blip r:embed="rId9"/>
          <a:stretch/>
        </p:blipFill>
        <p:spPr>
          <a:xfrm>
            <a:off x="1101600" y="16635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0" descr=""/>
          <p:cNvPicPr/>
          <p:nvPr/>
        </p:nvPicPr>
        <p:blipFill>
          <a:blip r:embed="rId10"/>
          <a:stretch/>
        </p:blipFill>
        <p:spPr>
          <a:xfrm>
            <a:off x="7365960" y="5589720"/>
            <a:ext cx="787320" cy="1110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1" descr=""/>
          <p:cNvPicPr/>
          <p:nvPr/>
        </p:nvPicPr>
        <p:blipFill>
          <a:blip r:embed="rId11"/>
          <a:stretch/>
        </p:blipFill>
        <p:spPr>
          <a:xfrm>
            <a:off x="3630600" y="5748480"/>
            <a:ext cx="952560" cy="95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Object 40"/>
          <p:cNvGraphicFramePr/>
          <p:nvPr/>
        </p:nvGraphicFramePr>
        <p:xfrm>
          <a:off x="6581880" y="1023840"/>
          <a:ext cx="1500120" cy="2000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" name="Object 4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81880" y="1023840"/>
                    <a:ext cx="150012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48"/>
          <p:cNvGrpSpPr/>
          <p:nvPr/>
        </p:nvGrpSpPr>
        <p:grpSpPr>
          <a:xfrm>
            <a:off x="7870320" y="1074240"/>
            <a:ext cx="1041840" cy="721080"/>
            <a:chOff x="7870320" y="1074240"/>
            <a:chExt cx="1041840" cy="721080"/>
          </a:xfrm>
        </p:grpSpPr>
        <p:pic>
          <p:nvPicPr>
            <p:cNvPr id="88" name="Picture 41" descr=""/>
            <p:cNvPicPr/>
            <p:nvPr/>
          </p:nvPicPr>
          <p:blipFill>
            <a:blip r:embed="rId14"/>
            <a:stretch/>
          </p:blipFill>
          <p:spPr>
            <a:xfrm>
              <a:off x="7989840" y="1077840"/>
              <a:ext cx="92232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AutoShape 43"/>
            <p:cNvSpPr/>
            <p:nvPr/>
          </p:nvSpPr>
          <p:spPr>
            <a:xfrm rot="18114600">
              <a:off x="7956720" y="1183680"/>
              <a:ext cx="536760" cy="50184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47"/>
          <p:cNvGrpSpPr/>
          <p:nvPr/>
        </p:nvGrpSpPr>
        <p:grpSpPr>
          <a:xfrm>
            <a:off x="5557680" y="1314360"/>
            <a:ext cx="1285560" cy="1294920"/>
            <a:chOff x="5557680" y="1314360"/>
            <a:chExt cx="1285560" cy="1294920"/>
          </a:xfrm>
        </p:grpSpPr>
        <p:pic>
          <p:nvPicPr>
            <p:cNvPr id="91" name="Picture 46" descr=""/>
            <p:cNvPicPr/>
            <p:nvPr/>
          </p:nvPicPr>
          <p:blipFill>
            <a:blip r:embed="rId15"/>
            <a:stretch/>
          </p:blipFill>
          <p:spPr>
            <a:xfrm rot="6243600">
              <a:off x="5665320" y="1433160"/>
              <a:ext cx="106992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AutoShape 42"/>
            <p:cNvSpPr/>
            <p:nvPr/>
          </p:nvSpPr>
          <p:spPr>
            <a:xfrm rot="18114600">
              <a:off x="5831280" y="1605600"/>
              <a:ext cx="709920" cy="66348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4"/>
          <p:cNvGrpSpPr/>
          <p:nvPr/>
        </p:nvGrpSpPr>
        <p:grpSpPr>
          <a:xfrm>
            <a:off x="3673440" y="1547640"/>
            <a:ext cx="1893240" cy="1411200"/>
            <a:chOff x="3673440" y="1547640"/>
            <a:chExt cx="1893240" cy="1411200"/>
          </a:xfrm>
        </p:grpSpPr>
        <p:pic>
          <p:nvPicPr>
            <p:cNvPr id="94" name="Picture 37" descr=""/>
            <p:cNvPicPr/>
            <p:nvPr/>
          </p:nvPicPr>
          <p:blipFill>
            <a:blip r:embed="rId16"/>
            <a:stretch/>
          </p:blipFill>
          <p:spPr>
            <a:xfrm>
              <a:off x="3673440" y="1547640"/>
              <a:ext cx="1882800" cy="14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AutoShape 33"/>
            <p:cNvSpPr/>
            <p:nvPr/>
          </p:nvSpPr>
          <p:spPr>
            <a:xfrm rot="18114600">
              <a:off x="4943520" y="1915920"/>
              <a:ext cx="536400" cy="50184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EF18-5544-4A40-99AA-760C1DAF170E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д началом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12920" y="896760"/>
            <a:ext cx="8140680" cy="47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разрешаетс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ходить в кабинет в верхней одежде, грязной обуви, с громоздкими предме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гать, прыгать в кабин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омко разговаривать, отвлекать других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ить сумки и портфели на ст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ромождать про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ть напряжение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лючать и подключать устройства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0A7B-A1EE-41BD-9E14-79CF80329DD4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 время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12920" y="896760"/>
            <a:ext cx="84088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разрешаетс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ть питание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при плохом самочувств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на неисправной техн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лючать и подключать каб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с грязными или влажными ру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саться монитора, кабелей, разъемов, труб, бата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вигать с места монитор и системный б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ть что-либо на клавиат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имать на клавиши с усилием или уда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о устранять неиспра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56EB-6236-42D8-A520-B30B98BAD18E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 время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12920" y="896760"/>
            <a:ext cx="84088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ез разрешения учител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ть и выключать компьютер, мони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лючать науш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ускать посторонни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вать 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ть настройки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одить в сеть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ть со стола учителя дискеты, бумаги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на компьютере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682C-F685-4348-ADEF-022660AD9704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 время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12920" y="896760"/>
            <a:ext cx="8408880" cy="45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ремя непрерывной работ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5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7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9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-11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0 минут (30 + 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щее время работы (в день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5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11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асстояние от глаз до экрана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,6-0,7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548D-BE80-46BB-BF43-E5D770C0F364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Аварийные ситу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12920" y="896760"/>
            <a:ext cx="8408880" cy="5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лохом самочувствии и головной бо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т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ить об этом учи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оявлении необычного звука, запах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т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ить об этом учи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ожар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т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руководством учителя покинуть каби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оражении электрическим ток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дленно отключить напряжение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ть первую помощь пострадавш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авить его в медпун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5E57-1338-4FAC-B542-450E678D469A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 окончании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12920" y="896760"/>
            <a:ext cx="8408880" cy="46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вести в порядок рабочее ме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ыть окна всех пр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лить свои файлы с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бочего Ст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винуть кре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дать учителю выданные материалы, дискеты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 необходимости выключить компьют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ключить питание системного б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ключить мони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Шапарь О. И.</cp:lastModifiedBy>
  <dcterms:modified xsi:type="dcterms:W3CDTF">2009-05-13T05:19:44Z</dcterms:modified>
  <cp:revision>505</cp:revision>
  <dc:subject/>
  <dc:title>Программное обеспечение (ПО)</dc:title>
</cp:coreProperties>
</file>