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CBB2-46B1-453C-8BB6-B9E5AA7FDB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410E-8FD7-42FF-BF0A-423EE15CAF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E55D-A248-457F-9F80-BC1EC62C29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0F93-44B0-4907-923D-97D3B84FE7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E318-4871-4E74-8B28-CE016901D8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3058-3C3E-4ECE-AB9F-CB0F3221F9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8E0A-3E0D-42BB-93C0-C526C8397A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C7EC-C9A5-4400-9EA9-7494F19AD1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447E-E0D3-4FCE-A859-133CF8B729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CB11-72C8-4F21-B1DC-0DCFFCE8EA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1937-CD66-4A01-843B-BBCCEBF464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302D-E3AB-40DA-A74C-EB7AC7693F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B907-5EDB-44AE-8310-B5C7761785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4C04-DFC5-4055-B220-9B4105A762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D1F9-C15B-4E53-A840-4CE828B08B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0E87-A2C3-4422-960C-D1742A2C22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868B-A137-47D8-8402-9347C751D0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13BE-15FE-4AB5-B07E-184150CB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EB70-2571-406D-918F-19FFE42E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0EFB-7F22-4720-9C54-7530CA8E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1F76-11C4-4AC4-ACB8-38332666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B560-E7CD-4F26-9D83-DBC09A7C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0FAA-A5C3-40B9-AE6F-662D05F7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7DE1-99FC-4212-A1AC-8D483838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2C07-318E-4CFB-8FB9-CABE0CD6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099B-9D77-490A-B920-7B15099D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54D0-16F1-46BC-8E66-64FB548F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B864-EEB4-4761-986B-88FC39C8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0BB1-1EFB-45A6-8C2E-E651E04C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240" y="134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09B7-F299-472C-86D7-96D5295E36B4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ail.r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1092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Охрана труда </a:t>
            </a:r>
            <a:br>
              <a:rPr sz="7200"/>
            </a:b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и техника</a:t>
            </a:r>
            <a:br>
              <a:rPr sz="7200"/>
            </a:b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безопасност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.Ю. Поляков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4560" y="4377960"/>
            <a:ext cx="83692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струкция ИОТ-014-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3" descr=""/>
          <p:cNvPicPr/>
          <p:nvPr/>
        </p:nvPicPr>
        <p:blipFill>
          <a:blip r:embed="rId1"/>
          <a:stretch/>
        </p:blipFill>
        <p:spPr>
          <a:xfrm rot="20167800">
            <a:off x="6676560" y="5225760"/>
            <a:ext cx="197352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6D7C-FDCE-427F-84D2-61F931AC7EB0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авила коллективной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12920" y="896760"/>
            <a:ext cx="840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749"/>
              </a:spcBef>
              <a:buClr>
                <a:srgbClr val="3333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 каждым учеником закреплен компью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749"/>
              </a:spcBef>
              <a:buClr>
                <a:srgbClr val="3333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ждый создает свою папку внутри папки своего класс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9"/>
          <p:cNvGrpSpPr/>
          <p:nvPr/>
        </p:nvGrpSpPr>
        <p:grpSpPr>
          <a:xfrm>
            <a:off x="2214720" y="2800440"/>
            <a:ext cx="4889520" cy="3238200"/>
            <a:chOff x="2214720" y="2800440"/>
            <a:chExt cx="4889520" cy="3238200"/>
          </a:xfrm>
        </p:grpSpPr>
        <p:pic>
          <p:nvPicPr>
            <p:cNvPr id="125" name="Picture 8" descr=""/>
            <p:cNvPicPr/>
            <p:nvPr/>
          </p:nvPicPr>
          <p:blipFill>
            <a:blip r:embed="rId1"/>
            <a:stretch/>
          </p:blipFill>
          <p:spPr>
            <a:xfrm>
              <a:off x="2252880" y="2800440"/>
              <a:ext cx="4851360" cy="32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Oval 5"/>
            <p:cNvSpPr/>
            <p:nvPr/>
          </p:nvSpPr>
          <p:spPr>
            <a:xfrm>
              <a:off x="2214720" y="4484520"/>
              <a:ext cx="2629080" cy="943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0E53-F0A5-4DBA-8338-16B9DDA2FB01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авила коллективной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12920" y="896760"/>
            <a:ext cx="8408880" cy="38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льз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без разрешения учител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авливать и запускать посторонние программы (в т.ч. иг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ывать свои файлы в чужую пап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матривать и изменять содержимое чужой па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вать скрытые файлы и па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ять настройки компьютера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O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и операционной системы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C086-25BA-4F6E-9FE4-2AB7FA0705D3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авила работы с дискетами и диск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12920" y="896760"/>
            <a:ext cx="8408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щие правил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мож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спользовать дискеты для переноса своих учебных фай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кеты должны быть проверены антивирусными сред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льз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без разрешения учител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, DV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флэш-ди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пировать на жесткий диск информацию с дискет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, DVD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лэш-дисков) и наобо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гружать компьютер с системной дискеты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, DVD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лэш-дис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8BD5-1132-4F56-97A6-18C0654EEC50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авила использования сети Интерн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12920" y="896760"/>
            <a:ext cx="840888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Разрешается работать в сети Интернет, есл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предусмотрено темой урока, или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ащийся выполнил и сдал задание данного уро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Запрещается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ещать сайты, посвященные эротике, терроризму и т.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ещать игровые сай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гистрироваться на сайтах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ересылать информацию в СМИ и другие орган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танавливать через Интернет любые программы, активные элементы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ctiveX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полнительные модули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lugi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E4F4-6A84-429E-A214-E229A585872C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95280" y="189000"/>
            <a:ext cx="849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авила работы в сети Интерн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12920" y="839880"/>
            <a:ext cx="8408880" cy="52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Arial"/>
              </a:rPr>
              <a:t>Можно</a:t>
            </a:r>
            <a:r>
              <a:rPr b="1" lang="ru-RU" sz="2600" spc="-1" strike="noStrike">
                <a:solidFill>
                  <a:srgbClr val="99cc00"/>
                </a:solidFill>
                <a:latin typeface="Arial"/>
              </a:rPr>
              <a:t>: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452520"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пользовать электронную почту на сайтах с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терфейсом (</a:t>
            </a:r>
            <a:r>
              <a:rPr b="0" lang="en-US" sz="26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www.mail.r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…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452520"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кать материалы и иллюстрации для рефера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Скачивание информации из сети Интерн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452520"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качивание файлов объемом более 1 Мб возможно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только с разрешения учите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452520">
              <a:lnSpc>
                <a:spcPct val="85000"/>
              </a:lnSpc>
              <a:spcBef>
                <a:spcPts val="81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запрещается запускать любые программ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полученные через Интернет, в том числе самораспаковывающиеся архив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452520">
              <a:lnSpc>
                <a:spcPct val="85000"/>
              </a:lnSpc>
              <a:spcBef>
                <a:spcPts val="81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е скачанные файлы должны быть удалены со школьных компьютеров в кратчайшие сро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3D8F-65FF-4205-ABFF-3D882C8F7CD6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пражнения для гл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41280" y="982800"/>
            <a:ext cx="8372520" cy="50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рыть глаза, сильно напрягая глазные мышцы, затем раскрыть глаза, расслабив мышцы глаз, посмотреть вда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мотреть на переносицу и задержать взор. До усталости глаза не доводить. Затем открыть глаза, посмотреть вда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поворачивая головы, посмотреть направо и зафиксировать взгляд, затем посмотреть вдаль. Аналогично проводятся упражнения, но с фиксацией взгляда влево, вверх и вни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поворачивая головы, делать медленно круговые движения глазами вверх-вправо-вниз-влево и в обратную сторону: вверх-влево-вниз-вправо. Затем посмотреть вда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мотреть на указательный палец, удаленный от глаз на расстояние 25 - 30 см, потом перевести взор вдал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4113-3D12-457D-B118-92988A2F3365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к не навредить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66840" y="941400"/>
            <a:ext cx="84787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ын спрашивает у отца-программиста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А почему солнце встает на восто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заходит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на западе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Ты проверял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Проверял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Работает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Работает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Ну и пусть работает, не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надо ничего менять!!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5526000" y="2290680"/>
            <a:ext cx="297504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B4AA-FEF1-4591-AFDE-7B252251AC21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нец фил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FD98-E264-4885-86B6-063C2CA29B4F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бщие полож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412920" y="896760"/>
            <a:ext cx="8140680" cy="55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чем это нужн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ение жизни и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ение 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ребования к учащим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йти инструктаж (с 14 лет – под роспис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ать правила поведения (см. дале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ять требования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кабинете должны бы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птечка для оказания перв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лекислотный огнетуш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0" descr=""/>
          <p:cNvPicPr/>
          <p:nvPr/>
        </p:nvPicPr>
        <p:blipFill>
          <a:blip r:embed="rId1"/>
          <a:stretch/>
        </p:blipFill>
        <p:spPr>
          <a:xfrm>
            <a:off x="6777000" y="5175360"/>
            <a:ext cx="1027080" cy="793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"/>
          <p:cNvPicPr/>
          <p:nvPr/>
        </p:nvPicPr>
        <p:blipFill>
          <a:blip r:embed="rId2"/>
          <a:stretch/>
        </p:blipFill>
        <p:spPr>
          <a:xfrm>
            <a:off x="7697880" y="5218200"/>
            <a:ext cx="1292040" cy="1639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3" descr=""/>
          <p:cNvPicPr/>
          <p:nvPr/>
        </p:nvPicPr>
        <p:blipFill>
          <a:blip r:embed="rId3"/>
          <a:stretch/>
        </p:blipFill>
        <p:spPr>
          <a:xfrm>
            <a:off x="6396120" y="928800"/>
            <a:ext cx="1982880" cy="137772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26"/>
          <p:cNvGrpSpPr/>
          <p:nvPr/>
        </p:nvGrpSpPr>
        <p:grpSpPr>
          <a:xfrm>
            <a:off x="4340160" y="1954080"/>
            <a:ext cx="1968120" cy="1519560"/>
            <a:chOff x="4340160" y="1954080"/>
            <a:chExt cx="1968120" cy="1519560"/>
          </a:xfrm>
        </p:grpSpPr>
        <p:pic>
          <p:nvPicPr>
            <p:cNvPr id="60" name="Picture 22" descr=""/>
            <p:cNvPicPr/>
            <p:nvPr/>
          </p:nvPicPr>
          <p:blipFill>
            <a:blip r:embed="rId4"/>
            <a:stretch/>
          </p:blipFill>
          <p:spPr>
            <a:xfrm>
              <a:off x="4340160" y="1954080"/>
              <a:ext cx="182088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AutoShape 25"/>
            <p:cNvSpPr/>
            <p:nvPr/>
          </p:nvSpPr>
          <p:spPr>
            <a:xfrm rot="16820400">
              <a:off x="5563080" y="2732760"/>
              <a:ext cx="709920" cy="663480"/>
            </a:xfrm>
            <a:prstGeom prst="plus">
              <a:avLst>
                <a:gd name="adj" fmla="val 417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5B8A-1931-4791-B2E2-B43FC3673874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Опасности в компьютерном класс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12920" y="1022400"/>
            <a:ext cx="814068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ический ток, 220 воль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магнитное излучение мони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в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35"/>
          <p:cNvGrpSpPr/>
          <p:nvPr/>
        </p:nvGrpSpPr>
        <p:grpSpPr>
          <a:xfrm>
            <a:off x="2123280" y="1353960"/>
            <a:ext cx="1078560" cy="1684440"/>
            <a:chOff x="2123280" y="1353960"/>
            <a:chExt cx="1078560" cy="1684440"/>
          </a:xfrm>
        </p:grpSpPr>
        <p:pic>
          <p:nvPicPr>
            <p:cNvPr id="67" name="Picture 8" descr=""/>
            <p:cNvPicPr/>
            <p:nvPr/>
          </p:nvPicPr>
          <p:blipFill>
            <a:blip r:embed="rId1"/>
            <a:stretch/>
          </p:blipFill>
          <p:spPr>
            <a:xfrm>
              <a:off x="2127240" y="1353960"/>
              <a:ext cx="1074600" cy="16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AutoShape 9"/>
            <p:cNvSpPr/>
            <p:nvPr/>
          </p:nvSpPr>
          <p:spPr>
            <a:xfrm rot="18114600">
              <a:off x="2220480" y="1672560"/>
              <a:ext cx="601560" cy="563400"/>
            </a:xfrm>
            <a:prstGeom prst="plus">
              <a:avLst>
                <a:gd name="adj" fmla="val 417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12" descr=""/>
          <p:cNvPicPr/>
          <p:nvPr/>
        </p:nvPicPr>
        <p:blipFill>
          <a:blip r:embed="rId2"/>
          <a:stretch/>
        </p:blipFill>
        <p:spPr>
          <a:xfrm>
            <a:off x="6291360" y="3510000"/>
            <a:ext cx="1492200" cy="178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3"/>
          <a:stretch/>
        </p:blipFill>
        <p:spPr>
          <a:xfrm>
            <a:off x="2436840" y="3718080"/>
            <a:ext cx="1825560" cy="156672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49"/>
          <p:cNvGrpSpPr/>
          <p:nvPr/>
        </p:nvGrpSpPr>
        <p:grpSpPr>
          <a:xfrm>
            <a:off x="4340160" y="3724200"/>
            <a:ext cx="2007360" cy="1492200"/>
            <a:chOff x="4340160" y="3724200"/>
            <a:chExt cx="2007360" cy="1492200"/>
          </a:xfrm>
        </p:grpSpPr>
        <p:sp>
          <p:nvSpPr>
            <p:cNvPr id="72" name="Freeform 15"/>
            <p:cNvSpPr/>
            <p:nvPr/>
          </p:nvSpPr>
          <p:spPr>
            <a:xfrm>
              <a:off x="4589640" y="3724200"/>
              <a:ext cx="1520640" cy="14922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4792680" y="4100400"/>
              <a:ext cx="289080" cy="1106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7"/>
            <p:cNvSpPr/>
            <p:nvPr/>
          </p:nvSpPr>
          <p:spPr>
            <a:xfrm>
              <a:off x="5457960" y="5091120"/>
              <a:ext cx="288720" cy="115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19"/>
            <p:cNvSpPr/>
            <p:nvPr/>
          </p:nvSpPr>
          <p:spPr>
            <a:xfrm>
              <a:off x="4340160" y="4408560"/>
              <a:ext cx="414360" cy="307800"/>
            </a:xfrm>
            <a:custGeom>
              <a:avLst/>
              <a:gdLst>
                <a:gd name="textAreaLeft" fmla="*/ 51840 w 414360"/>
                <a:gd name="textAreaRight" fmla="*/ 362880 w 414360"/>
                <a:gd name="textAreaTop" fmla="*/ 77040 h 307800"/>
                <a:gd name="textAreaBottom" fmla="*/ 231120 h 30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22"/>
            <p:cNvSpPr/>
            <p:nvPr/>
          </p:nvSpPr>
          <p:spPr>
            <a:xfrm rot="9476400">
              <a:off x="5890320" y="4792320"/>
              <a:ext cx="414360" cy="307800"/>
            </a:xfrm>
            <a:custGeom>
              <a:avLst/>
              <a:gdLst>
                <a:gd name="textAreaLeft" fmla="*/ 51840 w 414360"/>
                <a:gd name="textAreaRight" fmla="*/ 362880 w 414360"/>
                <a:gd name="textAreaTop" fmla="*/ 77040 h 307800"/>
                <a:gd name="textAreaBottom" fmla="*/ 231120 h 30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24" descr=""/>
          <p:cNvPicPr/>
          <p:nvPr/>
        </p:nvPicPr>
        <p:blipFill>
          <a:blip r:embed="rId4"/>
          <a:stretch/>
        </p:blipFill>
        <p:spPr>
          <a:xfrm>
            <a:off x="1141560" y="5748480"/>
            <a:ext cx="952200" cy="952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"/>
          <p:cNvPicPr/>
          <p:nvPr/>
        </p:nvPicPr>
        <p:blipFill>
          <a:blip r:embed="rId5"/>
          <a:stretch/>
        </p:blipFill>
        <p:spPr>
          <a:xfrm>
            <a:off x="2386080" y="574848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"/>
          <p:cNvPicPr/>
          <p:nvPr/>
        </p:nvPicPr>
        <p:blipFill>
          <a:blip r:embed="rId6"/>
          <a:stretch/>
        </p:blipFill>
        <p:spPr>
          <a:xfrm>
            <a:off x="4875120" y="574848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7" descr=""/>
          <p:cNvPicPr/>
          <p:nvPr/>
        </p:nvPicPr>
        <p:blipFill>
          <a:blip r:embed="rId7"/>
          <a:stretch/>
        </p:blipFill>
        <p:spPr>
          <a:xfrm>
            <a:off x="6119640" y="574848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8" descr=""/>
          <p:cNvPicPr/>
          <p:nvPr/>
        </p:nvPicPr>
        <p:blipFill>
          <a:blip r:embed="rId8"/>
          <a:stretch/>
        </p:blipFill>
        <p:spPr>
          <a:xfrm>
            <a:off x="1255680" y="3905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9" descr=""/>
          <p:cNvPicPr/>
          <p:nvPr/>
        </p:nvPicPr>
        <p:blipFill>
          <a:blip r:embed="rId9"/>
          <a:stretch/>
        </p:blipFill>
        <p:spPr>
          <a:xfrm>
            <a:off x="1101600" y="16635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0" descr=""/>
          <p:cNvPicPr/>
          <p:nvPr/>
        </p:nvPicPr>
        <p:blipFill>
          <a:blip r:embed="rId10"/>
          <a:stretch/>
        </p:blipFill>
        <p:spPr>
          <a:xfrm>
            <a:off x="7365960" y="5589720"/>
            <a:ext cx="787320" cy="1110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1" descr=""/>
          <p:cNvPicPr/>
          <p:nvPr/>
        </p:nvPicPr>
        <p:blipFill>
          <a:blip r:embed="rId11"/>
          <a:stretch/>
        </p:blipFill>
        <p:spPr>
          <a:xfrm>
            <a:off x="3630600" y="5748480"/>
            <a:ext cx="952560" cy="95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Object 40"/>
          <p:cNvGraphicFramePr/>
          <p:nvPr/>
        </p:nvGraphicFramePr>
        <p:xfrm>
          <a:off x="6581880" y="1023840"/>
          <a:ext cx="1500120" cy="2000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6" name="Object 4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581880" y="1023840"/>
                    <a:ext cx="150012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48"/>
          <p:cNvGrpSpPr/>
          <p:nvPr/>
        </p:nvGrpSpPr>
        <p:grpSpPr>
          <a:xfrm>
            <a:off x="7870320" y="1074240"/>
            <a:ext cx="1041840" cy="721080"/>
            <a:chOff x="7870320" y="1074240"/>
            <a:chExt cx="1041840" cy="721080"/>
          </a:xfrm>
        </p:grpSpPr>
        <p:pic>
          <p:nvPicPr>
            <p:cNvPr id="88" name="Picture 41" descr=""/>
            <p:cNvPicPr/>
            <p:nvPr/>
          </p:nvPicPr>
          <p:blipFill>
            <a:blip r:embed="rId14"/>
            <a:stretch/>
          </p:blipFill>
          <p:spPr>
            <a:xfrm>
              <a:off x="7989840" y="1077840"/>
              <a:ext cx="92232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AutoShape 43"/>
            <p:cNvSpPr/>
            <p:nvPr/>
          </p:nvSpPr>
          <p:spPr>
            <a:xfrm rot="18114600">
              <a:off x="7956720" y="1183680"/>
              <a:ext cx="536760" cy="501840"/>
            </a:xfrm>
            <a:prstGeom prst="plus">
              <a:avLst>
                <a:gd name="adj" fmla="val 417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47"/>
          <p:cNvGrpSpPr/>
          <p:nvPr/>
        </p:nvGrpSpPr>
        <p:grpSpPr>
          <a:xfrm>
            <a:off x="5557680" y="1314360"/>
            <a:ext cx="1285560" cy="1294920"/>
            <a:chOff x="5557680" y="1314360"/>
            <a:chExt cx="1285560" cy="1294920"/>
          </a:xfrm>
        </p:grpSpPr>
        <p:pic>
          <p:nvPicPr>
            <p:cNvPr id="91" name="Picture 46" descr=""/>
            <p:cNvPicPr/>
            <p:nvPr/>
          </p:nvPicPr>
          <p:blipFill>
            <a:blip r:embed="rId15"/>
            <a:stretch/>
          </p:blipFill>
          <p:spPr>
            <a:xfrm rot="6243600">
              <a:off x="5665320" y="1433160"/>
              <a:ext cx="106992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AutoShape 42"/>
            <p:cNvSpPr/>
            <p:nvPr/>
          </p:nvSpPr>
          <p:spPr>
            <a:xfrm rot="18114600">
              <a:off x="5831280" y="1605600"/>
              <a:ext cx="709920" cy="663480"/>
            </a:xfrm>
            <a:prstGeom prst="plus">
              <a:avLst>
                <a:gd name="adj" fmla="val 417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44"/>
          <p:cNvGrpSpPr/>
          <p:nvPr/>
        </p:nvGrpSpPr>
        <p:grpSpPr>
          <a:xfrm>
            <a:off x="3673440" y="1547640"/>
            <a:ext cx="1893240" cy="1411200"/>
            <a:chOff x="3673440" y="1547640"/>
            <a:chExt cx="1893240" cy="1411200"/>
          </a:xfrm>
        </p:grpSpPr>
        <p:pic>
          <p:nvPicPr>
            <p:cNvPr id="94" name="Picture 37" descr=""/>
            <p:cNvPicPr/>
            <p:nvPr/>
          </p:nvPicPr>
          <p:blipFill>
            <a:blip r:embed="rId16"/>
            <a:stretch/>
          </p:blipFill>
          <p:spPr>
            <a:xfrm>
              <a:off x="3673440" y="1547640"/>
              <a:ext cx="1882800" cy="14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AutoShape 33"/>
            <p:cNvSpPr/>
            <p:nvPr/>
          </p:nvSpPr>
          <p:spPr>
            <a:xfrm rot="18114600">
              <a:off x="4943520" y="1915920"/>
              <a:ext cx="536400" cy="501840"/>
            </a:xfrm>
            <a:prstGeom prst="plus">
              <a:avLst>
                <a:gd name="adj" fmla="val 4175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F57D-0D8B-4536-B5B9-A6F27FA55AC9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д началом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12920" y="896760"/>
            <a:ext cx="8140680" cy="47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 разрешаетс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ходить в кабинет в верхней одежде, грязной обуви, с громоздкими предме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гать, прыгать в кабин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омко разговаривать, отвлекать других уче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вить сумки и портфели на ст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громождать про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ть напряжение 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лючать и подключать устройства компью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4D2F-09D9-43A5-9A94-6F99FE888C71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о время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12920" y="896760"/>
            <a:ext cx="84088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 разрешаетс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ть питание 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ть при плохом самочувств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ть на неисправной техн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лючать и подключать каб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ть с грязными или влажными ру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саться монитора, кабелей, разъемов, труб, бата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вигать с места монитор и системный б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ть что-либо на клавиату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имать на клавиши с усилием или уда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стоятельно устранять неиспра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46B6-409B-4A7C-B3AA-E7DD22C3D0B0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о время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412920" y="896760"/>
            <a:ext cx="840888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льз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без разрешения учител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ть и выключать компьютер, мони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лючать науш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ускать посторонние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вать 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ять настройки компью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ходить в сеть И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ть со стола учителя дискеты, бумаги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ть на компьютере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D9B0-0982-4992-88F4-965655DA6877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о время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12920" y="896760"/>
            <a:ext cx="8408880" cy="45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ремя непрерывной работ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5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-7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9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5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-11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0 минут (30 + 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щее время работы (в день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5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-11 клас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асстояние от глаз до экрана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,6-0,7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62DB-AAE7-4105-A73F-28EDDD4F0993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Аварийные ситу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12920" y="896760"/>
            <a:ext cx="8408880" cy="56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 плохом самочувствии и головной бо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тить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ить об этом учи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 появлении необычного звука, запах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тить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ить об этом учи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 пожар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тить рабо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руководством учителя покинуть каби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 поражении электрическим ток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дленно отключить напряжение 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ть первую помощь пострадавш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4521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авить его в медпун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3"/>
          <p:cNvSpPr/>
          <p:nvPr/>
        </p:nvSpPr>
        <p:spPr>
          <a:xfrm>
            <a:off x="6843600" y="135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C822-7DF5-4F71-AC9A-C50F867FC5F4}" type="slidenum">
              <a:rPr b="1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 окончании рабо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412920" y="896760"/>
            <a:ext cx="8408880" cy="46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749"/>
              </a:spcBef>
              <a:buClr>
                <a:srgbClr val="3333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вести в порядок рабочее ме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52520">
              <a:lnSpc>
                <a:spcPct val="75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ыть окна всех пр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52520">
              <a:lnSpc>
                <a:spcPct val="75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алить свои файлы с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абочего Ст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52520">
              <a:lnSpc>
                <a:spcPct val="75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винуть кре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749"/>
              </a:spcBef>
              <a:buClr>
                <a:srgbClr val="3333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дать учителю выданные материалы, дискеты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1749"/>
              </a:spcBef>
              <a:buClr>
                <a:srgbClr val="3333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 необходимости выключить компьют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52520">
              <a:lnSpc>
                <a:spcPct val="75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ключить питание системного б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452520">
              <a:lnSpc>
                <a:spcPct val="75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ключить мони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Шапарь О. И.</cp:lastModifiedBy>
  <dcterms:modified xsi:type="dcterms:W3CDTF">2009-05-13T05:19:44Z</dcterms:modified>
  <cp:revision>505</cp:revision>
  <dc:subject/>
  <dc:title>Программное обеспечение (ПО)</dc:title>
</cp:coreProperties>
</file>