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62A-1A62-4018-8734-F7B126C4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003-1B19-4E33-BC37-6E2330C6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AFA-18C5-458D-B86C-84532125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ACA-665F-464C-B3D0-7AE9546D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830-8C1D-4A55-9C48-8C9EDEE5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1D1-D0DE-4871-ABB3-2DDFE949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5D4-78EA-489A-8F27-53DD9C8B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3F7-01BC-4A5F-93D1-0ECC288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A56-A8DA-4A61-B4D4-BEC6306B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380-5776-4042-974B-699E9F3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E46-5E59-46E8-A9FB-C7A4DA6D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B33-EA48-423F-AF14-3CBB20F4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57A6-9E32-4059-B5B6-4E809AC7F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4000" y="5229360"/>
            <a:ext cx="7561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илова Ольга Валерьевна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1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Электросталь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DmitriyD</cp:lastModifiedBy>
  <dcterms:modified xsi:type="dcterms:W3CDTF">2012-01-31T15:49:16Z</dcterms:modified>
  <cp:revision>31</cp:revision>
  <dc:subject/>
  <dc:title>Слайд 1</dc:title>
</cp:coreProperties>
</file>