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82C-FA33-459F-A44B-D8DE4F75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6CA-E0EA-4B73-AA24-7AD1224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A98-C426-4194-8310-1F6686EB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7B0-CABD-4767-9714-587F81D5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407-CFF3-42B5-9391-EDFE9930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2B5-FF71-411D-B155-219D18B3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43D-A997-47F0-9ED4-7DA9E32F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2C6-30DB-4CB3-8F13-A294E02C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AE7-A090-4D9A-82E3-B189619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380-755B-4B5D-A652-77D1951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0F4-81C8-44D5-B185-C39E8D7E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3A0-FA60-4E0C-95E2-401EBF1C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3D23-BCA6-4234-BC3B-6E15A9B1E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илова Ольга Валерье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Электросталь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DmitriyD</cp:lastModifiedBy>
  <dcterms:modified xsi:type="dcterms:W3CDTF">2012-01-31T15:49:16Z</dcterms:modified>
  <cp:revision>31</cp:revision>
  <dc:subject/>
  <dc:title>Слайд 1</dc:title>
</cp:coreProperties>
</file>