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6B81-7FD7-4FCF-82DD-1F2F7646AA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0C7F-DB16-4862-8F46-6E4AE1E86F7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4A0-6B18-4FDA-B583-DA1ADF83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E5B-8F80-46E9-BE08-D75C83F9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6BD1-7B55-4646-970F-C54ED21D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5C6-34E1-4A85-B9C2-9D65E02B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B7F6-4BA7-422F-AD34-D624AD86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CE86-92D8-489C-96ED-09DD0440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1F87-0359-4423-9261-8D90FD1B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EF3D-39F0-46D4-92C0-4D597F74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E833-C924-447D-A9A3-1CC9EF5B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32FA-8BDC-41C7-A639-72B417D9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D65D-2237-43E1-8933-13ACF992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5B9-8DF3-4B78-AAB7-6B6CE8F8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9CF4-CA22-4D03-9EB4-4A72E016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868B-BC83-4233-90EC-EC0A282B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F715-1D61-45E0-AA9A-25818EB4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0CB1-7FD1-472F-BB60-3AC778F2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ED7C-CB19-4FBE-85D9-103EA32F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E04-7616-452D-BBCA-B89FDB2B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205-99E3-429A-8DD4-C2AA1FBA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EC2-4A67-4616-91CB-2343D554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9209-272A-4307-BDB2-C3920AD6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2FCD-7962-4D3F-919C-F1DFA270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E7E6-DCAA-4F87-8F3E-BF226C17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7198-9A8A-49DB-8E8E-7E7AE482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CFEC-6616-457D-8C9C-E9379D1613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98F2-8454-4256-8A33-96C86676C0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cc960"/>
                </a:solidFill>
                <a:latin typeface="Arial Black"/>
              </a:rPr>
              <a:t>АЗЕРБАЙДЖАН</a:t>
            </a:r>
            <a:endParaRPr b="0" lang="en-US" sz="7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6" descr="C:\Users\эв\Desktop\z_45632113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5076720" y="1052640"/>
            <a:ext cx="40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ймур Абба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484280"/>
            <a:ext cx="89647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изм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, которая стремительно развивается в последние годы. Особенно интенсивно развивается лечебный туризм. Каждый год в Азербайджан приезжает в качестве туристов около полутора миллионов челове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ую очередь это связано с тем, что страна находится между  Европой и Азией. Также это связано с тем что, из 11 существующих климатических зон планеты, 9 представлены на территории страны, начиная от субтропиков и заканчивая высокогорными альпийскими луг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324000" y="981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C:\Users\эв\Desktop\Азербайджан - презентация\x_ca8e24f2.jpg"/>
          <p:cNvPicPr/>
          <p:nvPr/>
        </p:nvPicPr>
        <p:blipFill>
          <a:blip r:embed="rId1"/>
          <a:stretch/>
        </p:blipFill>
        <p:spPr>
          <a:xfrm>
            <a:off x="0" y="3933720"/>
            <a:ext cx="2266920" cy="2924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эв\Desktop\Азербайджан - презентация\x_5acf1e0cc2.jpg"/>
          <p:cNvPicPr/>
          <p:nvPr/>
        </p:nvPicPr>
        <p:blipFill>
          <a:blip r:embed="rId2"/>
          <a:stretch/>
        </p:blipFill>
        <p:spPr>
          <a:xfrm>
            <a:off x="2268360" y="3933720"/>
            <a:ext cx="2124360" cy="292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:\Users\эв\Desktop\Азербайджан - презентация\z_a0e8b1ea.jpg"/>
          <p:cNvPicPr/>
          <p:nvPr/>
        </p:nvPicPr>
        <p:blipFill>
          <a:blip r:embed="rId3"/>
          <a:stretch/>
        </p:blipFill>
        <p:spPr>
          <a:xfrm>
            <a:off x="6659640" y="3933720"/>
            <a:ext cx="2484360" cy="292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C:\Users\эв\Desktop\Азербайджан - презентация\z_3fc46cb6.jpg"/>
          <p:cNvPicPr/>
          <p:nvPr/>
        </p:nvPicPr>
        <p:blipFill>
          <a:blip r:embed="rId4"/>
          <a:stretch/>
        </p:blipFill>
        <p:spPr>
          <a:xfrm>
            <a:off x="4356000" y="3933720"/>
            <a:ext cx="237816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Баку, Девичья Башн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6" name="Picture 5" descr="C:\Users\эв\Desktop\Азербайджан - презентация\y_a8048384.jpg"/>
          <p:cNvPicPr/>
          <p:nvPr/>
        </p:nvPicPr>
        <p:blipFill>
          <a:blip r:embed="rId1"/>
          <a:stretch/>
        </p:blipFill>
        <p:spPr>
          <a:xfrm>
            <a:off x="250920" y="1484280"/>
            <a:ext cx="4392360" cy="537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C:\Users\эв\Desktop\Азербайджан - презентация\y_0afb5efe.jpg"/>
          <p:cNvPicPr/>
          <p:nvPr/>
        </p:nvPicPr>
        <p:blipFill>
          <a:blip r:embed="rId2"/>
          <a:stretch/>
        </p:blipFill>
        <p:spPr>
          <a:xfrm>
            <a:off x="4643280" y="1484280"/>
            <a:ext cx="450072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Политическое устройств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0560" y="836640"/>
            <a:ext cx="4033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яя полит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й государства является президент. Азербайджан — президентская республика. Президент избирается всенародным голосованием на 5 лет и назначает всех правительственных чиновник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ий законодательный орган Азербайджана — однопалатное Национальное Собрание (125 депутатов), избираемое всенародным голосованием на пятилетний срок по одномандатным округ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140000" y="764640"/>
            <a:ext cx="5003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яя политика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дипломатические отношения Азербайджан поддерживает с Израилем, Ираном, Казахстаном, США, Россией, Турцией, Италией. Азербайджан участвует во многих мировых и региональных международных организациях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Н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Г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неприсоедин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ЭС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черноморского экономического сотрудничеств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сламская конферен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юркский сове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 НАТО Партнёрство во имя ми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C:\Users\эв\Desktop\Азербайджан - презентация\Azerbaijan_Armed_Forces.png"/>
          <p:cNvPicPr/>
          <p:nvPr/>
        </p:nvPicPr>
        <p:blipFill>
          <a:blip r:embed="rId1"/>
          <a:stretch/>
        </p:blipFill>
        <p:spPr>
          <a:xfrm>
            <a:off x="250920" y="0"/>
            <a:ext cx="2340000" cy="981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Вооружённые силы Азербайджан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армия Азербайджа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НАА) — государственная военная организация, предназначенная для вооружённой защиты свободы, независимости и территориальной целостности Азербайджанской Республики. Состоит из сухопутных войск, военно-воздушных сил, войск противовоздушной обороны и военно-морских си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ём Азербайджанской армии считается 26 июня 1918, года однако современные вооружённые силы появились в годы Карабахской войны на основе объединения местных городских ополчений «отрядов самообороны». 9 октября 1991 года был издан указ о создании армии в трёхмесячный срок, однако реально армия была создана лишь к концу 1993 г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омента создания армия Азербайджана тесно сотрудничает с Вооружёнными силами Турции в сфере поставок оружия. Также НАА сотрудничает с ВС Израиля, Украины, США, Пакиста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4" descr="C:\Users\эв\Desktop\Азербайджан - презентация\Azerbaijan_Armed_Forces.png"/>
          <p:cNvPicPr/>
          <p:nvPr/>
        </p:nvPicPr>
        <p:blipFill>
          <a:blip r:embed="rId2"/>
          <a:stretch/>
        </p:blipFill>
        <p:spPr>
          <a:xfrm>
            <a:off x="6588000" y="0"/>
            <a:ext cx="234000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C:\Users\эв\Desktop\Азербайджан - презентация\Azerbaijan_Armed_Forces.png"/>
          <p:cNvPicPr/>
          <p:nvPr/>
        </p:nvPicPr>
        <p:blipFill>
          <a:blip r:embed="rId1"/>
          <a:stretch/>
        </p:blipFill>
        <p:spPr>
          <a:xfrm>
            <a:off x="250920" y="0"/>
            <a:ext cx="2340000" cy="981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Вооружённые силы Азербайджан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7" name="Picture 4" descr="C:\Users\эв\Desktop\Азербайджан - презентация\Azerbaijan_Armed_Forces.png"/>
          <p:cNvPicPr/>
          <p:nvPr/>
        </p:nvPicPr>
        <p:blipFill>
          <a:blip r:embed="rId2"/>
          <a:stretch/>
        </p:blipFill>
        <p:spPr>
          <a:xfrm>
            <a:off x="6588000" y="0"/>
            <a:ext cx="2340000" cy="9810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6" descr="800px-Special_forces_azerbaijan (1).png"/>
          <p:cNvPicPr/>
          <p:nvPr/>
        </p:nvPicPr>
        <p:blipFill>
          <a:blip r:embed="rId3"/>
          <a:stretch/>
        </p:blipFill>
        <p:spPr>
          <a:xfrm>
            <a:off x="684360" y="1557360"/>
            <a:ext cx="7991280" cy="514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ГЕНОЦИД В ХОДЖАЛЫ - одно из самых чудовищных преступлений ХХ век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105520" y="1599840"/>
            <a:ext cx="40384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результат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ито 613 человек, из них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- 63; женщин - 106, пожилых - 70 челове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семей уничтожены полность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детей потеряли обоих родителе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 детей потеряли одного родител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но - 487 человека, из них, детей - 76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побывавшие в заложниках - 1275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ло без вести - 150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599840"/>
            <a:ext cx="4825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чь с 25 февраля на 26-е 1992 года армянские вооруженные формирования при поддержке тяжелой техники и личного состава 366-го мотострелкового полка бывшего СССР, расквартированного в городе Ханкенди осуществили захват города Ходжал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урму города предшествовал массированный обстрел из артиллерийских орудий, тяжелой военной техники, начатый еще вечером 25 феврал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этого, несмотря на то, что город уже был объят пламенем ,вооруженные формирования с особой жестокостью учинили расправу над мирным населением гор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ГЕНОЦИД В ХОДЖАЛЫ - одно из самых чудовищных преступлений ХХ век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484280"/>
            <a:ext cx="9144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ыглядываю в круглое окошко (вертолёта) и буквально отшатываюсь от неправдоподобно страшной картины. На жёлтой траве предгорья, где в тени ещё дотаивают серые лепёшки снега, остатки зимних сугробов, лежат мёртвые люди. Вся эта громадная площадь до близкого горизонта усеяна трупами женщин, стариков, старух, мальчиков и девочек всех возрастов, от грудного младенца до подростка.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 вырывает из месива тел две фигурки — бабушки и маленькой девочки. Бабушка, с седой непокрытой головой, лежит лицом вниз рядом с крошечной девочкой в голубой курточке с капюшоном. Ноги у них почему-то связаны колючей проволокой, а у бабушки связаны ещё и руки. Обе застрелены в голову. Последним жестом маленькая, лет четырёх, девочка протягивает руки к убитой бабушке. Ошеломлённый, я даже не сразу вспоминаю о камер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й телерепортёр Юрий Романов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2" descr="C:\Users\эв\Desktop\Азербайджан - презентация\447.jpg"/>
          <p:cNvPicPr/>
          <p:nvPr/>
        </p:nvPicPr>
        <p:blipFill>
          <a:blip r:embed="rId1"/>
          <a:stretch/>
        </p:blipFill>
        <p:spPr>
          <a:xfrm>
            <a:off x="5219640" y="4869000"/>
            <a:ext cx="1882800" cy="1989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эв\Desktop\Азербайджан - презентация\444.jpg"/>
          <p:cNvPicPr/>
          <p:nvPr/>
        </p:nvPicPr>
        <p:blipFill>
          <a:blip r:embed="rId2"/>
          <a:stretch/>
        </p:blipFill>
        <p:spPr>
          <a:xfrm>
            <a:off x="7093080" y="4869000"/>
            <a:ext cx="2050920" cy="198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Users\эв\Desktop\Азербайджан - презентация\xocali-3.jpg"/>
          <p:cNvPicPr/>
          <p:nvPr/>
        </p:nvPicPr>
        <p:blipFill>
          <a:blip r:embed="rId3"/>
          <a:stretch/>
        </p:blipFill>
        <p:spPr>
          <a:xfrm>
            <a:off x="3348000" y="4869000"/>
            <a:ext cx="1871640" cy="198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C:\Users\эв\Desktop\Азербайджан - презентация\events_03_1.jpg"/>
          <p:cNvPicPr/>
          <p:nvPr/>
        </p:nvPicPr>
        <p:blipFill>
          <a:blip r:embed="rId4"/>
          <a:stretch/>
        </p:blipFill>
        <p:spPr>
          <a:xfrm>
            <a:off x="1908000" y="4869000"/>
            <a:ext cx="1511640" cy="1989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эв\Desktop\Азербайджан - презентация\1298607480_xocali-8.jpg"/>
          <p:cNvPicPr/>
          <p:nvPr/>
        </p:nvPicPr>
        <p:blipFill>
          <a:blip r:embed="rId5"/>
          <a:stretch/>
        </p:blipFill>
        <p:spPr>
          <a:xfrm>
            <a:off x="250920" y="4869000"/>
            <a:ext cx="1728720" cy="198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6"/>
          <p:cNvSpPr/>
          <p:nvPr/>
        </p:nvSpPr>
        <p:spPr>
          <a:xfrm>
            <a:off x="6875640" y="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79280" y="519588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ЗЕРБАЙДЖА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зерб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ərbaycan Respublikas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— государство в юго- западной части Азии.  Дата независимости 28 мая 1918 (от СССР: 18 октября 199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чит с Россией и Грузией на севере, Арменией на западе ,Ираном на юге и Турцией на западе. Нахичеванская Автономна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 — эксклав Азербайджан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Азербайджана - 86,6 тыс. кв. к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амая крупная из республик Закавказь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C:\Users\эв\Desktop\800px-Un-azerbaijan.png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5157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ГЕРБ И ФЛАГ АЗЕРБАЙДЖАН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Содержимое 7" descr="800px-Flag_of_Azerbaijan.svg.png"/>
          <p:cNvPicPr/>
          <p:nvPr/>
        </p:nvPicPr>
        <p:blipFill>
          <a:blip r:embed="rId1"/>
          <a:stretch/>
        </p:blipFill>
        <p:spPr>
          <a:xfrm>
            <a:off x="468360" y="1557360"/>
            <a:ext cx="3809880" cy="367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Users\эв\Desktop\Азербайджан - презентация\275px-Coat_of_arms_of_Azerbaijan.svg.png"/>
          <p:cNvPicPr/>
          <p:nvPr/>
        </p:nvPicPr>
        <p:blipFill>
          <a:blip r:embed="rId2"/>
          <a:stretch/>
        </p:blipFill>
        <p:spPr>
          <a:xfrm>
            <a:off x="4859280" y="155736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2"/>
          <p:cNvSpPr/>
          <p:nvPr/>
        </p:nvSpPr>
        <p:spPr>
          <a:xfrm>
            <a:off x="250920" y="53802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лаг и Герб был утверждён 1918 года в качестве государственного флага Азербайджанской Демократической Республики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обретения независимости в 1991 году флаг 5 февраля был утверждён в качестве государственного флага Азербайджанской Республи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нтракт ве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сентября 1994 года во дворце «Гюлистан», в Баку было заключено соглашение, которое ввиду его огромной значимости получило название «Контракт века». «Контракт Века» вошёл в список самых крупных соглашений как по количеству углеводородных запасов, так и по общему объёму предполагаемых инвестиций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«Контракта века» 80 % от общей чистой прибыли достается Азербайджану, а оставшиеся 20 % — инвестиционным компания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2" descr="C:\Users\эв\Desktop\Азербайджан - презентация\Esrin_Mugavilesi.jpg"/>
          <p:cNvPicPr/>
          <p:nvPr/>
        </p:nvPicPr>
        <p:blipFill>
          <a:blip r:embed="rId1"/>
          <a:stretch/>
        </p:blipFill>
        <p:spPr>
          <a:xfrm>
            <a:off x="611280" y="3860640"/>
            <a:ext cx="7921440" cy="2997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Столица государства – Ба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ербайдж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ально-аграрная страна с высокоразвитой промышленностью и многоотраслевым сельским хозяйством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ее место в хозяйстве Азербайджана занимают  нефте- и газодобывающая, нефтеперерабатывающая, химическая,машиностроительная, горнорудная промышленность (добыча железной руды и алунита) и цветная металлургия, разнообразные отрасли пищевой (консервная, чайная, табачная, винодельческая) и лёгкой (хлопкоочистительная, хлопчатобумажная, шёлковая, шерстяная, ковроткацкая) промышлен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ербайджан в последние годы лидирует среди стран СНГ по темпам экономического роста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3—2008 годах ВВП Азербайджана вырос в 2,6 раза; уровень бедности в государстве, с 2003 года, снизился с 45 до 11 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й рост продолжается непрерывно с 1996 года; в течение десяти лет экономика Азербайджана в среднем прибавляла по 13,6 % ежегодно (по сравнению с 1995 годом размер ВВП увеличился в 8,4 раза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109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Экономика. </a:t>
            </a:r>
            <a:br>
              <a:rPr sz="3200"/>
            </a:br>
            <a:r>
              <a:rPr b="0" i="1" lang="ru-RU" sz="3200" spc="-1" strike="noStrike">
                <a:solidFill>
                  <a:srgbClr val="999900"/>
                </a:solidFill>
                <a:latin typeface="Garamond"/>
              </a:rPr>
              <a:t>Национальный Банк Азербайджан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C:\Users\эв\Desktop\Азербайджан - презентация\Azeri_Square.JPG"/>
          <p:cNvPicPr/>
          <p:nvPr/>
        </p:nvPicPr>
        <p:blipFill>
          <a:blip r:embed="rId1"/>
          <a:stretch/>
        </p:blipFill>
        <p:spPr>
          <a:xfrm>
            <a:off x="1116000" y="1484280"/>
            <a:ext cx="626436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7" name="Содержимое 7" descr="800px-1-manat_front.jpg"/>
          <p:cNvPicPr/>
          <p:nvPr/>
        </p:nvPicPr>
        <p:blipFill>
          <a:blip r:embed="rId1"/>
          <a:stretch/>
        </p:blipFill>
        <p:spPr>
          <a:xfrm>
            <a:off x="395280" y="1916280"/>
            <a:ext cx="6624720" cy="28796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8"/>
          <p:cNvSpPr/>
          <p:nvPr/>
        </p:nvSpPr>
        <p:spPr>
          <a:xfrm>
            <a:off x="179280" y="482616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нат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(азерб. 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Manat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 — официальная денежная единица Азербайджанской Республики, равный 100 гяпикам (азерб. 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qəpik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зербайджанский манат дважды подвергался деноминации — в 1992-м и 2006-м годах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ин азербайджанский манат равен примерно одному евр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395280" y="1484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Валю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560" y="1412640"/>
            <a:ext cx="88930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ербайджан поставляет в другие страны продукцию химической и топливной промышленности, цветной и чёрной металлургии, лёгкой промышленности . Из других стран в Азербайджан ввозится в основном готовая продукция: станки, различные сельскохозяйственные машины, автомобили, одежда, продовольственные товары.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ВВП Азербайджана по большей части обеспечивается за счёт увеличения добычи и экспорта углеводородного сырь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395280" y="1052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Промышл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2" descr="C:\Users\эв\Desktop\Азербайджан - презентация\800px-Oil_Rocks_near_Baku.jpg"/>
          <p:cNvPicPr/>
          <p:nvPr/>
        </p:nvPicPr>
        <p:blipFill>
          <a:blip r:embed="rId1"/>
          <a:stretch/>
        </p:blipFill>
        <p:spPr>
          <a:xfrm>
            <a:off x="250920" y="3645000"/>
            <a:ext cx="8893080" cy="321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Экономика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560" y="1915920"/>
            <a:ext cx="8893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е хозяйство специализируется, в основном, на виноградарстве, садоводстве, табаководстве, овощеводстве, животноводстве и шелководстве. Главные технические культуры — хлопчатник, табак, чай. Развито раннее овощеводство, субтропическое плодоводство. Главные отрасли животноводства — овцеводство, молочно-мясное скотоводство, птицеводство, шелководств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468360" y="1557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Сельск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2" descr="C:\Users\эв\Desktop\Азербайджан - презентация\z_40036692.jpg"/>
          <p:cNvPicPr/>
          <p:nvPr/>
        </p:nvPicPr>
        <p:blipFill>
          <a:blip r:embed="rId1"/>
          <a:stretch/>
        </p:blipFill>
        <p:spPr>
          <a:xfrm>
            <a:off x="684360" y="3789360"/>
            <a:ext cx="7920000" cy="2889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4:13:04Z</dcterms:created>
  <dc:creator>Teymur</dc:creator>
  <dc:description/>
  <dc:language>en-US</dc:language>
  <cp:lastModifiedBy>эв</cp:lastModifiedBy>
  <dcterms:modified xsi:type="dcterms:W3CDTF">2012-02-20T09:30:27Z</dcterms:modified>
  <cp:revision>61</cp:revision>
  <dc:subject/>
  <dc:title>Азербайджан</dc:title>
</cp:coreProperties>
</file>