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80-32FA-4F74-8A30-DB8942F4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6DD-3873-45DC-9162-3FBA609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750-22BE-44D1-A22E-8CD41F7C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B00-E638-4678-B270-60CD4B54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F95-2DD3-495D-A092-0330D899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CD9-6483-4095-9CC6-8604EDEC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EBD-9C87-433E-B387-FF48EBA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FFCF-5D28-4B76-B00E-455AEE3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5C8-4AF1-4026-AD63-CB1881CD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345-59BE-4DA2-8DA7-E315C1C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189C-A108-4AB8-B86C-0F80D1D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9A5-ED59-48D8-8632-1A90A7E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ABA-4336-4D63-B262-2C94BBB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792-5555-40C8-927A-4BD7D19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AD8D-18FE-4F6B-B887-AC8AAAD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1FA-E38B-449E-A18E-EE2CF66C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D46-97A7-4DA6-8751-65085E61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98F8-9C2A-48F5-9CF0-31FA7DB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0317-D85B-46D1-8774-3DFEA5F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68DA-C482-4A0B-BF77-31A98A7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B239-5667-4055-9EF1-A605E00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6931-8EA4-442F-BF5F-F75FD8E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758-297E-4905-ABF9-B1F62341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BF72-8AD1-4625-B889-ADD8EF9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169A-7D83-4718-AD62-EE3E365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6A48-BC1B-4C9C-8F4C-16A0FCC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F9F9-C500-4BA6-A1F9-E9EB1CA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A3B1-9610-4D43-92AA-30664E3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AE1E-FEEA-4C50-A43D-700B86E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80A4-7251-4F3C-98BD-DB50F047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5EE4-A791-46FE-807B-CAFA9997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4F4E-576D-441B-BAB8-07BEC036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C8F4-5DFF-4E0F-9C99-3F0BB279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67D-68AA-40F8-B05D-64A88E4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9B81-1B16-488C-97CD-B5D84AC2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BCD0-D6A4-4A80-B69E-097202D3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904F-C8AB-4AA8-B935-2731EF4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4DAF-50B5-4C95-9F22-E5A96E4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7E54-48BB-4DA3-99EC-9539DCC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7A90-0534-4B92-8FF5-32801D9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08F7-038D-4159-948F-4AC9B89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E052-E844-41AF-823D-6482E7E5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0891-DCF4-4B24-AE5C-88F947A3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AE593-2B38-46CA-9DF6-FA4D4A44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884-3934-46B1-8923-3161038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D7AC-9623-40C6-ABBA-88EEFC7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3DF9-243B-4019-86C8-9439CD7A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08C7-E5D5-4573-A5B9-DC11899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F01F-1931-4799-A3C1-005ED17F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D05F-BF65-43BE-8780-6E9D0D8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9E85-BD36-4135-A137-EC650B2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FB11C-6449-4313-A274-E84484B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B097-B05D-4042-9289-91963EEE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ADC8-51DD-4014-ABA2-ACAEF4DE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EEAA-6C4B-49FD-96B6-43EBDDEB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76A-C02B-4267-8C47-6A36896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CDAF-0A1E-42B4-80F6-B17BA9B9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4C07-E9A7-4F8F-AA76-0403CB81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FF00-76B4-453A-9BA0-149DC89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43BB-CFF3-4686-83AA-28CCC418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81F9-69D2-4335-94EB-CED295C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29B7F-1C72-408E-8CBA-841B32A0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1FC6-4FC9-4774-B3F1-4170DC4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D52B-E1E6-4804-B247-7C93680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6CAE-CB69-489C-A15A-2241594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CDF5-3D50-48FC-BBED-562D713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C38-95FC-4C47-81C3-E77B75C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DAA4-374A-4766-A1D3-A321408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7A3E-361F-4C50-B956-FCD5AE18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5FED-3027-427E-A65B-4F7D8B08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85A9-450C-458A-B070-DC5867C3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5F98-CE22-47A9-BDF2-478E9F6D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292A-1A84-4F8C-840A-C82808EE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7C19-3689-421B-9A19-63CA02C9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E30A-FB2B-4EE8-8C79-C05D721A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A1BC-9949-4F14-A19D-4900648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08E3-858F-4D92-B117-05548ED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39B-6500-49B6-8189-B362967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33D36-89BA-4A51-A9DA-BEE7E24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EE3E-F5A6-4066-9530-2113F30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F94C5-9853-4C69-893E-E260ACEF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C618-4A0E-42EC-AC3A-553186C0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EE67-8905-4ED1-B0CD-9320D00B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704-58C3-4DE8-BDA6-D9263D0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55DA-9E46-49BF-BB75-F0231B9FAF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6E86-FD4C-4343-AF9E-0D0C0FBC70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2271-902C-43D1-AC27-13D7A9CE26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464-D8F2-4D01-BC1D-848058C917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0BA-664E-43A5-8B53-E3320401B9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CDB-9A0D-45F7-89EA-F9031A5B34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C6A-6E1A-43B9-86B7-4F16B49696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357720" y="478620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: учитель начальных классов МОБУ Гимназии №17  г. Белорецка 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ненкова Елена Вале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5214960" y="285840"/>
            <a:ext cx="3370320" cy="34020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714680" y="47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>Admin</dc:creator>
  <dc:description/>
  <dc:language>en-US</dc:language>
  <cp:lastModifiedBy>Николай</cp:lastModifiedBy>
  <dcterms:modified xsi:type="dcterms:W3CDTF">2012-10-29T08:24:04Z</dcterms:modified>
  <cp:revision>49</cp:revision>
  <dc:subject/>
  <dc:title>Слайд 1</dc:title>
</cp:coreProperties>
</file>