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D7B-B566-4965-8620-911A3246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B2A-83C7-4326-BC61-EDB37A4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5A1-6F3C-476E-B176-7AF869B4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CBD-E4F1-4B6C-BABC-F2D6BC81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46C4-C21E-47A1-9A2A-C03D5512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823B-A6AB-49A5-AF9C-5FCA161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5EC4-5834-4F76-9C3A-5CC9A84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4C04-C200-48BD-B0F2-6448AC47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93AE-7EE8-4A8C-B459-943E07E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2C05-DFDA-4895-AEC3-880A7C24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509B-F907-423F-B944-C8975A5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F20-E747-4495-9487-DEDA9AD4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8803-5A2A-4A4A-BD23-420A32D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3DBC-382F-4347-8555-1E8E2B5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20B8-3373-475F-BF90-A57F4B5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92D-59BB-44D7-BDB2-1FC4EA15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7A7-6FE2-41D8-952A-22A9E99D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16A7-0DED-406B-94C1-2D571B31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8820-8139-4D2E-A46C-09DEE8D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333F-403E-432E-8EDC-DC5D78A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CC3C-BE5E-4237-BC6C-F195606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803C-B60A-451E-B1D0-E646C81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ECD-E273-4BDF-8ABE-12DB21F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15B3-3BCD-46C0-9157-2900D856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030B-598C-4C28-B8A7-DAE748B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F531-2DE8-4072-A607-FD11029D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7ABE-5B4D-4025-841C-31C0A54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D9AA-C06E-4202-84CE-5B8EC82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5078-2F9E-4E3C-9BEE-55DF0B75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7BB4-C5A8-4B5F-8E4C-63298AA2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E4A8-506F-412A-B95F-FAB66954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4B75-7CFA-435F-A413-2CBD698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D25E-3DF0-4206-967B-B4B52C1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2E3-2B54-4F66-9AB6-1CB520B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94F8-36EC-45C1-8EDF-B34DCE3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82B5-E3D4-4429-86AF-5A6C15C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183C-6FED-45CE-8BB1-B965DF2D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C728-5D11-49AC-92B0-C1BD298A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4400-F430-4968-87AF-60ACC1FA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8B87-727D-4D25-BCD2-684570E3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F4C2-18D9-4234-983E-D011DD39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DE92-F042-4F85-91ED-8B41BAD7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19B0-037F-41F6-8F46-B76B4782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4A48-4B60-4AB5-BF51-EA4EA952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0C4-F2B2-4A15-873B-13154F7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00767-D00C-430D-8B6D-DB73B9E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0642E-FE39-4DBB-9B7D-AE35649C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E6CA-D331-4AED-B5B9-DAAC2FD2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ED06-3C34-47A5-8AAE-49D3A93B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7344-F7D1-4507-85C6-CEDDA9C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0865-A761-4176-A3EF-E9C7BF4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40FF-5C6A-4A33-8E49-1960AE4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F9ED-97F8-443D-9432-7161923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24CA9-570B-4185-A64B-C3B0058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3FE5-BA3D-48E2-861B-A67B8B89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640-8F48-42DF-9D9C-E21DCCC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E60C-BEF3-4D36-B645-65CE6547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50C0-4137-4CDA-8A0D-F121B6B2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3349E-0F53-48A2-955E-1FD3AD8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74C0E-2B46-4521-A84B-D0A2BEA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DE63-0C90-454A-8405-10BB619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7853-201F-478E-BEAB-971510D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BDBC-DA98-4A67-8493-EC5E3D4F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8477-17EF-4E4D-A1EA-A74C5F2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39B3-A912-459A-8504-0804F53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AC9C-E50E-484B-94C5-BE3883C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74F-2890-40BB-BE27-F9C7FC8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6A46-36DD-4143-A06B-FEBC04A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2224-A81E-4B4C-9529-65E2A20E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50C2-1195-452B-8DB1-C6EE1D4E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D2FF-BF0D-4BB2-A40D-9AA3A7CB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7860-1F81-48FA-BF1C-A0184259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E0ADA-E4B2-4AA4-BDCC-2B68D86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F8D92-4D30-48EC-93B4-C595A6F8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5F2A1-7E61-4C74-A30D-52C67DA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4D03F-CAD6-4D6C-9AB1-D3723691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45650-06B8-43A3-81F7-C28AC99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162-AC54-4C82-A402-9C26768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D3BA-B9ED-4FE7-AC7C-DC38557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B8CB-C47B-4044-8EB3-A92F7B1B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C1E3-2991-4834-A90A-A99CB42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AEBBD-5317-403D-97EB-B9943CBD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EAAF-3BC6-479F-9C31-ECBC8CDB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736-0325-4B65-A10B-EA735C1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0317-D4FE-403F-BF87-1CF0FB4074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087F-10AB-49F8-AD7F-EB4430A89C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C96-4974-4C57-9D7B-3841832B12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EFE0-3FF3-4582-9351-FBFC631943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DD8D-6722-42AB-B2DF-903FF0010F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1BA-E6AD-4E6D-9B07-2E037A7061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7202-85A1-4ED0-9143-1890710836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3357720" y="478620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: учитель начальных классов МОБУ Гимназии №17  г. Белорецка 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ненкова Елена Вале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5214960" y="285840"/>
            <a:ext cx="3370320" cy="34020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1714680" y="4786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>Admin</dc:creator>
  <dc:description/>
  <dc:language>en-US</dc:language>
  <cp:lastModifiedBy>Николай</cp:lastModifiedBy>
  <dcterms:modified xsi:type="dcterms:W3CDTF">2012-10-29T08:24:04Z</dcterms:modified>
  <cp:revision>49</cp:revision>
  <dc:subject/>
  <dc:title>Слайд 1</dc:title>
</cp:coreProperties>
</file>