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5.jpeg" ContentType="image/jpeg"/>
  <Override PartName="/ppt/media/image32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17D-1A34-42C8-AEB7-2A059322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C0B-D246-4EF7-97CE-03CAAE58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24D-2958-4748-B693-08E4E760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A37-BDDB-4E1E-A926-2F30B085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8FF1-52B7-4600-AAE9-4502DD4C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913-D530-4F37-ADE6-CE21B69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8C92-9E60-42DB-8AA9-6C1FF9A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88CC-D510-4021-8951-7E4398D2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03C1-322E-45C2-938C-582651CC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362F-FB57-44C1-B9D1-19113C20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1C77-CE01-408D-9490-4F7A98F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B8C-945A-4F42-A7F3-95A284EA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DA14-1007-4BA1-9F0D-578D1A6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9F0C-601D-4115-B8AA-C26B547F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305-F110-498A-A5DB-4A9A267C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887-F6CE-4FF3-88CF-7AF2CB29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4B30-92F2-4A01-9097-7F43E897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554E-1976-418C-8C0A-4DC47328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FE2D-763C-4785-BC4E-D9F2A0B6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380F-89FD-4509-9BB6-E4A5BB8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F6F5-E90B-40F6-8E04-7CCFFDA2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6BF9-A19F-40D5-A43C-11217E1F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9C5-6F8A-49B5-8FFD-BC0D742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1DA4-B43F-478C-B46E-79200FB3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8CDE-28C4-49A5-8479-2BF1837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5998-C2F7-4CB2-872D-3E7EC2D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9F55-808B-4D0B-BB9C-47CA354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2853-EB29-4260-A633-2C4919BE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B96F-20F2-433B-A040-02ABF770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27DC-9E4E-48AF-A275-87A3DFD9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CCD0-AC26-433D-ADAE-BBFFA532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8E5B-357D-491F-8319-C7BE9A92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A97F7-FCDD-455B-B3DC-C419D89C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E7D-4CA5-4986-B0D3-3F652EB9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D1BF-5967-43CC-94AE-0EA25420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FD09-574F-4A66-8AD3-26EC989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52DB-32A1-402C-AB69-D4B67A38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1ADF-6334-46D4-B1E4-A8F016B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6A9BF-0FF1-444A-B07B-66BCAC5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972D-0761-49D9-ADB4-B4D7ADC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4F7B-A931-4372-BA2A-A24C38E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67EF-58BC-4E15-823F-F5EF22D6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D663A-BE16-488E-863C-9B03EA5C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B918-008A-4CB9-B694-29E94713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F54-3B45-4FD9-B553-20313F25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10DC-B7FB-45A2-B0D2-895C51D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02F3-0ABC-4F31-8773-88E2809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1993-B5C6-43EB-9087-ABEEB51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74458-FA51-4BBC-918D-51EE585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9291-A8A4-4207-B508-1D722E72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15AA-A9CF-4FD8-A78A-2A69CD4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0762-B2B5-4C59-AAE9-F6A6FFF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7195D-99B6-407E-BD68-2B10AAD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D81EC-BCCB-415D-B5F9-51E0B4C4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3C5A-DA80-4ABF-97DA-577A4878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0A4-7DFA-4400-B0A1-07A23FCF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7A521-A44A-48BE-B2FC-066F31B0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667F-D647-4225-A63D-6CBACE1E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0004-A8E2-4188-8D7C-BB71928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2052C-0784-454A-8600-ADC3B3C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F19A6-C858-4B85-BF5C-A054DD4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6B23E-1487-4026-9137-6D58E8CF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8A46-0827-424E-97B6-48DCBFF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4086-9C91-477F-BB89-2528BA4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7B7C-C485-47F0-BDA7-CAAD2D4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B7191-B36C-4FB9-932A-20413A37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719-133E-4657-8A75-E43944F8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D473-24F1-4EC8-8C8A-56D076AB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F4B21-EC31-4376-AED1-B6083AD3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07EC-F424-4EDF-B1D3-DEC95F8A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B587F-4248-4A18-9EB8-8CAADB7C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33663-F343-4F6F-BEE3-4F2AC8A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3B86-87C4-4393-AC27-DE1EFA61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544AD-2951-49CA-9444-11215C2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18CE-F404-4F14-A834-424EE76D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048BD-7C22-495D-AE57-B42DC90C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4CDF-9B7E-494E-BBE6-028B295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409-398F-45B4-8F1A-F1CF1A59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AF0E4-9A2D-4A39-9277-49FFF9A9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E0A8-75EC-4F92-96FB-2E9D770A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E9E89-3BE6-432C-903A-1631C657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1991-D58A-4878-93AD-851387A9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8BF3E-6230-4A1B-A0F0-BD438591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294-DA8B-43D2-A4FD-D7824E39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8369-2380-4B8F-8E19-7FA0C1DCEB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F54B-E51C-4FB8-A516-496C35974A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44C4-3AC1-4943-9C67-B57843C786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DF6-2FD1-4B80-8F44-78508EF026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BFB-C0D2-49FA-98B0-039D6A9BE4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36C3-5213-4C95-B4BB-B973F12600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3D67-DBCD-4164-9B18-DB58C9B9BB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umbe_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3"/>
          <p:cNvSpPr/>
          <p:nvPr/>
        </p:nvSpPr>
        <p:spPr>
          <a:xfrm>
            <a:off x="1785960" y="1500120"/>
            <a:ext cx="62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збу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3357720" y="478620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: учитель начальных классов МОБУ Гимназии №17  г. Белорецка Р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ненкова Елена Вале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5" descr="золушка.bmp"/>
          <p:cNvPicPr/>
          <p:nvPr/>
        </p:nvPicPr>
        <p:blipFill>
          <a:blip r:embed="rId1"/>
          <a:stretch/>
        </p:blipFill>
        <p:spPr>
          <a:xfrm>
            <a:off x="5500800" y="28584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1643040" y="357120"/>
            <a:ext cx="292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1357200" y="47980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олуш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любимая падчерица, героиня одноименной сказки Ш.Пер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500120" y="785880"/>
            <a:ext cx="20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1643040" y="4218840"/>
            <a:ext cx="70722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ушка - дурачо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ерой русских народных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5" descr="kolobok.jpg"/>
          <p:cNvPicPr/>
          <p:nvPr/>
        </p:nvPicPr>
        <p:blipFill>
          <a:blip r:embed="rId1"/>
          <a:stretch/>
        </p:blipFill>
        <p:spPr>
          <a:xfrm>
            <a:off x="5143680" y="50004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"/>
          <p:cNvSpPr/>
          <p:nvPr/>
        </p:nvSpPr>
        <p:spPr>
          <a:xfrm>
            <a:off x="1285920" y="392904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обо́к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одноимённой русской народной сказки, изображаемый в виде небольшого хлеба сферической формы жёлтого цвета, который принял сказочный образ говорящего существ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1285920" y="450072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унт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лавный герой мультипликационного телесериала «Приключения Лунти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Лунтика 12 апр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одержимое 5" descr="лунтик.jpg"/>
          <p:cNvPicPr/>
          <p:nvPr/>
        </p:nvPicPr>
        <p:blipFill>
          <a:blip r:embed="rId1"/>
          <a:stretch/>
        </p:blipFill>
        <p:spPr>
          <a:xfrm>
            <a:off x="5072040" y="428760"/>
            <a:ext cx="3714840" cy="378612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1500120" y="5000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1285920" y="492912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о́скин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мышленный кот, популярный персонаж произведений детского писателя Эдуарда Успен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Содержимое 5" descr="матроскин.jpg"/>
          <p:cNvPicPr/>
          <p:nvPr/>
        </p:nvPicPr>
        <p:blipFill>
          <a:blip r:embed="rId1"/>
          <a:stretch/>
        </p:blipFill>
        <p:spPr>
          <a:xfrm>
            <a:off x="4429080" y="500040"/>
            <a:ext cx="4500720" cy="4168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1500120" y="50004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357720" cy="3929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1071720" y="424440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знай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едставитель племени маленьких человечков — коротышек, — известный прежде всего как литературный персонаж трилогии Николая Нос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571760" y="50004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"/>
          <p:cNvPicPr/>
          <p:nvPr/>
        </p:nvPicPr>
        <p:blipFill>
          <a:blip r:embed="rId1"/>
          <a:stretch/>
        </p:blipFill>
        <p:spPr>
          <a:xfrm>
            <a:off x="4929120" y="285840"/>
            <a:ext cx="4002120" cy="37861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"/>
          <p:cNvSpPr/>
          <p:nvPr/>
        </p:nvSpPr>
        <p:spPr>
          <a:xfrm>
            <a:off x="1285920" y="4169160"/>
            <a:ext cx="785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а́-Иа́  — персонаж книги Алана Милна «Винни-Пух».  Вечно печальный, пессимистически настроенный, пожилой серый ослик ,один из главных друзей главного персонажа —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1571760" y="571680"/>
            <a:ext cx="2643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" descr=""/>
          <p:cNvPicPr/>
          <p:nvPr/>
        </p:nvPicPr>
        <p:blipFill>
          <a:blip r:embed="rId1"/>
          <a:stretch/>
        </p:blipFill>
        <p:spPr>
          <a:xfrm>
            <a:off x="4643280" y="785880"/>
            <a:ext cx="3732480" cy="311940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1214280" y="50007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ятачо́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ленький поросенок, самый близкий друг Винни-П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571760" y="6429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Содержимое 10" descr="русалочка.jpg"/>
          <p:cNvPicPr/>
          <p:nvPr/>
        </p:nvPicPr>
        <p:blipFill>
          <a:blip r:embed="rId1"/>
          <a:stretch/>
        </p:blipFill>
        <p:spPr>
          <a:xfrm>
            <a:off x="4929120" y="428760"/>
            <a:ext cx="3903840" cy="37144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1285920" y="4578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ал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ероиня мифов, сказок, в образе девушки с длинными волосами и рыбьим хвостом, живущая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1714680" y="50004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1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917880" cy="3537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2"/>
          <p:cNvSpPr/>
          <p:nvPr/>
        </p:nvSpPr>
        <p:spPr>
          <a:xfrm>
            <a:off x="1214280" y="450072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шар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забавные круглые зверушки, живущие  в собственном вымышл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643040" y="5716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643200" cy="40719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643040" y="357120"/>
            <a:ext cx="25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1214280" y="464328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йбол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его настоящее имя - доктор Дулитл, и появился он на свет благодаря английскому писателю Хью Лофтин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"/>
          <p:cNvPicPr/>
          <p:nvPr/>
        </p:nvPicPr>
        <p:blipFill>
          <a:blip r:embed="rId1"/>
          <a:stretch/>
        </p:blipFill>
        <p:spPr>
          <a:xfrm>
            <a:off x="4929120" y="428760"/>
            <a:ext cx="3689280" cy="35766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1785960" y="35712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214280" y="42148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ультипликационный  кот серо-голубого окраса из мультсериала Том и Джерри, гоняющийся за мышонком Джер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Содержимое 4" descr="Удав.bmp"/>
          <p:cNvPicPr/>
          <p:nvPr/>
        </p:nvPicPr>
        <p:blipFill>
          <a:blip r:embed="rId1"/>
          <a:stretch/>
        </p:blipFill>
        <p:spPr>
          <a:xfrm>
            <a:off x="5072040" y="285840"/>
            <a:ext cx="3657600" cy="35002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1643040" y="500040"/>
            <a:ext cx="2357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1428840" y="407196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герой мульт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8 попугаев» , где длину задумчивого Удава измеряли в слонах, мартышках и попуга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" descr=""/>
          <p:cNvPicPr/>
          <p:nvPr/>
        </p:nvPicPr>
        <p:blipFill>
          <a:blip r:embed="rId1"/>
          <a:stretch/>
        </p:blipFill>
        <p:spPr>
          <a:xfrm>
            <a:off x="5429160" y="285840"/>
            <a:ext cx="3232080" cy="35719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178596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1071720" y="46432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о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есса из популярного мультфильма «Шрек». Родилась она в Великобри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"/>
          <p:cNvPicPr/>
          <p:nvPr/>
        </p:nvPicPr>
        <p:blipFill>
          <a:blip r:embed="rId1"/>
          <a:stretch/>
        </p:blipFill>
        <p:spPr>
          <a:xfrm>
            <a:off x="5429160" y="214200"/>
            <a:ext cx="3357720" cy="3038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1071720" y="34207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юш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детской телепередачи «Спокойной ночи, малыши!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рождения Хрюши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февраля 197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 — поросёнок. Хрюша часто шалит и попадает в неприятные ист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1714680" y="285840"/>
            <a:ext cx="314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Содержимое 4" descr="цар-лягушка.bmp"/>
          <p:cNvPicPr/>
          <p:nvPr/>
        </p:nvPicPr>
        <p:blipFill>
          <a:blip r:embed="rId1"/>
          <a:stretch/>
        </p:blipFill>
        <p:spPr>
          <a:xfrm>
            <a:off x="5072040" y="214200"/>
            <a:ext cx="3857760" cy="3429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2"/>
          <p:cNvSpPr/>
          <p:nvPr/>
        </p:nvSpPr>
        <p:spPr>
          <a:xfrm>
            <a:off x="1214280" y="37148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аре́вна - Лягу́ш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русских народных волшебных сказок. Иван-Царевич стрелял из лука, чтобы стрела привела его к невесте, но вместо девушки находит лягушку в болоте, которая держит его стре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1643040" y="357120"/>
            <a:ext cx="200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Рисунок 1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3375000" cy="32148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"/>
          <p:cNvSpPr/>
          <p:nvPr/>
        </p:nvSpPr>
        <p:spPr>
          <a:xfrm>
            <a:off x="785880" y="345348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бура́ш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ерсонаж кни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Успенского «Крокодил Ген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представляет собой существо с огромными ушами, большими глазами и коричневой шерстью, ходящее на задних лап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1571760" y="285840"/>
            <a:ext cx="2786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5072040" y="428760"/>
            <a:ext cx="3398760" cy="31334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2"/>
          <p:cNvSpPr/>
          <p:nvPr/>
        </p:nvSpPr>
        <p:spPr>
          <a:xfrm>
            <a:off x="1214280" y="3500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ре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громный зелёный великан, который живёт в одиночестве на болоте в окрестностях города-государства Далок, населённого людьми, животными, куклами  из разных европейских сказок и леге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428840" y="357120"/>
            <a:ext cx="357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4" descr="щука.bmp"/>
          <p:cNvPicPr/>
          <p:nvPr/>
        </p:nvPicPr>
        <p:blipFill>
          <a:blip r:embed="rId1"/>
          <a:stretch/>
        </p:blipFill>
        <p:spPr>
          <a:xfrm>
            <a:off x="5286240" y="357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1285920" y="438264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ук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есьма популярным персонажем русского фольклора, она фигурирует в пословицах ,сказках , баснях , рассказ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1785960" y="285840"/>
            <a:ext cx="30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" descr=""/>
          <p:cNvPicPr/>
          <p:nvPr/>
        </p:nvPicPr>
        <p:blipFill>
          <a:blip r:embed="rId1"/>
          <a:stretch/>
        </p:blipFill>
        <p:spPr>
          <a:xfrm>
            <a:off x="5214960" y="285840"/>
            <a:ext cx="3370320" cy="34020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1714680" y="42876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5"/>
          <p:cNvSpPr/>
          <p:nvPr/>
        </p:nvSpPr>
        <p:spPr>
          <a:xfrm>
            <a:off x="1714680" y="4786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ьф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ухи «Волшебной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"/>
          <p:cNvPicPr/>
          <p:nvPr/>
        </p:nvPicPr>
        <p:blipFill>
          <a:blip r:embed="rId1"/>
          <a:stretch/>
        </p:blipFill>
        <p:spPr>
          <a:xfrm>
            <a:off x="5357880" y="285840"/>
            <a:ext cx="3368520" cy="335736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1285920" y="364320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Юдо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руппа многоголовых  драконов, отрицательных персонажей русской сказки «Иван — крестьянский сын и Чудо-юдо». Живут за рекой Смородиной, через которую перебираются по Калинову мос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1428840" y="500040"/>
            <a:ext cx="33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4214880" cy="421488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1714680" y="57168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1357200" y="4572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лоснежка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расивая девушка, персонаж известный по ска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ьев Гри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Содержимое 6" descr="баба яга.bmp"/>
          <p:cNvPicPr/>
          <p:nvPr/>
        </p:nvPicPr>
        <p:blipFill>
          <a:blip r:embed="rId1"/>
          <a:stretch/>
        </p:blipFill>
        <p:spPr>
          <a:xfrm>
            <a:off x="5357880" y="285840"/>
            <a:ext cx="3552840" cy="35812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1071720" y="410580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́б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га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ерсонаж  волшебной сказки, старуха-чародейка, наделённая магической силой. По своим свойствам ближе всего к ведьме.  Чаще всего — отрицательный персон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1643040" y="500040"/>
            <a:ext cx="257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1" descr=""/>
          <p:cNvPicPr/>
          <p:nvPr/>
        </p:nvPicPr>
        <p:blipFill>
          <a:blip r:embed="rId1"/>
          <a:stretch/>
        </p:blipFill>
        <p:spPr>
          <a:xfrm>
            <a:off x="4786200" y="285840"/>
            <a:ext cx="4000680" cy="3929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2"/>
          <p:cNvSpPr/>
          <p:nvPr/>
        </p:nvSpPr>
        <p:spPr>
          <a:xfrm>
            <a:off x="1714680" y="42876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214280" y="465012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и́нни-Пу́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люшевый мишка, персонаж повестей и стихов Алана Александра Мил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"/>
          <p:cNvSpPr/>
          <p:nvPr/>
        </p:nvSpPr>
        <p:spPr>
          <a:xfrm>
            <a:off x="1571760" y="428760"/>
            <a:ext cx="242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1428840" y="457200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́рфил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— популярный персонаж одноимённой серии комиксов созданный художником Джимом Дэви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http://upload.wikimedia.org/wikipedia/ru/thumb/9/92/Thumbe_2.jpg/210px-Thumbe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500040"/>
            <a:ext cx="3843360" cy="37148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1571760" y="571680"/>
            <a:ext cx="257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"/>
          <p:cNvSpPr/>
          <p:nvPr/>
        </p:nvSpPr>
        <p:spPr>
          <a:xfrm>
            <a:off x="1428840" y="4429080"/>
            <a:ext cx="742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юймо́воч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рохотная девочка, героиня одноимённой сказки датского поэта, путешественника и сказ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Х. Андерс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4"/>
          <p:cNvSpPr/>
          <p:nvPr/>
        </p:nvSpPr>
        <p:spPr>
          <a:xfrm>
            <a:off x="1285920" y="5000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ел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енивый персонаж русской народной сказ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 щучьему велень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4643280" y="571680"/>
            <a:ext cx="4071960" cy="3714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6"/>
          <p:cNvSpPr/>
          <p:nvPr/>
        </p:nvSpPr>
        <p:spPr>
          <a:xfrm>
            <a:off x="1428840" y="428760"/>
            <a:ext cx="23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4714920" y="500040"/>
            <a:ext cx="400032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2"/>
          <p:cNvSpPr/>
          <p:nvPr/>
        </p:nvSpPr>
        <p:spPr>
          <a:xfrm>
            <a:off x="1714680" y="57168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1357200" y="507204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жик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ый герой мультсериала «Смешар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1214280" y="4143240"/>
            <a:ext cx="771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ар-птица</a:t>
            </a:r>
            <a:r>
              <a:rPr b="1" lang="ru-RU" sz="3200" spc="-1" strike="noStrike">
                <a:solidFill>
                  <a:srgbClr val="2d0e7c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казочная птица, персонаж русских сказок.  Перья жар-птицы обладают способностью светить и своим блеском поражают зрени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Содержимое 4" descr="жарптиц.jpg"/>
          <p:cNvPicPr/>
          <p:nvPr/>
        </p:nvPicPr>
        <p:blipFill>
          <a:blip r:embed="rId1"/>
          <a:stretch/>
        </p:blipFill>
        <p:spPr>
          <a:xfrm>
            <a:off x="4714920" y="357120"/>
            <a:ext cx="4086360" cy="37861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3"/>
          <p:cNvSpPr/>
          <p:nvPr/>
        </p:nvSpPr>
        <p:spPr>
          <a:xfrm>
            <a:off x="1571760" y="357120"/>
            <a:ext cx="22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11:33Z</dcterms:created>
  <dc:creator>Admin</dc:creator>
  <dc:description/>
  <dc:language>en-US</dc:language>
  <cp:lastModifiedBy>Николай</cp:lastModifiedBy>
  <dcterms:modified xsi:type="dcterms:W3CDTF">2012-10-29T08:24:04Z</dcterms:modified>
  <cp:revision>49</cp:revision>
  <dc:subject/>
  <dc:title>Слайд 1</dc:title>
</cp:coreProperties>
</file>