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F80-668F-42EE-A383-1E088BF9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14B-57ED-487F-B1FC-66D7C772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72B-CE80-473D-9A5D-8D47DF07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A51-CDAF-4DC6-91ED-E04A19D6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86A-36A8-4423-BC74-885F3F9C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41F-E8D3-4DB9-8311-B068D71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048-C8A4-4B86-8292-AA5F1414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823-3C80-4B5A-B640-2A6AD405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3BC-A303-4D4F-91EE-21F47A79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433-42B3-400A-B5F1-8B6B7FA1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F6D-949D-4034-8471-A504F2D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E53-8630-497C-8E71-3015684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DDAC-DAE9-4021-98FF-084EEDB90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urope_location_ENG2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Monotype Corsiva"/>
              </a:rPr>
              <a:t>Англ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4640" y="61718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рамова Ар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6252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онд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ография: на р. Темзе (64 км от устья), занимает низменность между грядами Чилтерн-Хилс и Норт-Даун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щадь города: 1560 км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селение: в центральной части 10 тыс., Большом Лондоне 7 млн., в Лондонской городской агломерации — около 11 млн., а в Юго-Восточном регионе — около 17 млн. Население Большого Лондона сокращается, продолжается приток молодежи из других районов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имат: осадков 500 мм, Средняя температура июля около 17° C. января +4° С. Темза в Лондоне ни разу не замерзала с 18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еркви: Вестминстерское аббатство (XIII-XVIII вв.) и грандиозный Сент Пол — собор Св. Павла (XVII-XVIII вв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рки: Гайд-Парк, Риджентс-Парк с зоопар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ью-Гайднз с оранжереей, аквариумом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ом бабочек», Сент-Джейм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лекательные центры: Ковент-Гарде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Хард-рок кафе»(который посещали Битл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вис Пресли, Мик Джэггер), джаз -«Клуб 100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6450976548a96d7b385cf"/>
          <p:cNvPicPr/>
          <p:nvPr/>
        </p:nvPicPr>
        <p:blipFill>
          <a:blip r:embed="rId1"/>
          <a:stretch/>
        </p:blipFill>
        <p:spPr>
          <a:xfrm>
            <a:off x="6477120" y="4667400"/>
            <a:ext cx="2666880" cy="2190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рхитектура Лонд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81442393648a97088c291a"/>
          <p:cNvPicPr/>
          <p:nvPr/>
        </p:nvPicPr>
        <p:blipFill>
          <a:blip r:embed="rId1"/>
          <a:stretch/>
        </p:blipFill>
        <p:spPr>
          <a:xfrm>
            <a:off x="457200" y="1295280"/>
            <a:ext cx="3048120" cy="2503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838080" y="86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Готика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0" name="Picture 6" descr="95810032648a9728df07bb"/>
          <p:cNvPicPr/>
          <p:nvPr/>
        </p:nvPicPr>
        <p:blipFill>
          <a:blip r:embed="rId2"/>
          <a:stretch/>
        </p:blipFill>
        <p:spPr>
          <a:xfrm>
            <a:off x="4800600" y="1295280"/>
            <a:ext cx="3124080" cy="2567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405400" y="867600"/>
            <a:ext cx="43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Барокко и палладианство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2" name="Picture 8" descr="88676223348a9743c422ff"/>
          <p:cNvPicPr/>
          <p:nvPr/>
        </p:nvPicPr>
        <p:blipFill>
          <a:blip r:embed="rId3"/>
          <a:stretch/>
        </p:blipFill>
        <p:spPr>
          <a:xfrm>
            <a:off x="380880" y="4052880"/>
            <a:ext cx="3124440" cy="2565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2801520" y="6399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одерн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8134560" y="5286960"/>
            <a:ext cx="8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ай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ТЭК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5" name="Picture 11" descr="85028928548a974d59e7c2"/>
          <p:cNvPicPr/>
          <p:nvPr/>
        </p:nvPicPr>
        <p:blipFill>
          <a:blip r:embed="rId4"/>
          <a:stretch/>
        </p:blipFill>
        <p:spPr>
          <a:xfrm>
            <a:off x="4800600" y="4229280"/>
            <a:ext cx="32004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IMG_2795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IMG_2796"/>
          <p:cNvPicPr/>
          <p:nvPr/>
        </p:nvPicPr>
        <p:blipFill>
          <a:blip r:embed="rId2"/>
          <a:stretch/>
        </p:blipFill>
        <p:spPr>
          <a:xfrm>
            <a:off x="3276720" y="1143000"/>
            <a:ext cx="2628720" cy="350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IMG_2798"/>
          <p:cNvPicPr/>
          <p:nvPr/>
        </p:nvPicPr>
        <p:blipFill>
          <a:blip r:embed="rId3"/>
          <a:stretch/>
        </p:blipFill>
        <p:spPr>
          <a:xfrm>
            <a:off x="6705720" y="3606840"/>
            <a:ext cx="2438280" cy="325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IMG_2799"/>
          <p:cNvPicPr/>
          <p:nvPr/>
        </p:nvPicPr>
        <p:blipFill>
          <a:blip r:embed="rId4"/>
          <a:stretch/>
        </p:blipFill>
        <p:spPr>
          <a:xfrm>
            <a:off x="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IMG_2802"/>
          <p:cNvPicPr/>
          <p:nvPr/>
        </p:nvPicPr>
        <p:blipFill>
          <a:blip r:embed="rId5"/>
          <a:stretch/>
        </p:blipFill>
        <p:spPr>
          <a:xfrm>
            <a:off x="152280" y="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IMG_2937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MG_2936"/>
          <p:cNvPicPr/>
          <p:nvPr/>
        </p:nvPicPr>
        <p:blipFill>
          <a:blip r:embed="rId2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MG_2934"/>
          <p:cNvPicPr/>
          <p:nvPr/>
        </p:nvPicPr>
        <p:blipFill>
          <a:blip r:embed="rId3"/>
          <a:stretch/>
        </p:blipFill>
        <p:spPr>
          <a:xfrm>
            <a:off x="0" y="3828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MG_2944"/>
          <p:cNvPicPr/>
          <p:nvPr/>
        </p:nvPicPr>
        <p:blipFill>
          <a:blip r:embed="rId4"/>
          <a:stretch/>
        </p:blipFill>
        <p:spPr>
          <a:xfrm>
            <a:off x="685800" y="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IMG_2879"/>
          <p:cNvPicPr/>
          <p:nvPr/>
        </p:nvPicPr>
        <p:blipFill>
          <a:blip r:embed="rId1"/>
          <a:stretch/>
        </p:blipFill>
        <p:spPr>
          <a:xfrm>
            <a:off x="0" y="0"/>
            <a:ext cx="4419720" cy="36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_2807"/>
          <p:cNvPicPr/>
          <p:nvPr/>
        </p:nvPicPr>
        <p:blipFill>
          <a:blip r:embed="rId2"/>
          <a:stretch/>
        </p:blipFill>
        <p:spPr>
          <a:xfrm>
            <a:off x="4648320" y="3257640"/>
            <a:ext cx="449568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_2811"/>
          <p:cNvPicPr/>
          <p:nvPr/>
        </p:nvPicPr>
        <p:blipFill>
          <a:blip r:embed="rId3"/>
          <a:stretch/>
        </p:blipFill>
        <p:spPr>
          <a:xfrm>
            <a:off x="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MG_2806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G_2830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MG_2829"/>
          <p:cNvPicPr/>
          <p:nvPr/>
        </p:nvPicPr>
        <p:blipFill>
          <a:blip r:embed="rId2"/>
          <a:stretch/>
        </p:blipFill>
        <p:spPr>
          <a:xfrm>
            <a:off x="4876920" y="685800"/>
            <a:ext cx="4000320" cy="533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G_2941"/>
          <p:cNvPicPr/>
          <p:nvPr/>
        </p:nvPicPr>
        <p:blipFill>
          <a:blip r:embed="rId3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_2836"/>
          <p:cNvPicPr/>
          <p:nvPr/>
        </p:nvPicPr>
        <p:blipFill>
          <a:blip r:embed="rId1"/>
          <a:stretch/>
        </p:blipFill>
        <p:spPr>
          <a:xfrm>
            <a:off x="228600" y="0"/>
            <a:ext cx="3786120" cy="504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MG_2831"/>
          <p:cNvPicPr/>
          <p:nvPr/>
        </p:nvPicPr>
        <p:blipFill>
          <a:blip r:embed="rId2"/>
          <a:stretch/>
        </p:blipFill>
        <p:spPr>
          <a:xfrm>
            <a:off x="4495680" y="1066680"/>
            <a:ext cx="42181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IMG_2933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IMG_2932"/>
          <p:cNvPicPr/>
          <p:nvPr/>
        </p:nvPicPr>
        <p:blipFill>
          <a:blip r:embed="rId2"/>
          <a:stretch/>
        </p:blipFill>
        <p:spPr>
          <a:xfrm>
            <a:off x="5278320" y="1600200"/>
            <a:ext cx="3865680" cy="495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G_2835"/>
          <p:cNvPicPr/>
          <p:nvPr/>
        </p:nvPicPr>
        <p:blipFill>
          <a:blip r:embed="rId3"/>
          <a:stretch/>
        </p:blipFill>
        <p:spPr>
          <a:xfrm>
            <a:off x="380880" y="3886200"/>
            <a:ext cx="4191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 rot="199200">
            <a:off x="696600" y="-256680"/>
            <a:ext cx="7543800" cy="740916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Англия раскрывает свое лицо не как ярко раскрашенная карта. Ничто четко не обозначено, границы не оттенены. Это земная твердь, но солнце и туман придают ей смутное очарование. Стоит исчезнуть солнечному свету, как все вокруг становится серым, выглядит угрюмым и промозглым. Стоит туману исчезнуть полностью, как земля предстает обнаженной в потоках солнечного света и наступает конец очарованию. Такова, стало быть, и английская душа, где радость и печаль играют, как свет и тени, как солнце и туман. Душа, которая без этой туманно-золотистой дымки полностью лишается очарования, являя нам англичанина со свинцовыми глазами, которого изображают сатирики.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Джон Б. Прист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гли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Englan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Europe location ENG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76920"/>
            <a:ext cx="3200400" cy="1801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228600" y="1217520"/>
            <a:ext cx="8686800" cy="3753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Координаты: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51°30′25″ с. ш. 0°07′39″ з. д. </a:t>
            </a:r>
            <a:r>
              <a:rPr b="0" lang="ru-RU" sz="2000" spc="-1" strike="noStrike" baseline="30000">
                <a:solidFill>
                  <a:srgbClr val="ffffff"/>
                </a:solidFill>
                <a:latin typeface="Monotype Corsiva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ия (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. </a:t>
            </a:r>
            <a:r>
              <a:rPr b="0" i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England) — наиболее крупная историческая и административная часть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оединённого Королевства Великобритании и Северной Ирландии, официально страна  в его составе, занимающая юго-восточную часть большого острова Великобритания, известного как англ. </a:t>
            </a:r>
            <a:r>
              <a:rPr b="0" i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mainland. Население Англии составляет 83 % от общего числа населения Великобритании.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ия стала объединением некогда враждующих графств в 927 году и берёт своё название от англов, одного из германских племён, которые обосновались там в 5-ом и 6-ом столетиях. Столица Англии — Лондон, самый большой город в Великобритании и Европейском союзе.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ролевство Англия, включая княжество Уэльс, являлось отдельным государством до 1 мая 1707, когда объединилось с Шотландией в Королевство Великобр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нглия занимает две трети острова Великобритания. На севере граничит с Шотландией, на западе — с Уэль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Ландшафт Англии состоит в основном из покатых холмов, к северу местность становится более гористой. Горная и равнинная местность условно разделяются по линии, проходящей между устьем реки Тис (Тиссайд) на северо-востоке и устьем реки Экс (Девон) на юго-западе. На востоке располагается низменная болотистая местность, которая в основном была осушена для сельскохозяйственно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15"/>
          <p:cNvPicPr/>
          <p:nvPr/>
        </p:nvPicPr>
        <p:blipFill>
          <a:blip r:embed="rId1"/>
          <a:stretch/>
        </p:blipFill>
        <p:spPr>
          <a:xfrm>
            <a:off x="5742000" y="1295280"/>
            <a:ext cx="340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619440" y="-1405080"/>
            <a:ext cx="190512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7640"/>
          <a:ext cx="8153640" cy="684036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78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 Heiti Medium B5"/>
                        </a:rPr>
                        <a:t>Великобритан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Основан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927 г.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Официальный язык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йский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толиц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Крупнейшие город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, Бирмингем, Лидс, Шеффилд, Ливерпуль, Манчестер.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4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Форма правлен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Конституционная монархия (часть Великобритании; не имеет собственных высших органов власти)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Монарх Великобритании</a:t>
                      </a:r>
                      <a:br>
                        <a:rPr sz="1600"/>
                      </a:b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Премьер-министр Великобритании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Елизавета II</a:t>
                      </a:r>
                      <a:br>
                        <a:rPr sz="1600"/>
                      </a:b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Гордон Браун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Гос. религ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канств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Территори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сег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133 395 к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Населе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сего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2006)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Плотность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0,762,900 чел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388,7 чел./к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Этнохороним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чанин, Англичанка, Англичане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алют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Фунт стерлинго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дминистративное деление Англи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1999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делится на 9 правительственных регионов (Government Office Reg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2590920"/>
          <a:ext cx="8077320" cy="4114800"/>
        </p:xfrm>
        <a:graphic>
          <a:graphicData uri="http://schemas.openxmlformats.org/drawingml/2006/table">
            <a:tbl>
              <a:tblPr/>
              <a:tblGrid>
                <a:gridCol w="2914920"/>
                <a:gridCol w="2771640"/>
                <a:gridCol w="239076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звание регион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о-русски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звание региона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о-английски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селение,тыс. чел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(2005 г.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еверо-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North Ea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2 53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еверо-Запад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North We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6 805 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Йоркшир и Хамбер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Yorkshire and the Humber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00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осточный Мидленд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East Midlands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4 252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Западный Мидленд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West Midlands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320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East of England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463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London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7 388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Юго-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South Ea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8 080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Юго-Запад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South We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4 90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229600" cy="59436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большей части Англии типично чередование плоских равнин с холмами. На севере расположена цепь холмов Пеннины, на западе - Кумберлендские горы и Озерный край. Высокогорье и равнинная местность разделяются между устьем Тис (Тиссайд) и Экс (Девон). На Юге Пеннин находятся центральные графства, на юго-западном полуострове- плато с залежами гранита и скалистое побережье. Лондон расположен на Английском плоскогорье. Рельеф представляет из себя низкие холмы. Восточ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олагается болотистая местность, осушенная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льскохозяйственного использования. Равнины Мидлен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 Кембрийскими и Пенинскими горами заняты лу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род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равнинах Мидленд находятся место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менного угля, железной руды, известняков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ловые кусты. За Кустами Чилтерн находится Лондо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внина с долиной Темзы, богатая палеогеновыми глинами. Холмы насыщены такими осадочными породами как: известняк и мел, а равнины – мергелями и глинами. На Вершинах холмов развита карста, на равнинах - морены. Горные районы, богаты пастбищными угодьями и минеральными ресурсами: Пенины насыщены - месторождениями угля, Восточный Мидленд - железной рудой и солями, Кембедленский массив - свинцово-цинковыми и гематитовыми рудами, Корнуолл - свинцовом цинком и оловом. Северное море богато нефтью и г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07100509148aaa79ccc5ca"/>
          <p:cNvPicPr/>
          <p:nvPr/>
        </p:nvPicPr>
        <p:blipFill>
          <a:blip r:embed="rId1"/>
          <a:stretch/>
        </p:blipFill>
        <p:spPr>
          <a:xfrm>
            <a:off x="6324480" y="2514600"/>
            <a:ext cx="2667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явлением океанического климата Англии является  неустойчивость, порывистые ветра и туманы. Горы служат барьером, задерживающим влажный воздух на запа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имы в Англии - влажные и мягкие. Средняя температура января +4, +6. Юго-западный ветер, повышает зимнюю температуру, но приносит дожди и штормы. Восточный и северо-восточный ветер приносит в Англию морозы. На юге Англии снег выпадает редко. В восточных районах зима более холод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ной дуют холодные северные ветры, дождей выпадает мал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ето – прохладное. Температура июля на юго-востоке Великобритании  от +16  до  +32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енью усиливаются циклоны. Дожди сопровождаются шторм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уманы связаны с контрастом смешиваемых температур: тепл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духа и холодной поверхностью остро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еки и прол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илие полноводных рек связано с тем, что коли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ыпадающих осадков в Англии превышает испар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лина реки Северн -  354 км, Темзы - 338 км. На побережь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мзы проживает 1/5 населения страны и располагается Большой Лонд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 время прилива население большинства морских портов снабжается питьевой водой из верховий рек, подземных резервуаров и горных озер. Темза - самая большая река Великобритании. Ее длина - 332 км. Площадь -15300  км2. Извилистое русло  образует острова. Ширина Темзы близ Лондона- 200 - 250 метров а высота приливов - 6,5 м. В  устье Темза образует 16 километровую воронку. Здесь происходят   сильные наводнени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Река берет начало у Котсуолд, на высоте 108,6 метров, впадает в Северное море, протекает по  холмистой долине, пересекает гряду Чилтерн, входит в пределы Лондонского бассейна и течет вплоть до Северного мор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49688835048aaa70488bb4"/>
          <p:cNvPicPr/>
          <p:nvPr/>
        </p:nvPicPr>
        <p:blipFill>
          <a:blip r:embed="rId1"/>
          <a:stretch/>
        </p:blipFill>
        <p:spPr>
          <a:xfrm>
            <a:off x="6095880" y="2362320"/>
            <a:ext cx="289584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9436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итания наиболее урбанизированное государство в мире. При этом англичане не стремятся жить в гор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идев, сквозь гущу тумана, бело-зеленую линию острова легионеры Юлия Цезаря назвали его Альбион (белый). Они восхищались способностью английских зеленых лугов круглый год сохранять изумрудную свежесть. Природа Англии ухожена, безлюдна неустойчива, лишена контрастов. О присутствии людей в этих местах напоминают лишь таблички "Частное владение".  Ландшафты Англии - компромисс между природой и искусством. Здесь редко встретишь как лесные чащи, так и шеренги ал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я за изгибами английских дорог, кажется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никто не стремится попасть из одной т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ругую. «Дороги Англии отражают скло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править то, что уже есть. Они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ек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ественного узора, который время ост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ице земл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6261297148aaaab088471"/>
          <p:cNvPicPr/>
          <p:nvPr/>
        </p:nvPicPr>
        <p:blipFill>
          <a:blip r:embed="rId1"/>
          <a:stretch/>
        </p:blipFill>
        <p:spPr>
          <a:xfrm>
            <a:off x="6477120" y="4667400"/>
            <a:ext cx="2666880" cy="219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58880453448aaaac0e48f2"/>
          <p:cNvPicPr/>
          <p:nvPr/>
        </p:nvPicPr>
        <p:blipFill>
          <a:blip r:embed="rId2"/>
          <a:stretch/>
        </p:blipFill>
        <p:spPr>
          <a:xfrm>
            <a:off x="0" y="0"/>
            <a:ext cx="2666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05T09:55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