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7660-7EC8-4482-B5F3-401752E35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2992-A467-431F-8924-42BFBE79F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0F01-AAB5-41E2-ACCE-FEB049759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0340-0A0F-40E1-B0D4-993543E24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EAC5-CCDD-44FE-99E9-204251961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7995-A239-418E-8384-1D2A71FE6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C71F-255C-48CB-A3EC-AA20EAA93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7B49-141A-4AB9-B0B1-59623FB67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8DE2-E4B8-4C4E-97C6-600847BC6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8520-5FE7-4E13-B8FA-B85B80ED9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182B-EFFA-4C49-8599-BF626A9F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1822-F282-4190-AF35-B7FA9E34F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DA5E3-68A9-44DE-ABC1-B6EF6AA407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Europe_location_ENG2.png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38098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ffffff"/>
                </a:solidFill>
                <a:latin typeface="Monotype Corsiva"/>
              </a:rPr>
              <a:t>Англия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714640" y="6171840"/>
            <a:ext cx="2971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йрамова Арз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3962520" y="6429240"/>
            <a:ext cx="2214360" cy="428760"/>
          </a:xfrm>
          <a:prstGeom prst="rect">
            <a:avLst/>
          </a:prstGeom>
          <a:solidFill>
            <a:srgbClr val="bfbfbf"/>
          </a:solidFill>
          <a:ln w="38160">
            <a:solidFill>
              <a:srgbClr val="f1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rezentacii.com</a:t>
            </a:r>
            <a:endParaRPr b="1" i="1" lang="en-US" sz="20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Лондо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6172200"/>
          </a:xfrm>
          <a:prstGeom prst="rect">
            <a:avLst/>
          </a:prstGeom>
          <a:solidFill>
            <a:srgbClr val="000000">
              <a:alpha val="33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еография: на р. Темзе (64 км от устья), занимает низменность между грядами Чилтерн-Хилс и Норт-Даунс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лощадь города: 1560 км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аселение: в центральной части 10 тыс., Большом Лондоне 7 млн., в Лондонской городской агломерации — около 11 млн., а в Юго-Восточном регионе — около 17 млн. Население Большого Лондона сокращается, продолжается приток молодежи из других районов стра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лимат: осадков 500 мм, Средняя температура июля около 17° C. января +4° С. Темза в Лондоне ни разу не замерзала с 1814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Церкви: Вестминстерское аббатство (XIII-XVIII вв.) и грандиозный Сент Пол — собор Св. Павла (XVII-XVIII вв.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арки: Гайд-Парк, Риджентс-Парк с зоопарком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ью-Гайднз с оранжереей, аквариумом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«Домом бабочек», Сент-Джейм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азвлекательные центры: Ковент-Гарден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«Хард-рок кафе»(который посещали Битлз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Элвис Пресли, Мик Джэггер), джаз -«Клуб 100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56450976548a96d7b385cf"/>
          <p:cNvPicPr/>
          <p:nvPr/>
        </p:nvPicPr>
        <p:blipFill>
          <a:blip r:embed="rId1"/>
          <a:stretch/>
        </p:blipFill>
        <p:spPr>
          <a:xfrm>
            <a:off x="6477120" y="4667400"/>
            <a:ext cx="2666880" cy="21906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2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6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Архитектура Лондон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181442393648a97088c291a"/>
          <p:cNvPicPr/>
          <p:nvPr/>
        </p:nvPicPr>
        <p:blipFill>
          <a:blip r:embed="rId1"/>
          <a:stretch/>
        </p:blipFill>
        <p:spPr>
          <a:xfrm>
            <a:off x="457200" y="1295280"/>
            <a:ext cx="3048120" cy="25034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5"/>
          <p:cNvSpPr/>
          <p:nvPr/>
        </p:nvSpPr>
        <p:spPr>
          <a:xfrm>
            <a:off x="838080" y="867600"/>
            <a:ext cx="15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Готика</a:t>
            </a:r>
            <a:endParaRPr b="1" i="1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70" name="Picture 6" descr="95810032648a9728df07bb"/>
          <p:cNvPicPr/>
          <p:nvPr/>
        </p:nvPicPr>
        <p:blipFill>
          <a:blip r:embed="rId2"/>
          <a:stretch/>
        </p:blipFill>
        <p:spPr>
          <a:xfrm>
            <a:off x="4800600" y="1295280"/>
            <a:ext cx="3124080" cy="256716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7"/>
          <p:cNvSpPr/>
          <p:nvPr/>
        </p:nvSpPr>
        <p:spPr>
          <a:xfrm>
            <a:off x="5405400" y="867600"/>
            <a:ext cx="436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Барокко и палладианство</a:t>
            </a:r>
            <a:endParaRPr b="1" i="1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72" name="Picture 8" descr="88676223348a9743c422ff"/>
          <p:cNvPicPr/>
          <p:nvPr/>
        </p:nvPicPr>
        <p:blipFill>
          <a:blip r:embed="rId3"/>
          <a:stretch/>
        </p:blipFill>
        <p:spPr>
          <a:xfrm>
            <a:off x="380880" y="4052880"/>
            <a:ext cx="3124440" cy="256536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9"/>
          <p:cNvSpPr/>
          <p:nvPr/>
        </p:nvSpPr>
        <p:spPr>
          <a:xfrm>
            <a:off x="2801520" y="639972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модерн</a:t>
            </a:r>
            <a:r>
              <a:rPr b="1" i="1" lang="ru-RU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1" i="1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74" name="Rectangle 10"/>
          <p:cNvSpPr/>
          <p:nvPr/>
        </p:nvSpPr>
        <p:spPr>
          <a:xfrm>
            <a:off x="8134560" y="5286960"/>
            <a:ext cx="86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Хай </a:t>
            </a:r>
            <a:endParaRPr b="1" i="1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ТЭК</a:t>
            </a:r>
            <a:endParaRPr b="1" i="1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75" name="Picture 11" descr="85028928548a974d59e7c2"/>
          <p:cNvPicPr/>
          <p:nvPr/>
        </p:nvPicPr>
        <p:blipFill>
          <a:blip r:embed="rId4"/>
          <a:stretch/>
        </p:blipFill>
        <p:spPr>
          <a:xfrm>
            <a:off x="4800600" y="4229280"/>
            <a:ext cx="320040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0" descr="IMG_2795"/>
          <p:cNvPicPr/>
          <p:nvPr/>
        </p:nvPicPr>
        <p:blipFill>
          <a:blip r:embed="rId1"/>
          <a:stretch/>
        </p:blipFill>
        <p:spPr>
          <a:xfrm>
            <a:off x="5283360" y="0"/>
            <a:ext cx="3860640" cy="2895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IMG_2796"/>
          <p:cNvPicPr/>
          <p:nvPr/>
        </p:nvPicPr>
        <p:blipFill>
          <a:blip r:embed="rId2"/>
          <a:stretch/>
        </p:blipFill>
        <p:spPr>
          <a:xfrm>
            <a:off x="3276720" y="1143000"/>
            <a:ext cx="2628720" cy="3505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2" descr="IMG_2798"/>
          <p:cNvPicPr/>
          <p:nvPr/>
        </p:nvPicPr>
        <p:blipFill>
          <a:blip r:embed="rId3"/>
          <a:stretch/>
        </p:blipFill>
        <p:spPr>
          <a:xfrm>
            <a:off x="6705720" y="3606840"/>
            <a:ext cx="2438280" cy="3251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3" descr="IMG_2799"/>
          <p:cNvPicPr/>
          <p:nvPr/>
        </p:nvPicPr>
        <p:blipFill>
          <a:blip r:embed="rId4"/>
          <a:stretch/>
        </p:blipFill>
        <p:spPr>
          <a:xfrm>
            <a:off x="0" y="4057560"/>
            <a:ext cx="3733920" cy="28004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4" descr="IMG_2802"/>
          <p:cNvPicPr/>
          <p:nvPr/>
        </p:nvPicPr>
        <p:blipFill>
          <a:blip r:embed="rId5"/>
          <a:stretch/>
        </p:blipFill>
        <p:spPr>
          <a:xfrm>
            <a:off x="152280" y="0"/>
            <a:ext cx="2743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8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IMG_2937"/>
          <p:cNvPicPr/>
          <p:nvPr/>
        </p:nvPicPr>
        <p:blipFill>
          <a:blip r:embed="rId1"/>
          <a:stretch/>
        </p:blipFill>
        <p:spPr>
          <a:xfrm>
            <a:off x="4495680" y="0"/>
            <a:ext cx="4648320" cy="34862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IMG_2936"/>
          <p:cNvPicPr/>
          <p:nvPr/>
        </p:nvPicPr>
        <p:blipFill>
          <a:blip r:embed="rId2"/>
          <a:stretch/>
        </p:blipFill>
        <p:spPr>
          <a:xfrm>
            <a:off x="4495680" y="3733920"/>
            <a:ext cx="4648320" cy="3124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IMG_2934"/>
          <p:cNvPicPr/>
          <p:nvPr/>
        </p:nvPicPr>
        <p:blipFill>
          <a:blip r:embed="rId3"/>
          <a:stretch/>
        </p:blipFill>
        <p:spPr>
          <a:xfrm>
            <a:off x="0" y="382896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IMG_2944"/>
          <p:cNvPicPr/>
          <p:nvPr/>
        </p:nvPicPr>
        <p:blipFill>
          <a:blip r:embed="rId4"/>
          <a:stretch/>
        </p:blipFill>
        <p:spPr>
          <a:xfrm>
            <a:off x="685800" y="0"/>
            <a:ext cx="26859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IMG_2879"/>
          <p:cNvPicPr/>
          <p:nvPr/>
        </p:nvPicPr>
        <p:blipFill>
          <a:blip r:embed="rId1"/>
          <a:stretch/>
        </p:blipFill>
        <p:spPr>
          <a:xfrm>
            <a:off x="0" y="0"/>
            <a:ext cx="4419720" cy="3600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IMG_2807"/>
          <p:cNvPicPr/>
          <p:nvPr/>
        </p:nvPicPr>
        <p:blipFill>
          <a:blip r:embed="rId2"/>
          <a:stretch/>
        </p:blipFill>
        <p:spPr>
          <a:xfrm>
            <a:off x="4648320" y="3257640"/>
            <a:ext cx="4495680" cy="3600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IMG_2811"/>
          <p:cNvPicPr/>
          <p:nvPr/>
        </p:nvPicPr>
        <p:blipFill>
          <a:blip r:embed="rId3"/>
          <a:stretch/>
        </p:blipFill>
        <p:spPr>
          <a:xfrm>
            <a:off x="0" y="3733920"/>
            <a:ext cx="4419720" cy="3124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IMG_2806"/>
          <p:cNvPicPr/>
          <p:nvPr/>
        </p:nvPicPr>
        <p:blipFill>
          <a:blip r:embed="rId4"/>
          <a:stretch/>
        </p:blipFill>
        <p:spPr>
          <a:xfrm>
            <a:off x="4648320" y="0"/>
            <a:ext cx="44956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IMG_2830"/>
          <p:cNvPicPr/>
          <p:nvPr/>
        </p:nvPicPr>
        <p:blipFill>
          <a:blip r:embed="rId1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IMG_2829"/>
          <p:cNvPicPr/>
          <p:nvPr/>
        </p:nvPicPr>
        <p:blipFill>
          <a:blip r:embed="rId2"/>
          <a:stretch/>
        </p:blipFill>
        <p:spPr>
          <a:xfrm>
            <a:off x="4876920" y="685800"/>
            <a:ext cx="4000320" cy="5334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IMG_2941"/>
          <p:cNvPicPr/>
          <p:nvPr/>
        </p:nvPicPr>
        <p:blipFill>
          <a:blip r:embed="rId3"/>
          <a:stretch/>
        </p:blipFill>
        <p:spPr>
          <a:xfrm>
            <a:off x="0" y="3505320"/>
            <a:ext cx="45720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IMG_2836"/>
          <p:cNvPicPr/>
          <p:nvPr/>
        </p:nvPicPr>
        <p:blipFill>
          <a:blip r:embed="rId1"/>
          <a:stretch/>
        </p:blipFill>
        <p:spPr>
          <a:xfrm>
            <a:off x="228600" y="0"/>
            <a:ext cx="3786120" cy="5049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IMG_2831"/>
          <p:cNvPicPr/>
          <p:nvPr/>
        </p:nvPicPr>
        <p:blipFill>
          <a:blip r:embed="rId2"/>
          <a:stretch/>
        </p:blipFill>
        <p:spPr>
          <a:xfrm>
            <a:off x="4495680" y="1066680"/>
            <a:ext cx="4218120" cy="56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IMG_2933"/>
          <p:cNvPicPr/>
          <p:nvPr/>
        </p:nvPicPr>
        <p:blipFill>
          <a:blip r:embed="rId1"/>
          <a:stretch/>
        </p:blipFill>
        <p:spPr>
          <a:xfrm>
            <a:off x="0" y="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IMG_2932"/>
          <p:cNvPicPr/>
          <p:nvPr/>
        </p:nvPicPr>
        <p:blipFill>
          <a:blip r:embed="rId2"/>
          <a:stretch/>
        </p:blipFill>
        <p:spPr>
          <a:xfrm>
            <a:off x="5278320" y="1600200"/>
            <a:ext cx="3865680" cy="4952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IMG_2835"/>
          <p:cNvPicPr/>
          <p:nvPr/>
        </p:nvPicPr>
        <p:blipFill>
          <a:blip r:embed="rId3"/>
          <a:stretch/>
        </p:blipFill>
        <p:spPr>
          <a:xfrm>
            <a:off x="380880" y="3886200"/>
            <a:ext cx="419112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 rot="199200">
            <a:off x="696600" y="-256680"/>
            <a:ext cx="7543800" cy="7409160"/>
          </a:xfrm>
          <a:prstGeom prst="rect">
            <a:avLst/>
          </a:prstGeom>
          <a:solidFill>
            <a:srgbClr val="00000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Monotype Corsiva"/>
              </a:rPr>
              <a:t>Англия раскрывает свое лицо не как ярко раскрашенная карта. Ничто четко не обозначено, границы не оттенены. Это земная твердь, но солнце и туман придают ей смутное очарование. Стоит исчезнуть солнечному свету, как все вокруг становится серым, выглядит угрюмым и промозглым. Стоит туману исчезнуть полностью, как земля предстает обнаженной в потоках солнечного света и наступает конец очарованию. Такова, стало быть, и английская душа, где радость и печаль играют, как свет и тени, как солнце и туман. Душа, которая без этой туманно-золотистой дымки полностью лишается очарования, являя нам англичанина со свинцовыми глазами, которого изображают сатирики.</a:t>
            </a:r>
            <a:endParaRPr b="1" i="1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Monotype Corsiva"/>
              </a:rPr>
              <a:t>                                                                            </a:t>
            </a:r>
            <a:r>
              <a:rPr b="1" i="1" lang="ru-RU" sz="2400" spc="-1" strike="noStrike">
                <a:solidFill>
                  <a:srgbClr val="ffffff"/>
                </a:solidFill>
                <a:latin typeface="Monotype Corsiva"/>
              </a:rPr>
              <a:t>Джон Б. Пристли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1" i="1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Англия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England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Europe location ENG2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95480" y="4876920"/>
            <a:ext cx="3200400" cy="18018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8"/>
          <p:cNvSpPr/>
          <p:nvPr/>
        </p:nvSpPr>
        <p:spPr>
          <a:xfrm>
            <a:off x="228600" y="1217520"/>
            <a:ext cx="8686800" cy="3753000"/>
          </a:xfrm>
          <a:prstGeom prst="rect">
            <a:avLst/>
          </a:prstGeom>
          <a:solidFill>
            <a:srgbClr val="00000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Координаты: 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51°30′25″ с. ш. 0°07′39″ з. д. </a:t>
            </a:r>
            <a:r>
              <a:rPr b="0" lang="ru-RU" sz="2000" spc="-1" strike="noStrike" baseline="30000">
                <a:solidFill>
                  <a:srgbClr val="ffffff"/>
                </a:solidFill>
                <a:latin typeface="Monotype Corsiva"/>
                <a:ea typeface="Times New Roman"/>
              </a:rPr>
              <a:t>(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Англия (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англ. </a:t>
            </a:r>
            <a:r>
              <a:rPr b="0" i="1" lang="ru-RU" sz="20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England) — наиболее крупная историческая и административная часть 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Соединённого Королевства Великобритании и Северной Ирландии, официально страна  в его составе, занимающая юго-восточную часть большого острова Великобритания, известного как англ. </a:t>
            </a:r>
            <a:r>
              <a:rPr b="0" i="1" lang="ru-RU" sz="20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mainland. Население Англии составляет 83 % от общего числа населения Великобритании.</a:t>
            </a:r>
            <a:endParaRPr b="1" i="1" lang="en-US" sz="20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Англия стала объединением некогда враждующих графств в 927 году и берёт своё название от англов, одного из германских племён, которые обосновались там в 5-ом и 6-ом столетиях. Столица Англии — Лондон, самый большой город в Великобритании и Европейском союзе.</a:t>
            </a:r>
            <a:endParaRPr b="1" i="1" lang="en-US" sz="20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-360" y="0"/>
            <a:ext cx="5791320" cy="6858000"/>
          </a:xfrm>
          <a:prstGeom prst="rect">
            <a:avLst/>
          </a:prstGeom>
          <a:solidFill>
            <a:srgbClr val="000000">
              <a:alpha val="33000"/>
            </a:srgbClr>
          </a:solidFill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Королевство Англия, включая княжество Уэльс, являлось отдельным государством до 1 мая 1707, когда объединилось с Шотландией в Королевство Великобри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Англия занимает две трети острова Великобритания. На севере граничит с Шотландией, на западе — с Уэльс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Ландшафт Англии состоит в основном из покатых холмов, к северу местность становится более гористой. Горная и равнинная местность условно разделяются по линии, проходящей между устьем реки Тис (Тиссайд) на северо-востоке и устьем реки Экс (Девон) на юго-западе. На востоке располагается низменная болотистая местность, которая в основном была осушена для сельскохозяйственного исполь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img15"/>
          <p:cNvPicPr/>
          <p:nvPr/>
        </p:nvPicPr>
        <p:blipFill>
          <a:blip r:embed="rId1"/>
          <a:stretch/>
        </p:blipFill>
        <p:spPr>
          <a:xfrm>
            <a:off x="5742000" y="1295280"/>
            <a:ext cx="34020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3619440" y="-1405080"/>
            <a:ext cx="190512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80880" y="17640"/>
          <a:ext cx="8153640" cy="6840360"/>
        </p:xfrm>
        <a:graphic>
          <a:graphicData uri="http://schemas.openxmlformats.org/drawingml/2006/table">
            <a:tbl>
              <a:tblPr/>
              <a:tblGrid>
                <a:gridCol w="4077000"/>
                <a:gridCol w="4076640"/>
              </a:tblGrid>
              <a:tr h="3780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 Heiti Medium B5"/>
                        </a:rPr>
                        <a:t>Великобритания</a:t>
                      </a:r>
                      <a:endParaRPr b="1" i="1" lang="en-US" sz="16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Основано</a:t>
                      </a:r>
                      <a:endParaRPr b="1" i="1" lang="en-US" sz="16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927 г.</a:t>
                      </a:r>
                      <a:endParaRPr b="1" i="1" lang="en-US" sz="16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Официальный язык</a:t>
                      </a:r>
                      <a:endParaRPr b="1" i="1" lang="en-US" sz="16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английский</a:t>
                      </a:r>
                      <a:endParaRPr b="1" i="1" lang="en-US" sz="16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Столица</a:t>
                      </a:r>
                      <a:endParaRPr b="1" i="1" lang="en-US" sz="16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Лондон</a:t>
                      </a:r>
                      <a:endParaRPr b="1" i="1" lang="en-US" sz="16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898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Крупнейшие города</a:t>
                      </a:r>
                      <a:endParaRPr b="1" i="1" lang="en-US" sz="16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Лондон, Бирмингем, Лидс, Шеффилд, Ливерпуль, Манчестер.</a:t>
                      </a:r>
                      <a:endParaRPr b="1" i="1" lang="en-US" sz="16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1047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Форма правления</a:t>
                      </a:r>
                      <a:endParaRPr b="1" i="1" lang="en-US" sz="16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Конституционная монархия (часть Великобритании; не имеет собственных высших органов власти)</a:t>
                      </a:r>
                      <a:endParaRPr b="1" i="1" lang="en-US" sz="16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85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Монарх Великобритании</a:t>
                      </a:r>
                      <a:br>
                        <a:rPr sz="1600"/>
                      </a:br>
                      <a:endParaRPr b="1" i="1" lang="en-US" sz="16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Премьер-министр Великобритании</a:t>
                      </a:r>
                      <a:endParaRPr b="1" i="1" lang="en-US" sz="16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Елизавета II</a:t>
                      </a:r>
                      <a:br>
                        <a:rPr sz="1600"/>
                      </a:br>
                      <a:endParaRPr b="1" i="1" lang="en-US" sz="16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Гордон Браун</a:t>
                      </a:r>
                      <a:endParaRPr b="1" i="1" lang="en-US" sz="16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Гос. религия</a:t>
                      </a:r>
                      <a:endParaRPr b="1" i="1" lang="en-US" sz="16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Англиканство</a:t>
                      </a:r>
                      <a:endParaRPr b="1" i="1" lang="en-US" sz="16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Территория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  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Всего</a:t>
                      </a:r>
                      <a:endParaRPr b="1" i="1" lang="en-US" sz="16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 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133 395 км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²</a:t>
                      </a:r>
                      <a:endParaRPr b="1" i="1" lang="en-US" sz="16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Население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  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Всего (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2006)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  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Плотность</a:t>
                      </a:r>
                      <a:endParaRPr b="1" i="1" lang="en-US" sz="16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 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50,762,900 чел.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388,7 чел./км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²</a:t>
                      </a:r>
                      <a:endParaRPr b="1" i="1" lang="en-US" sz="16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568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Этнохороним</a:t>
                      </a:r>
                      <a:endParaRPr b="1" i="1" lang="en-US" sz="16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Англичанин, Англичанка, Англичане</a:t>
                      </a:r>
                      <a:endParaRPr b="1" i="1" lang="en-US" sz="16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Валюта</a:t>
                      </a:r>
                      <a:endParaRPr b="1" i="1" lang="en-US" sz="16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Фунт стерлингов</a:t>
                      </a:r>
                      <a:endParaRPr b="1" i="1" lang="en-US" sz="16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Административное деление Англии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С 1999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Англия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делится на 9 правительственных регионов (Government Office Region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609480" y="2590920"/>
          <a:ext cx="8077320" cy="4114800"/>
        </p:xfrm>
        <a:graphic>
          <a:graphicData uri="http://schemas.openxmlformats.org/drawingml/2006/table">
            <a:tbl>
              <a:tblPr/>
              <a:tblGrid>
                <a:gridCol w="2914920"/>
                <a:gridCol w="2771640"/>
                <a:gridCol w="2390760"/>
              </a:tblGrid>
              <a:tr h="635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Название региона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по-русски</a:t>
                      </a:r>
                      <a:endParaRPr b="1" i="1" lang="en-US" sz="14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Название региона 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по-английски</a:t>
                      </a:r>
                      <a:endParaRPr b="1" i="1" lang="en-US" sz="14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Население,тыс. чел.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(2005 г.</a:t>
                      </a:r>
                      <a:r>
                        <a:rPr b="1" lang="ru-RU" sz="1400" spc="-1" strike="noStrike" baseline="30000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)</a:t>
                      </a:r>
                      <a:endParaRPr b="1" i="1" lang="en-US" sz="14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Северо-Восточный регион</a:t>
                      </a:r>
                      <a:endParaRPr b="1" i="1" lang="en-US" sz="14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North East</a:t>
                      </a:r>
                      <a:endParaRPr b="1" i="1" lang="en-US" sz="14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2 539</a:t>
                      </a:r>
                      <a:endParaRPr b="1" i="1" lang="en-US" sz="14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Северо-Западный регион</a:t>
                      </a:r>
                      <a:endParaRPr b="1" i="1" lang="en-US" sz="14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North West</a:t>
                      </a:r>
                      <a:endParaRPr b="1" i="1" lang="en-US" sz="14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6 805 </a:t>
                      </a:r>
                      <a:endParaRPr b="1" i="1" lang="en-US" sz="14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Йоркшир и Хамбер</a:t>
                      </a:r>
                      <a:endParaRPr b="1" i="1" lang="en-US" sz="14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Yorkshire and the Humber</a:t>
                      </a:r>
                      <a:endParaRPr b="1" i="1" lang="en-US" sz="14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5 009</a:t>
                      </a:r>
                      <a:endParaRPr b="1" i="1" lang="en-US" sz="14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Восточный Мидленд</a:t>
                      </a:r>
                      <a:endParaRPr b="1" i="1" lang="en-US" sz="14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East Midlands</a:t>
                      </a:r>
                      <a:endParaRPr b="1" i="1" lang="en-US" sz="14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4 252</a:t>
                      </a:r>
                      <a:endParaRPr b="1" i="1" lang="en-US" sz="14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Западный Мидленд</a:t>
                      </a:r>
                      <a:endParaRPr b="1" i="1" lang="en-US" sz="14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West Midlands</a:t>
                      </a:r>
                      <a:endParaRPr b="1" i="1" lang="en-US" sz="14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5 320</a:t>
                      </a:r>
                      <a:endParaRPr b="1" i="1" lang="en-US" sz="14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Восточный регион</a:t>
                      </a:r>
                      <a:endParaRPr b="1" i="1" lang="en-US" sz="14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East of England</a:t>
                      </a:r>
                      <a:endParaRPr b="1" i="1" lang="en-US" sz="14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5 463</a:t>
                      </a:r>
                      <a:endParaRPr b="1" i="1" lang="en-US" sz="14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381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Лондон</a:t>
                      </a:r>
                      <a:endParaRPr b="1" i="1" lang="en-US" sz="14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London</a:t>
                      </a:r>
                      <a:endParaRPr b="1" i="1" lang="en-US" sz="14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7 388</a:t>
                      </a:r>
                      <a:endParaRPr b="1" i="1" lang="en-US" sz="14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Юго-Восточный регион</a:t>
                      </a:r>
                      <a:endParaRPr b="1" i="1" lang="en-US" sz="14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South East</a:t>
                      </a:r>
                      <a:endParaRPr b="1" i="1" lang="en-US" sz="14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8 080</a:t>
                      </a:r>
                      <a:endParaRPr b="1" i="1" lang="en-US" sz="14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381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Юго-Западный регион</a:t>
                      </a:r>
                      <a:endParaRPr b="1" i="1" lang="en-US" sz="14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South West</a:t>
                      </a:r>
                      <a:endParaRPr b="1" i="1" lang="en-US" sz="14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4 909</a:t>
                      </a:r>
                      <a:endParaRPr b="1" i="1" lang="en-US" sz="14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ГЕОГРАФИ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229600" cy="5943600"/>
          </a:xfrm>
          <a:prstGeom prst="rect">
            <a:avLst/>
          </a:prstGeom>
          <a:solidFill>
            <a:srgbClr val="000000">
              <a:alpha val="33000"/>
            </a:srgbClr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Релье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большей части Англии типично чередование плоских равнин с холмами. На севере расположена цепь холмов Пеннины, на западе - Кумберлендские горы и Озерный край. Высокогорье и равнинная местность разделяются между устьем Тис (Тиссайд) и Экс (Девон). На Юге Пеннин находятся центральные графства, на юго-западном полуострове- плато с залежами гранита и скалистое побережье. Лондон расположен на Английском плоскогорье. Рельеф представляет из себя низкие холмы. Восточн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сполагается болотистая местность, осушенная д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ельскохозяйственного использования. Равнины Мидленд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ежду Кембрийскими и Пенинскими горами заняты луг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иродные ресур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 равнинах Мидленд находятся месторож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аменного угля, железной руды, известняковые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еловые кусты. За Кустами Чилтерн находится Лондонск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внина с долиной Темзы, богатая палеогеновыми глинами. Холмы насыщены такими осадочными породами как: известняк и мел, а равнины – мергелями и глинами. На Вершинах холмов развита карста, на равнинах - морены. Горные районы, богаты пастбищными угодьями и минеральными ресурсами: Пенины насыщены - месторождениями угля, Восточный Мидленд - железной рудой и солями, Кембедленский массив - свинцово-цинковыми и гематитовыми рудами, Корнуолл - свинцовом цинком и оловом. Северное море богато нефтью и газ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107100509148aaa79ccc5ca"/>
          <p:cNvPicPr/>
          <p:nvPr/>
        </p:nvPicPr>
        <p:blipFill>
          <a:blip r:embed="rId1"/>
          <a:stretch/>
        </p:blipFill>
        <p:spPr>
          <a:xfrm>
            <a:off x="6324480" y="2514600"/>
            <a:ext cx="266724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991720" cy="6858000"/>
          </a:xfrm>
          <a:prstGeom prst="rect">
            <a:avLst/>
          </a:prstGeom>
          <a:solidFill>
            <a:srgbClr val="000000">
              <a:alpha val="33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Клим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роявлением океанического климата Англии является  неустойчивость, порывистые ветра и туманы. Горы служат барьером, задерживающим влажный воздух на запад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Зимы в Англии - влажные и мягкие. Средняя температура января +4, +6. Юго-западный ветер, повышает зимнюю температуру, но приносит дожди и штормы. Восточный и северо-восточный ветер приносит в Англию морозы. На юге Англии снег выпадает редко. В восточных районах зима более холодна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есной дуют холодные северные ветры, дождей выпадает мал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Лето – прохладное. Температура июля на юго-востоке Великобритании  от +16  до  +32 С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Осенью усиливаются циклоны. Дожди сопровождаются шторма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Туманы связаны с контрастом смешиваемых температур: тепл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оздуха и холодной поверхностью остров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Реки и пролив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Обилие полноводных рек связано с тем, что количест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ыпадающих осадков в Англии превышает испарени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Длина реки Северн -  354 км, Темзы - 338 км. На побережь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Темзы проживает 1/5 населения страны и располагается Большой Лондо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о время прилива население большинства морских портов снабжается питьевой водой из верховий рек, подземных резервуаров и горных озер. Темза - самая большая река Великобритании. Ее длина - 332 км. Площадь -15300  км2. Извилистое русло  образует острова. Ширина Темзы близ Лондона- 200 - 250 метров а высота приливов - 6,5 м. В  устье Темза образует 16 километровую воронку. Здесь происходят   сильные наводнения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 Река берет начало у Котсуолд, на высоте 108,6 метров, впадает в Северное море, протекает по  холмистой долине, пересекает гряду Чилтерн, входит в пределы Лондонского бассейна и течет вплоть до Северного мор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149688835048aaa70488bb4"/>
          <p:cNvPicPr/>
          <p:nvPr/>
        </p:nvPicPr>
        <p:blipFill>
          <a:blip r:embed="rId1"/>
          <a:stretch/>
        </p:blipFill>
        <p:spPr>
          <a:xfrm>
            <a:off x="6095880" y="2362320"/>
            <a:ext cx="2895840" cy="22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рир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458200" cy="5943600"/>
          </a:xfrm>
          <a:prstGeom prst="rect">
            <a:avLst/>
          </a:prstGeom>
          <a:solidFill>
            <a:srgbClr val="000000">
              <a:alpha val="33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ритания наиболее урбанизированное государство в мире. При этом англичане не стремятся жить в город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видев, сквозь гущу тумана, бело-зеленую линию острова легионеры Юлия Цезаря назвали его Альбион (белый). Они восхищались способностью английских зеленых лугов круглый год сохранять изумрудную свежесть. Природа Англии ухожена, безлюдна неустойчива, лишена контрастов. О присутствии людей в этих местах напоминают лишь таблички "Частное владение".  Ландшафты Англии - компромисс между природой и искусством. Здесь редко встретишь как лесные чащи, так и шеренги алл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блюдая за изгибами английских дорог, кажется, ч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десь никто не стремится попасть из одной точ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другую. «Дороги Англии отражают скло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править то, что уже есть. Они 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ссекаю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тественного узора, который время остави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лице земли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86261297148aaaab088471"/>
          <p:cNvPicPr/>
          <p:nvPr/>
        </p:nvPicPr>
        <p:blipFill>
          <a:blip r:embed="rId1"/>
          <a:stretch/>
        </p:blipFill>
        <p:spPr>
          <a:xfrm>
            <a:off x="6477120" y="4667400"/>
            <a:ext cx="2666880" cy="2190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158880453448aaaac0e48f2"/>
          <p:cNvPicPr/>
          <p:nvPr/>
        </p:nvPicPr>
        <p:blipFill>
          <a:blip r:embed="rId2"/>
          <a:stretch/>
        </p:blipFill>
        <p:spPr>
          <a:xfrm>
            <a:off x="0" y="0"/>
            <a:ext cx="266688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7-05T09:55:14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