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8CB-72EA-413C-B53B-1ADAAB8D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836-09DA-4FE6-8277-5813F8B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8B3-D702-46F9-8097-D65178FA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EAE-D079-41A9-8169-95432CE8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E49-DBA3-4911-9A77-F423FC91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1FE-0A42-4E01-AA47-FB9AC20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EA2-A762-4CA0-A337-DFADF01A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EC6-6FBE-4437-8CFE-CA6D2118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35A-9218-46AC-A87B-422EE17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785-C800-4BBA-83DB-651CAF5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BE9-4AEF-4485-AF3D-9EC1E509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8B1-5C4E-4800-8A6B-3127B5A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27C-9A3B-4E38-B283-E07F9EC0E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20:47:30Z</dcterms:created>
  <dc:creator>L</dc:creator>
  <dc:description/>
  <dc:language>en-US</dc:language>
  <cp:lastModifiedBy>L</cp:lastModifiedBy>
  <dcterms:modified xsi:type="dcterms:W3CDTF">2011-04-08T20:48:16Z</dcterms:modified>
  <cp:revision>2</cp:revision>
  <dc:subject/>
  <dc:title>Презентация PowerPoint</dc:title>
</cp:coreProperties>
</file>