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5A5-19C1-4151-9C38-8E779206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700-3E7E-47D0-933A-B372190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D8A-B0CF-4873-8C69-E48A2CCE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321-A8BE-4038-841A-67BC8386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3B8-AB0D-4505-91F7-927A3FC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36D-CC97-419F-A4C6-3E58677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7D4-EB4B-473C-9B4F-CB839C1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A24-B3EF-4015-8F98-AC5290C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E6D-5C9A-4DF8-BDA7-734A041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12A-DFA0-4C6C-8246-69BED53E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3C8-DF72-4FCE-A82E-633F0B6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A76-8328-4C04-A65D-FD5768B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3A5-F965-4B78-A46C-45DDB4B7F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20:47:30Z</dcterms:created>
  <dc:creator>L</dc:creator>
  <dc:description/>
  <dc:language>en-US</dc:language>
  <cp:lastModifiedBy>L</cp:lastModifiedBy>
  <dcterms:modified xsi:type="dcterms:W3CDTF">2011-04-08T20:48:16Z</dcterms:modified>
  <cp:revision>2</cp:revision>
  <dc:subject/>
  <dc:title>Презентация PowerPoint</dc:title>
</cp:coreProperties>
</file>