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501-E0DD-436D-8816-D4602BC2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69E-8A92-4AB6-A9DB-906D70F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E7E-0825-4F28-AE18-5E6E5E07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1BF-4756-476D-BF24-5398FF70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335-9B3E-48E2-BBE2-6022F041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842-3008-4D68-8BEC-D9C9676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895-10D3-4816-82FB-36C975B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76E-66B5-44EB-A799-BBD7C041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990-37D1-40CA-8490-FE02B4B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0C4-7A74-418C-A471-141D4E2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2CD-FFAF-42D2-93E6-4DA4069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749-1576-4AF6-B77B-9AA08BA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9BCA-94A7-4C46-B11B-031F884C9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20:47:30Z</dcterms:created>
  <dc:creator>L</dc:creator>
  <dc:description/>
  <dc:language>en-US</dc:language>
  <cp:lastModifiedBy>L</cp:lastModifiedBy>
  <dcterms:modified xsi:type="dcterms:W3CDTF">2011-04-08T20:48:16Z</dcterms:modified>
  <cp:revision>2</cp:revision>
  <dc:subject/>
  <dc:title>Презентация PowerPoint</dc:title>
</cp:coreProperties>
</file>