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F70-D623-4172-A785-C4BDB125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FC7-3904-4EAF-80D8-2BE3A0DD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797-441D-4B67-9EE1-F76A7922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32C-4F27-412B-AE03-BB4AAEFB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A4DE-77F2-402E-B44C-F9D1D537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C8F3-6049-4BD3-9BC2-F600AAC0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468B-DAD2-432F-ADBF-2491174A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C78D-0EFE-402B-AB5D-1EA5AC92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0C45-1E72-47E5-809A-33DFF39F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CBD8-7B42-4A37-8CD6-B573A8B1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3C45-CC1A-485D-AA46-28BCAA77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981-5258-451E-8878-17C781F9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22A0-8ECE-43B0-A1AA-488200A9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3914-467D-480B-BEBE-D4BA9BEC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37F2-6AE7-4996-B76E-6C15132B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51CE-7DA1-48E6-B612-25946B2D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968F-FD05-49A4-BB61-56FA80A2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599-893F-4374-954D-33FED2C7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7E0-FE50-4CFD-934A-9245D69F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E61-BEBC-4C1A-882D-7CD33E07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B83-005B-4EC3-A3D1-943B69DE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DC4-2BCB-43A2-8CF1-7103F355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FD5-F2EB-49BB-8B0A-45E8C2A0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8E5-90E9-4FD7-829A-11600970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DB28-8FA7-49CB-9949-BE837E9094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57CC-E6E0-4840-9FFD-6CEB55B644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Сумма углов треугольника</a:t>
            </a: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Выполните тес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В треугольнике АВС угол А равен 9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0,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и этом другие два угл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) один острый, другой может быть прямым или тупы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) оба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) могут быть как острыми, так и тупыми или прямы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6201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В треугольнике АВС угол В – тупой, при этом другие два угла могут быт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) только остр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) острыми и туп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) острыми и прям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В туп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) прямой и остры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) тупой и прям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) тупой и острый угл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6960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В остр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) все углы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) один угол тупо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) один прямой уго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152280"/>
            <a:ext cx="75438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В прям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) прямой и туп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) два прямых угл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)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Цели урок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Ввести понятие остроугольного, прямоугольного, тупоугольного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уп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тупой, то треугольник называется туп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060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ям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прямой, то треугольник называется прям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3962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орона треугольника, лежащая против прямого угла называется 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гипотенузо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а две другие называются 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кате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тр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все три угла треугольника острые, то треугольник называется остр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2805" r="5130" b="0"/>
          <a:stretch/>
        </p:blipFill>
        <p:spPr>
          <a:xfrm>
            <a:off x="4495680" y="2743200"/>
            <a:ext cx="3810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ледствие из теоремы о сумме углов треугольн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окажите, что треугольник имеет хотя бы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343400" y="152280"/>
                <a:ext cx="2451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∠</m:t>
                    </m:r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657600" y="228600"/>
                <a:ext cx="3809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84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1-21T16:30:2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