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0FD3-1048-423D-99B2-A4D864A170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A40-A685-4D51-AA8D-68AFE1CD20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сказке конец, кто не прыгал -  молодец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4E0C-223A-4BC5-A5CC-DFE2C2CB91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DFE-5B76-46E7-8AA2-D3A3350F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CFC-A648-49C7-A5E5-DE743F8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0D1-D3F4-4B69-8D0B-7257DB9B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110-8876-4C1C-9C3B-D5EA5A7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837-C4B7-4105-BF03-99B1D04E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BFD-2A6F-44A8-91F7-634AD88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AB5-2C06-4B12-A791-B9B3ECEF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52B-1620-4710-9FA4-CAA7568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65E-B3D2-4BA7-9CAB-884CDC32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829-987A-42E8-A8D0-FF00685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CBA-C9CA-4425-99E1-25B90AC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E28-E9EA-4DFF-8CBB-DD6939B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05DC-CF96-4F4B-A50B-B12644CB572B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казка 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“</a:t>
            </a: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СНЕГУРОЧКА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”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в исполнении 7 «А»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Snow Maiden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7 “A” form presents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" name="Рисунок 3" descr="А снег идёт.gif"/>
          <p:cNvPicPr/>
          <p:nvPr/>
        </p:nvPicPr>
        <p:blipFill>
          <a:blip r:embed="rId1"/>
          <a:stretch/>
        </p:blipFill>
        <p:spPr>
          <a:xfrm>
            <a:off x="428760" y="1000080"/>
            <a:ext cx="2214360" cy="4500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post-42-1165594096.gif"/>
          <p:cNvPicPr/>
          <p:nvPr/>
        </p:nvPicPr>
        <p:blipFill>
          <a:blip r:embed="rId2"/>
          <a:stretch/>
        </p:blipFill>
        <p:spPr>
          <a:xfrm>
            <a:off x="6572160" y="1143000"/>
            <a:ext cx="2286000" cy="4524480"/>
          </a:xfrm>
          <a:prstGeom prst="rect">
            <a:avLst/>
          </a:prstGeom>
          <a:ln w="0">
            <a:noFill/>
          </a:ln>
        </p:spPr>
      </p:pic>
      <p:pic>
        <p:nvPicPr>
          <p:cNvPr id="52" name="04 Russian Mood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day came when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her friends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asked the Snow Maiden to go berrying in the woods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“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Come with us, little Snow Maiden,”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they cried. </a:t>
            </a:r>
            <a:r>
              <a:rPr b="0" lang="en-US" sz="3200" spc="-1" strike="noStrike">
                <a:solidFill>
                  <a:srgbClr val="0000ff"/>
                </a:solidFill>
                <a:latin typeface="Constantia"/>
              </a:rPr>
              <a:t>“Do come!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6" name="Рисунок 4" descr="680035.JPG"/>
          <p:cNvPicPr/>
          <p:nvPr/>
        </p:nvPicPr>
        <p:blipFill>
          <a:blip r:embed="rId1"/>
          <a:stretch/>
        </p:blipFill>
        <p:spPr>
          <a:xfrm>
            <a:off x="857160" y="2637000"/>
            <a:ext cx="7315200" cy="34351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920" y="5143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от раз собрались девушки в лес по ягоды, стали Снегурочку с собой звать: - Пойдем да пойдем, Снегурочка! Пойдем да пойдем, подруженьк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took a little basket and went to the woods with her young friend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зяла Снегурочка кузовок, пошла в лес с подружкам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The day was drawing to a close. The girls disported themselves still more merrily, they built up a bonfire, and began jumping across it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т и вечер пришел. Разыгрались девушки, разожгли костер и стали через него прыга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Jump! Jump, Snow Maiden!”</a:t>
            </a: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cried the girls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ыгай, прыгай, Снегурочка! – кричали девушки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The Snow Maiden took a flying leap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There was a hissing sound above the fire, a piteous moaning, and the Snow Maiden vanishe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Потянулся над костром белый пар, свился в облачко, полетело облачко в высоту поднебесную. Растаяла Снегурочка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Но в новогоднюю ночь происходят всякие чудеса, и сегодня Снегурочка снова с нами. Смотрите, какая она веселая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и озорная ! Она дарит вам свой зажигательный танец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се: С НОВЫМ ГОДОМ!!!!</a:t>
            </a:r>
            <a:r>
              <a:rPr b="1" lang="en-US" sz="2000" spc="-1" strike="noStrike">
                <a:solidFill>
                  <a:srgbClr val="002060"/>
                </a:solidFill>
                <a:latin typeface="Constantia"/>
              </a:rPr>
              <a:t> Happy New Year!!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Русская народная сказка </a:t>
            </a: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на английском языке…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onstantia"/>
              </a:rPr>
              <a:t>Once upon a time there lived an old man and his wife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Жили- были дед, да баб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Содержимое 3" descr="697047.JPG"/>
          <p:cNvPicPr/>
          <p:nvPr/>
        </p:nvPicPr>
        <p:blipFill>
          <a:blip r:embed="rId1"/>
          <a:stretch/>
        </p:blipFill>
        <p:spPr>
          <a:xfrm>
            <a:off x="428760" y="3429000"/>
            <a:ext cx="242892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697010.JPG"/>
          <p:cNvPicPr/>
          <p:nvPr/>
        </p:nvPicPr>
        <p:blipFill>
          <a:blip r:embed="rId2"/>
          <a:stretch/>
        </p:blipFill>
        <p:spPr>
          <a:xfrm>
            <a:off x="3714840" y="3429000"/>
            <a:ext cx="451476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nstantia"/>
              </a:rPr>
              <a:t>They had everything the heart could desire, except children. They were so sorry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сего у них было вдоволь,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т детей не было. Очень они печалились и горевали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Рисунок 7" descr="PB030013.JPG"/>
          <p:cNvPicPr/>
          <p:nvPr/>
        </p:nvPicPr>
        <p:blipFill>
          <a:blip r:embed="rId1"/>
          <a:stretch/>
        </p:blipFill>
        <p:spPr>
          <a:xfrm>
            <a:off x="2928960" y="42148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6800" y="714240"/>
            <a:ext cx="80726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One winter day the old man watched and watched out the window and then said to his wife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85724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Look at these children. They are making a</a:t>
            </a:r>
            <a:r>
              <a:rPr b="0" lang="en-US" sz="28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onstantia"/>
              </a:rPr>
              <a:t>snowman! Let’s make a daughter for ourselves, a snow maiden!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т раз зимой дед из окошка глядел, глядел, да и говорит бабе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смотри-ка  на этих ребятишек. Какого снеговика лепят! Давай-ка и мы вылепим дочку для нас с тобой, Снегурочку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" name="Picture 5" descr="прик снеговик"/>
          <p:cNvPicPr/>
          <p:nvPr/>
        </p:nvPicPr>
        <p:blipFill>
          <a:blip r:embed="rId1"/>
          <a:stretch/>
        </p:blipFill>
        <p:spPr>
          <a:xfrm>
            <a:off x="2627280" y="148428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21375600">
            <a:off x="357120" y="999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So, they went into the back garden and began to mould their snow daughter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так, пошли старики в огород и давай снежную дочку лепить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2" name="Содержимое 5" descr="697045.JPG"/>
          <p:cNvPicPr/>
          <p:nvPr/>
        </p:nvPicPr>
        <p:blipFill>
          <a:blip r:embed="rId1"/>
          <a:stretch/>
        </p:blipFill>
        <p:spPr>
          <a:xfrm>
            <a:off x="3214800" y="178596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800080"/>
                </a:solidFill>
                <a:latin typeface="Constantia"/>
              </a:rPr>
              <a:t>Husband!”</a:t>
            </a:r>
            <a:r>
              <a:rPr b="0" lang="en-US" sz="4400" spc="-1" strike="noStrike">
                <a:solidFill>
                  <a:srgbClr val="1f497d"/>
                </a:solidFill>
                <a:latin typeface="Constantia"/>
              </a:rPr>
              <a:t> cried the old woman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Constantia"/>
              </a:rPr>
              <a:t>Just think! We have got a real live daughter of our own, our darling Snow Maiden!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д, - баба кричит, - да это у нас доченька живая, Снегурочка дорогая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5" name="Рисунок 3" descr="Почти ангел.GIF"/>
          <p:cNvPicPr/>
          <p:nvPr/>
        </p:nvPicPr>
        <p:blipFill>
          <a:blip r:embed="rId1"/>
          <a:stretch/>
        </p:blipFill>
        <p:spPr>
          <a:xfrm>
            <a:off x="3286080" y="371484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grew fast, and with every passing day she became lovelier and lovelier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стет Снегурочка не по дням, а по часам. Что ни день – Снегурочка все краш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Snow Maiden was white as, a snowflake, very beautiful, but there were no roses on her cheeks, not a touch of color in her lip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 собой Снегурочка - как снежинка белая, очень красивая, только румянца у снегурки нет, да в губах ни кровиноч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Soon the merry springtime came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then hot summer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1f497d"/>
                </a:solidFill>
                <a:latin typeface="Constantia"/>
              </a:rPr>
              <a:t>But the Snow Maiden grew sad and listless, she would look out of the window and weep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т пришла весна - красна, затем жаркое лето, а Снегурка заскучала, невесела стала, все в окошко глядит, слезы ль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0" name="Picture 7" descr="anime_wallpapers-1160592593_i_8748_full"/>
          <p:cNvPicPr/>
          <p:nvPr/>
        </p:nvPicPr>
        <p:blipFill>
          <a:blip r:embed="rId1"/>
          <a:stretch/>
        </p:blipFill>
        <p:spPr>
          <a:xfrm>
            <a:off x="4000680" y="3978360"/>
            <a:ext cx="461484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The old man and his wife would ask uneasily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800080"/>
                </a:solidFill>
                <a:latin typeface="Constantia"/>
              </a:rPr>
              <a:t>Aren’t you feeling well, little daughter?”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Constantia"/>
              </a:rPr>
              <a:t>I’m well,”</a:t>
            </a: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 would be the repl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onstantia"/>
              </a:rPr>
              <a:t>But she still sat in the corner, and wouldn’t go ou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ед да баба все ахают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ж здорова ли ты, дочень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дорова я, бабуш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 сама все в уголок прячется, на улицу не хоче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3" name="Picture 5" descr="AIR"/>
          <p:cNvPicPr/>
          <p:nvPr/>
        </p:nvPicPr>
        <p:blipFill>
          <a:blip r:embed="rId1"/>
          <a:stretch/>
        </p:blipFill>
        <p:spPr>
          <a:xfrm>
            <a:off x="5327640" y="3933720"/>
            <a:ext cx="3816360" cy="29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9:37:22Z</dcterms:created>
  <dc:creator>Zver</dc:creator>
  <dc:description/>
  <dc:language>en-US</dc:language>
  <cp:lastModifiedBy>Nelly</cp:lastModifiedBy>
  <dcterms:modified xsi:type="dcterms:W3CDTF">2009-01-02T09:42:43Z</dcterms:modified>
  <cp:revision>49</cp:revision>
  <dc:subject/>
  <dc:title>СНЕГУРОЧКА</dc:title>
</cp:coreProperties>
</file>