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6E7-85A9-4E6A-BB34-37F3F5DF78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91D4-468E-42A0-83C7-856E450848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сказке конец, кто не прыгал - 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BDE-ABBA-4C7C-9F72-8675DB7268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455-803E-4A49-93E6-4D306781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B15-4B6D-4718-AB3E-EED289B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509-CBD6-46EC-BD2B-59B6200D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5C2-C40F-4C40-8956-3EC59429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43A-E553-40A9-8147-B4DD1FE3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2A-309E-421E-931D-A335485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605-ED63-464B-8BB9-0A86C18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57A-194B-4EE6-A64A-60F6EF68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9FA-75C8-4485-9D4B-592E16E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48B-10F0-426E-A4BA-B3FA8E9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1D8-0385-46B7-A396-674AA06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B34-17A7-438A-AB03-FAF7730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AAF1-6460-408D-8DBD-6BE90E3820C2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азка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“</a:t>
            </a: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СНЕГУРОЧКА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в исполнении 7 «А»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Snow Maiden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7 “A” form presents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" name="Рисунок 3" descr="А снег идёт.gif"/>
          <p:cNvPicPr/>
          <p:nvPr/>
        </p:nvPicPr>
        <p:blipFill>
          <a:blip r:embed="rId1"/>
          <a:stretch/>
        </p:blipFill>
        <p:spPr>
          <a:xfrm>
            <a:off x="428760" y="1000080"/>
            <a:ext cx="2214360" cy="4500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post-42-1165594096.gif"/>
          <p:cNvPicPr/>
          <p:nvPr/>
        </p:nvPicPr>
        <p:blipFill>
          <a:blip r:embed="rId2"/>
          <a:stretch/>
        </p:blipFill>
        <p:spPr>
          <a:xfrm>
            <a:off x="6572160" y="1143000"/>
            <a:ext cx="2286000" cy="4524480"/>
          </a:xfrm>
          <a:prstGeom prst="rect">
            <a:avLst/>
          </a:prstGeom>
          <a:ln w="0">
            <a:noFill/>
          </a:ln>
        </p:spPr>
      </p:pic>
      <p:pic>
        <p:nvPicPr>
          <p:cNvPr id="52" name="04 Russian Mood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day came when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her friends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asked the Snow Maiden to go berrying in the woods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“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Come with us, little Snow Maiden,”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they cried.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“Do come!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6" name="Рисунок 4" descr="680035.JPG"/>
          <p:cNvPicPr/>
          <p:nvPr/>
        </p:nvPicPr>
        <p:blipFill>
          <a:blip r:embed="rId1"/>
          <a:stretch/>
        </p:blipFill>
        <p:spPr>
          <a:xfrm>
            <a:off x="857160" y="2637000"/>
            <a:ext cx="7315200" cy="3435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920" y="5143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т раз собрались девушки в лес по ягоды, стали Снегурочку с собой звать: - Пойдем да пойдем, Снегурочка! Пойдем да пойдем, подруженьк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took a little basket and went to the woods with her young friend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зяла Снегурочка кузовок, пошла в лес с подружкам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The day was drawing to a close. The girls disported themselves still more merrily, they built up a bonfire, and began jumping across i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т и вечер пришел. Разыгрались девушки, разожгли костер и стали через него прыга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Jump! Jump, Snow Maiden!”</a:t>
            </a: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cried the girls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ыгай, прыгай, Снегурочка! – кричали девушки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The Snow Maiden took a flying leap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There was a hissing sound above the fire, a piteous moaning, and the Snow Maiden vanishe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Потянулся над костром белый пар, свился в облачко, полетело облачко в высоту поднебесную. Растаяла Снегурочка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Но в новогоднюю ночь происходят всякие чудеса, и сегодня Снегурочка снова с нами. Смотрите, какая она веселая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и озорная ! Она дарит вам свой зажигательный танец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се: С НОВЫМ ГОДОМ!!!!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Happy New Year!!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усская народная сказка </a:t>
            </a: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на английском языке…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onstantia"/>
              </a:rPr>
              <a:t>Once upon a time there lived an old man and his wife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Жили- были дед, да баб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Содержимое 3" descr="697047.JPG"/>
          <p:cNvPicPr/>
          <p:nvPr/>
        </p:nvPicPr>
        <p:blipFill>
          <a:blip r:embed="rId1"/>
          <a:stretch/>
        </p:blipFill>
        <p:spPr>
          <a:xfrm>
            <a:off x="428760" y="3429000"/>
            <a:ext cx="242892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697010.JPG"/>
          <p:cNvPicPr/>
          <p:nvPr/>
        </p:nvPicPr>
        <p:blipFill>
          <a:blip r:embed="rId2"/>
          <a:stretch/>
        </p:blipFill>
        <p:spPr>
          <a:xfrm>
            <a:off x="3714840" y="3429000"/>
            <a:ext cx="451476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nstantia"/>
              </a:rPr>
              <a:t>They had everything the heart could desire, except children. They were so sorry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сего у них было вдоволь,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т детей не было. Очень они печалились и горевали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Рисунок 7" descr="PB030013.JPG"/>
          <p:cNvPicPr/>
          <p:nvPr/>
        </p:nvPicPr>
        <p:blipFill>
          <a:blip r:embed="rId1"/>
          <a:stretch/>
        </p:blipFill>
        <p:spPr>
          <a:xfrm>
            <a:off x="2928960" y="42148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714240"/>
            <a:ext cx="80726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One winter day the old man watched and watched out the window and then said to his wife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85724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Look at these children. They are making a</a:t>
            </a: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snowman! Let’s make a daughter for ourselves, a snow maiden!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т раз зимой дед из окошка глядел, глядел, да и говорит баб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мотри-ка  на этих ребятишек. Какого снеговика лепят! Давай-ка и мы вылепим дочку для нас с тобой, Снегурочку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" name="Picture 5" descr="прик снеговик"/>
          <p:cNvPicPr/>
          <p:nvPr/>
        </p:nvPicPr>
        <p:blipFill>
          <a:blip r:embed="rId1"/>
          <a:stretch/>
        </p:blipFill>
        <p:spPr>
          <a:xfrm>
            <a:off x="2627280" y="148428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21375600">
            <a:off x="357120" y="999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So, they went into the back garden and began to mould their snow daughter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так, пошли старики в огород и давай снежную дочку лепить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Содержимое 5" descr="697045.JPG"/>
          <p:cNvPicPr/>
          <p:nvPr/>
        </p:nvPicPr>
        <p:blipFill>
          <a:blip r:embed="rId1"/>
          <a:stretch/>
        </p:blipFill>
        <p:spPr>
          <a:xfrm>
            <a:off x="3214800" y="178596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800080"/>
                </a:solidFill>
                <a:latin typeface="Constantia"/>
              </a:rPr>
              <a:t>Husband!”</a:t>
            </a:r>
            <a:r>
              <a:rPr b="0" lang="en-US" sz="4400" spc="-1" strike="noStrike">
                <a:solidFill>
                  <a:srgbClr val="1f497d"/>
                </a:solidFill>
                <a:latin typeface="Constantia"/>
              </a:rPr>
              <a:t> cried the old woman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Just think! We have got a real live daughter of our own, our darling Snow Maiden!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д, - баба кричит, - да это у нас доченька живая, Снегурочка дорогая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5" name="Рисунок 3" descr="Почти ангел.GIF"/>
          <p:cNvPicPr/>
          <p:nvPr/>
        </p:nvPicPr>
        <p:blipFill>
          <a:blip r:embed="rId1"/>
          <a:stretch/>
        </p:blipFill>
        <p:spPr>
          <a:xfrm>
            <a:off x="3286080" y="371484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grew fast, and with every passing day she became lovelier and loveli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стет Снегурочка не по дням, а по часам. Что ни день – Снегурочка все краш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was white as, a snowflake, very beautiful, but there were no roses on her cheeks, not a touch of color in her lip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 собой Снегурочка - как снежинка белая, очень красивая, только румянца у снегурки нет, да в губах ни кровиноч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Soon the merry springtime came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then hot summer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But the Snow Maiden grew sad and listless, she would look out of the window and weep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т пришла весна - красна, затем жаркое лето, а Снегурка заскучала, невесела стала, все в окошко глядит, слезы ль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7" descr="anime_wallpapers-1160592593_i_8748_full"/>
          <p:cNvPicPr/>
          <p:nvPr/>
        </p:nvPicPr>
        <p:blipFill>
          <a:blip r:embed="rId1"/>
          <a:stretch/>
        </p:blipFill>
        <p:spPr>
          <a:xfrm>
            <a:off x="4000680" y="3978360"/>
            <a:ext cx="46148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old man and his wife would ask uneasily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800080"/>
                </a:solidFill>
                <a:latin typeface="Constantia"/>
              </a:rPr>
              <a:t>Aren’t you feeling well, little daughter?”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’m well,”</a:t>
            </a: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 would be the repl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But she still sat in the corner, and wouldn’t go ou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д да баба все ахают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ж здорова ли ты, дочень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дорова я, бабуш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сама все в уголок прячется, на улицу не хоче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Picture 5" descr="AIR"/>
          <p:cNvPicPr/>
          <p:nvPr/>
        </p:nvPicPr>
        <p:blipFill>
          <a:blip r:embed="rId1"/>
          <a:stretch/>
        </p:blipFill>
        <p:spPr>
          <a:xfrm>
            <a:off x="5327640" y="3933720"/>
            <a:ext cx="3816360" cy="29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9:37:22Z</dcterms:created>
  <dc:creator>Zver</dc:creator>
  <dc:description/>
  <dc:language>en-US</dc:language>
  <cp:lastModifiedBy>Nelly</cp:lastModifiedBy>
  <dcterms:modified xsi:type="dcterms:W3CDTF">2009-01-02T09:42:43Z</dcterms:modified>
  <cp:revision>49</cp:revision>
  <dc:subject/>
  <dc:title>СНЕГУРОЧКА</dc:title>
</cp:coreProperties>
</file>