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2329-8F73-463B-9ECC-C9405FBC59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2A47-0B6C-4B69-B684-E603098D0ED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и сказке конец, кто не прыгал -  молодец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15C2-DBD3-4E23-96FC-4308A49A554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716D-FC26-49A1-90F1-C936E7F0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55C8-35F5-4C15-9DDB-F3AC02C1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B748-4BC4-42EF-B158-D767E2562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020C-D3EF-49AD-A5BB-0583AAF3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C4B1-1F19-4AFA-BA5B-B6E20BFC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50AC-4339-4E1D-B768-7029A006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2BFF-0D86-4ACF-80A7-E808C24A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A97E-C57F-44F0-901D-2172DA62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CDB-9D5F-4C9C-B383-673EDC9D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9CF0-41E0-45AB-B8D3-8F9D01F7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D983-6AC5-4C73-AF8B-6F76CBF1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3FE3-96F5-43BF-A6B5-307FA968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2ABA-F51B-4C48-BB75-0885DE56B841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казка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“</a:t>
            </a:r>
            <a:r>
              <a:rPr b="0" lang="ru-RU" sz="2400" spc="-1" strike="noStrike">
                <a:solidFill>
                  <a:srgbClr val="0000ff"/>
                </a:solidFill>
                <a:latin typeface="Constantia"/>
              </a:rPr>
              <a:t>СНЕГУРОЧКА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”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onstantia"/>
              </a:rPr>
              <a:t>в исполнении 7 «А»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класс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Snow Maiden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7 “A” form presents…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0" name="Рисунок 3" descr="А снег идёт.gif"/>
          <p:cNvPicPr/>
          <p:nvPr/>
        </p:nvPicPr>
        <p:blipFill>
          <a:blip r:embed="rId1"/>
          <a:stretch/>
        </p:blipFill>
        <p:spPr>
          <a:xfrm>
            <a:off x="428760" y="1000080"/>
            <a:ext cx="2214360" cy="45007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post-42-1165594096.gif"/>
          <p:cNvPicPr/>
          <p:nvPr/>
        </p:nvPicPr>
        <p:blipFill>
          <a:blip r:embed="rId2"/>
          <a:stretch/>
        </p:blipFill>
        <p:spPr>
          <a:xfrm>
            <a:off x="6572160" y="1143000"/>
            <a:ext cx="2286000" cy="4524480"/>
          </a:xfrm>
          <a:prstGeom prst="rect">
            <a:avLst/>
          </a:prstGeom>
          <a:ln w="0">
            <a:noFill/>
          </a:ln>
        </p:spPr>
      </p:pic>
      <p:pic>
        <p:nvPicPr>
          <p:cNvPr id="52" name="04 Russian Mood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 day came when </a:t>
            </a:r>
            <a:r>
              <a:rPr b="0" lang="en-US" sz="3200" spc="-1" strike="noStrike">
                <a:solidFill>
                  <a:srgbClr val="0000ff"/>
                </a:solidFill>
                <a:latin typeface="Constantia"/>
              </a:rPr>
              <a:t>her friends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asked the Snow Maiden to go berrying in the woods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nstantia"/>
              </a:rPr>
              <a:t>“ </a:t>
            </a:r>
            <a:r>
              <a:rPr b="0" lang="en-US" sz="3200" spc="-1" strike="noStrike">
                <a:solidFill>
                  <a:srgbClr val="0000ff"/>
                </a:solidFill>
                <a:latin typeface="Constantia"/>
              </a:rPr>
              <a:t>Come with us, little Snow Maiden,”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they cried. </a:t>
            </a:r>
            <a:r>
              <a:rPr b="0" lang="en-US" sz="3200" spc="-1" strike="noStrike">
                <a:solidFill>
                  <a:srgbClr val="0000ff"/>
                </a:solidFill>
                <a:latin typeface="Constantia"/>
              </a:rPr>
              <a:t>“Do come!”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6" name="Рисунок 4" descr="680035.JPG"/>
          <p:cNvPicPr/>
          <p:nvPr/>
        </p:nvPicPr>
        <p:blipFill>
          <a:blip r:embed="rId1"/>
          <a:stretch/>
        </p:blipFill>
        <p:spPr>
          <a:xfrm>
            <a:off x="857160" y="2637000"/>
            <a:ext cx="7315200" cy="34351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5"/>
          <p:cNvSpPr/>
          <p:nvPr/>
        </p:nvSpPr>
        <p:spPr>
          <a:xfrm>
            <a:off x="3571920" y="51436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от раз собрались девушки в лес по ягоды, стали Снегурочку с собой звать: - Пойдем да пойдем, Снегурочка! Пойдем да пойдем, подруженька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The Snow Maiden took a little basket and went to the woods with her young friends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зяла Снегурочка кузовок, пошла в лес с подружкам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nstantia"/>
              </a:rPr>
              <a:t>The day was drawing to a close. The girls disported themselves still more merrily, they built up a bonfire, and began jumping across it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от и вечер пришел. Разыгрались девушки, разожгли костер и стали через него прыгать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nstantia"/>
              </a:rPr>
              <a:t>“</a:t>
            </a:r>
            <a:r>
              <a:rPr b="0" lang="en-US" sz="3200" spc="-1" strike="noStrike">
                <a:solidFill>
                  <a:srgbClr val="800080"/>
                </a:solidFill>
                <a:latin typeface="Constantia"/>
              </a:rPr>
              <a:t>Jump! Jump, Snow Maiden!”</a:t>
            </a: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 cried the girls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рыгай, прыгай, Снегурочка! – кричали девушки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onstantia"/>
              </a:rPr>
              <a:t>The Snow Maiden took a flying leap…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onstantia"/>
              </a:rPr>
              <a:t>There was a hissing sound above the fire, a piteous moaning, and the Snow Maiden vanished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Потянулся над костром белый пар, свился в облачко, полетело облачко в высоту поднебесную. Растаяла Снегурочка…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Но в новогоднюю ночь происходят всякие чудеса, и сегодня Снегурочка снова с нами. Смотрите, какая она веселая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и озорная ! Она дарит вам свой зажигательный танец!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Все: С НОВЫМ ГОДОМ!!!!</a:t>
            </a: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 Happy New Year!!!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Русская народная сказка </a:t>
            </a:r>
            <a:r>
              <a:rPr b="0" lang="ru-RU" sz="4000" spc="-1" strike="noStrike">
                <a:solidFill>
                  <a:srgbClr val="1f497d"/>
                </a:solidFill>
                <a:latin typeface="Constantia"/>
              </a:rPr>
              <a:t>на английском языке…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Constantia"/>
              </a:rPr>
              <a:t>Once upon a time there lived an old man and his wife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Жили- были дед, да баба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4" name="Содержимое 3" descr="697047.JPG"/>
          <p:cNvPicPr/>
          <p:nvPr/>
        </p:nvPicPr>
        <p:blipFill>
          <a:blip r:embed="rId1"/>
          <a:stretch/>
        </p:blipFill>
        <p:spPr>
          <a:xfrm>
            <a:off x="428760" y="3429000"/>
            <a:ext cx="2428920" cy="28576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697010.JPG"/>
          <p:cNvPicPr/>
          <p:nvPr/>
        </p:nvPicPr>
        <p:blipFill>
          <a:blip r:embed="rId2"/>
          <a:stretch/>
        </p:blipFill>
        <p:spPr>
          <a:xfrm>
            <a:off x="3714840" y="3429000"/>
            <a:ext cx="4514760" cy="286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58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nstantia"/>
              </a:rPr>
              <a:t>They had everything the heart could desire, except children. They were so sorry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сего у них было вдоволь,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от детей не было. Очень они печалились и горевали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7" name="Рисунок 7" descr="PB030013.JPG"/>
          <p:cNvPicPr/>
          <p:nvPr/>
        </p:nvPicPr>
        <p:blipFill>
          <a:blip r:embed="rId1"/>
          <a:stretch/>
        </p:blipFill>
        <p:spPr>
          <a:xfrm>
            <a:off x="2928960" y="4214880"/>
            <a:ext cx="235728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6800" y="714240"/>
            <a:ext cx="80726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One winter day the old man watched and watched out the window and then said to his wife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00040" y="185724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800080"/>
                </a:solidFill>
                <a:latin typeface="Constantia"/>
              </a:rPr>
              <a:t>Look at these children. They are making a</a:t>
            </a:r>
            <a:r>
              <a:rPr b="0" lang="en-US" sz="2800" spc="-1" strike="noStrike">
                <a:solidFill>
                  <a:srgbClr val="1f497d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onstantia"/>
              </a:rPr>
              <a:t>snowman! Let’s make a daughter for ourselves, a snow maiden!”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от раз зимой дед из окошка глядел, глядел, да и говорит бабе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осмотри-ка  на этих ребятишек. Какого снеговика лепят! Давай-ка и мы вылепим дочку для нас с тобой, Снегурочку!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0" name="Picture 5" descr="прик снеговик"/>
          <p:cNvPicPr/>
          <p:nvPr/>
        </p:nvPicPr>
        <p:blipFill>
          <a:blip r:embed="rId1"/>
          <a:stretch/>
        </p:blipFill>
        <p:spPr>
          <a:xfrm>
            <a:off x="2627280" y="1484280"/>
            <a:ext cx="3240000" cy="201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 rot="21375600">
            <a:off x="357120" y="999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onstantia"/>
              </a:rPr>
              <a:t>So, they went into the back garden and began to mould their snow daughter…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Итак, пошли старики в огород и давай снежную дочку лепить…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2" name="Содержимое 5" descr="697045.JPG"/>
          <p:cNvPicPr/>
          <p:nvPr/>
        </p:nvPicPr>
        <p:blipFill>
          <a:blip r:embed="rId1"/>
          <a:stretch/>
        </p:blipFill>
        <p:spPr>
          <a:xfrm>
            <a:off x="3214800" y="1785960"/>
            <a:ext cx="3500280" cy="471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Constantia"/>
              </a:rPr>
              <a:t>“</a:t>
            </a:r>
            <a:r>
              <a:rPr b="0" lang="en-US" sz="4400" spc="-1" strike="noStrike">
                <a:solidFill>
                  <a:srgbClr val="800080"/>
                </a:solidFill>
                <a:latin typeface="Constantia"/>
              </a:rPr>
              <a:t>Husband!”</a:t>
            </a:r>
            <a:r>
              <a:rPr b="0" lang="en-US" sz="4400" spc="-1" strike="noStrike">
                <a:solidFill>
                  <a:srgbClr val="1f497d"/>
                </a:solidFill>
                <a:latin typeface="Constantia"/>
              </a:rPr>
              <a:t> cried the old woman</a:t>
            </a: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nstantia"/>
              </a:rPr>
              <a:t>“</a:t>
            </a:r>
            <a:r>
              <a:rPr b="0" lang="en-US" sz="3200" spc="-1" strike="noStrike">
                <a:solidFill>
                  <a:srgbClr val="800080"/>
                </a:solidFill>
                <a:latin typeface="Constantia"/>
              </a:rPr>
              <a:t>Just think! We have got a real live daughter of our own, our darling Snow Maiden!”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ед, - баба кричит, - да это у нас доченька живая, Снегурочка дорогая!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5" name="Рисунок 3" descr="Почти ангел.GIF"/>
          <p:cNvPicPr/>
          <p:nvPr/>
        </p:nvPicPr>
        <p:blipFill>
          <a:blip r:embed="rId1"/>
          <a:stretch/>
        </p:blipFill>
        <p:spPr>
          <a:xfrm>
            <a:off x="3286080" y="3714840"/>
            <a:ext cx="2071800" cy="278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The Snow Maiden grew fast, and with every passing day she became lovelier and lovelier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Растет Снегурочка не по дням, а по часам. Что ни день – Снегурочка все краше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The Snow Maiden was white as, a snowflake, very beautiful, but there were no roses on her cheeks, not a touch of color in her lips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 собой Снегурочка - как снежинка белая, очень красивая, только румянца у снегурки нет, да в губах ни кровиночк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Soon the merry springtime came,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1f497d"/>
                </a:solidFill>
                <a:latin typeface="Constantia"/>
              </a:rPr>
              <a:t>then hot summer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1f497d"/>
                </a:solidFill>
                <a:latin typeface="Constantia"/>
              </a:rPr>
              <a:t>But the Snow Maiden grew sad and listless, she would look out of the window and weep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от пришла весна - красна, затем жаркое лето, а Снегурка заскучала, невесела стала, все в окошко глядит, слезы льет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0" name="Picture 7" descr="anime_wallpapers-1160592593_i_8748_full"/>
          <p:cNvPicPr/>
          <p:nvPr/>
        </p:nvPicPr>
        <p:blipFill>
          <a:blip r:embed="rId1"/>
          <a:stretch/>
        </p:blipFill>
        <p:spPr>
          <a:xfrm>
            <a:off x="4000680" y="3978360"/>
            <a:ext cx="4614840" cy="287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The old man and his wife would ask uneasily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onstantia"/>
              </a:rPr>
              <a:t>“</a:t>
            </a:r>
            <a:r>
              <a:rPr b="0" lang="en-US" sz="2000" spc="-1" strike="noStrike">
                <a:solidFill>
                  <a:srgbClr val="800080"/>
                </a:solidFill>
                <a:latin typeface="Constantia"/>
              </a:rPr>
              <a:t>Aren’t you feeling well, little daughter?”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I’m well,”</a:t>
            </a:r>
            <a:r>
              <a:rPr b="0" lang="en-US" sz="2000" spc="-1" strike="noStrike">
                <a:solidFill>
                  <a:srgbClr val="1f497d"/>
                </a:solidFill>
                <a:latin typeface="Constantia"/>
              </a:rPr>
              <a:t> would be the repl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Constantia"/>
              </a:rPr>
              <a:t>But she still sat in the corner, and wouldn’t go ou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Дед да баба все ахают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Уж здорова ли ты, доченька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Здорова я, бабушк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А сама все в уголок прячется, на улицу не хочет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3" name="Picture 5" descr="AIR"/>
          <p:cNvPicPr/>
          <p:nvPr/>
        </p:nvPicPr>
        <p:blipFill>
          <a:blip r:embed="rId1"/>
          <a:stretch/>
        </p:blipFill>
        <p:spPr>
          <a:xfrm>
            <a:off x="5327640" y="3933720"/>
            <a:ext cx="3816360" cy="29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9:37:22Z</dcterms:created>
  <dc:creator>Zver</dc:creator>
  <dc:description/>
  <dc:language>en-US</dc:language>
  <cp:lastModifiedBy>Nelly</cp:lastModifiedBy>
  <dcterms:modified xsi:type="dcterms:W3CDTF">2009-01-02T09:42:43Z</dcterms:modified>
  <cp:revision>49</cp:revision>
  <dc:subject/>
  <dc:title>СНЕГУРОЧКА</dc:title>
</cp:coreProperties>
</file>