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F856B-14E3-4FC3-AED3-D28D62219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1842D-6332-4598-9EF3-D2B4D7D62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62877-B830-493B-BA71-AED13E2F1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1C9F5-D001-49C6-8D0E-A417CD482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984DD-45BF-479B-A97E-10FB08706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3C5A0-8336-429A-8C4D-5B4C14AB1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134F8-2472-4DB5-95F6-A364604B6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E9A11-E8E0-4315-A360-B7C1E751C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CB8C6-DBC0-4AC0-A9E0-0898A2F93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39D2E-6764-42A1-85FB-2C8753515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91743-7F33-40BB-B10D-86039BF4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61B5C-57F0-4534-8E4D-76EFE3AF7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39D8F-7F7E-4007-AA02-669E9347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EA27A-83B3-42E4-A7E6-0ACB9FF0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D21A8-8583-476E-A654-80E5C0DFF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0A1A4-2536-4093-A5F7-A7802A198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2ED07-8432-4B2C-8172-49DFB38C8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35058-FE0B-4ED8-B82E-04EB0EF1A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BCA31-AACC-4330-8F7B-F3B1DAAC6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DCE98-0329-41E4-B1C4-F8AC95BEB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5314F-8FB3-456B-A9E6-012A3DD1E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38707-65B4-4B57-A555-9C6DC5A87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4B01C-93FA-4799-BD15-75EC7A432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3487E-58B1-4F32-8F5E-17B9FED2A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455BB-E8B9-4A89-B640-BB3D6BE3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784CF-9A4D-4B7C-9140-3D56DF35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23E49-1F6B-415F-B303-ED80C597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E3015-5FE9-481A-8D8C-67A875B8D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D0682-279D-420C-B9BA-5A9CD731B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B4B2A-E518-4DB5-918C-87862435B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95D6A0-6765-4992-ACFD-C1C9FD52E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B55E73-27CF-4D57-B375-063400CDC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186324-3423-408F-A5E6-0BFCA89AA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19F36-48FD-487B-8DDE-EF5264B05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D00C35-2D9F-46DD-924D-8D9A0A5DE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31721C-9C35-4DA2-8DAA-A0060EC13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24897F-C282-4220-881E-826A75A29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8590FF-6377-450F-8D48-7B57A45A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9C1739-4EA6-486F-B716-B7D00C2C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484352-E3B1-4DAD-B37D-4B290BEB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35A3D5-782B-4A91-BE0F-96B479CFE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4DE2E9-148B-4062-80F6-239CF3E54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866853-39E3-4A17-B488-075E774FB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77A72-272D-46B6-B6AD-CF9873F75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31BE6-A41A-4567-B5BD-B3B95D8D4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3D3B7-4B07-4D52-AA05-EE17B47E2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A1DD6-E46A-4A9A-9E00-F7B087A8A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0237D-1128-431A-AFBA-28563C589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89905-4DC1-41C5-861A-2F7D2DA8F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C1054-1162-4B34-A1FD-5E5C957E1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BD8F2-FEE5-4586-A316-195D97A3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33BBB-25A1-4C42-840C-B6A0108E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54621-4D17-452C-8DAE-F0C57C9BE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70BE4-522F-41EA-98A1-0D594A4A8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2D910-5B9E-4434-A80D-6A9053300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B22B8-BBA2-44DF-8135-964F34E6C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BBBD3-75D1-4748-8EF5-196B26B8D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FB68E8-5313-4404-B457-AA7494EB8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3D036E-4E42-4404-9A77-6A9C9F84A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493DF9-92F2-4A45-AA52-519D16E54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86CE04-5E7B-4CDC-BBE5-66C3FEE93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3942AD-2048-42DF-B4E7-25E422E3E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833598-F8F8-4D19-9A8D-D5015C873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0EC061-ACBF-4CED-8FE1-62619D86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671F73-5D00-43E0-823B-4C6D7DCF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F12B8F-C0AA-4328-8E43-0CFF9F48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51486-47E0-4477-B250-AF6F260D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1E231E-3AA2-4304-803A-7923BB014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63E646-5164-4736-85FA-8FC8B0607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756F32-B708-4943-A98D-374F696B7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5B51E-2AE0-4121-A470-8DA28F34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83837-CC1C-438F-BE54-01653CD8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F5716-2605-4A1B-9D8D-73BDA0289A1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81202-2B9F-4614-8642-7AE820E70AA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0E25C-10EE-4721-81E6-3895EFBEEC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86FB-A34A-47DB-A732-BA05D8CC9F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9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13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15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22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DFAAC-661C-428E-A9C3-4C5A43F79CF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70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74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76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1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83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B8ACE-7401-4912-9FD9-C98E7A9A721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6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6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Мультимедийная разработка учебного занят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ема: правила поведения в условиях вынужденной автономии на природ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Ориентирование по местным признакам и предметам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78920" y="1844280"/>
            <a:ext cx="280836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Направление на юг определяют по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копление смолы на южной стороне хвойного дерева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оврагах на южных склонах снег тает быстрей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на пнях на южной стороне годичные кольца шире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ох нарастает на северной стороне дерева, а на южной больше веток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риподнятый край нижней перекладины креста на куполе церкви направлен на юг, а опущенный на север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ологая сторона муравейника направлена к югу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203640" y="1628640"/>
            <a:ext cx="5256000" cy="4496040"/>
            <a:chOff x="3203640" y="1628640"/>
            <a:chExt cx="5256000" cy="4496040"/>
          </a:xfrm>
        </p:grpSpPr>
        <p:pic>
          <p:nvPicPr>
            <p:cNvPr id="357" name="" descr=""/>
            <p:cNvPicPr/>
            <p:nvPr/>
          </p:nvPicPr>
          <p:blipFill>
            <a:blip r:embed="rId1"/>
            <a:stretch/>
          </p:blipFill>
          <p:spPr>
            <a:xfrm>
              <a:off x="3203640" y="1628640"/>
              <a:ext cx="5256000" cy="449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 txBox="1"/>
            <p:nvPr/>
          </p:nvSpPr>
          <p:spPr>
            <a:xfrm>
              <a:off x="3203640" y="1628640"/>
              <a:ext cx="5256000" cy="4496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e3e3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Выживани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457200" y="1484280"/>
            <a:ext cx="4038480" cy="244944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4643280" y="1557360"/>
            <a:ext cx="4038840" cy="233352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3924360"/>
            <a:ext cx="822960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ыживание – это активная деятельность, направленная на сохранение жизни, здоровья и работоспособности в экстремальных условия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Как развести костёр и защититься от жары и холода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755640" y="3933720"/>
            <a:ext cx="3538440" cy="205272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Необходимо правильно выбрать место для костра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Открытое безветренное место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Недалеко от воды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Очистить место от сухой травы и листьев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Не ближе 4-6 метров от деревьев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Не разжигать в хвойных молодняках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риготовить воду для заливки огня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Когда костёр развели, то нужно оставить возле него дежурны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От жары можно укрыться в шалаше или под навесом, а от холода соорудить утеплённый снегом шалаш или снежный домик, как строят эскимосы, с маленьким входом и отверстием наверху для дым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042920" y="1574640"/>
            <a:ext cx="295272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Электронные тесты для закрепления знаний по 1 части</a:t>
            </a:r>
            <a:br>
              <a:rPr sz="4000"/>
            </a:br>
            <a:r>
              <a:rPr b="0" lang="en-US" sz="2000" spc="-1" strike="noStrike">
                <a:solidFill>
                  <a:srgbClr val="e3e3ff"/>
                </a:solidFill>
                <a:latin typeface="Arial"/>
              </a:rPr>
              <a:t>( работа группами по рядам )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оведите прямую линию до полярной звезд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кажите соответствующую югу сторону ствола дере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то является причиной вынужденного автономного существования в природ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кажите на компасе угол, соответствующий магнитному азимут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к нужно себя вести в походе, если вы отстали от группы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Как выбрать место и построить жилище  для ночлега?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Место для ночлега и жилища выбирают учитывая следующее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Недалеко от воды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На возвышенном и сухом месте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Если это джунгли, то место должно быть не в пойме реки и проветриваться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Если открытое место, то в низине, защищённой от ветр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Жилище строится из подручных материалов, если нет палатк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4648320" y="2109960"/>
            <a:ext cx="4038480" cy="115092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4648320" y="3645000"/>
            <a:ext cx="4038480" cy="24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Добыча пищи и воды. Ядовитые и полезные растения.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На природе пищей может служить всё, что не угрожает здоровью: ягоды, грибы, лягушки, змеи, корни и стебли некоторых растени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оду можно пить из проточных источников, заранее профильтровав её. Есть несколько способов очистки воды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через песок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Через ткани, марлю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утём конденсац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Лучше всего, если есть возможность воду вскипятит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К ядовитым растениям относят волчье лыко и вороний глаз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одорожник и ромашку можно использовать, как антисептики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7188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4648320" y="3924360"/>
            <a:ext cx="403848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Приёмы самопомощи и сигналы бедствия.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сегда в походе или при выезде за город необходимо иметь с собой аптечку. Чтобы защититься от мошки и комаров нужно смазать открытые участки кожи глиной или ило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игналы бедствия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очью – костёр, сигнальный патрон ПСНД ярко-малиновый. Патрон «Мортирка», трассирующие патроны, фонар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нём – дым, яркая ткань, зеркало, сигнальный патрон ПСНД ярко-оранжевы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Электронные тесты </a:t>
            </a:r>
            <a:br>
              <a:rPr sz="3200"/>
            </a:b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для закрепления знаний по 2 части.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 следует накрывать крышу шалаш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то запрещается делать при разведении костр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то служит простейшим фильтром для очистки вод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ой из сигналов бедствия чаще применяется при крушении судн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Игра по карточкам между группами: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ласс делится на три команды по рядам. На каждой парте лежат карточки с картинкой и вопрос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читель объясняет задание и условия игр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Чья команда первая поднимает руку на вопрос в карточке та отвечает. За неправильный ответ команда получает -1 бал, а за правильный +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опросы карточки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.Сколько туристов живёт в этом лагере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Когда они сюда приехали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.На чём они сюда приехали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Далеко ли от лагеря до ближайшего селения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.Откуда дует ветер: с севера или юга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.Какое сейчас время дня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.Куда ушёл Шура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.Кто был вчера дежурным? Назовите по имен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.Какое сегодня число? Какого месяца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Подведение итога игры.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оманда набравшая больше всех балов побеждает и получает бонусные очки, которые учитываются при выставлении отметок по тем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роме этого отмечаются учащиеся наиболее полно и грамотно ответившие на вопросы по карточк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Цель урока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аучить готовиться к походу, ориентироваться на местности и выживать в природных условия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Задачи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обучающие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lang="en-US" sz="1400" spc="-1" strike="noStrike">
                <a:solidFill>
                  <a:srgbClr val="ffffff"/>
                </a:solidFill>
                <a:latin typeface="Blackadder ITC"/>
              </a:rPr>
              <a:t>Определить причины автономного существования человека на природе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. научить способам ориентирования на местности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3. познакомить с требованиями для подготовки к походу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4. знать способы постройки временного жилья, разведения костра, добычи пищи и воды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5. знать приёмы самопомощи и сигналы бедствия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развивающие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. развивать самостоятельность в принятии решений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. развивать выносливость, трудолюбие и толерантность в общени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воспитательные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. воспитывать любознательность, бережное отношение к природе, чувство товарищества и взаимопомощи, необходимые в коллективе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Оборудование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туристический рюкзак, снаряжение для похода, учебник по ОБЖ 10 класс, компьютер или видео, видеопрограммы по ОБЖ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Доведение домашнего задания.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конце урока учитель в течении одной минуты доводит до учащихся домашнее задание, обращая внимание на самостоятельную подготовку дом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План урока: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8229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499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. Проверка домашнего задания: карточки и фронтальный опро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99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–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 минут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99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 Основная часть – 28 минут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99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ведение в новую тему и связь с предыдущей темо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99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Изучение новой темы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99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причины автономного существования человек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99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подготовка к походу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99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способы ориентирования на местност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99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выживание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99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как развести костёр и защититься от жары и холода?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99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тесты для закрепления знаний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99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как выбрать место и построить жилище для ночлега?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99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добыча пищи и воды. Ядовитые и полезные растения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99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приёмы самопомощи и сигналы бедствия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99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тесты для закрепления знани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99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. Игра по карточкам – 8 минут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99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 Подведение итога игры – 2 минуты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99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. Доведение домашнего задания – 1 минут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I</a:t>
            </a:r>
            <a:br>
              <a:rPr sz="4000"/>
            </a:b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Проверка домашнего задания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106800" cy="217188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651640" y="1600200"/>
            <a:ext cx="3035160" cy="217188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3924360"/>
            <a:ext cx="822960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Фронтальный опрос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стория и задачи МЧС Росс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стория и задачи полиции РФ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рганизация скорой медицинской службы в Р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дновременно работа с карточками или тест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II</a:t>
            </a:r>
            <a:br>
              <a:rPr sz="4000"/>
            </a:b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Основная часть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ведение в новую тему и связь с предыдущей темой. Учитель говорит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Как мы узнали с вами, что основной задачей МЧС России, полиции и скорой медицинской помощи является охрана жизни и здоровья граждан РФ и других жителей на территории РФ, а иногда и за её предел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тобы облегчить эту задачу службам спасения человеку необходимо знать и соблюдать ряд правил поведения. Сегодня мы поговорим о правилах поведения в условиях вынужденной автономии на природ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3e3ff"/>
                </a:solidFill>
                <a:latin typeface="Arial"/>
              </a:rPr>
              <a:t>Изучение новой темы </a:t>
            </a: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( демонстрация звуковой мультимедийной программы по данной теме )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чины автономного существования человека на природ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авария на транспорт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потеря ориентирования на местн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чрезвычайные ситуации природного характе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 например пожар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4648320" y="1600200"/>
            <a:ext cx="4038480" cy="4495680"/>
            <a:chOff x="4648320" y="1600200"/>
            <a:chExt cx="4038480" cy="4495680"/>
          </a:xfrm>
        </p:grpSpPr>
        <p:pic>
          <p:nvPicPr>
            <p:cNvPr id="344" name="" descr=""/>
            <p:cNvPicPr/>
            <p:nvPr/>
          </p:nvPicPr>
          <p:blipFill>
            <a:blip r:embed="rId1"/>
            <a:stretch/>
          </p:blipFill>
          <p:spPr>
            <a:xfrm>
              <a:off x="4648320" y="1600200"/>
              <a:ext cx="4038480" cy="44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 txBox="1"/>
            <p:nvPr/>
          </p:nvSpPr>
          <p:spPr>
            <a:xfrm>
              <a:off x="4648320" y="1600200"/>
              <a:ext cx="4038480" cy="4495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e3e3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Способы ориентирования на местности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нятие ориентиров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пособы ориентирован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 солнцу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 звёзда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 часа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 местным признакам и предмета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Ориентирование по Солнцу и часам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 северном полушарии направление на север определяем став в полдень спиной к солнцу. Тень укажет направление на севе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Местный полдень определяется по наименьшей длине тени от шеста-гномона – длиной 1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о часам стороны света определяются так: часы в горизонтальном положении поворачиваются часовой стрелкой к Солнцу. Через центр циферблата мысленно проводим линию к цифре 1. Биссектриса угла показывает направление север-ю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Юг до 12 часов находится справа от Солнца, а после 12 часов – слев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4643280" y="1989000"/>
            <a:ext cx="403884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Ориентирование по звёздам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 Северном полушарии направление на север определяется с помощью Полярной звезды. Находим созвездие Большой Медведицы (расположение звёзд в виде ковша с ручкой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Через крайние две звезды ковша провести воображаемую линию и на ней отложить расстояние, в пять раз больше, чем отрезок между этими звёздами. Направление на неё будет соответствовать направлению на севе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6T09:23:33Z</dcterms:created>
  <dc:creator>German</dc:creator>
  <dc:description/>
  <dc:language>en-US</dc:language>
  <cp:lastModifiedBy>German</cp:lastModifiedBy>
  <dcterms:modified xsi:type="dcterms:W3CDTF">2011-09-12T10:38:45Z</dcterms:modified>
  <cp:revision>12</cp:revision>
  <dc:subject/>
  <dc:title>Мультимедийная разработка учебного занятия</dc:title>
</cp:coreProperties>
</file>