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AFB78-3DA6-40A2-8137-578EEFA2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D3546-A55C-4F73-B5AA-8E22CBF9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A026-43E9-46DD-86A0-652BCD47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5391-7C91-45C5-B822-78E9CC83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CB4B-E693-4D3E-9766-8E22E9B8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1F91-C638-4CA3-8490-30EA8480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6B42-2379-48A8-9AC0-28CFBC03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02DD-0AA9-4209-B3D3-EB99D8AA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840B-0B12-43C4-931B-CC189DC8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49C4-5D6D-4B88-8481-E21ACB5A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5A5C-7D13-4841-93C2-63ED5412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FC9A-959F-4A0B-9DC8-9CF30BCA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4709-34D2-40CB-9416-B784E6F1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7036-7252-44C4-80C4-77D6D626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7B15-D8BE-453E-AEDB-C5328366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61D8-907D-48C9-9284-54FAF999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386F-3930-48F8-B4C7-3F968667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C85D4-1593-4C17-93DC-0A28D180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0903F-0845-4AD6-B0C9-DCB9CA1D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00E16-E47E-4A04-A744-FC5A345C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F1A9C-CC3F-4087-B752-817167E1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9263-5E4F-4D07-8BD8-205ECEEB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2184-B41C-45FC-A4D8-9B5B6DDE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82D9-9242-478C-8E6F-9E05BBBA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9CFB5-1C1D-49BE-B9E3-DA59EAFB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AD10D-9C8D-4A07-B6A4-0391A14A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2FCAE-7EA5-4C37-B068-F7560803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EE89-5347-4B94-A3F6-E6F8B951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24937-8318-4F12-923B-8583E36C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ED0D0-5F12-4245-9E27-6EA60EFE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238E4-FB0D-49C8-A6E1-D93DB6AA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5FF12-3453-48F5-8CE8-8E9B0F57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923AB-FA6E-4529-90E3-DD249C16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9FA3-AED6-4C3A-9B25-116F29CF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D4FFAB-E2B6-451F-9483-F1425FCB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63C24-6CA3-4F8E-AEE1-8911F236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2F670-963F-4947-BB85-14B99FC3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EFBB18-A519-4491-A6C2-8483D419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61B98-AE5F-463A-8B52-525A2D7D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33715-D0DD-4114-81E9-0AFA2F50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1D9EC7-EA8E-4A03-85FC-FECD5B84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3BF6AE-B6D1-4229-8184-380C8A26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C5840D-FF5F-4BCB-8212-381E64AA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C261F-0887-468D-B3D0-0C2A6A23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6E61C-3D2B-4DA0-A69A-DE2B8A2C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B8BA3-01D3-4B96-83A8-75EF438F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58329-DE4E-4EA5-8307-C13BE8B3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CBED0-ABCC-4611-A39C-9C4AAD38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E735C-F933-4E34-8253-0D80B03D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BFEF1-A704-415C-8FE2-25A3147C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499EC-5204-4F4F-8F79-817A7218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4ED4B-3C06-488D-8AB1-D00FB63E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0F0A5-8328-400D-A04A-6FDC6B37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64F91-97D7-4139-8108-08CA2892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4CA3E-7A14-4540-A89A-20E7BA9E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FE7F8-EA1B-406C-A870-29E48DC7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3E15A-2013-482D-8A82-77DF1FCE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4B45E1-72A3-47A4-85FE-C22F2D6A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8FC11-D91B-4678-B66B-CA41DBB0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2E2D7-04BE-4776-B9AA-5809397C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BF379-5092-4C7E-96A9-7C65731B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7E8C1D-2D6E-4162-BB5D-9C862E49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F58F6-F1E5-4C4F-8F9F-BA787274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EF1C64-9462-4B84-9495-52086308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B64BD-BD66-4773-9F54-0EE4B80F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A4FA2-275F-4CF4-BE21-EF4AE85C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F292-D212-470D-8AD7-BB04A4CB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FA2D1-5DA5-4B42-AB84-CD7AF93E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FE7393-8353-4514-A52F-9BA2DCD2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6279DC-2157-4A01-B125-A0D0AF7B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E42FA-7887-42BD-85E2-51DF9CEA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A690A-1EAF-4BA7-B9B1-C016EB5C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C6DA-7803-459D-B0C5-8C30D04A326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E8DA-3689-4317-ABBA-08C2D5A41D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EA19-5B1D-4BD9-86ED-F289A1D10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2057-0849-4ADF-85F8-6BAC02CEA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E11C-1E62-4051-BE1A-AF7F6CD74C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4537-04D3-4EF3-B5F8-46363AC6DB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ультимедийная разработка учебного занят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ма: правила поведения в условиях вынужденной автономии на при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риентирование по местным признакам и предметам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28083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правление на юг определяют по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копление смолы на южной стороне хвойного дерев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оврагах на южных склонах снег тает быстр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 пнях на южной стороне годичные кольца шир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х нарастает на северной стороне дерева, а на южной больше веток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иподнятый край нижней перекладины креста на куполе церкви направлен на юг, а опущенный на север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логая сторона муравейника направлена к юг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203640" y="1628640"/>
            <a:ext cx="5256000" cy="4496040"/>
            <a:chOff x="3203640" y="1628640"/>
            <a:chExt cx="5256000" cy="449604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3203640" y="1628640"/>
              <a:ext cx="52560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 txBox="1"/>
            <p:nvPr/>
          </p:nvSpPr>
          <p:spPr>
            <a:xfrm>
              <a:off x="3203640" y="1628640"/>
              <a:ext cx="525600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ыжива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4038480" cy="24494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23335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живание – это активная деятельность, направленная на сохранение жизни, здоровья и работоспособности в экстремальных услови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 развести костёр и защититься от жары и холода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55640" y="3933720"/>
            <a:ext cx="3538440" cy="20527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обходимо правильно выбрать место для костр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ткрытое безветренное мест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далеко от вод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чистить место от сухой травы и листье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 ближе 4-6 метров от деревье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 разжигать в хвойных молодняка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готовить воду для заливки огн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огда костёр развели, то нужно оставить возле него дежурны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т жары можно укрыться в шалаше или под навесом, а от холода соорудить утеплённый снегом шалаш или снежный домик, как строят эскимосы, с маленьким входом и отверстием наверху для ды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042920" y="157464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Электронные тесты для закрепления знаний по 1 части</a:t>
            </a:r>
            <a:br>
              <a:rPr sz="4000"/>
            </a:b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( работа группами по рядам )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дите прямую линию до полярной звез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кажите соответствующую югу сторону ствола дере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является причиной вынужденного автономного существования в природ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кажите на компасе угол, соответствующий магнитному азимут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нужно себя вести в походе, если вы отстали от групп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Как выбрать место и построить жилище  для ночлега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сто для ночлега и жилища выбирают учитывая следующе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далеко от вод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 возвышенном и сухом мест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Если это джунгли, то место должно быть не в пойме реки и проветривать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Если открытое место, то в низине, защищённой от ветр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Жилище строится из подручных материалов, если нет палат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4648320" y="2109960"/>
            <a:ext cx="4038480" cy="1150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648320" y="3645000"/>
            <a:ext cx="403848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Добыча пищи и воды. Ядовитые и полезные растения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 природе пищей может служить всё, что не угрожает здоровью: ягоды, грибы, лягушки, змеи, корни и стебли некоторых раст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ду можно пить из проточных источников, заранее профильтровав её. Есть несколько способов очистки вод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ерез пес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ерез ткани, марл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утём конденс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учше всего, если есть возможность воду вскипяти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 ядовитым растениям относят волчье лыко и вороний гла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дорожник и ромашку можно использовать, как антисепт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4648320" y="3924360"/>
            <a:ext cx="4038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Приёмы самопомощи и сигналы бедствия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гда в походе или при выезде за город необходимо иметь с собой аптечку. Чтобы защититься от мошки и комаров нужно смазать открытые участки кожи глиной или ил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гналы бедств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чью – костёр, сигнальный патрон ПСНД ярко-малиновый. Патрон «Мортирка», трассирующие патроны, фонар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нём – дым, яркая ткань, зеркало, сигнальный патрон ПСНД ярко-оранжевы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Электронные тесты 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для закрепления знаний по 2 части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следует накрывать крышу шалаш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запрещается делать при разведении кост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служит простейшим фильтром для очистки вод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й из сигналов бедствия чаще применяется при крушении суд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Игра по карточкам между группами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ласс делится на три команды по рядам. На каждой парте лежат карточки с картинкой и вопрос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объясняет задание и условия игр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ья команда первая поднимает руку на вопрос в карточке та отвечает. За неправильный ответ команда получает -1 бал, а за правильный +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просы карточк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Сколько туристов живёт в этом лагер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Когда они сюда приехал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На чём они сюда приехал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Далеко ли от лагеря до ближайшего селени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Откуда дует ветер: с севера или юг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Какое сейчас время дн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Куда ушёл Шур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Кто был вчера дежурным? Назовите по имен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Какое сегодня число? Какого месяц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Подведение итога игры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манда набравшая больше всех балов побеждает и получает бонусные очки, которые учитываются при выставлении отметок по 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оме этого отмечаются учащиеся наиболее полно и грамотно ответившие на вопросы по карточ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учить готовиться к походу, ориентироваться на местности и выживать в природных услов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обучающие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1400" spc="-1" strike="noStrike">
                <a:solidFill>
                  <a:srgbClr val="ffffff"/>
                </a:solidFill>
                <a:latin typeface="Blackadder ITC"/>
              </a:rPr>
              <a:t>Определить причины автономного существования человека на природ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. научить способам ориентирования на местност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. познакомить с требованиями для подготовки к поход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. знать способы постройки временного жилья, разведения костра, добычи пищи и вод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. знать приёмы самопомощи и сигналы бедств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развивающие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. развивать самостоятельность в принятии решени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. развивать выносливость, трудолюбие и толерантность в общен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оспитательные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. воспитывать любознательность, бережное отношение к природе, чувство товарищества и взаимопомощи, необходимые в коллектив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Оборудовани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туристический рюкзак, снаряжение для похода, учебник по ОБЖ 10 класс, компьютер или видео, видеопрограммы по ОБЖ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Доведение домашнего задания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онце урока учитель в течении одной минуты доводит до учащихся домашнее задание, обращая внимание на самостоятельную подготовку до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План урока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229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Проверка домашнего задания: карточки и фронтальный опро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мину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Основная часть – 28 мину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ведение в новую тему и связь с предыдущей тем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зучение новой тем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причины автономного существования челове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подготовка к поход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способы ориентирования на мест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выживани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как развести костёр и защититься от жары и холода?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тесты для закрепления зна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как выбрать место и построить жилище для ночлега?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добыча пищи и воды. Ядовитые и полезные расте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приёмы самопомощи и сигналы бедств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тесты для закрепления зн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Игра по карточкам – 8 мину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Подведение итога игры – 2 минут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Доведение домашнего задания – 1 мину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106800" cy="21718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651640" y="1600200"/>
            <a:ext cx="3035160" cy="2171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ронтальный опро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и задачи МЧС Росс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и задачи полиции РФ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рганизация скорой медицинской службы в Р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новременно работа с карточками или тес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I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ая часть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ведение в новую тему и связь с предыдущей темой. Учитель говори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Как мы узнали с вами, что основной задачей МЧС России, полиции и скорой медицинской помощи является охрана жизни и здоровья граждан РФ и других жителей на территории РФ, а иногда и за её предел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ы облегчить эту задачу службам спасения человеку необходимо знать и соблюдать ряд правил поведения. Сегодня мы поговорим о правилах поведения в условиях вынужденной автономии на прир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Изучение новой темы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( демонстрация звуковой мультимедийной программы по данной теме 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чины автономного существования человека на природ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авария на транспор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потеря ориентирования на мест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чрезвычайные ситуации природного характ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например пожар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648320" y="1600200"/>
            <a:ext cx="4038480" cy="4495680"/>
            <a:chOff x="4648320" y="1600200"/>
            <a:chExt cx="4038480" cy="4495680"/>
          </a:xfrm>
        </p:grpSpPr>
        <p:pic>
          <p:nvPicPr>
            <p:cNvPr id="344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 txBox="1"/>
            <p:nvPr/>
          </p:nvSpPr>
          <p:spPr>
            <a:xfrm>
              <a:off x="4648320" y="1600200"/>
              <a:ext cx="4038480" cy="449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пособы ориентирования на местн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нятие ориент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ы ориентир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солнц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звёзд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час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местным признакам и предмет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риентирование по Солнцу и часам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северном полушарии направление на север определяем став в полдень спиной к солнцу. Тень укажет направление на сев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стный полдень определяется по наименьшей длине тени от шеста-гномона – длиной 1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 часам стороны света определяются так: часы в горизонтальном положении поворачиваются часовой стрелкой к Солнцу. Через центр циферблата мысленно проводим линию к цифре 1. Биссектриса угла показывает направление север-ю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Юг до 12 часов находится справа от Солнца, а после 12 часов – сле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0388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риентирование по звёзда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Северном полушарии направление на север определяется с помощью Полярной звезды. Находим созвездие Большой Медведицы (расположение звёзд в виде ковша с ручкой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ерез крайние две звезды ковша провести воображаемую линию и на ней отложить расстояние, в пять раз больше, чем отрезок между этими звёздами. Направление на неё будет соответствовать направлению на сев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09:23:33Z</dcterms:created>
  <dc:creator>German</dc:creator>
  <dc:description/>
  <dc:language>en-US</dc:language>
  <cp:lastModifiedBy>German</cp:lastModifiedBy>
  <dcterms:modified xsi:type="dcterms:W3CDTF">2011-09-12T10:38:45Z</dcterms:modified>
  <cp:revision>12</cp:revision>
  <dc:subject/>
  <dc:title>Мультимедийная разработка учебного занятия</dc:title>
</cp:coreProperties>
</file>