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E02D-396C-4960-84B1-5641ECB5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9888-9633-466D-AF63-CBFE523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4B5D-38CD-4AEC-8DBD-8D0A6B29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471E-E956-4905-BC4B-38FF8ADB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0BA-5904-4D0B-B5B8-51776A65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B63C-0455-4DA0-8205-B11126CA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8C6-721D-4D48-829F-3A8915B2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9E8-4078-445A-98C3-986C5B7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B3A4-FA9C-48DE-BDA3-FAAA987B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115C-F4A2-41E1-8E9F-C45B55B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164-F5AF-4BEA-B82C-509EDBC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0BB9-021E-45A2-93F4-D3C9278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93EC-4BEE-46EE-91BE-A50DED4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43EB-AFD2-4AEF-858A-95BC24A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52F9-4AD6-4C42-9A31-16681A5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D3F9-0B0F-4356-84FC-B1B7938D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EAD-F395-4945-8997-BB643C15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1AC3-D106-47F8-8A8A-E1608FEB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2BDC-EE66-4750-BEBD-E0B28814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476F-8653-4ADF-99BD-B1548116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1DF6-BCF3-4731-B05A-1E6D23A9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FBAB-204B-4C04-AA90-CB5550C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153B-D35F-43F6-B3C2-3DB4BA5E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BB17-057E-4997-8EE4-9A0214DD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344F-9998-42DB-BDED-69709F5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8ED04-2BFF-44D6-AB05-C3B5F2A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2F65-1D0B-494B-BB10-7B3B990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03D7-6581-4C85-96AE-BA45E170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CEB3-2357-4957-96A9-CB8F0E41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7906-779A-46B3-BC7C-FA2F4EB9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2FF69-2D41-4172-88A9-2798E1BE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4AE63-654D-4479-B025-D3B73B3C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EE8C7-553F-4F43-B1A2-35031D7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7994-938D-44A6-92CB-3B9E94EA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9E674-D0A1-4DA3-88B5-FFB5EDD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5A0AE-5F3E-40E3-9CAE-F7B04DD0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3A490-1E22-4E65-B14F-415ECB57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052D2-70E3-4DA3-BC0D-8241C598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34F57-A9F4-493F-99E1-33BB21A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4423C-2CB8-4A59-B579-541B73D1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87884-7424-411F-B2E0-1C04F6DA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05EC2-F84E-4A1C-AB55-12EF8619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3A3FB-A2DB-4A30-B3E7-ECE5A52F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FC983-CFA8-489F-A3F5-4E42AAF8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FDF2-9939-466E-BAB3-3BAF25A9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9526C-81A7-424C-BD8D-9C9FAF9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3E03-887A-4339-A5B0-9E1B0D3D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EB5CD-A7AD-485F-AB3A-12D24DE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A3D5-DBF9-429B-9A23-FACB287C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F662-DECB-4084-B511-43CC995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17D72-DDD7-4AE6-8C06-6E1BF3E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98E7-6C28-4194-B856-403EDE9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AD8C-C2D0-4D1D-8408-470B7391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FB571-7E2A-4559-A3CB-56048F6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5FEA6-FC7D-4B72-91FF-6AA6B483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58F7-B392-474B-AB17-8C658949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B4681-A5BF-49E6-BD56-341EF921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C604F-13B5-4E40-B312-739F75C0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31331-CC74-4613-9BAA-7D7E7888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5385A-1E26-4314-AF47-B176E299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3A298-5AC2-4A90-91C0-A0D3B4C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F1857-AF0B-4FC0-95B5-B65AC8F4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81635-B2A9-48D2-B3CE-589C90B7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556FC-42D8-40C9-935F-52D4213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387A1-0E71-4B8C-AF40-90023DF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B5C1B-1293-4AD4-AF55-1AD919D4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CCE2-1D10-4D7A-8DAB-3F33EFB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B0492-9489-4DEF-A550-5BDF543A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3CAE6-A6A9-4333-830C-71573F84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806A0-0A90-4D03-B1C9-6CE8859C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4152-385C-4C1E-B147-8C843092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C22F-5AB4-4440-B7A6-A2E4017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71F1-216F-40BE-AF98-6D8DFE9B78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D7A-146F-46B7-A57A-8B22C4EA3C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E8C6-9A90-47A3-8CC5-90C4C1F1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D0BB-CE1B-44FB-B857-A9ED1FC19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46B0-CC06-4F82-BAAA-DFAC72D68D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3B3-FC21-450A-9C2B-F2516F24E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льтимедийная разработка учебного заня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а: правила поведения в условиях вынужденной автономии на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риентирование по местным признакам и предмет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28083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е на юг определяют п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копление смолы на южной стороне хвойного дере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оврагах на южных склонах снег тает быстр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 пнях на южной стороне годичные кольца шир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х нарастает на северной стороне дерева, а на южной больше вето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поднятый край нижней перекладины креста на куполе церкви направлен на юг, а опущенный на север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логая сторона муравейника направлена к юг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203640" y="1628640"/>
            <a:ext cx="5256000" cy="4496040"/>
            <a:chOff x="3203640" y="1628640"/>
            <a:chExt cx="5256000" cy="449604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3203640" y="1628640"/>
              <a:ext cx="52560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 txBox="1"/>
            <p:nvPr/>
          </p:nvSpPr>
          <p:spPr>
            <a:xfrm>
              <a:off x="3203640" y="1628640"/>
              <a:ext cx="525600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жив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2449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2333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живание – это активная деятельность, направленная на сохранение жизни, здоровья и работоспособности в экстремальны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 развести костёр и защититься от жары и холода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538440" cy="2052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обходимо правильно выбрать место для костр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крытое безветренное мес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далеко от во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чистить место от сухой травы и листье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 ближе 4-6 метров от деревье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 разжигать в хвойных молодняк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готовить воду для заливки огн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костёр развели, то нужно оставить возле него дежур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 жары можно укрыться в шалаше или под навесом, а от холода соорудить утеплённый снегом шалаш или снежный домик, как строят эскимосы, с маленьким входом и отверстием наверху для ды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42920" y="157464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лектронные тесты для закрепления знаний по 1 части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( работа группами по рядам )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дите прямую линию до полярной звез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жите соответствующую югу сторону ствола дере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является причиной вынужденного автономного существования в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жите на компасе угол, соответствующий магнитному азиму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нужно себя вести в походе, если вы отстали от групп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Как выбрать место и построить жилище  для ночлега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сто для ночлега и жилища выбирают учитывая следующе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далеко от во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возвышенном и сухом мес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сли это джунгли, то место должно быть не в пойме реки и проветрив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сли открытое место, то в низине, защищённой от вет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лище строится из подручных материалов, если нет пала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1150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648320" y="3645000"/>
            <a:ext cx="40384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обыча пищи и воды. Ядовитые и полезные растен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природе пищей может служить всё, что не угрожает здоровью: ягоды, грибы, лягушки, змеи, корни и стебли некоторых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у можно пить из проточных источников, заранее профильтровав её. Есть несколько способов очистки вод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пес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ткани, марл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тём конденс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учше всего, если есть возможность воду вскипят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ядовитым растениям относят волчье лыко и вороний гла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дорожник и ромашку можно использовать, как антисеп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риёмы самопомощи и сигналы бедств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гда в походе или при выезде за город необходимо иметь с собой аптечку. Чтобы защититься от мошки и комаров нужно смазать открытые участки кожи глиной или и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гналы бедств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чью – костёр, сигнальный патрон ПСНД ярко-малиновый. Патрон «Мортирка», трассирующие патроны, фонар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ём – дым, яркая ткань, зеркало, сигнальный патрон ПСНД ярко-оранжев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Электронные тесты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ля закрепления знаний по 2 част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ледует накрывать крышу шалаш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прещается делать при разведении кос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служит простейшим фильтром для очистки во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из сигналов бедствия чаще применяется при крушении суд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Игра по карточкам между группами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сс делится на три команды по рядам. На каждой парте лежат карточки с картинкой и вопро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объясняет задание и условия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ья команда первая поднимает руку на вопрос в карточке та отвечает. За неправильный ответ команда получает -1 бал, а за правильный +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просы карточ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Сколько туристов живёт в этом лагер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Когда они сюда приех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На чём они сюда приех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Далеко ли от лагеря до ближайшего селе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Откуда дует ветер: с севера или юг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Какое сейчас время дн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Куда ушёл Шур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Кто был вчера дежурным? Назовите по имен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Какое сегодня число? Какого месяц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одведение итога игры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анда набравшая больше всех балов побеждает и получает бонусные очки, которые учитываются при выставлении отметок по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оме этого отмечаются учащиеся наиболее полно и грамотно ответившие на вопросы по карточ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учить готовиться к походу, ориентироваться на местности и выживать в природных услов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буча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400" spc="-1" strike="noStrike">
                <a:solidFill>
                  <a:srgbClr val="ffffff"/>
                </a:solidFill>
                <a:latin typeface="Blackadder ITC"/>
              </a:rPr>
              <a:t>Определить причины автономного существования человека на приро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научить способам ориентирования на мест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. познакомить с требованиями для подготовки к похо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. знать способы постройки временного жилья, разведения костра, добычи пищи и вод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. знать приёмы самопомощи и сигналы бедств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развивать самостоятельность в принятии реш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развивать выносливость, трудолюбие и толерантность в общен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спитательны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воспитывать любознательность, бережное отношение к природе, чувство товарищества и взаимопомощи, необходимые в коллектив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орудова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уристический рюкзак, снаряжение для похода, учебник по ОБЖ 10 класс, компьютер или видео, видеопрограммы по ОБЖ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оведение домашнего задан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онце урока учитель в течении одной минуты доводит до учащихся домашнее задание, обращая внимание на самостоятельную подготовку д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Проверка домашнего задания: карточки и фронтальный о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Основная часть – 28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ведение в новую тему и связь с предыдущей те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зучение новой те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ричины автономного существования челове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одготовка к поход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способы ориентирования на мест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выжива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как развести костёр и защититься от жары и холода?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тесты для закрепления зна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как выбрать место и построить жилище для ночлега?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добыча пищи и воды. Ядовитые и полезные раст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риёмы самопомощи и сигналы бедств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тесты для закрепления зн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Игра по карточкам – 8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Подведение итога игры – 2 мину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Доведение домашнего задания – 1 мину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06800" cy="2171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651640" y="1600200"/>
            <a:ext cx="3035160" cy="2171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онтальный 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и задачи МЧС Ро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и задачи поли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скорой медицинской службы в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овременно работа с карточками или тес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I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ая час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дение в новую тему и связь с предыдущей темой. Учитель говор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Как мы узнали с вами, что основной задачей МЧС России, полиции и скорой медицинской помощи является охрана жизни и здоровья граждан РФ и других жителей на территории РФ, а иногда и за её преде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облегчить эту задачу службам спасения человеку необходимо знать и соблюдать ряд правил поведения. Сегодня мы поговорим о правилах поведения в условиях вынужденной автономии на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Изучение новой темы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( демонстрация звуковой мультимедийной программы по данной теме 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чины автономного существования человека на приро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авария на транспор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теря ориентирования на мест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чрезвычайные ситуации природного харак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например пожар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ориентирования на мест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нятие ориент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ы ориентир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лнц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звёз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час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местным признакам и предмет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риентирование по Солнцу и час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северном полушарии направление на север определяем став в полдень спиной к солнцу. Тень укажет направление на сев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стный полдень определяется по наименьшей длине тени от шеста-гномона – длиной 1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часам стороны света определяются так: часы в горизонтальном положении поворачиваются часовой стрелкой к Солнцу. Через центр циферблата мысленно проводим линию к цифре 1. Биссектриса угла показывает направление север-ю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Юг до 12 часов находится справа от Солнца, а после 12 часов – сле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риентирование по звёзда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Северном полушарии направление на север определяется с помощью Полярной звезды. Находим созвездие Большой Медведицы (расположение звёзд в виде ковша с ручкой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крайние две звезды ковша провести воображаемую линию и на ней отложить расстояние, в пять раз больше, чем отрезок между этими звёздами. Направление на неё будет соответствовать направлению на сев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9:23:33Z</dcterms:created>
  <dc:creator>German</dc:creator>
  <dc:description/>
  <dc:language>en-US</dc:language>
  <cp:lastModifiedBy>German</cp:lastModifiedBy>
  <dcterms:modified xsi:type="dcterms:W3CDTF">2011-09-12T10:38:45Z</dcterms:modified>
  <cp:revision>12</cp:revision>
  <dc:subject/>
  <dc:title>Мультимедийная разработка учебного занятия</dc:title>
</cp:coreProperties>
</file>