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A54-0563-470F-9426-21588CC2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3B0-CB1C-459B-970F-25001E55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3A6-872D-497B-AB4E-F3F30CBC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BC6-4D4F-4EB8-9BBF-E17286E2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534-4C97-4D2D-BD6B-16C4B4B4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C98-E1A7-42DE-B6CB-0A4A15C6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CCC-F480-474E-853D-174D334A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090-6BE2-4CD1-A7AC-9B1FA13B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240-597F-4E61-85BE-38B9E3B8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BE5-26D7-41F9-85F6-D2A2D0D7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F07-B9F5-4F37-B2D8-35D5A164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E5D-BB96-44D5-986A-510BAF5E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1A8-B8BA-418D-87B8-6C15F8575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Georgia"/>
              </a:rPr>
              <a:t>«Перпендикулярные  прямые  в  пространств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Georgia"/>
              </a:rPr>
              <a:t>«Перпендикулярность  прямой  и  плоск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4800" y="1125360"/>
            <a:ext cx="25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 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680640" y="5734080"/>
            <a:ext cx="49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5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2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Что  такое  перпендикулярные  прямые  на 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Дано:  АВС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A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C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– параллелепипед,  угол  В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равен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  30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  Найдите  углы  между  прямыми  АВ  и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АВ  и  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arallelepiped"/>
          <p:cNvPicPr/>
          <p:nvPr/>
        </p:nvPicPr>
        <p:blipFill>
          <a:blip r:embed="rId1"/>
          <a:stretch/>
        </p:blipFill>
        <p:spPr>
          <a:xfrm>
            <a:off x="2771640" y="2276640"/>
            <a:ext cx="4184640" cy="458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262944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65000" y="3141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49236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2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229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372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65380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589000" y="3357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3212640" y="5950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27"/>
          <p:cNvSpPr/>
          <p:nvPr/>
        </p:nvSpPr>
        <p:spPr>
          <a:xfrm>
            <a:off x="3419640" y="5805360"/>
            <a:ext cx="360360" cy="590760"/>
          </a:xfrm>
          <a:custGeom>
            <a:avLst/>
            <a:gdLst>
              <a:gd name="textAreaLeft" fmla="*/ 0 w 360360"/>
              <a:gd name="textAreaRight" fmla="*/ 360720 w 36036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fill="none" w="21600" h="2414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49"/>
                  <a:pt x="21549" y="23298"/>
                  <a:pt x="21449" y="24141"/>
                </a:cubicBezTo>
              </a:path>
              <a:path stroke="0" w="21600" h="2414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49"/>
                  <a:pt x="21549" y="23298"/>
                  <a:pt x="21449" y="24141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25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35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Модель  к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>
            <a:off x="1986120" y="2432160"/>
            <a:ext cx="14040" cy="2394000"/>
          </a:xfrm>
          <a:custGeom>
            <a:avLst/>
            <a:gdLst>
              <a:gd name="textAreaLeft" fmla="*/ 0 w 14040"/>
              <a:gd name="textAreaRight" fmla="*/ 14400 w 1404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0"/>
          <p:cNvSpPr/>
          <p:nvPr/>
        </p:nvSpPr>
        <p:spPr>
          <a:xfrm>
            <a:off x="2000160" y="4856040"/>
            <a:ext cx="2338560" cy="1116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1204920" y="4870440"/>
            <a:ext cx="795240" cy="762120"/>
          </a:xfrm>
          <a:custGeom>
            <a:avLst/>
            <a:gdLst>
              <a:gd name="textAreaLeft" fmla="*/ 0 w 795240"/>
              <a:gd name="textAreaRight" fmla="*/ 795600 w 795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635360" y="907920"/>
            <a:ext cx="426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Как  называю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ые  АВ  и  В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4194000" y="1844640"/>
            <a:ext cx="493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Найдите  угол 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ми  А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1187280" y="981000"/>
            <a:ext cx="7667640" cy="5516640"/>
          </a:xfrm>
          <a:prstGeom prst="irregularSeal1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В  простран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перпендикулярные  прям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могут  пересек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и  могут  скрещ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Рассмотрим  прямые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,  СС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cc00cc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"/>
          <p:cNvSpPr/>
          <p:nvPr/>
        </p:nvSpPr>
        <p:spPr>
          <a:xfrm>
            <a:off x="1986120" y="2432160"/>
            <a:ext cx="14040" cy="2394000"/>
          </a:xfrm>
          <a:custGeom>
            <a:avLst/>
            <a:gdLst>
              <a:gd name="textAreaLeft" fmla="*/ 0 w 14040"/>
              <a:gd name="textAreaRight" fmla="*/ 14400 w 1404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>
            <a:off x="2000160" y="4856040"/>
            <a:ext cx="2338560" cy="1116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1"/>
          <p:cNvSpPr/>
          <p:nvPr/>
        </p:nvSpPr>
        <p:spPr>
          <a:xfrm>
            <a:off x="1204920" y="4870440"/>
            <a:ext cx="795240" cy="762120"/>
          </a:xfrm>
          <a:custGeom>
            <a:avLst/>
            <a:gdLst>
              <a:gd name="textAreaLeft" fmla="*/ 0 w 795240"/>
              <a:gd name="textAreaRight" fmla="*/ 795600 w 795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4788000" y="1125360"/>
            <a:ext cx="403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1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‌ ‌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0"/>
              <p:cNvSpPr txBox="1"/>
              <p:nvPr/>
            </p:nvSpPr>
            <p:spPr>
              <a:xfrm>
                <a:off x="7524720" y="1341360"/>
                <a:ext cx="4096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AutoShape 21"/>
          <p:cNvSpPr/>
          <p:nvPr/>
        </p:nvSpPr>
        <p:spPr>
          <a:xfrm>
            <a:off x="6659640" y="1916280"/>
            <a:ext cx="288720" cy="904680"/>
          </a:xfrm>
          <a:prstGeom prst="downArrow">
            <a:avLst>
              <a:gd name="adj1" fmla="val 50000"/>
              <a:gd name="adj2" fmla="val 7833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3"/>
          <p:cNvSpPr/>
          <p:nvPr/>
        </p:nvSpPr>
        <p:spPr>
          <a:xfrm>
            <a:off x="5580000" y="2852640"/>
            <a:ext cx="2425680" cy="719280"/>
          </a:xfrm>
          <a:prstGeom prst="rect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    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4"/>
              <p:cNvSpPr txBox="1"/>
              <p:nvPr/>
            </p:nvSpPr>
            <p:spPr>
              <a:xfrm>
                <a:off x="6659640" y="2997360"/>
                <a:ext cx="409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2" name="AutoShape 25"/>
          <p:cNvSpPr/>
          <p:nvPr/>
        </p:nvSpPr>
        <p:spPr>
          <a:xfrm>
            <a:off x="611280" y="981000"/>
            <a:ext cx="8243640" cy="5516640"/>
          </a:xfrm>
          <a:prstGeom prst="irregularSeal1">
            <a:avLst/>
          </a:pr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Если  одна  из  паралл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х 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третьей прямой, то и друг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ая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 этой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8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8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Найдите  угол  между  прямой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прямыми  плоскости  (АВС):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АВ,  А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АС,  В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М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34100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49452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2172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5924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11600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914480" y="2432160"/>
            <a:ext cx="14400" cy="2394000"/>
          </a:xfrm>
          <a:custGeom>
            <a:avLst/>
            <a:gdLst>
              <a:gd name="textAreaLeft" fmla="*/ 0 w 14400"/>
              <a:gd name="textAreaRight" fmla="*/ 14760 w 1440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1928880" y="4856040"/>
            <a:ext cx="2338200" cy="11160"/>
          </a:xfrm>
          <a:custGeom>
            <a:avLst/>
            <a:gdLst>
              <a:gd name="textAreaLeft" fmla="*/ 0 w 2338200"/>
              <a:gd name="textAreaRight" fmla="*/ 2338560 w 23382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133640" y="4870440"/>
            <a:ext cx="795240" cy="762120"/>
          </a:xfrm>
          <a:custGeom>
            <a:avLst/>
            <a:gdLst>
              <a:gd name="textAreaLeft" fmla="*/ 0 w 795240"/>
              <a:gd name="textAreaRight" fmla="*/ 795600 w 795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78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22208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21524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3501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2"/>
          <p:cNvSpPr/>
          <p:nvPr/>
        </p:nvSpPr>
        <p:spPr>
          <a:xfrm>
            <a:off x="1131840" y="4848120"/>
            <a:ext cx="3149640" cy="79848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984" h="503">
                <a:moveTo>
                  <a:pt x="0" y="503"/>
                </a:moveTo>
                <a:lnTo>
                  <a:pt x="1984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3"/>
          <p:cNvSpPr/>
          <p:nvPr/>
        </p:nvSpPr>
        <p:spPr>
          <a:xfrm>
            <a:off x="1930320" y="4862520"/>
            <a:ext cx="1552680" cy="78408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978" h="494">
                <a:moveTo>
                  <a:pt x="0" y="0"/>
                </a:moveTo>
                <a:lnTo>
                  <a:pt x="978" y="494"/>
                </a:lnTo>
              </a:path>
            </a:pathLst>
          </a:cu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4"/>
          <p:cNvSpPr/>
          <p:nvPr/>
        </p:nvSpPr>
        <p:spPr>
          <a:xfrm>
            <a:off x="1566720" y="5210280"/>
            <a:ext cx="755640" cy="436320"/>
          </a:xfrm>
          <a:custGeom>
            <a:avLst/>
            <a:gdLst>
              <a:gd name="textAreaLeft" fmla="*/ 0 w 755640"/>
              <a:gd name="textAreaRight" fmla="*/ 756000 w 7556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76" h="275">
                <a:moveTo>
                  <a:pt x="0" y="0"/>
                </a:moveTo>
                <a:lnTo>
                  <a:pt x="476" y="275"/>
                </a:lnTo>
              </a:path>
            </a:pathLst>
          </a:cu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126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1117440" y="4941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7"/>
          <p:cNvSpPr/>
          <p:nvPr/>
        </p:nvSpPr>
        <p:spPr>
          <a:xfrm>
            <a:off x="5076720" y="4724280"/>
            <a:ext cx="1079640" cy="98604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6040"/>
              <a:gd name="textAreaBottom" fmla="*/ 761040 h 9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8"/>
          <p:cNvSpPr/>
          <p:nvPr/>
        </p:nvSpPr>
        <p:spPr>
          <a:xfrm>
            <a:off x="6732720" y="335772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5292720" y="242100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7524720" y="177336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1"/>
          <p:cNvSpPr/>
          <p:nvPr/>
        </p:nvSpPr>
        <p:spPr>
          <a:xfrm>
            <a:off x="7380360" y="501336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324000" y="981000"/>
            <a:ext cx="8530920" cy="5516640"/>
          </a:xfrm>
          <a:prstGeom prst="irregularSeal1">
            <a:avLst/>
          </a:prstGeom>
          <a:solidFill>
            <a:srgbClr val="d1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ая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ерпендикулярной  к 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если  она  перпендикулярна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любой  прямой,  леж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в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Теорема: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одна  из  двух  параллельных 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прямых  перпендикулярна  плоскости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то  и  другая  прямая  перпендикулярна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13744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рямая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араллельна   прямой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ерпендикулярна  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2700360" y="292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Freeform 8"/>
          <p:cNvSpPr/>
          <p:nvPr/>
        </p:nvSpPr>
        <p:spPr>
          <a:xfrm>
            <a:off x="3338640" y="3919680"/>
            <a:ext cx="4628880" cy="1697040"/>
          </a:xfrm>
          <a:custGeom>
            <a:avLst/>
            <a:gdLst>
              <a:gd name="textAreaLeft" fmla="*/ 0 w 4628880"/>
              <a:gd name="textAreaRight" fmla="*/ 4629240 w 46288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2916" h="1069">
                <a:moveTo>
                  <a:pt x="2276" y="1042"/>
                </a:moveTo>
                <a:lnTo>
                  <a:pt x="0" y="1069"/>
                </a:lnTo>
                <a:lnTo>
                  <a:pt x="722" y="54"/>
                </a:lnTo>
                <a:lnTo>
                  <a:pt x="2916" y="0"/>
                </a:lnTo>
                <a:lnTo>
                  <a:pt x="2274" y="1053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6732720" y="285264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6732720" y="462600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6732720" y="561816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5435640" y="3284640"/>
            <a:ext cx="0" cy="1412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5435640" y="5589720"/>
            <a:ext cx="0" cy="10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5435640" y="472428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4211640" y="458136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543708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74244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99708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50"/>
                            </p:stCondLst>
                            <p:childTnLst>
                              <p:par>
                                <p:cTn id="7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4059360" y="1582560"/>
            <a:ext cx="1152360" cy="561672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5616720"/>
              <a:gd name="textAreaBottom" fmla="*/ 5617080 h 5616720"/>
            </a:gdLst>
            <a:ahLst/>
            <a:rect l="textAreaLeft" t="textAreaTop" r="textAreaRight" b="textAreaBottom"/>
            <a:pathLst>
              <a:path w="726" h="3538">
                <a:moveTo>
                  <a:pt x="18" y="2029"/>
                </a:moveTo>
                <a:lnTo>
                  <a:pt x="713" y="991"/>
                </a:lnTo>
                <a:lnTo>
                  <a:pt x="695" y="0"/>
                </a:lnTo>
                <a:lnTo>
                  <a:pt x="0" y="832"/>
                </a:lnTo>
                <a:lnTo>
                  <a:pt x="37" y="3538"/>
                </a:lnTo>
                <a:lnTo>
                  <a:pt x="726" y="2565"/>
                </a:lnTo>
                <a:lnTo>
                  <a:pt x="726" y="2037"/>
                </a:lnTo>
                <a:lnTo>
                  <a:pt x="9" y="2038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2651040" y="25430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Freeform 8"/>
          <p:cNvSpPr/>
          <p:nvPr/>
        </p:nvSpPr>
        <p:spPr>
          <a:xfrm>
            <a:off x="1940040" y="3121200"/>
            <a:ext cx="5225760" cy="1741320"/>
          </a:xfrm>
          <a:custGeom>
            <a:avLst/>
            <a:gdLst>
              <a:gd name="textAreaLeft" fmla="*/ 0 w 5225760"/>
              <a:gd name="textAreaRight" fmla="*/ 5225760 w 5225760"/>
              <a:gd name="textAreaTop" fmla="*/ 0 h 1741320"/>
              <a:gd name="textAreaBottom" fmla="*/ 1741680 h 1741320"/>
            </a:gdLst>
            <a:ahLst/>
            <a:rect l="textAreaLeft" t="textAreaTop" r="textAreaRight" b="textAreaBottom"/>
            <a:pathLst>
              <a:path w="3292" h="1097">
                <a:moveTo>
                  <a:pt x="2437" y="1055"/>
                </a:moveTo>
                <a:lnTo>
                  <a:pt x="0" y="1097"/>
                </a:lnTo>
                <a:lnTo>
                  <a:pt x="883" y="67"/>
                </a:lnTo>
                <a:lnTo>
                  <a:pt x="3292" y="0"/>
                </a:lnTo>
                <a:lnTo>
                  <a:pt x="2435" y="1066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4869000" y="2075040"/>
            <a:ext cx="2880" cy="1596960"/>
          </a:xfrm>
          <a:custGeom>
            <a:avLst/>
            <a:gdLst>
              <a:gd name="textAreaLeft" fmla="*/ 0 w 2880"/>
              <a:gd name="textAreaRight" fmla="*/ 3240 w 288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2" h="1006">
                <a:moveTo>
                  <a:pt x="0" y="0"/>
                </a:moveTo>
                <a:lnTo>
                  <a:pt x="2" y="10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4869000" y="384804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4869000" y="484020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3564000" y="1989000"/>
            <a:ext cx="7920" cy="1930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3564000" y="4811760"/>
            <a:ext cx="7920" cy="164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3571920" y="394668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356364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486072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7"/>
          <p:cNvSpPr/>
          <p:nvPr/>
        </p:nvSpPr>
        <p:spPr>
          <a:xfrm>
            <a:off x="4788000" y="2565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4422600" y="1887480"/>
            <a:ext cx="624240" cy="2422440"/>
          </a:xfrm>
          <a:custGeom>
            <a:avLst/>
            <a:gdLst>
              <a:gd name="textAreaLeft" fmla="*/ 0 w 624240"/>
              <a:gd name="textAreaRight" fmla="*/ 624600 w 624240"/>
              <a:gd name="textAreaTop" fmla="*/ 0 h 2422440"/>
              <a:gd name="textAreaBottom" fmla="*/ 2422800 h 2422440"/>
            </a:gdLst>
            <a:ahLst/>
            <a:rect l="textAreaLeft" t="textAreaTop" r="textAreaRight" b="textAreaBottom"/>
            <a:pathLst>
              <a:path w="393" h="1526">
                <a:moveTo>
                  <a:pt x="393" y="0"/>
                </a:moveTo>
                <a:lnTo>
                  <a:pt x="0" y="15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4248000" y="4295880"/>
            <a:ext cx="174600" cy="725400"/>
          </a:xfrm>
          <a:custGeom>
            <a:avLst/>
            <a:gdLst>
              <a:gd name="textAreaLeft" fmla="*/ 0 w 174600"/>
              <a:gd name="textAreaRight" fmla="*/ 174960 w 17460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10" h="457">
                <a:moveTo>
                  <a:pt x="110" y="0"/>
                </a:moveTo>
                <a:lnTo>
                  <a:pt x="0" y="457"/>
                </a:lnTo>
              </a:path>
            </a:pathLst>
          </a:custGeom>
          <a:noFill/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4000680" y="4834080"/>
            <a:ext cx="290160" cy="1160280"/>
          </a:xfrm>
          <a:custGeom>
            <a:avLst/>
            <a:gdLst>
              <a:gd name="textAreaLeft" fmla="*/ 0 w 290160"/>
              <a:gd name="textAreaRight" fmla="*/ 290520 w 2901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183" h="731">
                <a:moveTo>
                  <a:pt x="183" y="0"/>
                </a:moveTo>
                <a:lnTo>
                  <a:pt x="0" y="7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4005720" y="5516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4059360" y="3149640"/>
            <a:ext cx="1160280" cy="16686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731" h="1051">
                <a:moveTo>
                  <a:pt x="731" y="0"/>
                </a:moveTo>
                <a:lnTo>
                  <a:pt x="0" y="10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4041720" y="1965240"/>
            <a:ext cx="804960" cy="2881440"/>
          </a:xfrm>
          <a:custGeom>
            <a:avLst/>
            <a:gdLst>
              <a:gd name="textAreaLeft" fmla="*/ 0 w 804960"/>
              <a:gd name="textAreaRight" fmla="*/ 805320 w 80496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507" h="1815">
                <a:moveTo>
                  <a:pt x="27" y="1815"/>
                </a:moveTo>
                <a:lnTo>
                  <a:pt x="0" y="583"/>
                </a:lnTo>
                <a:lnTo>
                  <a:pt x="488" y="0"/>
                </a:lnTo>
                <a:lnTo>
                  <a:pt x="497" y="442"/>
                </a:lnTo>
                <a:lnTo>
                  <a:pt x="228" y="1498"/>
                </a:lnTo>
                <a:lnTo>
                  <a:pt x="17" y="1796"/>
                </a:lnTo>
                <a:lnTo>
                  <a:pt x="238" y="1450"/>
                </a:lnTo>
                <a:lnTo>
                  <a:pt x="507" y="1047"/>
                </a:lnTo>
                <a:lnTo>
                  <a:pt x="507" y="452"/>
                </a:lnTo>
                <a:lnTo>
                  <a:pt x="228" y="1469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5"/>
          <p:cNvSpPr/>
          <p:nvPr/>
        </p:nvSpPr>
        <p:spPr>
          <a:xfrm>
            <a:off x="4892760" y="1608120"/>
            <a:ext cx="284040" cy="1973160"/>
          </a:xfrm>
          <a:custGeom>
            <a:avLst/>
            <a:gdLst>
              <a:gd name="textAreaLeft" fmla="*/ 0 w 284040"/>
              <a:gd name="textAreaRight" fmla="*/ 284400 w 28404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79" h="1243">
                <a:moveTo>
                  <a:pt x="179" y="966"/>
                </a:moveTo>
                <a:lnTo>
                  <a:pt x="160" y="0"/>
                </a:lnTo>
                <a:lnTo>
                  <a:pt x="0" y="638"/>
                </a:lnTo>
                <a:lnTo>
                  <a:pt x="0" y="1243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9"/>
          <p:cNvSpPr/>
          <p:nvPr/>
        </p:nvSpPr>
        <p:spPr>
          <a:xfrm>
            <a:off x="25092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братная  теорема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две   прямые  перпендикулярны  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плоскости,  то  они  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4861080" y="2421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500544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ризнак  перпендикулярности  прямой  и 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прямая  перпендикулярна  к  двум  пересекающимся  прямым,  лежащим  в  плоскости,  то  она  перпендикулярна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539640" y="4005360"/>
            <a:ext cx="8137800" cy="1920600"/>
          </a:xfrm>
          <a:custGeom>
            <a:avLst/>
            <a:gdLst>
              <a:gd name="textAreaLeft" fmla="*/ 0 w 8137800"/>
              <a:gd name="textAreaRight" fmla="*/ 8138160 w 8137800"/>
              <a:gd name="textAreaTop" fmla="*/ 0 h 1920600"/>
              <a:gd name="textAreaBottom" fmla="*/ 1920960 h 1920600"/>
            </a:gdLst>
            <a:ahLst/>
            <a:rect l="textAreaLeft" t="textAreaTop" r="textAreaRight" b="textAreaBottom"/>
            <a:pathLst>
              <a:path w="5126" h="1210">
                <a:moveTo>
                  <a:pt x="874" y="0"/>
                </a:moveTo>
                <a:lnTo>
                  <a:pt x="5126" y="10"/>
                </a:lnTo>
                <a:lnTo>
                  <a:pt x="4330" y="1210"/>
                </a:lnTo>
                <a:lnTo>
                  <a:pt x="0" y="1181"/>
                </a:lnTo>
                <a:lnTo>
                  <a:pt x="854" y="10"/>
                </a:lnTo>
              </a:path>
            </a:pathLst>
          </a:custGeom>
          <a:solidFill>
            <a:srgbClr val="cfffdf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3375000" y="2895480"/>
            <a:ext cx="1440" cy="1905120"/>
          </a:xfrm>
          <a:custGeom>
            <a:avLst/>
            <a:gdLst>
              <a:gd name="textAreaLeft" fmla="*/ 0 w 1440"/>
              <a:gd name="textAreaRight" fmla="*/ 1800 w 14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" h="1200">
                <a:moveTo>
                  <a:pt x="0" y="0"/>
                </a:moveTo>
                <a:lnTo>
                  <a:pt x="0" y="1200"/>
                </a:ln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"/>
          <p:cNvSpPr/>
          <p:nvPr/>
        </p:nvSpPr>
        <p:spPr>
          <a:xfrm>
            <a:off x="3359160" y="5973840"/>
            <a:ext cx="1440" cy="884160"/>
          </a:xfrm>
          <a:custGeom>
            <a:avLst/>
            <a:gdLst>
              <a:gd name="textAreaLeft" fmla="*/ 0 w 1440"/>
              <a:gd name="textAreaRight" fmla="*/ 1800 w 14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" h="557">
                <a:moveTo>
                  <a:pt x="0" y="0"/>
                </a:moveTo>
                <a:lnTo>
                  <a:pt x="0" y="557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3359160" y="4815000"/>
            <a:ext cx="15840" cy="1234800"/>
          </a:xfrm>
          <a:custGeom>
            <a:avLst/>
            <a:gdLst>
              <a:gd name="textAreaLeft" fmla="*/ 0 w 15840"/>
              <a:gd name="textAreaRight" fmla="*/ 16200 w 1584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10" h="778">
                <a:moveTo>
                  <a:pt x="10" y="0"/>
                </a:moveTo>
                <a:lnTo>
                  <a:pt x="0" y="778"/>
                </a:lnTo>
              </a:path>
            </a:pathLst>
          </a:custGeom>
          <a:noFill/>
          <a:ln w="381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06072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2"/>
          <p:cNvSpPr/>
          <p:nvPr/>
        </p:nvSpPr>
        <p:spPr>
          <a:xfrm>
            <a:off x="1763640" y="4797360"/>
            <a:ext cx="4103640" cy="7164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354" h="29">
                <a:moveTo>
                  <a:pt x="0" y="0"/>
                </a:moveTo>
                <a:lnTo>
                  <a:pt x="1354" y="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3"/>
          <p:cNvSpPr/>
          <p:nvPr/>
        </p:nvSpPr>
        <p:spPr>
          <a:xfrm>
            <a:off x="1371600" y="4005360"/>
            <a:ext cx="4495680" cy="143496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2131" h="681">
                <a:moveTo>
                  <a:pt x="0" y="681"/>
                </a:moveTo>
                <a:lnTo>
                  <a:pt x="21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58144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2050920" y="4292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2989800" y="432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8"/>
          <p:cNvSpPr/>
          <p:nvPr/>
        </p:nvSpPr>
        <p:spPr>
          <a:xfrm>
            <a:off x="1908000" y="4941720"/>
            <a:ext cx="990720" cy="640080"/>
          </a:xfrm>
          <a:custGeom>
            <a:avLst/>
            <a:gdLst>
              <a:gd name="textAreaLeft" fmla="*/ 0 w 990720"/>
              <a:gd name="textAreaRight" fmla="*/ 991080 w 99072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624" h="403">
                <a:moveTo>
                  <a:pt x="0" y="0"/>
                </a:moveTo>
                <a:lnTo>
                  <a:pt x="624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702160" y="5084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2340000" y="4149720"/>
            <a:ext cx="2565360" cy="168120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1616" h="1059">
                <a:moveTo>
                  <a:pt x="0" y="0"/>
                </a:moveTo>
                <a:lnTo>
                  <a:pt x="1616" y="10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412720" y="378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3276720" y="3284640"/>
            <a:ext cx="144360" cy="14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3276720" y="6308640"/>
            <a:ext cx="144360" cy="149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291816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2918160" y="633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6"/>
          <p:cNvSpPr/>
          <p:nvPr/>
        </p:nvSpPr>
        <p:spPr>
          <a:xfrm>
            <a:off x="4427640" y="3933720"/>
            <a:ext cx="639720" cy="1919520"/>
          </a:xfrm>
          <a:custGeom>
            <a:avLst/>
            <a:gdLst>
              <a:gd name="textAreaLeft" fmla="*/ 0 w 639720"/>
              <a:gd name="textAreaRight" fmla="*/ 640080 w 63972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403" h="1209">
                <a:moveTo>
                  <a:pt x="0" y="1209"/>
                </a:moveTo>
                <a:lnTo>
                  <a:pt x="40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4859280" y="4221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4643280" y="4797360"/>
            <a:ext cx="14472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9"/>
          <p:cNvSpPr/>
          <p:nvPr/>
        </p:nvSpPr>
        <p:spPr>
          <a:xfrm>
            <a:off x="4427640" y="5445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479016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500580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4502880" y="515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3"/>
          <p:cNvSpPr/>
          <p:nvPr/>
        </p:nvSpPr>
        <p:spPr>
          <a:xfrm>
            <a:off x="3352680" y="3336840"/>
            <a:ext cx="1570320" cy="976320"/>
          </a:xfrm>
          <a:custGeom>
            <a:avLst/>
            <a:gdLst>
              <a:gd name="textAreaLeft" fmla="*/ 0 w 1570320"/>
              <a:gd name="textAreaRight" fmla="*/ 1570680 w 1570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89" h="615">
                <a:moveTo>
                  <a:pt x="0" y="0"/>
                </a:moveTo>
                <a:lnTo>
                  <a:pt x="989" y="61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6"/>
          <p:cNvSpPr/>
          <p:nvPr/>
        </p:nvSpPr>
        <p:spPr>
          <a:xfrm>
            <a:off x="3733920" y="4327560"/>
            <a:ext cx="1218960" cy="1569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569960"/>
              <a:gd name="textAreaBottom" fmla="*/ 1570320 h 1569960"/>
            </a:gdLst>
            <a:ahLst/>
            <a:rect l="textAreaLeft" t="textAreaTop" r="textAreaRight" b="textAreaBottom"/>
            <a:pathLst>
              <a:path w="768" h="989">
                <a:moveTo>
                  <a:pt x="0" y="989"/>
                </a:moveTo>
                <a:lnTo>
                  <a:pt x="7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7"/>
          <p:cNvSpPr/>
          <p:nvPr/>
        </p:nvSpPr>
        <p:spPr>
          <a:xfrm>
            <a:off x="3368520" y="5775480"/>
            <a:ext cx="471600" cy="595080"/>
          </a:xfrm>
          <a:custGeom>
            <a:avLst/>
            <a:gdLst>
              <a:gd name="textAreaLeft" fmla="*/ 0 w 471600"/>
              <a:gd name="textAreaRight" fmla="*/ 471960 w 4716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297" h="375">
                <a:moveTo>
                  <a:pt x="0" y="375"/>
                </a:moveTo>
                <a:lnTo>
                  <a:pt x="29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8"/>
          <p:cNvSpPr/>
          <p:nvPr/>
        </p:nvSpPr>
        <p:spPr>
          <a:xfrm>
            <a:off x="3368520" y="3382920"/>
            <a:ext cx="1371600" cy="1494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494000"/>
              <a:gd name="textAreaBottom" fmla="*/ 1494360 h 1494000"/>
            </a:gdLst>
            <a:ahLst/>
            <a:rect l="textAreaLeft" t="textAreaTop" r="textAreaRight" b="textAreaBottom"/>
            <a:pathLst>
              <a:path w="864" h="941">
                <a:moveTo>
                  <a:pt x="0" y="0"/>
                </a:moveTo>
                <a:lnTo>
                  <a:pt x="864" y="9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9"/>
          <p:cNvSpPr/>
          <p:nvPr/>
        </p:nvSpPr>
        <p:spPr>
          <a:xfrm>
            <a:off x="3368520" y="3368520"/>
            <a:ext cx="1143000" cy="21783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178360"/>
              <a:gd name="textAreaBottom" fmla="*/ 2178360 h 2178360"/>
            </a:gdLst>
            <a:ahLst/>
            <a:rect l="textAreaLeft" t="textAreaTop" r="textAreaRight" b="textAreaBottom"/>
            <a:pathLst>
              <a:path w="720" h="1372">
                <a:moveTo>
                  <a:pt x="0" y="0"/>
                </a:moveTo>
                <a:lnTo>
                  <a:pt x="720" y="13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40"/>
          <p:cNvSpPr/>
          <p:nvPr/>
        </p:nvSpPr>
        <p:spPr>
          <a:xfrm>
            <a:off x="3336840" y="4876920"/>
            <a:ext cx="1357560" cy="150804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855" h="950">
                <a:moveTo>
                  <a:pt x="855" y="0"/>
                </a:moveTo>
                <a:lnTo>
                  <a:pt x="0" y="95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1"/>
          <p:cNvSpPr/>
          <p:nvPr/>
        </p:nvSpPr>
        <p:spPr>
          <a:xfrm>
            <a:off x="3322800" y="5546880"/>
            <a:ext cx="1172880" cy="82368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739" h="519">
                <a:moveTo>
                  <a:pt x="739" y="0"/>
                </a:moveTo>
                <a:lnTo>
                  <a:pt x="0" y="51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3"/>
          <p:cNvSpPr/>
          <p:nvPr/>
        </p:nvSpPr>
        <p:spPr>
          <a:xfrm>
            <a:off x="3368520" y="5883120"/>
            <a:ext cx="640080" cy="457200"/>
          </a:xfrm>
          <a:custGeom>
            <a:avLst/>
            <a:gdLst>
              <a:gd name="textAreaLeft" fmla="*/ 0 w 640080"/>
              <a:gd name="textAreaRight" fmla="*/ 640440 w 640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03" h="288">
                <a:moveTo>
                  <a:pt x="0" y="288"/>
                </a:moveTo>
                <a:lnTo>
                  <a:pt x="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9:36:08Z</dcterms:created>
  <dc:creator>Каратанова</dc:creator>
  <dc:description/>
  <dc:language>en-US</dc:language>
  <cp:lastModifiedBy>Admin</cp:lastModifiedBy>
  <dcterms:modified xsi:type="dcterms:W3CDTF">2012-08-25T07:31:06Z</dcterms:modified>
  <cp:revision>7</cp:revision>
  <dc:subject/>
  <dc:title>«Перпендикулярные  прямые  в  пространстве»</dc:title>
</cp:coreProperties>
</file>