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5.gif" ContentType="image/gif"/>
  <Override PartName="/ppt/media/image18.png" ContentType="image/png"/>
  <Override PartName="/ppt/media/image57.jpeg" ContentType="image/jpeg"/>
  <Override PartName="/ppt/media/image56.png" ContentType="image/png"/>
  <Override PartName="/ppt/media/image55.jpeg" ContentType="image/jpeg"/>
  <Override PartName="/ppt/media/image51.jpeg" ContentType="image/jpeg"/>
  <Override PartName="/ppt/media/image49.jpeg" ContentType="image/jpeg"/>
  <Override PartName="/ppt/media/image53.jpeg" ContentType="image/jpeg"/>
  <Override PartName="/ppt/media/image47.gif" ContentType="image/gif"/>
  <Override PartName="/ppt/media/image85.jpeg" ContentType="image/jpeg"/>
  <Override PartName="/ppt/media/image105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75.jpeg" ContentType="image/jpeg"/>
  <Override PartName="/ppt/media/image42.png" ContentType="image/png"/>
  <Override PartName="/ppt/media/image40.png" ContentType="image/png"/>
  <Override PartName="/ppt/media/image34.jpeg" ContentType="image/jpeg"/>
  <Override PartName="/ppt/media/image31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13.gif" ContentType="image/gif"/>
  <Override PartName="/ppt/media/image4.png" ContentType="image/png"/>
  <Override PartName="/ppt/media/image39.jpeg" ContentType="image/jpeg"/>
  <Override PartName="/ppt/media/image5.png" ContentType="image/png"/>
  <Override PartName="/ppt/media/image14.gif" ContentType="image/gif"/>
  <Override PartName="/ppt/media/image17.png" ContentType="image/png"/>
  <Override PartName="/ppt/media/image82.png" ContentType="image/png"/>
  <Override PartName="/ppt/media/image98.jpeg" ContentType="image/jpeg"/>
  <Override PartName="/ppt/media/image38.png" ContentType="image/png"/>
  <Override PartName="/ppt/media/image8.png" ContentType="image/png"/>
  <Override PartName="/ppt/media/image23.jpeg" ContentType="image/jpeg"/>
  <Override PartName="/ppt/media/image12.gif" ContentType="image/gif"/>
  <Override PartName="/ppt/media/image3.png" ContentType="image/png"/>
  <Override PartName="/ppt/media/image80.png" ContentType="image/png"/>
  <Override PartName="/ppt/media/image11.png" ContentType="image/png"/>
  <Override PartName="/ppt/media/image36.png" ContentType="image/png"/>
  <Override PartName="/ppt/media/image3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52.png" ContentType="image/png"/>
  <Override PartName="/ppt/media/image95.jpeg" ContentType="image/jpeg"/>
  <Override PartName="/ppt/media/image62.png" ContentType="image/png"/>
  <Override PartName="/ppt/media/image104.png" ContentType="image/png"/>
  <Override PartName="/ppt/media/image60.png" ContentType="image/png"/>
  <Override PartName="/ppt/media/image63.jpeg" ContentType="image/jpeg"/>
  <Override PartName="/ppt/media/image94.png" ContentType="image/png"/>
  <Override PartName="/ppt/media/image58.png" ContentType="image/png"/>
  <Override PartName="/ppt/media/image67.jpeg" ContentType="image/jpeg"/>
  <Override PartName="/ppt/media/image69.png" ContentType="image/png"/>
  <Override PartName="/ppt/media/image91.jpeg" ContentType="image/jpeg"/>
  <Override PartName="/ppt/media/image70.png" ContentType="image/png"/>
  <Override PartName="/ppt/media/image65.jpeg" ContentType="image/jpeg"/>
  <Override PartName="/ppt/media/image100.png" ContentType="image/png"/>
  <Override PartName="/ppt/media/image78.png" ContentType="image/png"/>
  <Override PartName="/ppt/media/image71.jpeg" ContentType="image/jpeg"/>
  <Override PartName="/ppt/media/image102.png" ContentType="image/png"/>
  <Override PartName="/ppt/media/image66.jpeg" ContentType="image/jpeg"/>
  <Override PartName="/ppt/media/image90.png" ContentType="image/png"/>
  <Override PartName="/ppt/media/image76.png" ContentType="image/png"/>
  <Override PartName="/ppt/media/image68.jpeg" ContentType="image/jpeg"/>
  <Override PartName="/ppt/media/image96.png" ContentType="image/png"/>
  <Override PartName="/ppt/media/image32.jpeg" ContentType="image/jpeg"/>
  <Override PartName="/ppt/media/image93.jpeg" ContentType="image/jpeg"/>
  <Override PartName="/ppt/media/image88.jpeg" ContentType="image/jpeg"/>
  <Override PartName="/ppt/media/image29.jpeg" ContentType="image/jpeg"/>
  <Override PartName="/ppt/media/image99.jpeg" ContentType="image/jpeg"/>
  <Override PartName="/ppt/media/image92.png" ContentType="image/png"/>
  <Override PartName="/ppt/media/image89.png" ContentType="image/png"/>
  <Override PartName="/ppt/media/image72.png" ContentType="image/png"/>
  <Override PartName="/ppt/media/image97.jpeg" ContentType="image/jpeg"/>
  <Override PartName="/ppt/media/image64.png" ContentType="image/png"/>
  <Override PartName="/ppt/media/image77.jpeg" ContentType="image/jpeg"/>
  <Override PartName="/ppt/media/image103.jpeg" ContentType="image/jpeg"/>
  <Override PartName="/ppt/media/image83.jpeg" ContentType="image/jpe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41.jpeg" ContentType="image/jpeg"/>
  <Override PartName="/ppt/media/image54.png" ContentType="image/png"/>
  <Override PartName="/ppt/media/image16.gif" ContentType="image/gif"/>
  <Override PartName="/ppt/media/image84.png" ContentType="image/png"/>
  <Override PartName="/ppt/media/image79.jpeg" ContentType="image/jpeg"/>
  <Override PartName="/ppt/media/image50.png" ContentType="image/png"/>
  <Override PartName="/ppt/media/image7.gif" ContentType="image/gif"/>
  <Override PartName="/ppt/media/image19.gif" ContentType="image/gif"/>
  <Override PartName="/ppt/media/image87.png" ContentType="image/png"/>
  <Override PartName="/ppt/media/image101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107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6.jpeg" ContentType="image/jpeg"/>
  <Override PartName="/ppt/media/image8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9B6-C6EF-4BB9-8FCE-8F825D93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5D2-2EA2-414C-B372-B9DBAB90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DBA-474D-4BA9-96B6-CE321494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030-FF8B-4BA0-B2F9-E7248959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E14A1-99B6-4E7E-99B7-C8B7DE5F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B1A9-F3E8-4AEF-BD91-BE4B734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4732A-1B80-4971-B82E-4B95FE8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3F77E-FCCC-4E14-853F-66F3432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482FB-2891-4B8E-9398-5279B76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3E767-DA4D-4C19-BC6A-B08ACA1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A1B0B-FF58-455B-8148-3DA4F60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8B8-B76C-49DE-96AE-DCCE9A3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12E8E-DE01-4103-AA02-AAC29105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ED1A-20E9-4CBF-9053-4A880D3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1308E-3170-47A7-B9E9-9F48DF7A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58C5-CB6F-401F-8152-F3B80501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836DF-3598-4116-B0F0-A27947F5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CBF6-9384-41CA-AE74-C74D9A4F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C1E7-5EAA-4D31-9A6E-C9C46D0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3CD5-EA6B-4172-8A88-71763955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19D2-BEA8-4F3B-8B0B-5492528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D35C-3DCD-4755-8A7C-29805E3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006-F448-4CC6-8A88-02EA8F42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BE77-18BF-4A92-9481-8385E9D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03EA-3ECD-4E65-9358-D5E511F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4572-1A63-42FA-BD3E-D56F6BB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DC2B-33CC-4317-A9B7-DD225C1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5383-B1B8-42A7-9D84-1DC0DCD8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9474-E576-449F-914D-9FC95E68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3729-ED5C-430E-A149-5526E1E6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4A7FE-2650-4AEE-8849-8737FA3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8DC50-EB2A-4C61-A634-03B6313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66B59-3C40-4D6C-BA25-DC397D4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DF2-8F07-43A8-9A1F-F574B8D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4266C-D6F4-4BAB-B69B-4251FC3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5DF82-9BFB-4025-B8F0-C6FD93FD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1521D-F1A4-45AB-A366-4B0D55C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E6C15-1073-4F71-8CCC-02D21787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43C99-A1AF-4A2D-A57B-F1BA9FA7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75DB7-148D-46F0-A444-5BD872AE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F6728-8B69-4972-AAC2-B0564C6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34004-6347-4238-B745-351CE9D5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4DBF1-F901-4176-9501-4EDDFA3A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E97-7B27-43EA-BD19-4D651243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DCD-C88B-4BA6-AACE-16D4D0F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281-EDA0-4C7A-8741-BD0634E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3ED-8945-4173-85DD-37F7E7D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504-3F57-4604-9421-F07ED0F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49C-1D2C-4C0E-A2E3-F4EEAAE4C06A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6daa2d"/>
          </a:solidFill>
          <a:ln w="39960">
            <a:solidFill>
              <a:srgbClr val="6daa2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25F-DDC8-4505-8BC0-76EA0184BA91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E38-50CF-4605-9DEF-F67182C6EAD8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EC1-BFDE-45DF-AA3C-F6148C5164A2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6;&#1072;&#1074;&#1086;&#1088;&#1086;&#1085;&#1082;&#1080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1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2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7;&#1082;&#1074;&#1086;&#1088;&#1077;&#1094;%20&#1087;&#1077;&#1074;&#1095;&#1080;&#1081;-2.fl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solovey.flv" TargetMode="External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&#1042;&#1072;&#1088;&#1072;&#1082;&#1091;&#1096;&#1082;&#1072;.mp4.mp4" TargetMode="External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47.gif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11.pn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71320" y="1642680"/>
            <a:ext cx="8072280" cy="1857240"/>
          </a:xfrm>
          <a:prstGeom prst="rect">
            <a:avLst/>
          </a:prstGeom>
          <a:gradFill rotWithShape="0">
            <a:gsLst>
              <a:gs pos="0">
                <a:srgbClr val="f3ffea"/>
              </a:gs>
              <a:gs pos="100000">
                <a:srgbClr val="ddfdc5"/>
              </a:gs>
            </a:gsLst>
            <a:lin ang="5400000"/>
          </a:gradFill>
          <a:ln w="11520">
            <a:solidFill>
              <a:srgbClr val="a7d973"/>
            </a:solidFill>
            <a:miter/>
          </a:ln>
          <a:effectLst>
            <a:outerShdw dist="24840" dir="5400000" blurRad="0" rotWithShape="0">
              <a:srgbClr val="608d31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«Перелётные птицы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весной»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914400" y="182520"/>
            <a:ext cx="82296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72" name="Прямоугольник 4"/>
          <p:cNvGrpSpPr/>
          <p:nvPr/>
        </p:nvGrpSpPr>
        <p:grpSpPr>
          <a:xfrm>
            <a:off x="4968720" y="5157720"/>
            <a:ext cx="3730680" cy="1419120"/>
            <a:chOff x="4968720" y="5157720"/>
            <a:chExt cx="3730680" cy="1419120"/>
          </a:xfrm>
        </p:grpSpPr>
        <p:pic>
          <p:nvPicPr>
            <p:cNvPr id="17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968720" y="5157720"/>
              <a:ext cx="3730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72040" y="5214960"/>
              <a:ext cx="357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Работу выполнил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воспитатель ГБОУ СОШ с. Кошки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С/П д/с «Радуга»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Ишкальдина Марина Аркадьевн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70320" cy="130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389240" cy="194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5"/>
          <a:stretch/>
        </p:blipFill>
        <p:spPr>
          <a:xfrm>
            <a:off x="122400" y="3801960"/>
            <a:ext cx="2844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0" y="1928880"/>
            <a:ext cx="4143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сех прилётных птиц черней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Чистит пашню от червей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зад-вперёд по пашне вскачь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зовётся птица ..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Летом за пахарем ходит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под зиму с криком уходит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(Грач)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450040" y="1000080"/>
            <a:ext cx="2876400" cy="104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72600" y="714240"/>
            <a:ext cx="454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Грачи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этой неделе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рачи прилетели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оть трудна была дорога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тарший грач прикрикнул строго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За работу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ела много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мни сам,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ругих уч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а по-настоящему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ши чёрные грач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тицы работящие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. Прокофьев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4571640"/>
            <a:ext cx="8115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Жаворонки прилетают очень рано - как только возникают проталины. Птица семейства Жаворонковых.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 Жаворонки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 — славянский народный праздник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2"/>
          <a:stretch/>
        </p:blipFill>
        <p:spPr>
          <a:xfrm>
            <a:off x="212760" y="487440"/>
            <a:ext cx="3457440" cy="1176120"/>
          </a:xfrm>
          <a:prstGeom prst="rect">
            <a:avLst/>
          </a:prstGeom>
          <a:ln w="0">
            <a:noFill/>
          </a:ln>
        </p:spPr>
      </p:pic>
      <p:pic>
        <p:nvPicPr>
          <p:cNvPr id="219" name="Пение птиц - Жаворонок лесной.mp3" descr=""/>
          <p:cNvPicPr/>
          <p:nvPr/>
        </p:nvPicPr>
        <p:blipFill>
          <a:blip r:embed="rId3"/>
          <a:stretch/>
        </p:blipFill>
        <p:spPr>
          <a:xfrm>
            <a:off x="8429760" y="214200"/>
            <a:ext cx="42840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230720" y="1197000"/>
            <a:ext cx="4267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920" y="2928960"/>
            <a:ext cx="87868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левой жаворонок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размером немного крупнее воробья и имеет привлекательную окраску оперенья. Спина коричнево—жёлтая с пёстрыми вкраплениями, оперение живота белого цвета, грудь имеет коричневые пёстрые перья. Голова украшена небольшим хохолком, хвост окаймляют белые перья. Окраска полевого жаворонка помогает ему маскироваться в траве и на земл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3"/>
          <a:stretch/>
        </p:blipFill>
        <p:spPr>
          <a:xfrm>
            <a:off x="268200" y="311040"/>
            <a:ext cx="2853000" cy="113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33321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Полевой жаворонок — это истинный житель лугов и степей, гор и полей. Единственное место, где не встретишь эту маленькую птичку — это лес. После зимовки полевые жаворонки прилетают на место гнездования ранней весной, когда ещё нет насекомых для пищи, держатся они небольшими стайками на участках, прогреваемых солнцем, прячутся от ветра и дождя на опушка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422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530440" cy="1133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Питаются полевые жаворонки растительной пищей в виде семян различных трав и злаковых растений. Мелкие жучки, пауки, личинки различных насекомых, куколки бабочек — эти насекомые составляют основную пищу жаворонков всё лето. Охотится эта птица всегда на земле, не ловит насекомых в полёте. Потребность в воде они удовлетворяют росой, которая оседает на растениях.</a:t>
            </a:r>
            <a:endParaRPr b="0" lang="en-US" sz="29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364320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Лучшим местом для устройства гнездовий для этих птиц являются поля, засеянные в озимых и яровых хлебах. Гнездо очень простое, строится оно в ямке на земле, среди травы. В качестве строительного материала полевой жаворонок использует стебли и корешки травы, внутри гнездо укладывается мягкой шерстью и пухом. Гнездо маскируется очень тщательно, его трудно обнаружить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785840" y="571320"/>
            <a:ext cx="43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к беззаботно, на ле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щедро сыплет трели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виваясь круто в высо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земли — своей постел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реди колосьев он живет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го домишко тесен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о нужен весь небесный свод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му для звонких песен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. Я. Маршак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357120" y="57168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Жаворонки, прилет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тудену зиму прогон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Теплу весну принес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Зима нам надоела,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есь хлеб у нас поела!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714240" y="30002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Высоко под облак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д полями и луг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Словно выпорхнув спросонок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Песнь заводит ..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2071800" y="50007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прямо полет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в воздухе вис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Камнем падает с высот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И в полях поет, поет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157140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ец обыкновенный - певчая птица семейства скворцовых, широко распространённая на значительной территории Евразии. Является перелётной, в зимние месяцы мигрирует на юг. Внешне (размерами, желтым клювом и темным оперением) слегка напоминает чёрных дроздов, но в отличие от них </a:t>
            </a:r>
            <a:r>
              <a:rPr b="0" i="1" lang="ru-RU" sz="2200" spc="-1" strike="noStrike">
                <a:solidFill>
                  <a:srgbClr val="060903"/>
                </a:solidFill>
                <a:latin typeface="Calibri"/>
              </a:rPr>
              <a:t>ходит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 по земле, а не прыгает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одолжительность жизни обыкновенных скворцов в дикой природе составляет до 12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87172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761000" y="142920"/>
            <a:ext cx="4259160" cy="6402240"/>
          </a:xfrm>
          <a:prstGeom prst="rect">
            <a:avLst/>
          </a:prstGeom>
          <a:ln w="0">
            <a:noFill/>
          </a:ln>
        </p:spPr>
      </p:pic>
      <p:pic>
        <p:nvPicPr>
          <p:cNvPr id="239" name="Пение птиц - Скворец 2.mp3" descr=""/>
          <p:cNvPicPr/>
          <p:nvPr/>
        </p:nvPicPr>
        <p:blipFill>
          <a:blip r:embed="rId3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39290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кворец часто потряхивает ими при пении. Оперение имеет фиолетовый, зеленоватый, синеватый или бронзовый оттенки. В зимнее время на теле появляются многочисленные белые крапинки. Хвост короткий, длиной 6 — 7см, на конце почти прямой. Ноги красновато-коричнев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1840" y="103320"/>
            <a:ext cx="2882880" cy="10126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57120" y="107172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ебольшая птица длиной 18—21 см. Тело массивное, с короткой шеей. Клюв длинный, острый и слегка изогнут вниз. Крылья короткие, в основании широкие и зауженные на конце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4714920" y="260280"/>
            <a:ext cx="409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Из растительной пищи употребляют семена и плоды растений: ягоды, яблоки, груши, сливы, вишню и пр. Если плод защищён скорлупой либо жёсткой кожицей, они расщепляют его с помощью рычага: вставляют клюв в маленькую дырочку и постепенно разжимая его, вскрывают содержимое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2528640" cy="11350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28584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цы всеядны — питаются как растительной, так и животной пищей. Ранней весной охотятся за дождевыми червями, либо собирают личинок насекомых, зимовавших в укромных местах. Когда тёплая погода будит природу, ловят разнообразных насекомых: кузнечиков, пауков, бабочек, гусениц и червей. </a:t>
            </a:r>
            <a:endParaRPr b="0" lang="en-US" sz="22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5391000" y="333360"/>
            <a:ext cx="3527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формирование элементарных представлений о жизни птиц в весенний перио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обуч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точнить и расширить представления о перелетных птицах, об их жизни в весенний период; дать сведения о звуковых сигналах птиц, о видах гнезд и их размещении;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развив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развивать интерес к жизни птиц, воображение, мышление, речь детей, обогащать их словарь;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воспитательные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: воспитывать доброе заботливое отношение к птицам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9" name="Picture 2" descr="http://mirgif.com/animacija/belyj-cvetochek.gif"/>
          <p:cNvPicPr/>
          <p:nvPr/>
        </p:nvPicPr>
        <p:blipFill>
          <a:blip r:embed="rId1"/>
          <a:stretch/>
        </p:blipFill>
        <p:spPr>
          <a:xfrm>
            <a:off x="7429680" y="5186520"/>
            <a:ext cx="1714320" cy="167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mirgif.com/animacija/belyj-cvetochek.gif"/>
          <p:cNvPicPr/>
          <p:nvPr/>
        </p:nvPicPr>
        <p:blipFill>
          <a:blip r:embed="rId2"/>
          <a:stretch/>
        </p:blipFill>
        <p:spPr>
          <a:xfrm>
            <a:off x="6143760" y="5715000"/>
            <a:ext cx="1030320" cy="10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mirgif.com/animacija/belyj-cvetochek.gif"/>
          <p:cNvPicPr/>
          <p:nvPr/>
        </p:nvPicPr>
        <p:blipFill>
          <a:blip r:embed="rId3"/>
          <a:stretch/>
        </p:blipFill>
        <p:spPr>
          <a:xfrm>
            <a:off x="8259840" y="4143240"/>
            <a:ext cx="884160" cy="86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0" y="142920"/>
            <a:ext cx="957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235692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Обладает широким диапазоном звуков, которые могут включать в себя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висты, скрипы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, мяуканье, различные шумы и дребезжания. Способен подражать пению других птиц. Российскими орнитологами замечено, что скворцы способны подражать дроздам, камышовкам, варакушкам, жаворонкам, иволгам  ласточкам, перепелам, сойкам и другим птицам и даже квакать как лягушки. Иногда прилетающие весной с юга скворцы начинают петь голосами субтропических птиц. В Казахстане и Средней Азии скворцы имитируют звуки отары овец, включая блеяние, лаяние собак и щёлканье бича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1950840" cy="101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file.mobilmusic.ru/6e/94/d5/496311.gif"/>
          <p:cNvPicPr/>
          <p:nvPr/>
        </p:nvPicPr>
        <p:blipFill>
          <a:blip r:embed="rId3"/>
          <a:stretch/>
        </p:blipFill>
        <p:spPr>
          <a:xfrm>
            <a:off x="6943680" y="0"/>
            <a:ext cx="2200320" cy="204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8094600" y="5881680"/>
            <a:ext cx="10494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457200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дросшие птенцы уже в середине июня ведут себя независимо от родителей, сбиваясь в совместные стайки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быкновенные скворцы — довольно агрессивные по отношению к другим видам птицы и в состоянии конкурировать с ними за место, пригодное для гнезда (например,  с зелёными дятлами)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92160" y="0"/>
            <a:ext cx="588348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142920" y="85716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кворцы сбиваются в стаи и селятся небольшими колониями, обычно по несколько пар недалеко друг от друга. Иногда их можно увидеть летящими огромной группой в несколько тысяч особей, при этом они синхронно повторяют повороты, парят и приземляются на землю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10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3642840"/>
            <a:ext cx="8643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ыбрав удачное место, они усаживаются поблизости и начинают петь. В качестве подстилки используются сухие веточки деревьев, стебли, листья, шерсть и перья других птиц. Строят гнездо оба будущих родителя. Обычно кладка состоит из 4—6 светло-голубых яиц без крапинок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195120" y="237960"/>
            <a:ext cx="3633840" cy="1133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57120" y="1071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, прибыв на место обитания, скворцы тут же начинают искать себе место для будущего гнезда — дупло, отверстие в стене дома или скворечник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4788000" y="69840"/>
            <a:ext cx="412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857160"/>
            <a:ext cx="418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строили скворечню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Для весёлого скворц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весили скворечник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озле самого крыльц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ё семейство вчетвером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роживает в доме том: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ать, отец и скворушки –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Чёрненькие пёрышк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              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Е. Тараховская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4929120" y="28584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весёлый дом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круглым маленьким окном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Чтоб уснули дет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ом качает ветер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крыльце поёт отец –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и лётчик и певец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двор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о дворце пев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зовут его …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Скворец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840" y="1999800"/>
            <a:ext cx="46432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Певчая птица семейства         вьюрковых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 среднем зяблик живет     1,5 года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38120" y="542880"/>
            <a:ext cx="253692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4600440" y="0"/>
            <a:ext cx="4529160" cy="6400800"/>
          </a:xfrm>
          <a:prstGeom prst="rect">
            <a:avLst/>
          </a:prstGeom>
          <a:ln w="0">
            <a:noFill/>
          </a:ln>
        </p:spPr>
      </p:pic>
      <p:pic>
        <p:nvPicPr>
          <p:cNvPr id="265" name="Птицы - Зяблик, иволга.mp3" descr=""/>
          <p:cNvPicPr/>
          <p:nvPr/>
        </p:nvPicPr>
        <p:blipFill>
          <a:blip r:embed="rId3"/>
          <a:stretch/>
        </p:blipFill>
        <p:spPr>
          <a:xfrm>
            <a:off x="85010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840" y="4071960"/>
            <a:ext cx="86439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змером с воробья, длина тела составляет около 14 см. Вес зяблика составляет 15-40 грамм. Окраска оперения у самца яркая (особенно весной): голова синевато-серая, спина коричневатая с зелёным, зоб и грудь буровато-красные, на крыльях большие белые пят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994120" cy="1133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419640" y="15840"/>
            <a:ext cx="55623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13840" y="4786200"/>
            <a:ext cx="84726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итается семенами и зелёными частями растений, летом также вредными насекомыми и другими беспозвоночными, которыми выкармливает и птенцов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44600" y="317520"/>
            <a:ext cx="2597040" cy="101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2629080" y="260280"/>
            <a:ext cx="62118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57120" y="4214880"/>
            <a:ext cx="82296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рослые птицы заботятся о птенцах, выкармливают их и охраняют территорию, предупреждая друг друга о присутствии хищника тревожным позывом или звуком 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«хьют-хьют»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ладка состоит из 4-7 яиц, окрашенных в бледный голубовато-зеленый или красновато-зеленый цвет с розовато-фиолетовыми пятнам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07880" y="0"/>
            <a:ext cx="378000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428760" y="1071720"/>
            <a:ext cx="414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яблики прилетают в первых числах апреля. Гнездование и кладку начинают в начале мая. Насиживание и время выкармливания в гнезде — две недели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4575240" y="260280"/>
            <a:ext cx="4211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56760" y="285480"/>
            <a:ext cx="4357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лучше всех пою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есенку свою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с соловьиным не сравняю свистом.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ляди, как я хорош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расивей не найдёшь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всех пестрей, смелей и голосистей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. Бартольд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3643200" y="3286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лышу песню птичью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"Ви-ти-ти-ти, ви-чу!"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лес лететь спроста нельзя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м – "удельные князья"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оль границу кто нарушил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жучка чужого скушал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о с отвагой беспредельной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бой вступает князь удельный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Зяблик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14200" y="5000760"/>
            <a:ext cx="87868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1" lang="vi-VN" sz="2200" spc="-1" strike="noStrike">
                <a:solidFill>
                  <a:srgbClr val="060903"/>
                </a:solidFill>
                <a:latin typeface="Arial"/>
              </a:rPr>
              <a:t>Ла́сточковые</a:t>
            </a: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богатое семейство воробьинообразных. Семейство насчитывает 75 видов, на территории России — 10 видов. Для ласточковых характерна способность добывать пищу в воздухе, они в состоянии ловить насекомых на лету. Живут ласточки всего 4-5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312732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2665440" y="1484280"/>
            <a:ext cx="6173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4428720"/>
            <a:ext cx="9144000" cy="2428920"/>
          </a:xfrm>
          <a:prstGeom prst="rect">
            <a:avLst/>
          </a:prstGeom>
          <a:gradFill rotWithShape="0">
            <a:gsLst>
              <a:gs pos="0">
                <a:srgbClr val="e8fde8"/>
              </a:gs>
              <a:gs pos="100000">
                <a:srgbClr val="bcf3be"/>
              </a:gs>
            </a:gsLst>
            <a:lin ang="5400000"/>
          </a:gradFill>
          <a:ln w="11520">
            <a:solidFill>
              <a:srgbClr val="36be3d"/>
            </a:solidFill>
            <a:miter/>
          </a:ln>
          <a:effectLst>
            <a:outerShdw dist="24840" dir="5400000" blurRad="0" rotWithShape="0">
              <a:srgbClr val="07820d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 все оживает, птицы радуются теплу и солнечным лучам, повсюду слышны трели, песни, чириканья, мелодичный свист. Вот возвращаются с теплых краев перелетные птицы - грач, жаворонок, скворец, зяблик, ласточка... Они весной строят гнёзда и откладывают в них яйца. Некоторые птицы уже в конце весны успевают вывести птенцов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84" name="Весна(mp3ostrov.com)_mp3cut.foxcom.su_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mirgif.com/jivotnie/dve-pticy.gif"/>
          <p:cNvPicPr/>
          <p:nvPr/>
        </p:nvPicPr>
        <p:blipFill>
          <a:blip r:embed="rId2"/>
          <a:stretch/>
        </p:blipFill>
        <p:spPr>
          <a:xfrm>
            <a:off x="4572000" y="28584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mg-fotki.yandex.ru/get/6301/104166334.d1/0_7a6b2_8e1aec51_S.jpg"/>
          <p:cNvPicPr/>
          <p:nvPr/>
        </p:nvPicPr>
        <p:blipFill>
          <a:blip r:embed="rId3"/>
          <a:stretch/>
        </p:blipFill>
        <p:spPr>
          <a:xfrm>
            <a:off x="2857680" y="307188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img-fotki.yandex.ru/get/6301/104166334.d1/0_7a6b2_8e1aec51_S.jpg"/>
          <p:cNvPicPr/>
          <p:nvPr/>
        </p:nvPicPr>
        <p:blipFill>
          <a:blip r:embed="rId4"/>
          <a:stretch/>
        </p:blipFill>
        <p:spPr>
          <a:xfrm>
            <a:off x="1500120" y="34290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interface.ru/iarticle/img/27792_43207437.gif"/>
          <p:cNvPicPr/>
          <p:nvPr/>
        </p:nvPicPr>
        <p:blipFill>
          <a:blip r:embed="rId5"/>
          <a:stretch/>
        </p:blipFill>
        <p:spPr>
          <a:xfrm>
            <a:off x="0" y="3071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tochkagif.ru/_ph/22/2/656535990.gif"/>
          <p:cNvPicPr/>
          <p:nvPr/>
        </p:nvPicPr>
        <p:blipFill>
          <a:blip r:embed="rId6"/>
          <a:stretch/>
        </p:blipFill>
        <p:spPr>
          <a:xfrm>
            <a:off x="0" y="-642960"/>
            <a:ext cx="4132440" cy="4143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орзина цветов"/>
          <p:cNvPicPr/>
          <p:nvPr/>
        </p:nvPicPr>
        <p:blipFill>
          <a:blip r:embed="rId7"/>
          <a:stretch/>
        </p:blipFill>
        <p:spPr>
          <a:xfrm>
            <a:off x="7272360" y="27860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00040" y="4642920"/>
            <a:ext cx="82296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ласточковых стройное, обтекаемое телостроение и длинные узкие крылья. Клюв короткий и открывается довольно широко. Лапки весьма маленькие, у большинства видов длинные хвост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24000" cy="1012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457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42920" y="3786120"/>
            <a:ext cx="88581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вои гнёзда они лепят из глины, грязи и илистого песка, смачивая комочки своей необычайно липкой слюной, а внутреннюю часть своего слепленного гнезда устилают мягкой и тёплой подстилкой. Ласточки откладывают 4-6 яиц и самка с самцом по очереди высиживают свою кладку в течении 15 дней, вылупившихся птенцов выкармливают так же оба родителя порядка 20-25 дней, после чего те готовы отправиться в самостоятельный полёт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3700440" cy="101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-108000" y="671400"/>
            <a:ext cx="2814840" cy="1871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3"/>
          <a:stretch/>
        </p:blipFill>
        <p:spPr>
          <a:xfrm>
            <a:off x="2340000" y="1608120"/>
            <a:ext cx="2897280" cy="2171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4"/>
          <a:stretch/>
        </p:blipFill>
        <p:spPr>
          <a:xfrm>
            <a:off x="5315040" y="214200"/>
            <a:ext cx="3460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http://lastochkaptica1.narod.ru/images/1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летели,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бегут по кругу, машут руками,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глядели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изображая полёт птиц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садились,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Приседают, руки опускают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дивились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за спиной, как бы склады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ели, посидели                    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крылья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звились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(Бегут по кругу, взмахи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летели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                             руками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сенки зап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родная песенка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1" name="Заголовок 2" descr=""/>
          <p:cNvPicPr/>
          <p:nvPr/>
        </p:nvPicPr>
        <p:blipFill>
          <a:blip r:embed="rId1"/>
          <a:stretch/>
        </p:blipFill>
        <p:spPr>
          <a:xfrm>
            <a:off x="334800" y="237960"/>
            <a:ext cx="6828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а, ласточк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илая касаточка,                 (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 каждую строку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где была,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большой палец «здоровается»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с чем пришла?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дважды с одним пальчик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- За морем бывала,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чиная с указательного, -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добывала.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сначала на правой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есу, несу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потом на левой руке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красну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231840" y="176040"/>
            <a:ext cx="79614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0040" y="499680"/>
            <a:ext cx="447192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4cb"/>
                </a:solidFill>
                <a:latin typeface="Calibri"/>
              </a:rPr>
              <a:t>Загадка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роворна, легкокрыла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вост раздвоен, словно вилы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сли я летаю низко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начит, дождик где-то близко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Ласточка)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442760" y="3500280"/>
            <a:ext cx="42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Ласточка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асточка – «тивит-тивит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 нам летит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к нам лет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под крылышком её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а сидит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весна сид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Армянская песенка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14200" y="4500720"/>
            <a:ext cx="851544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из отряда воробьинообразных. В зависимости от подхода к классификации относится либо к семейству дроздовых, либо к семейству 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спространён в Европе и Западной Азии к Югу до Северного Кавказ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2535480" cy="1133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2720880" y="333360"/>
            <a:ext cx="61182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2920" y="1499760"/>
            <a:ext cx="4929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аиболее известен обыкновенный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оловей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 ; длина тела 17 см с длинными ножками, большими темными глазками, оперение буроватое, хвост рыжеваты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1" name="Заголовок 2" descr=""/>
          <p:cNvPicPr/>
          <p:nvPr/>
        </p:nvPicPr>
        <p:blipFill>
          <a:blip r:embed="rId2"/>
          <a:stretch/>
        </p:blipFill>
        <p:spPr>
          <a:xfrm>
            <a:off x="371520" y="317520"/>
            <a:ext cx="2670120" cy="1011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5003640" y="115920"/>
            <a:ext cx="40053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00040" y="4285800"/>
            <a:ext cx="82296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релётная птица, зимует в Африке. Обитает в сырых кустарниковых зарослях, в долинах рек. Гнёзда на земле или очень низко, в кустах. В кладке 4-6 зеленоватых или голубоватых с пятнами яиц. Птенцы появляются через 13 дн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450960" cy="1012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716360" y="144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Содержимое 2"/>
          <p:cNvGrpSpPr/>
          <p:nvPr/>
        </p:nvGrpSpPr>
        <p:grpSpPr>
          <a:xfrm>
            <a:off x="371520" y="2000160"/>
            <a:ext cx="8448480" cy="4675320"/>
            <a:chOff x="371520" y="2000160"/>
            <a:chExt cx="8448480" cy="4675320"/>
          </a:xfrm>
        </p:grpSpPr>
        <p:pic>
          <p:nvPicPr>
            <p:cNvPr id="19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1520" y="2000160"/>
              <a:ext cx="844848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20718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         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Под этим сокращённым названием может подразумеваться несколько различных праздников и международных дней, которые напрямую связаны с птицами. В их числе, наиболее известными «птичьими» датами являются: «Международный день птиц» — 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1 апрел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День птиц» —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4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Международный день перелётных птиц» -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вторая суббота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. Ни один из перечисленных праздников не является нерабочим днём, если, в зависимости от года, не попадает на выходной.</a:t>
              </a:r>
              <a:endParaRPr b="0" lang="en-US" sz="26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94" name="Заголовок 1" descr=""/>
          <p:cNvPicPr/>
          <p:nvPr/>
        </p:nvPicPr>
        <p:blipFill>
          <a:blip r:embed="rId2"/>
          <a:stretch/>
        </p:blipFill>
        <p:spPr>
          <a:xfrm>
            <a:off x="171360" y="115920"/>
            <a:ext cx="8575920" cy="161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blestiashky.narod.ru/5/animashka146.gif"/>
          <p:cNvPicPr/>
          <p:nvPr/>
        </p:nvPicPr>
        <p:blipFill>
          <a:blip r:embed="rId3"/>
          <a:stretch/>
        </p:blipFill>
        <p:spPr>
          <a:xfrm>
            <a:off x="5286240" y="-285840"/>
            <a:ext cx="5896080" cy="281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8015400" y="5757840"/>
            <a:ext cx="1128600" cy="11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mirgif.com/animacija/belyj-cvetochek.gif"/>
          <p:cNvPicPr/>
          <p:nvPr/>
        </p:nvPicPr>
        <p:blipFill>
          <a:blip r:embed="rId5"/>
          <a:stretch/>
        </p:blipFill>
        <p:spPr>
          <a:xfrm>
            <a:off x="285840" y="0"/>
            <a:ext cx="512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99800" y="285840"/>
            <a:ext cx="79297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оловей питается пауками, насекомыми,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червями, ягодами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19080" y="-36360"/>
            <a:ext cx="2382840" cy="1011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1042920" y="1397160"/>
            <a:ext cx="81010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14200" y="1571400"/>
            <a:ext cx="4143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семейства настоящих журавлей, обитающих в Европе, Азии, Северной Америке и Австралии. Все виды так или иначе связаны с водными, главным образом, заболоченными территориям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96244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313160" y="260280"/>
            <a:ext cx="461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85480" y="335772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Это крупная птица, высота около 115 см, вес до 6 кг. Оперение большей части тела синевато-серое, что позволяет птице маскироваться от врагов среди лесистой местности. Спина и подхвостье несколько темнее, а крылья и брюхо более светлые. Передняя часть головы тёмно-серая. По бокам головы имеется белая широкая полоса, начинающаяся под глазами и далее уходящая вниз вдоль шеи. Клюв светлый. Ноги чёрн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3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97080" cy="101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14200" y="2714400"/>
            <a:ext cx="8358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В начале гнездования серые журавли покрывают свои перья илом и грязью, что делает их гораздо менее заметными во время насиживания и выведения птенцов — такое поведение помогает им прятаться от хищников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Серые журавли держатся парами в течение всей жизни. 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Часто можно видеть во время гнездования характерные ритуальные танцы журавлиных пар, которые включают в себя подпрыгивание, хлопанье крыльями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Для гнезда выбирается относительно сухой участок земли, над водой или поблизости от неё. Место выбирается посреди густой растительности — зарослей камышей, осоки и т. п. Гнездо большое, свыше метра в диаметре и строится из различного растительного материала. В гнезде обычно бывает 2 яйца. Оба родителя насиживают яйца. Птенцы, покрытые пухом, вскоре после рождения способны покидать гнезд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3846600" cy="1158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4132440" y="23760"/>
            <a:ext cx="3079440" cy="2255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7211880" y="0"/>
            <a:ext cx="1908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4214520"/>
            <a:ext cx="8472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тица семейства дроздовых отряда воробьинообразных. Размером чуть меньше воробья. Длина тела — около 15 см. Масса 15—21 г. Спинка бурая, надхвостье рыжее. Горло и зоб — синие с рыжим пятном посередине; пятно может быть белым, или только окружено белым. Синий цвет снизу окаймлён черноватым, а затем рыжими полукольцами поперёк груди. Хвост рыжий с черноватой вершиной, средняя пара перьев хвоста бурые. Горло беловатое, окаймлённое буроватым полукольцом. Клюв чёрный, ноги буро-чёрные..</a:t>
            </a:r>
            <a:endParaRPr b="0" lang="en-US" sz="1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2908080" cy="1011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1482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57120" y="3905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ющая варакушка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идит  на вершине куста, но иногда взлетает, совершая характерные токовые полёты. Пение продолжается всё светлое время суток. Оно звучное, включающее свисты, щебетание и щёлканье, множество заимствованных у других птиц звуков; исполняется в быстрой манере. В песне большинства варакушек есть часто повторяющееся «варак-варак-варак», отчего и происходит название птицы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2"/>
          <a:stretch/>
        </p:blipFill>
        <p:spPr>
          <a:xfrm>
            <a:off x="304920" y="176040"/>
            <a:ext cx="2163600" cy="101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phot-style.ru/wp-content/uploads/2012/04/kak-sdelat-animatsiyu-v-fotoshope.gif"/>
          <p:cNvPicPr/>
          <p:nvPr/>
        </p:nvPicPr>
        <p:blipFill>
          <a:blip r:embed="rId3"/>
          <a:stretch/>
        </p:blipFill>
        <p:spPr>
          <a:xfrm>
            <a:off x="25002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1071720" y="1428840"/>
            <a:ext cx="2199960" cy="204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5"/>
          <a:stretch/>
        </p:blipFill>
        <p:spPr>
          <a:xfrm>
            <a:off x="4092480" y="6480"/>
            <a:ext cx="5015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29286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аракушка — насекомоядная птица. В питании преобладают насекомые и их личинки, обитающие на земле. Осенью значительную долю в питании занимают ягод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8" name="Заголовок 2" descr=""/>
          <p:cNvPicPr/>
          <p:nvPr/>
        </p:nvPicPr>
        <p:blipFill>
          <a:blip r:embed="rId1"/>
          <a:stretch/>
        </p:blipFill>
        <p:spPr>
          <a:xfrm>
            <a:off x="225360" y="523800"/>
            <a:ext cx="32004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28760" y="27856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длинного узкого, прямо обрезанного хвоста два средних пера немного длиннее боковы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Большинство трясогузок держится возле воды небольшими стайками; гнездятся трясогузки на земле или в дупла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рясогузки питаются исключительно насекомыми, в том числе и стрекозами, которых ловят на лету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 отличие от большинства мелких птиц по земле передвигается не прыжками, а бегом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25560" y="500040"/>
            <a:ext cx="3062520" cy="82512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4cb"/>
                </a:solidFill>
                <a:latin typeface="Calibri"/>
              </a:rPr>
              <a:t>Трясогузка</a:t>
            </a:r>
            <a:endParaRPr b="0" lang="en-US" sz="4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31" name="Звуки природы - Бел. трясогузка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5475240" y="0"/>
            <a:ext cx="3646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28760" y="307152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тица из семейства 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окрашены сверху в серо-зеленоватый цвет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этой птицы белое брюхо, рыжий лоб, горло, грудь и бока голов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ищут на земле насекомых, дождевых червей и улиток. Осенью они поедают ещё и ягоды, а зимой охотно прилетают к кормушкам, где клюют мягкие корм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876920" cy="1013040"/>
          </a:xfrm>
          <a:prstGeom prst="rect">
            <a:avLst/>
          </a:prstGeom>
          <a:ln w="0">
            <a:noFill/>
          </a:ln>
        </p:spPr>
      </p:pic>
      <p:pic>
        <p:nvPicPr>
          <p:cNvPr id="335" name="Голоса птиц - Малиновка (зарянка)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5921280" y="28440"/>
            <a:ext cx="32004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78604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Род птиц из отряда гусеобразных семейства утиных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Лебедь — изящная перелётная птица, улетающая в Африку в октябре и возвращающаяся весной. Их считают символом красоты, чистоты, благородства. Бытует мнение, что пары лебедей соединяются на всю жизнь, и они не могут жить друг без друга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Оперение лебедей по своей окраске бывает либо чисто белого, либо серого или чёрного цвета. Вес около 15 кг. Лапы довольно короткие. У них очень развитая летательная мускулатура, позволяющая им преодолевать тысячи километров при ежегодных перелётах на юг и обратн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Потомство выращивается обоими родителями, опекающими детёнышей в течение 1-2 лет после рождения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2066760" cy="101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5487840" y="-30240"/>
            <a:ext cx="36561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971640" y="22320"/>
            <a:ext cx="610056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5840" y="478620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мните "Лебединое озеро" или "Принцесса лебедь"? Девушка в обличие лебедя приземлялась на воду. Такое приземление характерно для лебедя-шипу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214200" y="2142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cb"/>
                </a:solidFill>
                <a:latin typeface="Calibri"/>
              </a:rPr>
              <a:t>Справочка для любителей сказок</a:t>
            </a:r>
            <a:endParaRPr b="0" lang="en-US" sz="36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4027320" y="-65160"/>
            <a:ext cx="5104080" cy="3781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208080" y="1951200"/>
            <a:ext cx="362736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7120" y="3571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Род птиц из семейства голенастых. Длинные ноги, клюв длинный, прямой; передние пальцы соединены между собой широкой плавательной перепонкой. В Европе два вида: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чёрный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и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белый.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К нам прилетают в марте. По прилёте поселяются в прежних гнёздах, которые устраивают из сухих сучьев на вершинах деревьев и на крышах; любят местности, обильные водой. Так как аистов не преследуют, то они очень доверчивы и подходят близко к жилищам. Полёт сильный. Пищу их составляют рыба, лягушки, ящерицы, змеи, улитки, дождевые черви, полевые мыши, кроты, насекомые. Голос слабый, звуки производит хлопаньем челюстей; только птенцы. Живёт очень долго. Длина белого аиста 1 м. </a:t>
            </a:r>
            <a:endParaRPr b="0" lang="en-US" sz="2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371520" y="317520"/>
            <a:ext cx="1487520" cy="1011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3994200" y="115920"/>
            <a:ext cx="49165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28760" y="36432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Ца́плевые</a:t>
            </a: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 — семейство птиц отряда аистообразных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Живущие на мелководье птицы. Длинноногие, с длинным и узким, приплюснутым с боков клювом. Они неподвижно стоят в воде и всматриваются в воду, выискивая добычу. Пары обычно держатся только один сезон. Оба родителя строят гнездо, насиживают яйца и кормят птенцов. Летают медленно, при этом вытягивают лапы наза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1828800" cy="1011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3722760" y="115920"/>
            <a:ext cx="5116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176040" y="433440"/>
            <a:ext cx="3853080" cy="11142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500040" y="1428840"/>
            <a:ext cx="600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В каком порядке улетают птицы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ервыми улетают насекомоядные птицы (Трясогузка). Потом улетают зерноядные - те, которые питаются плодами и семенами растений (овсянка, чиж, зяблик). А позже всех улетают утки и гуси, они собираются в путь, когда замерзают водоёмы, потому что это водоплавающие птицы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Чем отличаются журавли от цапель и аистов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Журавли в отличии от цапель, в полёте вытягивают ноги и шею. Это делает их похожими на аистов, но в отличие от них журавли никогда не садятся на деревья.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Если визуально сравнивать журавлей с другими болотными птицами, то по сравнению с цаплями их ноги, как правило, длиннее, а шея более вытянутая; а по сравнению с аистами тело изящнее, ноги длиннее, а клюв пропорционально меньше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081840" y="0"/>
            <a:ext cx="3024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14800" y="2499840"/>
            <a:ext cx="39002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Будь другом птиц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усть под окн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оёт весною солов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И над просторами земли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Летают стаи голубей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55" name="Заголовок 2" descr=""/>
          <p:cNvPicPr/>
          <p:nvPr/>
        </p:nvPicPr>
        <p:blipFill>
          <a:blip r:embed="rId2"/>
          <a:stretch/>
        </p:blipFill>
        <p:spPr>
          <a:xfrm>
            <a:off x="-365040" y="-49320"/>
            <a:ext cx="8594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285720" y="500040"/>
            <a:ext cx="5643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Первые вестники весны в средней полосе России - грачи. Обычно они прилетают к 17 марта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7120" y="2071800"/>
            <a:ext cx="3471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Птицы семейства вороновых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екрасно приручаются, могут имитировать человеческую речь.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окидают наши края поздно осенью, исчезая в конце октября или начале ноября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99680" y="428400"/>
            <a:ext cx="2143080" cy="85716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c1305"/>
                </a:solidFill>
                <a:latin typeface="Calibri"/>
              </a:rPr>
              <a:t>Грачи</a:t>
            </a:r>
            <a:endParaRPr b="0" lang="en-US" sz="59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2" name="Голос грача - Corvus frugilegus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470400" y="1773360"/>
            <a:ext cx="539748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2920" y="100008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Длина 45—47 см, масса тела 310—490 г. Грач похож на ворону, но стройнее, имеет более тонкий и прямой клюв. Перья чёрные, с фиолетовым отливом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8461440" cy="1427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770280" y="2924280"/>
            <a:ext cx="506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1356840"/>
            <a:ext cx="4714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рачи всеядны, питаются  различными насекомыми, дождевыми червями, мышевидными грызунами (которых они находят, копаясь в земле своим крепким клювом), зерновками культурных злаков, плодами и семенами овощных и плодово-ягодных культур. 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2603520" cy="11462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572080" y="2500200"/>
            <a:ext cx="335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eaa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ничтожением вредителей сельскохозяйственных растений — клопов-черепашек, долгоносиков, гусениц лугового мотылька, совок, грызунов — грачи приносят несомненную пользу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5076720" y="115920"/>
            <a:ext cx="37274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99680" y="3286080"/>
            <a:ext cx="811548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нездо строят из сухих сучьев, выстилают сухой травой, иногда клочками шерсти, тоненькими ветками, а также используют различный мусор. Гнездовая колония существует очень долго, даже десятилетия. Один раз в год бывает одна кладка из 3—7 яиц. Птенцы появляются в начале - середине апреля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114360" cy="1012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4:01:28Z</dcterms:created>
  <dc:creator>Пользователь</dc:creator>
  <dc:description/>
  <dc:language>en-US</dc:language>
  <cp:lastModifiedBy>Пользователь</cp:lastModifiedBy>
  <dcterms:modified xsi:type="dcterms:W3CDTF">2013-04-07T13:10:11Z</dcterms:modified>
  <cp:revision>147</cp:revision>
  <dc:subject/>
  <dc:title>Слайд 1</dc:title>
</cp:coreProperties>
</file>