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5.gif" ContentType="image/gif"/>
  <Override PartName="/ppt/media/image18.png" ContentType="image/png"/>
  <Override PartName="/ppt/media/image57.jpeg" ContentType="image/jpeg"/>
  <Override PartName="/ppt/media/image56.png" ContentType="image/png"/>
  <Override PartName="/ppt/media/image55.jpeg" ContentType="image/jpeg"/>
  <Override PartName="/ppt/media/image51.jpeg" ContentType="image/jpeg"/>
  <Override PartName="/ppt/media/image49.jpeg" ContentType="image/jpeg"/>
  <Override PartName="/ppt/media/image53.jpeg" ContentType="image/jpeg"/>
  <Override PartName="/ppt/media/image47.gif" ContentType="image/gif"/>
  <Override PartName="/ppt/media/image85.jpeg" ContentType="image/jpeg"/>
  <Override PartName="/ppt/media/image105.jpeg" ContentType="image/jpeg"/>
  <Override PartName="/ppt/media/image46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75.jpeg" ContentType="image/jpeg"/>
  <Override PartName="/ppt/media/image42.png" ContentType="image/png"/>
  <Override PartName="/ppt/media/image40.png" ContentType="image/png"/>
  <Override PartName="/ppt/media/image34.jpeg" ContentType="image/jpeg"/>
  <Override PartName="/ppt/media/image31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13.gif" ContentType="image/gif"/>
  <Override PartName="/ppt/media/image4.png" ContentType="image/png"/>
  <Override PartName="/ppt/media/image39.jpeg" ContentType="image/jpeg"/>
  <Override PartName="/ppt/media/image5.png" ContentType="image/png"/>
  <Override PartName="/ppt/media/image14.gif" ContentType="image/gif"/>
  <Override PartName="/ppt/media/image17.png" ContentType="image/png"/>
  <Override PartName="/ppt/media/image82.png" ContentType="image/png"/>
  <Override PartName="/ppt/media/image98.jpeg" ContentType="image/jpeg"/>
  <Override PartName="/ppt/media/image38.png" ContentType="image/png"/>
  <Override PartName="/ppt/media/image8.png" ContentType="image/png"/>
  <Override PartName="/ppt/media/image23.jpeg" ContentType="image/jpeg"/>
  <Override PartName="/ppt/media/image12.gif" ContentType="image/gif"/>
  <Override PartName="/ppt/media/image3.png" ContentType="image/png"/>
  <Override PartName="/ppt/media/image80.png" ContentType="image/png"/>
  <Override PartName="/ppt/media/image11.png" ContentType="image/png"/>
  <Override PartName="/ppt/media/image36.png" ContentType="image/png"/>
  <Override PartName="/ppt/media/image3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52.png" ContentType="image/png"/>
  <Override PartName="/ppt/media/image95.jpeg" ContentType="image/jpeg"/>
  <Override PartName="/ppt/media/image62.png" ContentType="image/png"/>
  <Override PartName="/ppt/media/image104.png" ContentType="image/png"/>
  <Override PartName="/ppt/media/image60.png" ContentType="image/png"/>
  <Override PartName="/ppt/media/image63.jpeg" ContentType="image/jpeg"/>
  <Override PartName="/ppt/media/image94.png" ContentType="image/png"/>
  <Override PartName="/ppt/media/image58.png" ContentType="image/png"/>
  <Override PartName="/ppt/media/image67.jpeg" ContentType="image/jpeg"/>
  <Override PartName="/ppt/media/image69.png" ContentType="image/png"/>
  <Override PartName="/ppt/media/image91.jpeg" ContentType="image/jpeg"/>
  <Override PartName="/ppt/media/image70.png" ContentType="image/png"/>
  <Override PartName="/ppt/media/image65.jpeg" ContentType="image/jpeg"/>
  <Override PartName="/ppt/media/image100.png" ContentType="image/png"/>
  <Override PartName="/ppt/media/image78.png" ContentType="image/png"/>
  <Override PartName="/ppt/media/image71.jpeg" ContentType="image/jpeg"/>
  <Override PartName="/ppt/media/image102.png" ContentType="image/png"/>
  <Override PartName="/ppt/media/image66.jpeg" ContentType="image/jpeg"/>
  <Override PartName="/ppt/media/image90.png" ContentType="image/png"/>
  <Override PartName="/ppt/media/image76.png" ContentType="image/png"/>
  <Override PartName="/ppt/media/image68.jpeg" ContentType="image/jpeg"/>
  <Override PartName="/ppt/media/image96.png" ContentType="image/png"/>
  <Override PartName="/ppt/media/image32.jpeg" ContentType="image/jpeg"/>
  <Override PartName="/ppt/media/image93.jpeg" ContentType="image/jpeg"/>
  <Override PartName="/ppt/media/image88.jpeg" ContentType="image/jpeg"/>
  <Override PartName="/ppt/media/image29.jpeg" ContentType="image/jpeg"/>
  <Override PartName="/ppt/media/image99.jpeg" ContentType="image/jpeg"/>
  <Override PartName="/ppt/media/image92.png" ContentType="image/png"/>
  <Override PartName="/ppt/media/image89.png" ContentType="image/png"/>
  <Override PartName="/ppt/media/image72.png" ContentType="image/png"/>
  <Override PartName="/ppt/media/image97.jpeg" ContentType="image/jpeg"/>
  <Override PartName="/ppt/media/image64.png" ContentType="image/png"/>
  <Override PartName="/ppt/media/image77.jpeg" ContentType="image/jpeg"/>
  <Override PartName="/ppt/media/image103.jpeg" ContentType="image/jpeg"/>
  <Override PartName="/ppt/media/image83.jpeg" ContentType="image/jpeg"/>
  <Override PartName="/ppt/media/image74.png" ContentType="image/png"/>
  <Override PartName="/ppt/media/image61.jpeg" ContentType="image/jpeg"/>
  <Override PartName="/ppt/media/image73.jpeg" ContentType="image/jpeg"/>
  <Override PartName="/ppt/media/image24.png" ContentType="image/png"/>
  <Override PartName="/ppt/media/image41.jpeg" ContentType="image/jpeg"/>
  <Override PartName="/ppt/media/image54.png" ContentType="image/png"/>
  <Override PartName="/ppt/media/image16.gif" ContentType="image/gif"/>
  <Override PartName="/ppt/media/image84.png" ContentType="image/png"/>
  <Override PartName="/ppt/media/image79.jpeg" ContentType="image/jpeg"/>
  <Override PartName="/ppt/media/image50.png" ContentType="image/png"/>
  <Override PartName="/ppt/media/image7.gif" ContentType="image/gif"/>
  <Override PartName="/ppt/media/image19.gif" ContentType="image/gif"/>
  <Override PartName="/ppt/media/image87.png" ContentType="image/png"/>
  <Override PartName="/ppt/media/image101.jpeg" ContentType="image/jpeg"/>
  <Override PartName="/ppt/media/image81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107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27.jpeg" ContentType="image/jpeg"/>
  <Override PartName="/ppt/media/image106.jpeg" ContentType="image/jpeg"/>
  <Override PartName="/ppt/media/image8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7EF-1FAD-4743-8C92-BDEA2327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E52-9071-4BC8-A0FC-E67D0867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A4D-3B29-4B2B-9324-8B88324E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8CB-0902-4942-B759-9526F232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B2717-6530-464E-91D0-A623274B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F2F8F-B04A-4A13-9742-46552473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07868-C868-447F-A3F4-37A37AFD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5D793-01C7-49FA-AE41-DBFE48F1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E6E3E-E75A-4955-8C6D-6A35D31A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126C5-66BF-4C54-BCB1-D9E878F8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7D447-75BF-4FFB-9ACB-89234C38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388-F8BE-4213-805A-AFDB7602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91228-D340-4F70-A239-75924EBE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BE327-7A22-4A31-B653-1CB2B463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97D1F-E510-4D89-8B34-7313978B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73F0D-4AD0-458F-A84B-84225909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E0CA1-4333-4D7E-99CD-5ABEA8C9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E351-F110-4FB9-BA9E-C030F78A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FF0F0-F46E-4873-8B81-8E4FA005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C34F-45CE-4DA5-942B-9D9F83DC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5A1E-D841-4B80-B902-0E95C6F6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FB14-D4AB-40DA-850F-D19D0ED6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581-3628-4B78-A79B-E3A9DB4D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8311-3084-4707-A3FF-0336C108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820D-1775-4FCC-B000-2C05F9B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53351-5B86-4E3D-AF24-596300E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F5CB-3DCD-4232-B31C-3A18E71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AF54-E35C-4E66-AAC5-5FC8AAD0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BC77-39BD-4DA8-9A48-08BAEFC5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EBC9D-D84C-47A4-B97E-EC0A3FE6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09DAB-8823-4F32-B5CA-0D842DA7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59C30-DDA6-4471-B894-58040747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84170-E24D-4A9B-9F1F-2FF6B02D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E59-5275-4EE4-A767-603ED26D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FD686C-7E36-49F8-A98D-2D6EBA35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E9F07-4EE8-4132-911E-D3DCB302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C430E-0695-4F94-8315-F7E06451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B8A1D-0155-4201-9A13-4B85310D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77D451-05EE-48CB-8765-B03F8925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EF555-983F-4484-8F14-20C935FA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FC44E-4A94-431A-B653-2E6C2484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F8D862-37D0-49B2-84FE-F328C11A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A02BF1-18AB-40B8-B293-A13E54CC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D63-97FB-4F5F-A8C3-C0805915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B43-C492-49C1-8CF4-945EF124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FA3-08F2-4334-B7E5-AE88891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4FA-12C1-45E2-ACF2-151765A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511-F520-4607-B3A9-96DB8ABB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B554-3371-48BB-9214-CFBCEF52A4D3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6daa2d"/>
          </a:solidFill>
          <a:ln w="39960">
            <a:solidFill>
              <a:srgbClr val="6daa2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F0BC-E24D-40E1-AEB8-AEC8594190FC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DAAF-6FBF-44C0-8393-99981A2BDB3F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1f8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4e7c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5f952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92d05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436E-004F-4344-AA4B-F8248F9E0F33}" type="slidenum">
              <a:rPr b="0" lang="ru-RU" sz="1600" spc="-1" strike="noStrike">
                <a:solidFill>
                  <a:srgbClr val="92d05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2d05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46;&#1072;&#1074;&#1086;&#1088;&#1086;&#1085;&#1082;&#1080;.pptx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1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5;&#1086;&#1083;&#1077;&#1074;&#1086;&#1081;%20&#1078;&#1072;&#1074;&#1086;&#1088;&#1086;&#1085;&#1086;&#1082;%20(Alauda%20arvensis).flv" TargetMode="External"/><Relationship Id="rId2" Type="http://schemas.openxmlformats.org/officeDocument/2006/relationships/hyperlink" Target="file:///&#1055;&#1086;&#1083;&#1077;&#1074;&#1086;&#1081;%20&#1078;&#1072;&#1074;&#1086;&#1088;&#1086;&#1085;&#1086;&#1082;%20(Alauda%20arvensis).flv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7;&#1082;&#1074;&#1086;&#1088;&#1077;&#1094;%20&#1087;&#1077;&#1074;&#1095;&#1080;&#1081;-2.flv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solovey.flv" TargetMode="External"/><Relationship Id="rId2" Type="http://schemas.openxmlformats.org/officeDocument/2006/relationships/image" Target="../media/image74.pn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&#1042;&#1072;&#1088;&#1072;&#1082;&#1091;&#1096;&#1082;&#1072;.mp4.mp4" TargetMode="External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47.gif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11.pn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71320" y="1642680"/>
            <a:ext cx="8072280" cy="1857240"/>
          </a:xfrm>
          <a:prstGeom prst="rect">
            <a:avLst/>
          </a:prstGeom>
          <a:gradFill rotWithShape="0">
            <a:gsLst>
              <a:gs pos="0">
                <a:srgbClr val="f3ffea"/>
              </a:gs>
              <a:gs pos="100000">
                <a:srgbClr val="ddfdc5"/>
              </a:gs>
            </a:gsLst>
            <a:lin ang="5400000"/>
          </a:gradFill>
          <a:ln w="11520">
            <a:solidFill>
              <a:srgbClr val="a7d973"/>
            </a:solidFill>
            <a:miter/>
          </a:ln>
          <a:effectLst>
            <a:outerShdw dist="24840" dir="5400000" blurRad="0" rotWithShape="0">
              <a:srgbClr val="608d31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3c17c3"/>
                </a:solidFill>
                <a:latin typeface="Calibri"/>
              </a:rPr>
              <a:t>«Перелётные птицы</a:t>
            </a:r>
            <a:endParaRPr b="0" lang="en-US" sz="61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3c17c3"/>
                </a:solidFill>
                <a:latin typeface="Calibri"/>
              </a:rPr>
              <a:t>весной»</a:t>
            </a:r>
            <a:endParaRPr b="0" lang="en-US" sz="61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914400" y="182520"/>
            <a:ext cx="822960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72" name="Прямоугольник 4"/>
          <p:cNvGrpSpPr/>
          <p:nvPr/>
        </p:nvGrpSpPr>
        <p:grpSpPr>
          <a:xfrm>
            <a:off x="4968720" y="5157720"/>
            <a:ext cx="3730680" cy="1419120"/>
            <a:chOff x="4968720" y="5157720"/>
            <a:chExt cx="3730680" cy="1419120"/>
          </a:xfrm>
        </p:grpSpPr>
        <p:pic>
          <p:nvPicPr>
            <p:cNvPr id="17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968720" y="5157720"/>
              <a:ext cx="373068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072040" y="5214960"/>
              <a:ext cx="357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Работу выполнила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воспитатель ГБОУ СОШ с. Кошки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С/П д/с «Радуга»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c1305"/>
                  </a:solidFill>
                  <a:latin typeface="Calibri"/>
                </a:rPr>
                <a:t>Ишкальдина Марина Аркадьевна</a:t>
              </a:r>
              <a:endParaRPr b="0" lang="en-US" sz="1800" spc="-1" strike="noStrike">
                <a:solidFill>
                  <a:srgbClr val="92d050"/>
                </a:solidFill>
                <a:latin typeface="Arial"/>
              </a:endParaRPr>
            </a:p>
          </p:txBody>
        </p:sp>
      </p:grpSp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570320" cy="130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1389240" cy="1944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5"/>
          <a:stretch/>
        </p:blipFill>
        <p:spPr>
          <a:xfrm>
            <a:off x="122400" y="3801960"/>
            <a:ext cx="284472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00400" y="1928880"/>
            <a:ext cx="41432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Всех прилётных птиц черней,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Чистит пашню от червей.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Взад-вперёд по пашне вскачь.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А зовётся птица ... 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Летом за пахарем ходит, </a:t>
            </a:r>
            <a:br>
              <a:rPr sz="2200"/>
            </a:b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А под зиму с криком уходит. 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                                                   </a:t>
            </a: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(Грач)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                                                                                      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450040" y="1000080"/>
            <a:ext cx="2876400" cy="10479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3"/>
          <p:cNvSpPr/>
          <p:nvPr/>
        </p:nvSpPr>
        <p:spPr>
          <a:xfrm>
            <a:off x="372600" y="714240"/>
            <a:ext cx="4542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«Грачи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этой неделе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Грачи прилетели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Хоть трудна была дорога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тарший грач прикрикнул строго: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«За работу!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ела много!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Помни сам,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ругих учи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а по-настоящему: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ши чёрные грачи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Птицы работящие!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. Прокофьев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71680" y="4571640"/>
            <a:ext cx="81151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Жаворонки прилетают очень рано - как только возникают проталины. Птица семейства Жаворонковых.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 Жаворонки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 — славянский народный праздник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18" name="Заголовок 2" descr=""/>
          <p:cNvPicPr/>
          <p:nvPr/>
        </p:nvPicPr>
        <p:blipFill>
          <a:blip r:embed="rId2"/>
          <a:stretch/>
        </p:blipFill>
        <p:spPr>
          <a:xfrm>
            <a:off x="212760" y="487440"/>
            <a:ext cx="3457440" cy="1176120"/>
          </a:xfrm>
          <a:prstGeom prst="rect">
            <a:avLst/>
          </a:prstGeom>
          <a:ln w="0">
            <a:noFill/>
          </a:ln>
        </p:spPr>
      </p:pic>
      <p:pic>
        <p:nvPicPr>
          <p:cNvPr id="219" name="Пение птиц - Жаворонок лесной.mp3" descr=""/>
          <p:cNvPicPr/>
          <p:nvPr/>
        </p:nvPicPr>
        <p:blipFill>
          <a:blip r:embed="rId3"/>
          <a:stretch/>
        </p:blipFill>
        <p:spPr>
          <a:xfrm>
            <a:off x="8429760" y="214200"/>
            <a:ext cx="42840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4"/>
          <a:stretch/>
        </p:blipFill>
        <p:spPr>
          <a:xfrm>
            <a:off x="4230720" y="1197000"/>
            <a:ext cx="42670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42920" y="2928960"/>
            <a:ext cx="878688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c1305"/>
                </a:solidFill>
                <a:latin typeface="Calibri"/>
              </a:rPr>
              <a:t>    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Полевой жаворонок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Calibri"/>
                <a:hlinkClick r:id="rId2"/>
              </a:rPr>
              <a:t> </a:t>
            </a:r>
            <a:r>
              <a:rPr b="0" lang="ru-RU" sz="2800" spc="-1" strike="noStrike">
                <a:solidFill>
                  <a:srgbClr val="0c1305"/>
                </a:solidFill>
                <a:latin typeface="Calibri"/>
              </a:rPr>
              <a:t>размером немного крупнее воробья и имеет привлекательную окраску оперенья. Спина коричнево—жёлтая с пёстрыми вкраплениями, оперение живота белого цвета, грудь имеет коричневые пёстрые перья. Голова украшена небольшим хохолком, хвост окаймляют белые перья. Окраска полевого жаворонка помогает ему маскироваться в траве и на земле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3"/>
          <a:stretch/>
        </p:blipFill>
        <p:spPr>
          <a:xfrm>
            <a:off x="268200" y="311040"/>
            <a:ext cx="2853000" cy="113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4"/>
          <a:stretch/>
        </p:blipFill>
        <p:spPr>
          <a:xfrm>
            <a:off x="5580000" y="260280"/>
            <a:ext cx="33321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Полевой жаворонок — это истинный житель лугов и степей, гор и полей. Единственное место, где не встретишь эту маленькую птичку — это лес. После зимовки полевые жаворонки прилетают на место гнездования ранней весной, когда ещё нет насекомых для пищи, держатся они небольшими стайками на участках, прогреваемых солнцем, прячутся от ветра и дождя на опушках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82422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3" descr=""/>
          <p:cNvPicPr/>
          <p:nvPr/>
        </p:nvPicPr>
        <p:blipFill>
          <a:blip r:embed="rId1"/>
          <a:stretch/>
        </p:blipFill>
        <p:spPr>
          <a:xfrm>
            <a:off x="480960" y="311040"/>
            <a:ext cx="2530440" cy="1133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0" y="328608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60903"/>
                </a:solidFill>
                <a:latin typeface="Calibri"/>
              </a:rPr>
              <a:t>Питаются полевые жаворонки растительной пищей в виде семян различных трав и злаковых растений. Мелкие жучки, пауки, личинки различных насекомых, куколки бабочек — эти насекомые составляют основную пищу жаворонков всё лето. Охотится эта птица всегда на земле, не ловит насекомых в полёте. Потребность в воде они удовлетворяют росой, которая оседает на растениях.</a:t>
            </a:r>
            <a:endParaRPr b="0" lang="en-US" sz="29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26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0" y="364320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Лучшим местом для устройства гнездовий для этих птиц являются поля, засеянные в озимых и яровых хлебах. Гнездо очень простое, строится оно в ямке на земле, среди травы. В качестве строительного материала полевой жаворонок использует стебли и корешки травы, внутри гнездо укладывается мягкой шерстью и пухом. Гнездо маскируется очень тщательно, его трудно обнаружить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42670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785840" y="571320"/>
            <a:ext cx="4357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Так беззаботно, на лету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Он щедро сыплет трели,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звиваясь круто в высоту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 земли — своей постели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реди колосьев он живет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Его домишко тесен,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о нужен весь небесный свод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Ему для звонких песен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. Я. Маршак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357120" y="57168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Жаворонки, прилетите!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Студену зиму прогоните!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Теплу весну принесите!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Зима нам надоела,</a:t>
            </a:r>
            <a:br>
              <a:rPr sz="2800"/>
            </a:b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Весь хлеб у нас поела!</a:t>
            </a:r>
            <a:endParaRPr b="0" lang="en-US" sz="2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714240" y="300024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44cb"/>
                </a:solidFill>
                <a:latin typeface="Calibri"/>
              </a:rPr>
              <a:t>Загадки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Высоко под облаками,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Над полями и лугами,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Словно выпорхнув спросонок,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Песнь заводит ...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(Ответ: Жаворонок)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2071800" y="50007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Хочет – прямо полетит, 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Хочет – в воздухе висит, 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Камнем падает с высот </a:t>
            </a:r>
            <a:br>
              <a:rPr sz="2000"/>
            </a:b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И в полях поет, поет.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(Ответ: Жаворонок)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-360" y="157140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Скворец обыкновенный - певчая птица семейства скворцовых, широко распространённая на значительной территории Евразии. Является перелётной, в зимние месяцы мигрирует на юг. Внешне (размерами, желтым клювом и темным оперением) слегка напоминает чёрных дроздов, но в отличие от них </a:t>
            </a:r>
            <a:r>
              <a:rPr b="0" i="1" lang="ru-RU" sz="2200" spc="-1" strike="noStrike">
                <a:solidFill>
                  <a:srgbClr val="060903"/>
                </a:solidFill>
                <a:latin typeface="Calibri"/>
              </a:rPr>
              <a:t>ходит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 по земле, а не прыгает.</a:t>
            </a:r>
            <a:r>
              <a:rPr b="0" lang="ru-RU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Продолжительность жизни обыкновенных скворцов в дикой природе составляет до 12 лет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82520" y="414360"/>
            <a:ext cx="2871720" cy="12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4761000" y="142920"/>
            <a:ext cx="4259160" cy="6402240"/>
          </a:xfrm>
          <a:prstGeom prst="rect">
            <a:avLst/>
          </a:prstGeom>
          <a:ln w="0">
            <a:noFill/>
          </a:ln>
        </p:spPr>
      </p:pic>
      <p:pic>
        <p:nvPicPr>
          <p:cNvPr id="239" name="Пение птиц - Скворец 2.mp3" descr=""/>
          <p:cNvPicPr/>
          <p:nvPr/>
        </p:nvPicPr>
        <p:blipFill>
          <a:blip r:embed="rId3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39290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Скворец часто потряхивает ими при пении. Оперение имеет фиолетовый, зеленоватый, синеватый или бронзовый оттенки. В зимнее время на теле появляются многочисленные белые крапинки. Хвост короткий, длиной 6 — 7см, на конце почти прямой. Ноги красновато-коричневые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31840" y="103320"/>
            <a:ext cx="2882880" cy="10126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357120" y="1071720"/>
            <a:ext cx="43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ебольшая птица длиной 18—21 см. Тело массивное, с короткой шеей. Клюв длинный, острый и слегка изогнут вниз. Крылья короткие, в основании широкие и зауженные на конце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4714920" y="260280"/>
            <a:ext cx="4095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0" y="442872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Из растительной пищи употребляют семена и плоды растений: ягоды, яблоки, груши, сливы, вишню и пр. Если плод защищён скорлупой либо жёсткой кожицей, они расщепляют его с помощью рычага: вставляют клюв в маленькую дырочку и постепенно разжимая его, вскрывают содержимое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22400" y="96840"/>
            <a:ext cx="2528640" cy="11350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4"/>
          <p:cNvSpPr/>
          <p:nvPr/>
        </p:nvSpPr>
        <p:spPr>
          <a:xfrm>
            <a:off x="285840" y="857160"/>
            <a:ext cx="500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Скворцы всеядны — питаются как растительной, так и животной пищей. Ранней весной охотятся за дождевыми червями, либо собирают личинок насекомых, зимовавших в укромных местах. Когда тёплая погода будит природу, ловят разнообразных насекомых: кузнечиков, пауков, бабочек, гусениц и червей. </a:t>
            </a:r>
            <a:endParaRPr b="0" lang="en-US" sz="22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5391000" y="333360"/>
            <a:ext cx="3527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00040" y="107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формирование элементарных представлений о жизни птиц в весенний период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Задачи: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обучающие: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уточнить и расширить представления о перелетных птицах, об их жизни в весенний период; дать сведения о звуковых сигналах птиц, о видах гнезд и их размещении;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развивающие: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развивать интерес к жизни птиц, воображение, мышление, речь детей, обогащать их словарь;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1305"/>
                </a:solidFill>
                <a:latin typeface="Calibri"/>
              </a:rPr>
              <a:t>воспитательные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: воспитывать доброе заботливое отношение к птицам</a:t>
            </a: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79" name="Picture 2" descr="http://mirgif.com/animacija/belyj-cvetochek.gif"/>
          <p:cNvPicPr/>
          <p:nvPr/>
        </p:nvPicPr>
        <p:blipFill>
          <a:blip r:embed="rId1"/>
          <a:stretch/>
        </p:blipFill>
        <p:spPr>
          <a:xfrm>
            <a:off x="7429680" y="5186520"/>
            <a:ext cx="1714320" cy="167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mirgif.com/animacija/belyj-cvetochek.gif"/>
          <p:cNvPicPr/>
          <p:nvPr/>
        </p:nvPicPr>
        <p:blipFill>
          <a:blip r:embed="rId2"/>
          <a:stretch/>
        </p:blipFill>
        <p:spPr>
          <a:xfrm>
            <a:off x="6143760" y="5715000"/>
            <a:ext cx="1030320" cy="1004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mirgif.com/animacija/belyj-cvetochek.gif"/>
          <p:cNvPicPr/>
          <p:nvPr/>
        </p:nvPicPr>
        <p:blipFill>
          <a:blip r:embed="rId3"/>
          <a:stretch/>
        </p:blipFill>
        <p:spPr>
          <a:xfrm>
            <a:off x="8259840" y="4143240"/>
            <a:ext cx="884160" cy="862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ttp://mirgif.com/animacija/belyj-cvetochek.gif"/>
          <p:cNvPicPr/>
          <p:nvPr/>
        </p:nvPicPr>
        <p:blipFill>
          <a:blip r:embed="rId4"/>
          <a:stretch/>
        </p:blipFill>
        <p:spPr>
          <a:xfrm>
            <a:off x="0" y="142920"/>
            <a:ext cx="957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2356920"/>
            <a:ext cx="9144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Обладает широким диапазоном звуков, которые могут включать в себя </a:t>
            </a:r>
            <a:r>
              <a:rPr b="0" lang="ru-RU" sz="26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свисты, скрипы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, мяуканье, различные шумы и дребезжания. Способен подражать пению других птиц. Российскими орнитологами замечено, что скворцы способны подражать дроздам, камышовкам, варакушкам, жаворонкам, иволгам  ласточкам, перепелам, сойкам и другим птицам и даже квакать как лягушки. Иногда прилетающие весной с юга скворцы начинают петь голосами субтропических птиц. В Казахстане и Средней Азии скворцы имитируют звуки отары овец, включая блеяние, лаяние собак и щёлканье бича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304920" y="244440"/>
            <a:ext cx="1950840" cy="1011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http://file.mobilmusic.ru/6e/94/d5/496311.gif"/>
          <p:cNvPicPr/>
          <p:nvPr/>
        </p:nvPicPr>
        <p:blipFill>
          <a:blip r:embed="rId3"/>
          <a:stretch/>
        </p:blipFill>
        <p:spPr>
          <a:xfrm>
            <a:off x="6943680" y="0"/>
            <a:ext cx="2200320" cy="2048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://file.mobilmusic.ru/6e/94/d5/496311.gif"/>
          <p:cNvPicPr/>
          <p:nvPr/>
        </p:nvPicPr>
        <p:blipFill>
          <a:blip r:embed="rId4"/>
          <a:stretch/>
        </p:blipFill>
        <p:spPr>
          <a:xfrm>
            <a:off x="8094600" y="5881680"/>
            <a:ext cx="10494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457200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Подросшие птенцы уже в середине июня ведут себя независимо от родителей, сбиваясь в совместные стайки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Обыкновенные скворцы — довольно агрессивные по отношению к другим видам птицы и в состоянии конкурировать с ними за место, пригодное для гнезда (например,  с зелёными дятлами)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-92160" y="0"/>
            <a:ext cx="5883480" cy="11588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142920" y="857160"/>
            <a:ext cx="46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кворцы сбиваются в стаи и селятся небольшими колониями, обычно по несколько пар недалеко друг от друга. Иногда их можно увидеть летящими огромной группой в несколько тысяч особей, при этом они синхронно повторяют повороты, парят и приземляются на землю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4210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5480" y="3642840"/>
            <a:ext cx="864396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ыбрав удачное место, они усаживаются поблизости и начинают петь. В качестве подстилки используются сухие веточки деревьев, стебли, листья, шерсть и перья других птиц. Строят гнездо оба будущих родителя. Обычно кладка состоит из 4—6 светло-голубых яиц без крапинок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195120" y="237960"/>
            <a:ext cx="3633840" cy="11336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357120" y="1071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есной, прибыв на место обитания, скворцы тут же начинают искать себе место для будущего гнезда — дупло, отверстие в стене дома или скворечник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4788000" y="69840"/>
            <a:ext cx="412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28760" y="857160"/>
            <a:ext cx="418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ы построили скворечню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Для весёлого скворца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ы повесили скворечник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озле самого крыльц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сё семейство вчетвером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роживает в доме том: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ать, отец и скворушки –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Чёрненькие пёрышки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              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Е. Тараховская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61" name="Прямоугольник 4"/>
          <p:cNvSpPr/>
          <p:nvPr/>
        </p:nvSpPr>
        <p:spPr>
          <a:xfrm>
            <a:off x="4929120" y="285840"/>
            <a:ext cx="338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4cb"/>
                </a:solidFill>
                <a:latin typeface="Calibri"/>
              </a:rPr>
              <a:t>Загадки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шесте весёлый дом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 круглым маленьким окном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Чтоб уснули дети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Дом качает ветер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крыльце поёт отец –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Он и лётчик и певец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На шесте дворец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о дворце певец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 зовут его …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(Скворец)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85840" y="1999800"/>
            <a:ext cx="464328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Певчая птица семейства         вьюрковых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В среднем зяблик живет     1,5 года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38120" y="542880"/>
            <a:ext cx="2536920" cy="128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4600440" y="0"/>
            <a:ext cx="4529160" cy="6400800"/>
          </a:xfrm>
          <a:prstGeom prst="rect">
            <a:avLst/>
          </a:prstGeom>
          <a:ln w="0">
            <a:noFill/>
          </a:ln>
        </p:spPr>
      </p:pic>
      <p:pic>
        <p:nvPicPr>
          <p:cNvPr id="265" name="Птицы - Зяблик, иволга.mp3" descr=""/>
          <p:cNvPicPr/>
          <p:nvPr/>
        </p:nvPicPr>
        <p:blipFill>
          <a:blip r:embed="rId3"/>
          <a:stretch/>
        </p:blipFill>
        <p:spPr>
          <a:xfrm>
            <a:off x="850104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13840" y="4071960"/>
            <a:ext cx="864396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азмером с воробья, длина тела составляет около 14 см. Вес зяблика составляет 15-40 грамм. Окраска оперения у самца яркая (особенно весной): голова синевато-серая, спина коричневатая с зелёным, зоб и грудь буровато-красные, на крыльях большие белые пятн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480960" y="311040"/>
            <a:ext cx="2994120" cy="1133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3419640" y="15840"/>
            <a:ext cx="55623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13840" y="4786200"/>
            <a:ext cx="84726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итается семенами и зелёными частями растений, летом также вредными насекомыми и другими беспозвоночными, которыми выкармливает и птенцов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444600" y="317520"/>
            <a:ext cx="2597040" cy="101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2629080" y="260280"/>
            <a:ext cx="62118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57120" y="4214880"/>
            <a:ext cx="822960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зрослые птицы заботятся о птенцах, выкармливают их и охраняют территорию, предупреждая друг друга о присутствии хищника тревожным позывом или звуком </a:t>
            </a:r>
            <a:r>
              <a:rPr b="0" i="1" lang="ru-RU" sz="2400" spc="-1" strike="noStrike">
                <a:solidFill>
                  <a:srgbClr val="060903"/>
                </a:solidFill>
                <a:latin typeface="Calibri"/>
              </a:rPr>
              <a:t>«хьют-хьют»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ладка состоит из 4-7 яиц, окрашенных в бледный голубовато-зеленый или красновато-зеленый цвет с розовато-фиолетовыми пятнами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07880" y="0"/>
            <a:ext cx="3780000" cy="11588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4"/>
          <p:cNvSpPr/>
          <p:nvPr/>
        </p:nvSpPr>
        <p:spPr>
          <a:xfrm>
            <a:off x="428760" y="1071720"/>
            <a:ext cx="414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Зяблики прилетают в первых числах апреля. Гнездование и кладку начинают в начале мая. Насиживание и время выкармливания в гнезде — две недели. 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4575240" y="260280"/>
            <a:ext cx="42116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56760" y="285480"/>
            <a:ext cx="4357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лучше всех пою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песенку свою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И с соловьиным не сравняю свистом.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Гляди, как я хорош,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расивей не найдёшь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всех пестрей, смелей и голосистей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Л. Бартольд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77" name="Прямоугольник 3"/>
          <p:cNvSpPr/>
          <p:nvPr/>
        </p:nvSpPr>
        <p:spPr>
          <a:xfrm>
            <a:off x="3643200" y="32860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лышу песню птичью: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"Ви-ти-ти-ти, ви-чу!"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 лес лететь спроста нельзя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Там – "удельные князья":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оль границу кто нарушил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И жучка чужого скушал,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То с отвагой беспредельной</a:t>
            </a:r>
            <a:br>
              <a:rPr sz="2400"/>
            </a:b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 бой вступает князь удельный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(Зяблик)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14200" y="5000760"/>
            <a:ext cx="878688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1" lang="vi-VN" sz="2200" spc="-1" strike="noStrike">
                <a:solidFill>
                  <a:srgbClr val="060903"/>
                </a:solidFill>
                <a:latin typeface="Arial"/>
              </a:rPr>
              <a:t>Ла́сточковые</a:t>
            </a:r>
            <a:r>
              <a:rPr b="1" lang="ru-RU" sz="2200" spc="-1" strike="noStrike">
                <a:solidFill>
                  <a:srgbClr val="060903"/>
                </a:solidFill>
                <a:latin typeface="Calibri"/>
              </a:rPr>
              <a:t> – </a:t>
            </a: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богатое семейство воробьинообразных. Семейство насчитывает 75 видов, на территории России — 10 видов. Для ласточковых характерна способность добывать пищу в воздухе, они в состоянии ловить насекомых на лету. Живут ласточки всего 4-5 лет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182520" y="414360"/>
            <a:ext cx="3127320" cy="1285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2665440" y="1484280"/>
            <a:ext cx="61736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0" y="4428720"/>
            <a:ext cx="9144000" cy="2428920"/>
          </a:xfrm>
          <a:prstGeom prst="rect">
            <a:avLst/>
          </a:prstGeom>
          <a:gradFill rotWithShape="0">
            <a:gsLst>
              <a:gs pos="0">
                <a:srgbClr val="e8fde8"/>
              </a:gs>
              <a:gs pos="100000">
                <a:srgbClr val="bcf3be"/>
              </a:gs>
            </a:gsLst>
            <a:lin ang="5400000"/>
          </a:gradFill>
          <a:ln w="11520">
            <a:solidFill>
              <a:srgbClr val="36be3d"/>
            </a:solidFill>
            <a:miter/>
          </a:ln>
          <a:effectLst>
            <a:outerShdw dist="24840" dir="5400000" blurRad="0" rotWithShape="0">
              <a:srgbClr val="07820d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есной все оживает, птицы радуются теплу и солнечным лучам, повсюду слышны трели, песни, чириканья, мелодичный свист. Вот возвращаются с теплых краев перелетные птицы - грач, жаворонок, скворец, зяблик, ласточка... Они весной строят гнёзда и откладывают в них яйца. Некоторые птицы уже в конце весны успевают вывести птенцов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84" name="Весна(mp3ostrov.com)_mp3cut.foxcom.su_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mirgif.com/jivotnie/dve-pticy.gif"/>
          <p:cNvPicPr/>
          <p:nvPr/>
        </p:nvPicPr>
        <p:blipFill>
          <a:blip r:embed="rId2"/>
          <a:stretch/>
        </p:blipFill>
        <p:spPr>
          <a:xfrm>
            <a:off x="4572000" y="285840"/>
            <a:ext cx="3867120" cy="305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img-fotki.yandex.ru/get/6301/104166334.d1/0_7a6b2_8e1aec51_S.jpg"/>
          <p:cNvPicPr/>
          <p:nvPr/>
        </p:nvPicPr>
        <p:blipFill>
          <a:blip r:embed="rId3"/>
          <a:stretch/>
        </p:blipFill>
        <p:spPr>
          <a:xfrm>
            <a:off x="2857680" y="307188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http://img-fotki.yandex.ru/get/6301/104166334.d1/0_7a6b2_8e1aec51_S.jpg"/>
          <p:cNvPicPr/>
          <p:nvPr/>
        </p:nvPicPr>
        <p:blipFill>
          <a:blip r:embed="rId4"/>
          <a:stretch/>
        </p:blipFill>
        <p:spPr>
          <a:xfrm>
            <a:off x="1500120" y="34290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http://www.interface.ru/iarticle/img/27792_43207437.gif"/>
          <p:cNvPicPr/>
          <p:nvPr/>
        </p:nvPicPr>
        <p:blipFill>
          <a:blip r:embed="rId5"/>
          <a:stretch/>
        </p:blipFill>
        <p:spPr>
          <a:xfrm>
            <a:off x="0" y="30718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http://www.tochkagif.ru/_ph/22/2/656535990.gif"/>
          <p:cNvPicPr/>
          <p:nvPr/>
        </p:nvPicPr>
        <p:blipFill>
          <a:blip r:embed="rId6"/>
          <a:stretch/>
        </p:blipFill>
        <p:spPr>
          <a:xfrm>
            <a:off x="0" y="-642960"/>
            <a:ext cx="4132440" cy="4143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Корзина цветов"/>
          <p:cNvPicPr/>
          <p:nvPr/>
        </p:nvPicPr>
        <p:blipFill>
          <a:blip r:embed="rId7"/>
          <a:stretch/>
        </p:blipFill>
        <p:spPr>
          <a:xfrm>
            <a:off x="7272360" y="2786040"/>
            <a:ext cx="1871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00040" y="4642920"/>
            <a:ext cx="822960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У ласточковых стройное, обтекаемое телостроение и длинные узкие крылья. Клюв короткий и открывается довольно широко. Лапки весьма маленькие, у большинства видов длинные хвосты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82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024000" cy="1012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4575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42920" y="3786120"/>
            <a:ext cx="88581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вои гнёзда они лепят из глины, грязи и илистого песка, смачивая комочки своей необычайно липкой слюной, а внутреннюю часть своего слепленного гнезда устилают мягкой и тёплой подстилкой. Ласточки откладывают 4-6 яиц и самка с самцом по очереди высиживают свою кладку в течении 15 дней, вылупившихся птенцов выкармливают так же оба родителя порядка 20-25 дней, после чего те готовы отправиться в самостоятельный полёт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85" name="Заголовок 2" descr=""/>
          <p:cNvPicPr/>
          <p:nvPr/>
        </p:nvPicPr>
        <p:blipFill>
          <a:blip r:embed="rId1"/>
          <a:stretch/>
        </p:blipFill>
        <p:spPr>
          <a:xfrm>
            <a:off x="158760" y="-36360"/>
            <a:ext cx="3700440" cy="101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-108000" y="671400"/>
            <a:ext cx="2814840" cy="1871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"/>
          <p:cNvPicPr/>
          <p:nvPr/>
        </p:nvPicPr>
        <p:blipFill>
          <a:blip r:embed="rId3"/>
          <a:stretch/>
        </p:blipFill>
        <p:spPr>
          <a:xfrm>
            <a:off x="2340000" y="1608120"/>
            <a:ext cx="2897280" cy="2171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"/>
          <p:cNvPicPr/>
          <p:nvPr/>
        </p:nvPicPr>
        <p:blipFill>
          <a:blip r:embed="rId4"/>
          <a:stretch/>
        </p:blipFill>
        <p:spPr>
          <a:xfrm>
            <a:off x="5315040" y="214200"/>
            <a:ext cx="34606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http://lastochkaptica1.narod.ru/images/1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Ласточки летели,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(бегут по кругу, машут руками,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се люди глядели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изображая полёт птиц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Ласточки садились,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(Приседают, руки опускают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се люди дивились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,       за спиной, как бы складывают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Сели, посидели                                 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крылья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звились, полетели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,           (Бегут по кругу, взмахивают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олетели, полетели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,                                        руками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есенки запели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                    </a:t>
            </a:r>
            <a:r>
              <a:rPr b="0" i="1" lang="ru-RU" sz="2000" spc="-1" strike="noStrike">
                <a:solidFill>
                  <a:srgbClr val="060903"/>
                </a:solidFill>
                <a:latin typeface="Calibri"/>
              </a:rPr>
              <a:t>Народная песенка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91" name="Заголовок 2" descr=""/>
          <p:cNvPicPr/>
          <p:nvPr/>
        </p:nvPicPr>
        <p:blipFill>
          <a:blip r:embed="rId1"/>
          <a:stretch/>
        </p:blipFill>
        <p:spPr>
          <a:xfrm>
            <a:off x="334800" y="237960"/>
            <a:ext cx="68281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Ласточка, ласточка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Милая касаточка,                 (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На каждую строку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Ты где была,     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большой палец «здоровается»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Ты с чем пришла?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дважды с одним пальчиком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- За морем бывала,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начиная с указательного, -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есну добывала.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сначала на правой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Несу, несу                                </a:t>
            </a:r>
            <a:r>
              <a:rPr b="0" i="1" lang="ru-RU" sz="2600" spc="-1" strike="noStrike">
                <a:solidFill>
                  <a:srgbClr val="060903"/>
                </a:solidFill>
                <a:latin typeface="Calibri"/>
              </a:rPr>
              <a:t>потом на левой руке)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есну красну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93" name="Заголовок 2" descr=""/>
          <p:cNvPicPr/>
          <p:nvPr/>
        </p:nvPicPr>
        <p:blipFill>
          <a:blip r:embed="rId1"/>
          <a:stretch/>
        </p:blipFill>
        <p:spPr>
          <a:xfrm>
            <a:off x="231840" y="176040"/>
            <a:ext cx="79614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0040" y="499680"/>
            <a:ext cx="4471920" cy="28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4cb"/>
                </a:solidFill>
                <a:latin typeface="Calibri"/>
              </a:rPr>
              <a:t>Загадка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Я проворна, легкокрыла,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Хвост раздвоен, словно вилы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Если я летаю низко,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Значит, дождик где-то близко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               </a:t>
            </a:r>
            <a:r>
              <a:rPr b="0" i="1" lang="ru-RU" sz="2400" spc="-1" strike="noStrike">
                <a:solidFill>
                  <a:srgbClr val="060903"/>
                </a:solidFill>
                <a:latin typeface="Calibri"/>
              </a:rPr>
              <a:t>(Ласточка)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4442760" y="3500280"/>
            <a:ext cx="425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«Ласточка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Ласточка – «тивит-тивит!»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К нам летит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х, к нам летит!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 под крылышком её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Весна сидит,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Ах, весна сидит!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                </a:t>
            </a:r>
            <a:r>
              <a:rPr b="0" i="1" lang="ru-RU" sz="2400" spc="-1" strike="noStrike">
                <a:solidFill>
                  <a:srgbClr val="060903"/>
                </a:solidFill>
                <a:latin typeface="Calibri"/>
              </a:rPr>
              <a:t>(Армянская песенка)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14200" y="4500720"/>
            <a:ext cx="8515440" cy="20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од птиц из отряда воробьинообразных. В зависимости от подхода к классификации относится либо к семейству дроздовых, либо к семейству мухоловковых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аспространён в Европе и Западной Азии к Югу до Северного Кавказ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195120" y="311040"/>
            <a:ext cx="2535480" cy="1133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2720880" y="333360"/>
            <a:ext cx="61182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42920" y="1499760"/>
            <a:ext cx="49291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Наиболее известен обыкновенный </a:t>
            </a:r>
            <a:r>
              <a:rPr b="0" lang="ru-RU" sz="26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соловей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 ; длина тела 17 см с длинными ножками, большими темными глазками, оперение буроватое, хвост рыжеватый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01" name="Заголовок 2" descr=""/>
          <p:cNvPicPr/>
          <p:nvPr/>
        </p:nvPicPr>
        <p:blipFill>
          <a:blip r:embed="rId2"/>
          <a:stretch/>
        </p:blipFill>
        <p:spPr>
          <a:xfrm>
            <a:off x="371520" y="317520"/>
            <a:ext cx="2670120" cy="1011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5003640" y="115920"/>
            <a:ext cx="400536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00040" y="4285800"/>
            <a:ext cx="82296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ерелётная птица, зимует в Африке. Обитает в сырых кустарниковых зарослях, в долинах рек. Гнёзда на земле или очень низко, в кустах. В кладке 4-6 зеленоватых или голубоватых с пятнами яиц. Птенцы появляются через 13 дней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04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450960" cy="1012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4716360" y="1443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Содержимое 2"/>
          <p:cNvGrpSpPr/>
          <p:nvPr/>
        </p:nvGrpSpPr>
        <p:grpSpPr>
          <a:xfrm>
            <a:off x="371520" y="2000160"/>
            <a:ext cx="8448480" cy="4675320"/>
            <a:chOff x="371520" y="2000160"/>
            <a:chExt cx="8448480" cy="4675320"/>
          </a:xfrm>
        </p:grpSpPr>
        <p:pic>
          <p:nvPicPr>
            <p:cNvPr id="19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71520" y="2000160"/>
              <a:ext cx="8448480" cy="46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28760" y="20718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         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Под этим сокращённым названием может подразумеваться несколько различных праздников и международных дней, которые напрямую связаны с птицами. В их числе, наиболее известными «птичьими» датами являются: «Международный день птиц» — </a:t>
              </a:r>
              <a:r>
                <a:rPr b="0" lang="ru-RU" sz="2600" spc="-1" strike="noStrike">
                  <a:solidFill>
                    <a:srgbClr val="3c17c3"/>
                  </a:solidFill>
                  <a:latin typeface="Calibri"/>
                </a:rPr>
                <a:t>1 апреля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, «День птиц» — </a:t>
              </a:r>
              <a:r>
                <a:rPr b="0" lang="ru-RU" sz="2600" spc="-1" strike="noStrike">
                  <a:solidFill>
                    <a:srgbClr val="3c17c3"/>
                  </a:solidFill>
                  <a:latin typeface="Calibri"/>
                </a:rPr>
                <a:t>4 мая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, «Международный день перелётных птиц» - </a:t>
              </a:r>
              <a:r>
                <a:rPr b="0" lang="ru-RU" sz="2600" spc="-1" strike="noStrike">
                  <a:solidFill>
                    <a:srgbClr val="3c17c3"/>
                  </a:solidFill>
                  <a:latin typeface="Calibri"/>
                </a:rPr>
                <a:t>вторая суббота мая</a:t>
              </a:r>
              <a:r>
                <a:rPr b="0" lang="ru-RU" sz="2600" spc="-1" strike="noStrike">
                  <a:solidFill>
                    <a:srgbClr val="0c1305"/>
                  </a:solidFill>
                  <a:latin typeface="Calibri"/>
                </a:rPr>
                <a:t>. Ни один из перечисленных праздников не является нерабочим днём, если, в зависимости от года, не попадает на выходной.</a:t>
              </a:r>
              <a:endParaRPr b="0" lang="en-US" sz="2600" spc="-1" strike="noStrike">
                <a:solidFill>
                  <a:srgbClr val="92d050"/>
                </a:solidFill>
                <a:latin typeface="Arial"/>
              </a:endParaRPr>
            </a:p>
          </p:txBody>
        </p:sp>
      </p:grpSp>
      <p:pic>
        <p:nvPicPr>
          <p:cNvPr id="194" name="Заголовок 1" descr=""/>
          <p:cNvPicPr/>
          <p:nvPr/>
        </p:nvPicPr>
        <p:blipFill>
          <a:blip r:embed="rId2"/>
          <a:stretch/>
        </p:blipFill>
        <p:spPr>
          <a:xfrm>
            <a:off x="171360" y="115920"/>
            <a:ext cx="8575920" cy="1616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http://blestiashky.narod.ru/5/animashka146.gif"/>
          <p:cNvPicPr/>
          <p:nvPr/>
        </p:nvPicPr>
        <p:blipFill>
          <a:blip r:embed="rId3"/>
          <a:stretch/>
        </p:blipFill>
        <p:spPr>
          <a:xfrm>
            <a:off x="5286240" y="-285840"/>
            <a:ext cx="5896080" cy="2819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mirgif.com/animacija/belyj-cvetochek.gif"/>
          <p:cNvPicPr/>
          <p:nvPr/>
        </p:nvPicPr>
        <p:blipFill>
          <a:blip r:embed="rId4"/>
          <a:stretch/>
        </p:blipFill>
        <p:spPr>
          <a:xfrm>
            <a:off x="8015400" y="5757840"/>
            <a:ext cx="1128600" cy="110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mirgif.com/animacija/belyj-cvetochek.gif"/>
          <p:cNvPicPr/>
          <p:nvPr/>
        </p:nvPicPr>
        <p:blipFill>
          <a:blip r:embed="rId5"/>
          <a:stretch/>
        </p:blipFill>
        <p:spPr>
          <a:xfrm>
            <a:off x="285840" y="0"/>
            <a:ext cx="5126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999800" y="285840"/>
            <a:ext cx="79297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Соловей питается пауками, насекомыми, 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60903"/>
                </a:solidFill>
                <a:latin typeface="Calibri"/>
              </a:rPr>
              <a:t>червями, ягодами.</a:t>
            </a:r>
            <a:endParaRPr b="0" lang="en-US" sz="2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07" name="Заголовок 2" descr=""/>
          <p:cNvPicPr/>
          <p:nvPr/>
        </p:nvPicPr>
        <p:blipFill>
          <a:blip r:embed="rId1"/>
          <a:stretch/>
        </p:blipFill>
        <p:spPr>
          <a:xfrm>
            <a:off x="19080" y="-36360"/>
            <a:ext cx="2382840" cy="1011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2"/>
          <a:stretch/>
        </p:blipFill>
        <p:spPr>
          <a:xfrm>
            <a:off x="1042920" y="1397160"/>
            <a:ext cx="81010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14200" y="1571400"/>
            <a:ext cx="4143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Род птиц семейства настоящих журавлей, обитающих в Европе, Азии, Северной Америке и Австралии. Все виды так или иначе связаны с водными, главным образом, заболоченными территориями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10" name="Заголовок 2" descr=""/>
          <p:cNvPicPr/>
          <p:nvPr/>
        </p:nvPicPr>
        <p:blipFill>
          <a:blip r:embed="rId1"/>
          <a:stretch/>
        </p:blipFill>
        <p:spPr>
          <a:xfrm>
            <a:off x="182520" y="414360"/>
            <a:ext cx="2962440" cy="1285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4313160" y="260280"/>
            <a:ext cx="461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285480" y="3357720"/>
            <a:ext cx="8643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Это крупная птица, высота около 115 см, вес до 6 кг. Оперение большей части тела синевато-серое, что позволяет птице маскироваться от врагов среди лесистой местности. Спина и подхвостье несколько темнее, а крылья и брюхо более светлые. Передняя часть головы тёмно-серая. По бокам головы имеется белая широкая полоса, начинающаяся под глазами и далее уходящая вниз вдоль шеи. Клюв светлый. Ноги чёрные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13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097080" cy="1012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267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214200" y="2714400"/>
            <a:ext cx="8358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В начале гнездования серые журавли покрывают свои перья илом и грязью, что делает их гораздо менее заметными во время насиживания и выведения птенцов — такое поведение помогает им прятаться от хищников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Серые журавли держатся парами в течение всей жизни. 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Часто можно видеть во время гнездования характерные ритуальные танцы журавлиных пар, которые включают в себя подпрыгивание, хлопанье крыльями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Для гнезда выбирается относительно сухой участок земли, над водой или поблизости от неё. Место выбирается посреди густой растительности — зарослей камышей, осоки и т. п. Гнездо большое, свыше метра в диаметре и строится из различного растительного материала. В гнезде обычно бывает 2 яйца. Оба родителя насиживают яйца. Птенцы, покрытые пухом, вскоре после рождения способны покидать гнездо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16" name="Заголовок 2" descr=""/>
          <p:cNvPicPr/>
          <p:nvPr/>
        </p:nvPicPr>
        <p:blipFill>
          <a:blip r:embed="rId1"/>
          <a:stretch/>
        </p:blipFill>
        <p:spPr>
          <a:xfrm>
            <a:off x="195120" y="0"/>
            <a:ext cx="3846600" cy="1158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2"/>
          <a:stretch/>
        </p:blipFill>
        <p:spPr>
          <a:xfrm>
            <a:off x="4132440" y="23760"/>
            <a:ext cx="3079440" cy="22557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3"/>
          <a:stretch/>
        </p:blipFill>
        <p:spPr>
          <a:xfrm>
            <a:off x="7211880" y="0"/>
            <a:ext cx="19083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85840" y="4214520"/>
            <a:ext cx="84722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Птица семейства дроздовых отряда воробьинообразных. Размером чуть меньше воробья. Длина тела — около 15 см. Масса 15—21 г. Спинка бурая, надхвостье рыжее. Горло и зоб — синие с рыжим пятном посередине; пятно может быть белым, или только окружено белым. Синий цвет снизу окаймлён черноватым, а затем рыжими полукольцами поперёк груди. Хвост рыжий с черноватой вершиной, средняя пара перьев хвоста бурые. Горло беловатое, окаймлённое буроватым полукольцом. Клюв чёрный, ноги буро-чёрные..</a:t>
            </a:r>
            <a:endParaRPr b="0" lang="en-US" sz="18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20" name="Заголовок 2" descr=""/>
          <p:cNvPicPr/>
          <p:nvPr/>
        </p:nvPicPr>
        <p:blipFill>
          <a:blip r:embed="rId1"/>
          <a:stretch/>
        </p:blipFill>
        <p:spPr>
          <a:xfrm>
            <a:off x="304920" y="317520"/>
            <a:ext cx="2908080" cy="1011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414828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57120" y="3905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Calibri"/>
                <a:hlinkClick r:id="rId1"/>
              </a:rPr>
              <a:t>Поющая варакушка </a:t>
            </a:r>
            <a:r>
              <a:rPr b="0" lang="ru-RU" sz="2400" spc="-1" strike="noStrike">
                <a:solidFill>
                  <a:srgbClr val="060903"/>
                </a:solidFill>
                <a:latin typeface="Calibri"/>
              </a:rPr>
              <a:t>сидит  на вершине куста, но иногда взлетает, совершая характерные токовые полёты. Пение продолжается всё светлое время суток. Оно звучное, включающее свисты, щебетание и щёлканье, множество заимствованных у других птиц звуков; исполняется в быстрой манере. В песне большинства варакушек есть часто повторяющееся «варак-варак-варак», отчего и происходит название птицы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23" name="Заголовок 2" descr=""/>
          <p:cNvPicPr/>
          <p:nvPr/>
        </p:nvPicPr>
        <p:blipFill>
          <a:blip r:embed="rId2"/>
          <a:stretch/>
        </p:blipFill>
        <p:spPr>
          <a:xfrm>
            <a:off x="304920" y="176040"/>
            <a:ext cx="2163600" cy="1013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http://phot-style.ru/wp-content/uploads/2012/04/kak-sdelat-animatsiyu-v-fotoshope.gif"/>
          <p:cNvPicPr/>
          <p:nvPr/>
        </p:nvPicPr>
        <p:blipFill>
          <a:blip r:embed="rId3"/>
          <a:stretch/>
        </p:blipFill>
        <p:spPr>
          <a:xfrm>
            <a:off x="25002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http://file.mobilmusic.ru/6e/94/d5/496311.gif"/>
          <p:cNvPicPr/>
          <p:nvPr/>
        </p:nvPicPr>
        <p:blipFill>
          <a:blip r:embed="rId4"/>
          <a:stretch/>
        </p:blipFill>
        <p:spPr>
          <a:xfrm>
            <a:off x="1071720" y="1428840"/>
            <a:ext cx="2199960" cy="2047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5"/>
          <a:stretch/>
        </p:blipFill>
        <p:spPr>
          <a:xfrm>
            <a:off x="4092480" y="6480"/>
            <a:ext cx="5015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29286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аракушка — насекомоядная птица. В питании преобладают насекомые и их личинки, обитающие на земле. Осенью значительную долю в питании занимают ягоды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28" name="Заголовок 2" descr=""/>
          <p:cNvPicPr/>
          <p:nvPr/>
        </p:nvPicPr>
        <p:blipFill>
          <a:blip r:embed="rId1"/>
          <a:stretch/>
        </p:blipFill>
        <p:spPr>
          <a:xfrm>
            <a:off x="225360" y="523800"/>
            <a:ext cx="32004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28760" y="27856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У длинного узкого, прямо обрезанного хвоста два средних пера немного длиннее боковых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Большинство трясогузок держится возле воды небольшими стайками; гнездятся трясогузки на земле или в дуплах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Трясогузки питаются исключительно насекомыми, в том числе и стрекозами, которых ловят на лету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В отличие от большинства мелких птиц по земле передвигается не прыжками, а бегом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925560" y="500040"/>
            <a:ext cx="3062520" cy="825120"/>
          </a:xfrm>
          <a:prstGeom prst="rect">
            <a:avLst/>
          </a:prstGeom>
          <a:solidFill>
            <a:srgbClr val="92d050"/>
          </a:solidFill>
          <a:ln w="399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4cb"/>
                </a:solidFill>
                <a:latin typeface="Calibri"/>
              </a:rPr>
              <a:t>Трясогузка</a:t>
            </a:r>
            <a:endParaRPr b="0" lang="en-US" sz="48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331" name="Звуки природы - Бел. трясогузка  (audiopoisk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2"/>
          <a:stretch/>
        </p:blipFill>
        <p:spPr>
          <a:xfrm>
            <a:off x="5475240" y="0"/>
            <a:ext cx="36464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28760" y="3071520"/>
            <a:ext cx="822960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тица из семейства мухоловковых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Зарянки окрашены сверху в серо-зеленоватый цвет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У этой птицы белое брюхо, рыжий лоб, горло, грудь и бока головы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Зарянки ищут на земле насекомых, дождевых червей и улиток. Осенью они поедают ещё и ягоды, а зимой охотно прилетают к кормушкам, где клюют мягкие корм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34" name="Заголовок 2" descr=""/>
          <p:cNvPicPr/>
          <p:nvPr/>
        </p:nvPicPr>
        <p:blipFill>
          <a:blip r:embed="rId1"/>
          <a:stretch/>
        </p:blipFill>
        <p:spPr>
          <a:xfrm>
            <a:off x="158760" y="176040"/>
            <a:ext cx="4876920" cy="1013040"/>
          </a:xfrm>
          <a:prstGeom prst="rect">
            <a:avLst/>
          </a:prstGeom>
          <a:ln w="0">
            <a:noFill/>
          </a:ln>
        </p:spPr>
      </p:pic>
      <p:pic>
        <p:nvPicPr>
          <p:cNvPr id="335" name="Голоса птиц - Малиновка (зарянка)  (audiopoisk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3"/>
          <a:stretch/>
        </p:blipFill>
        <p:spPr>
          <a:xfrm>
            <a:off x="5921280" y="28440"/>
            <a:ext cx="32004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278604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Род птиц из отряда гусеобразных семейства утиных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Лебедь — изящная перелётная птица, улетающая в Африку в октябре и возвращающаяся весной. Их считают символом красоты, чистоты, благородства. Бытует мнение, что пары лебедей соединяются на всю жизнь, и они не могут жить друг без друга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Оперение лебедей по своей окраске бывает либо чисто белого, либо серого или чёрного цвета. Вес около 15 кг. Лапы довольно короткие. У них очень развитая летательная мускулатура, позволяющая им преодолевать тысячи километров при ежегодных перелётах на юг и обратно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0903"/>
                </a:solidFill>
                <a:latin typeface="Calibri"/>
              </a:rPr>
              <a:t>Потомство выращивается обоими родителями, опекающими детёнышей в течение 1-2 лет после рождения.</a:t>
            </a:r>
            <a:endParaRPr b="0" lang="en-US" sz="2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38" name="Заголовок 2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2066760" cy="1012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5487840" y="-30240"/>
            <a:ext cx="36561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rcRect l="0" t="0" r="0" b="50004"/>
          <a:stretch/>
        </p:blipFill>
        <p:spPr>
          <a:xfrm>
            <a:off x="971640" y="22320"/>
            <a:ext cx="610056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85840" y="478620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0903"/>
                </a:solidFill>
                <a:latin typeface="Calibri"/>
              </a:rPr>
              <a:t>Помните "Лебединое озеро" или "Принцесса лебедь"? Девушка в обличие лебедя приземлялась на воду. Такое приземление характерно для лебедя-шипуна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214200" y="2142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4cb"/>
                </a:solidFill>
                <a:latin typeface="Calibri"/>
              </a:rPr>
              <a:t>Справочка для любителей сказок</a:t>
            </a:r>
            <a:endParaRPr b="0" lang="en-US" sz="36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1"/>
          <a:stretch/>
        </p:blipFill>
        <p:spPr>
          <a:xfrm>
            <a:off x="4027320" y="-65160"/>
            <a:ext cx="5104080" cy="3781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2"/>
          <a:stretch/>
        </p:blipFill>
        <p:spPr>
          <a:xfrm>
            <a:off x="208080" y="1951200"/>
            <a:ext cx="362736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57120" y="3571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     </a:t>
            </a: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Род птиц из семейства голенастых. Длинные ноги, клюв длинный, прямой; передние пальцы соединены между собой широкой плавательной перепонкой. В Европе два вида: </a:t>
            </a:r>
            <a:r>
              <a:rPr b="0" i="1" lang="ru-RU" sz="2100" spc="-1" strike="noStrike">
                <a:solidFill>
                  <a:srgbClr val="060903"/>
                </a:solidFill>
                <a:latin typeface="Calibri"/>
              </a:rPr>
              <a:t>чёрный</a:t>
            </a: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  и </a:t>
            </a:r>
            <a:r>
              <a:rPr b="0" i="1" lang="ru-RU" sz="2100" spc="-1" strike="noStrike">
                <a:solidFill>
                  <a:srgbClr val="060903"/>
                </a:solidFill>
                <a:latin typeface="Calibri"/>
              </a:rPr>
              <a:t>белый.</a:t>
            </a:r>
            <a:r>
              <a:rPr b="0" lang="ru-RU" sz="2100" spc="-1" strike="noStrike">
                <a:solidFill>
                  <a:srgbClr val="060903"/>
                </a:solidFill>
                <a:latin typeface="Calibri"/>
              </a:rPr>
              <a:t>  К нам прилетают в марте. По прилёте поселяются в прежних гнёздах, которые устраивают из сухих сучьев на вершинах деревьев и на крышах; любят местности, обильные водой. Так как аистов не преследуют, то они очень доверчивы и подходят близко к жилищам. Полёт сильный. Пищу их составляют рыба, лягушки, ящерицы, змеи, улитки, дождевые черви, полевые мыши, кроты, насекомые. Голос слабый, звуки производит хлопаньем челюстей; только птенцы. Живёт очень долго. Длина белого аиста 1 м. </a:t>
            </a:r>
            <a:endParaRPr b="0" lang="en-US" sz="21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45" name="Заголовок 2" descr=""/>
          <p:cNvPicPr/>
          <p:nvPr/>
        </p:nvPicPr>
        <p:blipFill>
          <a:blip r:embed="rId1"/>
          <a:stretch/>
        </p:blipFill>
        <p:spPr>
          <a:xfrm>
            <a:off x="371520" y="317520"/>
            <a:ext cx="1487520" cy="1011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3994200" y="115920"/>
            <a:ext cx="49165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28760" y="36432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2e0f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1f2e0f"/>
                </a:solidFill>
                <a:latin typeface="Calibri"/>
              </a:rPr>
              <a:t>Ца́плевые</a:t>
            </a:r>
            <a:r>
              <a:rPr b="0" lang="ru-RU" sz="2400" spc="-1" strike="noStrike">
                <a:solidFill>
                  <a:srgbClr val="1f2e0f"/>
                </a:solidFill>
                <a:latin typeface="Calibri"/>
              </a:rPr>
              <a:t> — семейство птиц отряда аистообразных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2e0f"/>
                </a:solidFill>
                <a:latin typeface="Calibri"/>
              </a:rPr>
              <a:t>Живущие на мелководье птицы. Длинноногие, с длинным и узким, приплюснутым с боков клювом. Они неподвижно стоят в воде и всматриваются в воду, выискивая добычу. Пары обычно держатся только один сезон. Оба родителя строят гнездо, насиживают яйца и кормят птенцов. Летают медленно, при этом вытягивают лапы назад.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48" name="Заголовок 2" descr=""/>
          <p:cNvPicPr/>
          <p:nvPr/>
        </p:nvPicPr>
        <p:blipFill>
          <a:blip r:embed="rId1"/>
          <a:stretch/>
        </p:blipFill>
        <p:spPr>
          <a:xfrm>
            <a:off x="304920" y="317520"/>
            <a:ext cx="1828800" cy="1011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2"/>
          <a:stretch/>
        </p:blipFill>
        <p:spPr>
          <a:xfrm>
            <a:off x="3722760" y="115920"/>
            <a:ext cx="5116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2" descr=""/>
          <p:cNvPicPr/>
          <p:nvPr/>
        </p:nvPicPr>
        <p:blipFill>
          <a:blip r:embed="rId1"/>
          <a:stretch/>
        </p:blipFill>
        <p:spPr>
          <a:xfrm>
            <a:off x="176040" y="433440"/>
            <a:ext cx="3853080" cy="111420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500040" y="1428840"/>
            <a:ext cx="6000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0903"/>
                </a:solidFill>
                <a:latin typeface="Calibri"/>
              </a:rPr>
              <a:t>В каком порядке улетают птицы?</a:t>
            </a:r>
            <a:br>
              <a:rPr sz="1800"/>
            </a:b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Первыми улетают насекомоядные птицы (Трясогузка). Потом улетают зерноядные - те, которые питаются плодами и семенами растений (овсянка, чиж, зяблик). А позже всех улетают утки и гуси, они собираются в путь, когда замерзают водоёмы, потому что это водоплавающие птицы.</a:t>
            </a: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0903"/>
                </a:solidFill>
                <a:latin typeface="Calibri"/>
              </a:rPr>
              <a:t>Чем отличаются журавли от цапель и аистов?</a:t>
            </a:r>
            <a:br>
              <a:rPr sz="1800"/>
            </a:b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Журавли в отличии от цапель, в полёте вытягивают ноги и шею. Это делает их похожими на аистов, но в отличие от них журавли никогда не садятся на деревья.</a:t>
            </a:r>
            <a:br>
              <a:rPr sz="1800"/>
            </a:br>
            <a:r>
              <a:rPr b="0" lang="ru-RU" sz="1800" spc="-1" strike="noStrike">
                <a:solidFill>
                  <a:srgbClr val="060903"/>
                </a:solidFill>
                <a:latin typeface="Calibri"/>
              </a:rPr>
              <a:t>Если визуально сравнивать журавлей с другими болотными птицами, то по сравнению с цаплями их ноги, как правило, длиннее, а шея более вытянутая; а по сравнению с аистами тело изящнее, ноги длиннее, а клюв пропорционально меньше.</a:t>
            </a: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6081840" y="0"/>
            <a:ext cx="3024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214800" y="2499840"/>
            <a:ext cx="39002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Будь другом птиц!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Пусть под окном,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Поёт весною соловей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И над просторами земли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0903"/>
                </a:solidFill>
                <a:latin typeface="Calibri"/>
              </a:rPr>
              <a:t>Летают стаи голубей!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355" name="Заголовок 2" descr=""/>
          <p:cNvPicPr/>
          <p:nvPr/>
        </p:nvPicPr>
        <p:blipFill>
          <a:blip r:embed="rId2"/>
          <a:stretch/>
        </p:blipFill>
        <p:spPr>
          <a:xfrm>
            <a:off x="-365040" y="-49320"/>
            <a:ext cx="85946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285720" y="500040"/>
            <a:ext cx="56437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Первые вестники весны в средней полосе России - грачи. Обычно они прилетают к 17 марта. </a:t>
            </a: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7120" y="2071800"/>
            <a:ext cx="3471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c1305"/>
                </a:solidFill>
                <a:latin typeface="Calibri"/>
              </a:rPr>
              <a:t>Птицы семейства вороновых.</a:t>
            </a:r>
            <a:r>
              <a:rPr b="0" lang="ru-RU" sz="22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Прекрасно приручаются, могут имитировать человеческую речь. 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60903"/>
                </a:solidFill>
                <a:latin typeface="Calibri"/>
              </a:rPr>
              <a:t>Покидают наши края поздно осенью, исчезая в конце октября или начале ноября.</a:t>
            </a:r>
            <a:endParaRPr b="0" lang="en-US" sz="2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99680" y="428400"/>
            <a:ext cx="2143080" cy="857160"/>
          </a:xfrm>
          <a:prstGeom prst="rect">
            <a:avLst/>
          </a:prstGeom>
          <a:solidFill>
            <a:srgbClr val="92d050"/>
          </a:solidFill>
          <a:ln w="39960">
            <a:solidFill>
              <a:srgbClr val="00b0f0"/>
            </a:solidFill>
            <a:miter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c1305"/>
                </a:solidFill>
                <a:latin typeface="Calibri"/>
              </a:rPr>
              <a:t>Грачи</a:t>
            </a:r>
            <a:endParaRPr b="0" lang="en-US" sz="59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202" name="Голос грача - Corvus frugilegus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3470400" y="1773360"/>
            <a:ext cx="539748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42920" y="1000080"/>
            <a:ext cx="8786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2d05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Длина 45—47 см, масса тела 310—490 г. Грач похож на ворону, но стройнее, имеет более тонкий и прямой клюв. Перья чёрные, с фиолетовым отливом. 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195120" y="0"/>
            <a:ext cx="8461440" cy="1427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770280" y="2924280"/>
            <a:ext cx="5068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400" y="1356840"/>
            <a:ext cx="4714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Грачи всеядны, питаются  различными насекомыми, дождевыми червями, мышевидными грызунами (которых они находят, копаясь в земле своим крепким клювом), зерновками культурных злаков, плодами и семенами овощных и плодово-ягодных культур. 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6daa2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682560" y="500040"/>
            <a:ext cx="2603520" cy="11462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4"/>
          <p:cNvSpPr/>
          <p:nvPr/>
        </p:nvSpPr>
        <p:spPr>
          <a:xfrm>
            <a:off x="5572080" y="2500200"/>
            <a:ext cx="3357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eaa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c1305"/>
                </a:solidFill>
                <a:latin typeface="Calibri"/>
              </a:rPr>
              <a:t>Уничтожением вредителей сельскохозяйственных растений — клопов-черепашек, долгоносиков, гусениц лугового мотылька, совок, грызунов — грачи приносят несомненную пользу.</a:t>
            </a:r>
            <a:endParaRPr b="0" lang="en-US" sz="24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5076720" y="115920"/>
            <a:ext cx="37274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99680" y="3286080"/>
            <a:ext cx="811548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0c1305"/>
                </a:solidFill>
                <a:latin typeface="Calibri"/>
              </a:rPr>
              <a:t>Гнездо строят из сухих сучьев, выстилают сухой травой, иногда клочками шерсти, тоненькими ветками, а также используют различный мусор. Гнездовая колония существует очень долго, даже десятилетия. Один раз в год бывает одна кладка из 3—7 яиц. Птенцы появляются в начале - середине апреля.</a:t>
            </a:r>
            <a:endParaRPr b="0" lang="en-US" sz="26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62080" y="603360"/>
            <a:ext cx="3114360" cy="1012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727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4:01:28Z</dcterms:created>
  <dc:creator>Пользователь</dc:creator>
  <dc:description/>
  <dc:language>en-US</dc:language>
  <cp:lastModifiedBy>Пользователь</cp:lastModifiedBy>
  <dcterms:modified xsi:type="dcterms:W3CDTF">2013-04-07T13:10:11Z</dcterms:modified>
  <cp:revision>147</cp:revision>
  <dc:subject/>
  <dc:title>Слайд 1</dc:title>
</cp:coreProperties>
</file>