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6974-DD5F-427E-A748-48FDEAAA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593D-B659-4388-BFAE-9F062547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82C1-EE21-488B-AF98-023CED4B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0A0-B011-4366-8048-AD317304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4123-9880-4469-9263-52AE96CB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4DE1-578E-4047-B3CF-323C2236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4D72-BE7E-49DA-855F-FCA12E24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CE1-507D-402D-B94C-2DDC8827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F18-5904-4AC6-85A6-A71FABA1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8EF2-E62B-4A6D-A86F-CCD5812D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44EE-65AF-4705-AE56-12F0E751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8E47-E187-4949-A76F-55885FE3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9C1A-AAC0-4411-97D2-86C4DBCF57B8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ABBF-0EC4-4CFB-8CE2-B10B56B981D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e46c0a"/>
                </a:solidFill>
                <a:latin typeface="Georgia"/>
              </a:rPr>
              <a:t>Откуда  к  нам  </a:t>
            </a:r>
            <a:br>
              <a:rPr sz="9600"/>
            </a:br>
            <a:r>
              <a:rPr b="1" lang="ru-RU" sz="9600" spc="-1" strike="noStrike">
                <a:solidFill>
                  <a:srgbClr val="e46c0a"/>
                </a:solidFill>
                <a:latin typeface="Georgia"/>
              </a:rPr>
              <a:t>хлеб  пришёл </a:t>
            </a:r>
            <a:r>
              <a:rPr b="1" lang="en-US" sz="9600" spc="-1" strike="noStrike">
                <a:solidFill>
                  <a:srgbClr val="e46c0a"/>
                </a:solidFill>
                <a:latin typeface="Georgi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A474-2FC2-452B-9D97-8F2C425B4F5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Можно выпекать хлеб дома в хлебопеч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13.jpg"/>
          <p:cNvPicPr/>
          <p:nvPr/>
        </p:nvPicPr>
        <p:blipFill>
          <a:blip r:embed="rId1"/>
          <a:stretch/>
        </p:blipFill>
        <p:spPr>
          <a:xfrm>
            <a:off x="1830240" y="1600200"/>
            <a:ext cx="54835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7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8F45-FB03-4CD9-8ADC-29AA5704276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Нужно взя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в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8" descr="45.jpg"/>
          <p:cNvPicPr/>
          <p:nvPr/>
        </p:nvPicPr>
        <p:blipFill>
          <a:blip r:embed="rId1"/>
          <a:stretch/>
        </p:blipFill>
        <p:spPr>
          <a:xfrm>
            <a:off x="457200" y="2717640"/>
            <a:ext cx="4040280" cy="2865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му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9" descr="49.gif"/>
          <p:cNvPicPr/>
          <p:nvPr/>
        </p:nvPicPr>
        <p:blipFill>
          <a:blip r:embed="rId2"/>
          <a:stretch/>
        </p:blipFill>
        <p:spPr>
          <a:xfrm>
            <a:off x="5246640" y="2174760"/>
            <a:ext cx="2838600" cy="395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1438-7CFD-4077-AFCE-4DB0BCA3333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Еще нужно взя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яйц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6" descr="48.png"/>
          <p:cNvPicPr/>
          <p:nvPr/>
        </p:nvPicPr>
        <p:blipFill>
          <a:blip r:embed="rId1"/>
          <a:stretch/>
        </p:blipFill>
        <p:spPr>
          <a:xfrm>
            <a:off x="457200" y="2527200"/>
            <a:ext cx="4040280" cy="324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дрожж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7" descr="54.jpg"/>
          <p:cNvPicPr/>
          <p:nvPr/>
        </p:nvPicPr>
        <p:blipFill>
          <a:blip r:embed="rId2"/>
          <a:stretch/>
        </p:blipFill>
        <p:spPr>
          <a:xfrm>
            <a:off x="5076720" y="2565360"/>
            <a:ext cx="3171960" cy="31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8772-3BE0-479F-A815-EDAC6ADDC09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Обязательно  берё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сах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8" descr="52.jpg"/>
          <p:cNvPicPr/>
          <p:nvPr/>
        </p:nvPicPr>
        <p:blipFill>
          <a:blip r:embed="rId1"/>
          <a:stretch/>
        </p:blipFill>
        <p:spPr>
          <a:xfrm>
            <a:off x="971640" y="2421000"/>
            <a:ext cx="254628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со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9" descr="62.jpg"/>
          <p:cNvPicPr/>
          <p:nvPr/>
        </p:nvPicPr>
        <p:blipFill>
          <a:blip r:embed="rId2"/>
          <a:stretch/>
        </p:blipFill>
        <p:spPr>
          <a:xfrm>
            <a:off x="4859280" y="2421000"/>
            <a:ext cx="2882880" cy="384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8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FEEC-FD08-4206-9632-A46A23D1FB3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Тесто  гот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8" descr="56.jpg"/>
          <p:cNvPicPr/>
          <p:nvPr/>
        </p:nvPicPr>
        <p:blipFill>
          <a:blip r:embed="rId1"/>
          <a:stretch/>
        </p:blipFill>
        <p:spPr>
          <a:xfrm>
            <a:off x="2336760" y="1600200"/>
            <a:ext cx="44704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5572-750B-4F9F-AC2E-165B8EE5C40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Тесто вымешивают, разделыва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Содержимое 6" descr="58.jpg"/>
          <p:cNvPicPr/>
          <p:nvPr/>
        </p:nvPicPr>
        <p:blipFill>
          <a:blip r:embed="rId1"/>
          <a:stretch/>
        </p:blipFill>
        <p:spPr>
          <a:xfrm>
            <a:off x="682560" y="2421000"/>
            <a:ext cx="2881440" cy="290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Содержимое 7" descr="64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7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2415-ACA4-4E56-994C-F282A845CD8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Выпекают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Содержимое 8" descr="10.jpg"/>
          <p:cNvPicPr/>
          <p:nvPr/>
        </p:nvPicPr>
        <p:blipFill>
          <a:blip r:embed="rId1"/>
          <a:stretch/>
        </p:blipFill>
        <p:spPr>
          <a:xfrm>
            <a:off x="1819440" y="1630440"/>
            <a:ext cx="5505120" cy="446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1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172E-CAF7-4FC0-8102-64F18F07F31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Хлеб го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Содержимое 6" descr="66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5" name="Содержимое 7" descr="67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6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1387-79B7-46D9-A178-D2E0B36A14C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3"/>
          <p:cNvSpPr/>
          <p:nvPr/>
        </p:nvSpPr>
        <p:spPr>
          <a:xfrm>
            <a:off x="179280" y="0"/>
            <a:ext cx="8785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Положит в землю Человек зерно,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Прольётся Дождь- зерно орошено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Крутая Борозда и мягкий Снег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Зерно укроют на зиму от всех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есною Солнце выплывет в зенит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И новый колосок позолотит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Колосьев много в урожайный год,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И человек их с поля уберёт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И золотые руки Пекарей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Румяный хлеб замесят поскорей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А женщина на краешке доски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Готовый хлеб разрежет на куски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сем, кто лелеял хлебный колосок,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На совести достанется кусок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Автор: Аким.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5"/>
          <p:cNvSpPr/>
          <p:nvPr/>
        </p:nvSpPr>
        <p:spPr>
          <a:xfrm>
            <a:off x="324000" y="616572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4143-0717-46B6-9C5A-98776281366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Книги о хле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одержимое 4" descr="32.jpg"/>
          <p:cNvPicPr/>
          <p:nvPr/>
        </p:nvPicPr>
        <p:blipFill>
          <a:blip r:embed="rId1"/>
          <a:stretch/>
        </p:blipFill>
        <p:spPr>
          <a:xfrm>
            <a:off x="468360" y="1773360"/>
            <a:ext cx="4408560" cy="412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3" name="Содержимое 5" descr="30.jpg"/>
          <p:cNvPicPr/>
          <p:nvPr/>
        </p:nvPicPr>
        <p:blipFill>
          <a:blip r:embed="rId2"/>
          <a:stretch/>
        </p:blipFill>
        <p:spPr>
          <a:xfrm>
            <a:off x="5424480" y="1773360"/>
            <a:ext cx="2738520" cy="410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4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6A6E-329F-4C6B-AA4B-90FCE33F6E2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25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46c0a"/>
                </a:solidFill>
                <a:uFillTx/>
                <a:latin typeface="Georgia"/>
              </a:rPr>
              <a:t>Программное содержание: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Дать детям понятие, что хлеб является ежедневным продуктом. Рассказать откуда берётся хлеб, кто его растит и печёт. Воспитывать уважение к труду взрослых, бережное отношение к хлебу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CA6D-D8F2-4B25-86DA-6F2927813CA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Экскурсия на кухн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Содержимое 4" descr="37.jpg"/>
          <p:cNvPicPr/>
          <p:nvPr/>
        </p:nvPicPr>
        <p:blipFill>
          <a:blip r:embed="rId1"/>
          <a:stretch/>
        </p:blipFill>
        <p:spPr>
          <a:xfrm>
            <a:off x="519120" y="2394000"/>
            <a:ext cx="3914640" cy="293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8" name="Содержимое 5" descr="38.jpg"/>
          <p:cNvPicPr/>
          <p:nvPr/>
        </p:nvPicPr>
        <p:blipFill>
          <a:blip r:embed="rId2"/>
          <a:stretch/>
        </p:blipFill>
        <p:spPr>
          <a:xfrm>
            <a:off x="4707000" y="2394000"/>
            <a:ext cx="3921120" cy="293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9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F342-0204-4295-8610-8E2B915CBE8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Попробуем сами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Содержимое 6" descr="36.jpg"/>
          <p:cNvPicPr/>
          <p:nvPr/>
        </p:nvPicPr>
        <p:blipFill>
          <a:blip r:embed="rId1"/>
          <a:stretch/>
        </p:blipFill>
        <p:spPr>
          <a:xfrm>
            <a:off x="1662120" y="1600200"/>
            <a:ext cx="58197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3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33C6-13B3-4553-BC6D-21D54049C00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Поиграем</a:t>
            </a:r>
            <a:r>
              <a:rPr b="1" lang="en-US" sz="4400" spc="-1" strike="noStrike">
                <a:solidFill>
                  <a:srgbClr val="e46c0a"/>
                </a:solidFill>
                <a:latin typeface="Georgi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Содержимое 6" descr="34.jpg"/>
          <p:cNvPicPr/>
          <p:nvPr/>
        </p:nvPicPr>
        <p:blipFill>
          <a:blip r:embed="rId1"/>
          <a:stretch/>
        </p:blipFill>
        <p:spPr>
          <a:xfrm>
            <a:off x="468360" y="2205000"/>
            <a:ext cx="3300480" cy="3705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7" name="Содержимое 7" descr="33.jpg"/>
          <p:cNvPicPr/>
          <p:nvPr/>
        </p:nvPicPr>
        <p:blipFill>
          <a:blip r:embed="rId2"/>
          <a:stretch/>
        </p:blipFill>
        <p:spPr>
          <a:xfrm>
            <a:off x="4648320" y="2298600"/>
            <a:ext cx="4038480" cy="312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8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3E4A-C087-408F-8C45-E3D6D428EDC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3"/>
          <p:cNvSpPr/>
          <p:nvPr/>
        </p:nvSpPr>
        <p:spPr>
          <a:xfrm>
            <a:off x="179280" y="260280"/>
            <a:ext cx="878544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от он Хлебушек душистый,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от он теплый, золотистый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 каждый дом, на каждый стол,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он пожаловал, пришел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 нем здоровье наша, сила, в нем чудесное тепло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Сколько рук его растило, охраняло, берегло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 нем - земли родимой соки,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Солнца свет веселый в нем..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Уплетай за обе щеки, вырастай богатырем!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46c0a"/>
                </a:solidFill>
                <a:latin typeface="Georgia"/>
              </a:rPr>
              <a:t>Автор: С. Погорел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3F7C-4B87-485E-AA01-DB8A0551735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0088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Сначала зёрнышко хлеба сажают в землю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6" descr="3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727A-3FA9-4E13-A776-0CCA262A02C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18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Сажают специальными машинами - сеялкам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59.jpg"/>
          <p:cNvPicPr/>
          <p:nvPr/>
        </p:nvPicPr>
        <p:blipFill>
          <a:blip r:embed="rId1"/>
          <a:stretch/>
        </p:blipFill>
        <p:spPr>
          <a:xfrm>
            <a:off x="1752480" y="1747800"/>
            <a:ext cx="5639040" cy="422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D013-2EFA-475B-861A-C881AFBFA7E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Потом вырастают вот такие колос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3.jpg"/>
          <p:cNvPicPr/>
          <p:nvPr/>
        </p:nvPicPr>
        <p:blipFill>
          <a:blip r:embed="rId1"/>
          <a:stretch/>
        </p:blipFill>
        <p:spPr>
          <a:xfrm>
            <a:off x="1320840" y="1684440"/>
            <a:ext cx="6502320" cy="43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E7A8-8BE5-4178-9356-22E6248E570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Колоски собирают машины - комбайн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16.jpg"/>
          <p:cNvPicPr/>
          <p:nvPr/>
        </p:nvPicPr>
        <p:blipFill>
          <a:blip r:embed="rId1"/>
          <a:stretch/>
        </p:blipFill>
        <p:spPr>
          <a:xfrm>
            <a:off x="1523880" y="1862280"/>
            <a:ext cx="6096240" cy="400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E960-2D5F-4DBA-9527-4C09121F811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Отвозят зерно на мельн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41.jpg"/>
          <p:cNvPicPr/>
          <p:nvPr/>
        </p:nvPicPr>
        <p:blipFill>
          <a:blip r:embed="rId1"/>
          <a:stretch/>
        </p:blipFill>
        <p:spPr>
          <a:xfrm>
            <a:off x="1155600" y="1600200"/>
            <a:ext cx="683280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9595-6239-4CF6-86DA-CC767DEAE02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Там зёрна перемелют в муку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40.jpg"/>
          <p:cNvPicPr/>
          <p:nvPr/>
        </p:nvPicPr>
        <p:blipFill>
          <a:blip r:embed="rId1"/>
          <a:stretch/>
        </p:blipFill>
        <p:spPr>
          <a:xfrm>
            <a:off x="973080" y="1979640"/>
            <a:ext cx="7197840" cy="376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9420-0BB2-42DB-997F-79EC81CC9EC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45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Из  муки на хлебозаводе  пекут хлеб, булк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5" descr="9.jpg"/>
          <p:cNvPicPr/>
          <p:nvPr/>
        </p:nvPicPr>
        <p:blipFill>
          <a:blip r:embed="rId1"/>
          <a:stretch/>
        </p:blipFill>
        <p:spPr>
          <a:xfrm>
            <a:off x="2333520" y="2071800"/>
            <a:ext cx="4476960" cy="35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DE24-E13A-46CE-A51F-8628B108E70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5:13:17Z</dcterms:created>
  <dc:creator>Ольга</dc:creator>
  <dc:description/>
  <dc:language>en-US</dc:language>
  <cp:lastModifiedBy>Ольга</cp:lastModifiedBy>
  <dcterms:modified xsi:type="dcterms:W3CDTF">2011-10-22T08:02:20Z</dcterms:modified>
  <cp:revision>25</cp:revision>
  <dc:subject/>
  <dc:title>Откуда к нам хлеб пришёл</dc:title>
</cp:coreProperties>
</file>