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30.jpeg" ContentType="image/jpeg"/>
  <Override PartName="/ppt/media/image26.jpeg" ContentType="image/jpeg"/>
  <Override PartName="/ppt/media/image5.jpeg" ContentType="image/jpeg"/>
  <Override PartName="/ppt/media/image27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11.jpeg" ContentType="image/jpeg"/>
  <Override PartName="/ppt/media/image7.png" ContentType="image/png"/>
  <Override PartName="/ppt/media/image9.png" ContentType="image/png"/>
  <Override PartName="/ppt/media/image2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25.png" ContentType="image/png"/>
  <Override PartName="/ppt/media/image19.jpeg" ContentType="image/jpeg"/>
  <Override PartName="/ppt/media/image24.jpeg" ContentType="image/jpeg"/>
  <Override PartName="/ppt/media/image22.png" ContentType="image/png"/>
  <Override PartName="/ppt/media/image29.png" ContentType="image/png"/>
  <Override PartName="/ppt/media/image21.jpeg" ContentType="image/jpe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26AA-31BF-4337-A4A5-EE2A2A090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0934-95B8-4C4F-82E6-CFA1A473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4A84-260C-4A62-8CB8-048A55345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D476-2B1F-483B-9F53-4CF36512E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2CD3-D568-4A60-9753-A97178BE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B4A5-1C54-45F4-8713-C20A5275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923B-934E-4927-B84E-45B7378F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EA83-3724-4A97-985E-74C4700E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687D-D50A-4939-AE49-B06DBFE1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A84B-0F35-4E94-956C-89396CDE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F888-2F93-4F1F-B1D8-289B56C9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C458-640C-4D50-B30C-87FD9DAF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4f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20CC-CAC7-46EE-B225-66F6603E8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4f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nime Ace v05"/>
              </a:rPr>
              <a:t>Отгадай Птиц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19280" y="981000"/>
            <a:ext cx="5821200" cy="5877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924360" y="3500280"/>
            <a:ext cx="136836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nime Ace v05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4f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ime Ace v05"/>
              </a:rPr>
              <a:t>Что это за птиц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95640" y="1844640"/>
            <a:ext cx="42796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dd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nime Ace v05"/>
              </a:rPr>
              <a:t>Это берку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547344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4f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ime Ace v05"/>
              </a:rPr>
              <a:t>Что это за птиц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843280" y="2852640"/>
            <a:ext cx="27702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dd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nime Ace v05"/>
              </a:rPr>
              <a:t>Это дроз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480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4f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ime Ace v05"/>
              </a:rPr>
              <a:t>Что это за птиц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42920" y="2852640"/>
            <a:ext cx="672300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dd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nime Ace v05"/>
              </a:rPr>
              <a:t>Это Дикая у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662616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4f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ime Ace v05"/>
              </a:rPr>
              <a:t>Что это за птиц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627280" y="1989000"/>
            <a:ext cx="407664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dd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nime Ace v05"/>
              </a:rPr>
              <a:t>Это пету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71204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4f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ime Ace v05"/>
              </a:rPr>
              <a:t>Что это за птиц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411280" y="1628640"/>
            <a:ext cx="3276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dd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nime Ace v05"/>
              </a:rPr>
              <a:t>Это чай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55308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4f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ime Ace v05"/>
              </a:rPr>
              <a:t>Что это за птиц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 rot="918600">
            <a:off x="900000" y="2205000"/>
            <a:ext cx="741708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4f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ime Ace v05"/>
              </a:rPr>
              <a:t>Что это за птиц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540072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dd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nime Ace v05"/>
              </a:rPr>
              <a:t>Это журав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411280" y="1268280"/>
            <a:ext cx="6480360" cy="4861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0920" y="3592440"/>
            <a:ext cx="309708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4f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ime Ace v05"/>
              </a:rPr>
              <a:t>Что это за птиц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79640" y="2133720"/>
            <a:ext cx="48243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dd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nime Ace v05"/>
              </a:rPr>
              <a:t>Это ласт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583236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4f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ime Ace v05"/>
              </a:rPr>
              <a:t>Что это за птиц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63640" y="2565360"/>
            <a:ext cx="482436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dd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nime Ace v05"/>
              </a:rPr>
              <a:t>Это лебе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42920" y="1701720"/>
            <a:ext cx="72741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4f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ime Ace v05"/>
              </a:rPr>
              <a:t>Что это за птиц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11280" y="2060640"/>
            <a:ext cx="525636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dd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nime Ace v05"/>
              </a:rPr>
              <a:t>Это солов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5832360" cy="50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dd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nime Ace v05"/>
              </a:rPr>
              <a:t>Это ор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85840" y="1700280"/>
            <a:ext cx="684216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4f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ime Ace v05"/>
              </a:rPr>
              <a:t>Что это за птиц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84360" y="1052640"/>
            <a:ext cx="417996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dd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nime Ace v05"/>
              </a:rPr>
              <a:t>Это а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492360" y="1413000"/>
            <a:ext cx="5187960" cy="4687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8360" y="4165560"/>
            <a:ext cx="3311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4f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ime Ace v05"/>
              </a:rPr>
              <a:t>Что это за птиц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71640" y="2852640"/>
            <a:ext cx="34560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dd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nime Ace v05"/>
              </a:rPr>
              <a:t>Это щего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583236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4f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ime Ace v05"/>
              </a:rPr>
              <a:t>Что это за птиц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84360" y="2421000"/>
            <a:ext cx="352764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dd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nime Ace v05"/>
              </a:rPr>
              <a:t>Это голуб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02160" y="1484280"/>
            <a:ext cx="3786120" cy="3816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55640" y="2708280"/>
            <a:ext cx="33876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7T18:39:33Z</dcterms:created>
  <dc:creator>Admin</dc:creator>
  <dc:description/>
  <dc:language>en-US</dc:language>
  <cp:lastModifiedBy>Admin</cp:lastModifiedBy>
  <dcterms:modified xsi:type="dcterms:W3CDTF">2013-04-02T11:33:04Z</dcterms:modified>
  <cp:revision>38</cp:revision>
  <dc:subject/>
  <dc:title>Отгадай силуэт Птицы</dc:title>
</cp:coreProperties>
</file>