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30.jpeg" ContentType="image/jpeg"/>
  <Override PartName="/ppt/media/image26.jpeg" ContentType="image/jpeg"/>
  <Override PartName="/ppt/media/image5.jpeg" ContentType="image/jpeg"/>
  <Override PartName="/ppt/media/image27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2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4.jpeg" ContentType="image/jpeg"/>
  <Override PartName="/ppt/media/image22.png" ContentType="image/png"/>
  <Override PartName="/ppt/media/image2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C28-7F6E-46EC-906C-7D1218C5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59F5-EA72-4D60-9D32-0D836904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AD9-556E-4129-A2CA-E7ED26F2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0C3-DC2B-4239-9B23-7FA013F6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48A-7308-466A-AE3F-9C1BF034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451-E6F5-41BD-ABFE-99D87025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0C49-E632-45AA-AE4D-0EA9EDB3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FBEB-307F-42CC-8732-41CAB714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6F1-C516-420B-9B63-4C988513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433-A949-4558-82CD-4050070A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3F59-8D27-41DD-878C-A76A272C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F295-864A-49EA-927A-AF0FE9E6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2FE8-5AD0-4F0E-B101-AAE3DB96E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Отгадай Пт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821200" cy="5877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24360" y="3500280"/>
            <a:ext cx="13683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nime Ace v05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279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берк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473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2770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дроз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480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67230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Дикая 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62616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407664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пет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7120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32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чай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55308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918600">
            <a:off x="900000" y="2205000"/>
            <a:ext cx="741708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40072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журав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6480360" cy="4861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3592440"/>
            <a:ext cx="30970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48243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ласт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8323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482436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леб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42920" y="1701720"/>
            <a:ext cx="7274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525636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солов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3236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ор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5840" y="1700280"/>
            <a:ext cx="684216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84360" y="1052640"/>
            <a:ext cx="41799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а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360" y="1413000"/>
            <a:ext cx="5187960" cy="4687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4165560"/>
            <a:ext cx="3311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71640" y="2852640"/>
            <a:ext cx="34560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щег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8323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04f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ime Ace v05"/>
              </a:rPr>
              <a:t>Что это за пти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84360" y="2421000"/>
            <a:ext cx="352764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dd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5640" y="404640"/>
            <a:ext cx="7632720" cy="94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ime Ace v05"/>
              </a:rPr>
              <a:t>Это голуб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02160" y="1484280"/>
            <a:ext cx="3786120" cy="3816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33876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8:39:33Z</dcterms:created>
  <dc:creator>Admin</dc:creator>
  <dc:description/>
  <dc:language>en-US</dc:language>
  <cp:lastModifiedBy>Admin</cp:lastModifiedBy>
  <dcterms:modified xsi:type="dcterms:W3CDTF">2013-04-02T11:33:04Z</dcterms:modified>
  <cp:revision>38</cp:revision>
  <dc:subject/>
  <dc:title>Отгадай силуэт Птицы</dc:title>
</cp:coreProperties>
</file>