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30.jpeg" ContentType="image/jpeg"/>
  <Override PartName="/ppt/media/image26.jpeg" ContentType="image/jpeg"/>
  <Override PartName="/ppt/media/image5.jpeg" ContentType="image/jpeg"/>
  <Override PartName="/ppt/media/image27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2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4.jpeg" ContentType="image/jpeg"/>
  <Override PartName="/ppt/media/image22.png" ContentType="image/png"/>
  <Override PartName="/ppt/media/image2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652-7E49-40AE-AE20-7895E03D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3FA-9394-4A3F-9AF9-8AD8B978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E65B-EF79-42D0-8BAE-F3CBEEF4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C10C-DE98-4343-BFAC-81FDAA97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D1B1-2A5F-4A11-A5A4-FC310CD8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7C44-676F-4BCD-8E26-AB36967E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813B-A9DB-45ED-9167-C0C325EE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F932-4F4F-4EF5-A00F-79FC2EE5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ABD-D351-42E0-8D88-69CDA6B4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3BD-DA48-43D0-8FB5-F15A2046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830-298F-447A-9731-C22E1F50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296-5A0A-44B9-A81E-555202E3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294B-062D-49BB-A835-59335BEA0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Отгадай Пт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821200" cy="5877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24360" y="3500280"/>
            <a:ext cx="13683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nime Ace v05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279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берк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473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2770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дроз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480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67230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Дикая 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62616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407664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пет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7120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32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чай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55308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918600">
            <a:off x="900000" y="2205000"/>
            <a:ext cx="741708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40072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журав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6480360" cy="4861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3592440"/>
            <a:ext cx="30970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48243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ласт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8323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482436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леб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42920" y="1701720"/>
            <a:ext cx="7274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525636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солов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3236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ор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5840" y="1700280"/>
            <a:ext cx="684216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84360" y="1052640"/>
            <a:ext cx="41799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а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360" y="1413000"/>
            <a:ext cx="5187960" cy="4687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4165560"/>
            <a:ext cx="3311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71640" y="2852640"/>
            <a:ext cx="34560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щег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8323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84360" y="2421000"/>
            <a:ext cx="352764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голуб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02160" y="1484280"/>
            <a:ext cx="3786120" cy="3816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33876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8:39:33Z</dcterms:created>
  <dc:creator>Admin</dc:creator>
  <dc:description/>
  <dc:language>en-US</dc:language>
  <cp:lastModifiedBy>Admin</cp:lastModifiedBy>
  <dcterms:modified xsi:type="dcterms:W3CDTF">2013-04-02T11:33:04Z</dcterms:modified>
  <cp:revision>38</cp:revision>
  <dc:subject/>
  <dc:title>Отгадай силуэт Птицы</dc:title>
</cp:coreProperties>
</file>