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3.gif" ContentType="image/gif"/>
  <Override PartName="/ppt/media/image12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ACA-C56C-4AC7-9447-B63A7CC2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8AD-ED14-4E92-8841-3158C678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948-E15F-490D-8AB3-A2616CF3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BB8-6389-49FC-A4C0-3CBBDAFF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037C-5074-48C3-B478-7AD8D74A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3632-2DAE-438D-B2E3-643B47A1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C0B-E226-4726-9DA3-0DF85952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4F3E-7095-4066-95B5-357E1515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CA75-64CB-4793-9ACF-64C98E21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EB37-3AB9-4655-8DFF-14FF29CC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E53A-A48A-435B-9E72-34DEC10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372-5283-4C7A-BE1C-BF612AD2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55BC-14DC-44E5-A8F2-41A5A8F8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5162-A94F-4639-AAB0-DFA4354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3CE8-3800-4E70-BF89-6FDFE79E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A853-87DA-4F47-8C79-F170321A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4217-1954-424F-B3C2-7401F163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51E-387B-4F8D-9975-15CC4637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ADA-A48E-4EA8-8A69-065635A5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94C-4C88-49D1-BD88-1232A6E5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CE8-1E5A-4026-9580-3045FE14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BC7-8639-4DCA-9A0A-6AD75F0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46E-04BB-48AF-841B-56A95963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1B9-CC54-4118-AFAB-A56B1E2E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77BB-84C8-4339-AA2D-08C26044C8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1CB4-5131-428E-82E6-CBA7118AC2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3"/>
          <p:cNvSpPr txBox="1"/>
          <p:nvPr/>
        </p:nvSpPr>
        <p:spPr>
          <a:xfrm>
            <a:off x="1409760" y="336600"/>
            <a:ext cx="6324480" cy="26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Тема: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"Леди и 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джентльмены"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37600" y="4367160"/>
            <a:ext cx="605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и: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ошелева В.Н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лкова Н. 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осякова А.Г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Еремина С.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Запевалова Т.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Picture 5" descr="C:\Documents and Settings\Пользователь\Рабочий стол\Новая папка\78F8DEB4-29B6-A5BE-1CA9-1D4CD8BD7F60[1].jpg"/>
          <p:cNvPicPr/>
          <p:nvPr/>
        </p:nvPicPr>
        <p:blipFill>
          <a:blip r:embed="rId1"/>
          <a:stretch/>
        </p:blipFill>
        <p:spPr>
          <a:xfrm>
            <a:off x="5410080" y="3368520"/>
            <a:ext cx="31006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-180000" y="111240"/>
            <a:ext cx="890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Распределение по группам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28600" y="126036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65040" y="110808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28600" y="1031760"/>
            <a:ext cx="37339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льчики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«Рыцари»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800600" y="1066680"/>
            <a:ext cx="4343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вочки «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рекрасные леди»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5" name="Picture 8" descr="C:\Documents and Settings\Пользователь\Рабочий стол\картинки\анимашки\цветы\roza8_6.gif"/>
          <p:cNvPicPr/>
          <p:nvPr/>
        </p:nvPicPr>
        <p:blipFill>
          <a:blip r:embed="rId1"/>
          <a:stretch/>
        </p:blipFill>
        <p:spPr>
          <a:xfrm>
            <a:off x="5100480" y="2438280"/>
            <a:ext cx="3316320" cy="422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Пользователь\Рабочий стол\картинки\анимашки\веселые\11.gif"/>
          <p:cNvPicPr/>
          <p:nvPr/>
        </p:nvPicPr>
        <p:blipFill>
          <a:blip r:embed="rId2"/>
          <a:stretch/>
        </p:blipFill>
        <p:spPr>
          <a:xfrm>
            <a:off x="396720" y="3276720"/>
            <a:ext cx="3203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0"/>
          <p:cNvSpPr/>
          <p:nvPr/>
        </p:nvSpPr>
        <p:spPr>
          <a:xfrm>
            <a:off x="2286000" y="0"/>
            <a:ext cx="2887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Ассоциация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3520" y="838080"/>
            <a:ext cx="536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33"/>
                </a:solidFill>
                <a:latin typeface="Monotype Corsiva"/>
              </a:rPr>
              <a:t>Джентльмен</a:t>
            </a:r>
            <a:endParaRPr b="0" lang="en-US" sz="6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638680" y="228600"/>
            <a:ext cx="350532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Уверен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иль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Храбр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оспитан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разован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Чест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Элегант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нтеллигент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унктуаль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Добр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нимательный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Щедр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0" name="Picture 16" descr="C:\Documents and Settings\Пользователь\Рабочий стол\Новая папка\47825402.gif"/>
          <p:cNvPicPr/>
          <p:nvPr/>
        </p:nvPicPr>
        <p:blipFill>
          <a:blip r:embed="rId1"/>
          <a:stretch/>
        </p:blipFill>
        <p:spPr>
          <a:xfrm>
            <a:off x="304920" y="1981080"/>
            <a:ext cx="39369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"/>
          <p:cNvSpPr/>
          <p:nvPr/>
        </p:nvSpPr>
        <p:spPr>
          <a:xfrm>
            <a:off x="16606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666880" y="15228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Ассоциация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287800" y="1066680"/>
            <a:ext cx="23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ЛЕДИ</a:t>
            </a:r>
            <a:endParaRPr b="0" lang="en-US" sz="6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638680" y="907920"/>
            <a:ext cx="312444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расивая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Добр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разован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ультур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Аккурат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Мод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оспитан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Трудолюбив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ежлив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ниматель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5" name="Picture 16" descr="C:\Documents and Settings\Пользователь\Рабочий стол\Новая папка\ЛЕДИ__И__ДЖЕНТЛЬМЕНЫ.jpg"/>
          <p:cNvPicPr/>
          <p:nvPr/>
        </p:nvPicPr>
        <p:blipFill>
          <a:blip r:embed="rId1"/>
          <a:stretch/>
        </p:blipFill>
        <p:spPr>
          <a:xfrm>
            <a:off x="304920" y="2743200"/>
            <a:ext cx="48225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609480" y="45720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7" name="Picture 4" descr="C:\Documents and Settings\Пользователь\Рабочий стол\картинки\анимашки\люди\1.gif"/>
          <p:cNvPicPr/>
          <p:nvPr/>
        </p:nvPicPr>
        <p:blipFill>
          <a:blip r:embed="rId1"/>
          <a:stretch/>
        </p:blipFill>
        <p:spPr>
          <a:xfrm>
            <a:off x="433440" y="3429000"/>
            <a:ext cx="2338200" cy="32004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228600" y="1295280"/>
            <a:ext cx="8458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Джентльмены и лед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есть ещё на свете!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040640" y="556272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Детская презентац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838080" y="685800"/>
            <a:ext cx="143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Цель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80880" y="11430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авление золотых правил для юного джентльмена и прекрасной леди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685800" y="2362320"/>
            <a:ext cx="2514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Задачи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14400" y="4114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57200" y="327672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брать информацию по теме проекта;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ть портрет джентльмена и леди;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авить семь золотых правил для  воспитанных джентльменов и леди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57200" y="3049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жентльмен – честный, благородный, порядочный человек, который не позволить себе сомнительного поступка, не изменит данному слову.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876920" y="43434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ди – образованная, хорошо воспитанная особа, следующая в своей жизни нравственным правилам .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7" name="Picture 6" descr="C:\Documents and Settings\Пользователь\Рабочий стол\Новая папка\bosser_014_1.jpg"/>
          <p:cNvPicPr/>
          <p:nvPr/>
        </p:nvPicPr>
        <p:blipFill>
          <a:blip r:embed="rId1"/>
          <a:stretch/>
        </p:blipFill>
        <p:spPr>
          <a:xfrm>
            <a:off x="5257800" y="380880"/>
            <a:ext cx="2590920" cy="358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Пользователь\Рабочий стол\Новая папка\587116.jpg"/>
          <p:cNvPicPr/>
          <p:nvPr/>
        </p:nvPicPr>
        <p:blipFill>
          <a:blip r:embed="rId2"/>
          <a:stretch/>
        </p:blipFill>
        <p:spPr>
          <a:xfrm>
            <a:off x="685800" y="2971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28600" y="2286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33"/>
                </a:solidFill>
                <a:latin typeface="Monotype Corsiva"/>
              </a:rPr>
              <a:t>7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золотых правил джентльменства.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0" name="Picture 5" descr="C:\Documents and Settings\Пользователь\Рабочий стол\Новая папка\86182196bdfc.jpg"/>
          <p:cNvPicPr/>
          <p:nvPr/>
        </p:nvPicPr>
        <p:blipFill>
          <a:blip r:embed="rId1"/>
          <a:stretch/>
        </p:blipFill>
        <p:spPr>
          <a:xfrm>
            <a:off x="5638680" y="3809880"/>
            <a:ext cx="3505320" cy="27939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228600" y="1050840"/>
            <a:ext cx="6977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дь воспитанным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Учись вести диалог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нтеллигентность и пунктуальность- 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изнаки хорошего тона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4. Будь внимательным 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5. Всегда стремись узнать больше , 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чем уже знаешь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6. Будь честным и справедливым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7. Помни- ты рыцарь!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-994320" y="108000"/>
            <a:ext cx="118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Monotype Corsiva"/>
              </a:rPr>
              <a:t>7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золотых правил прекрасной леди.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3" name="Picture 4" descr="C:\Documents and Settings\Пользователь\Рабочий стол\Новая папка\858899329[1].jpg"/>
          <p:cNvPicPr/>
          <p:nvPr/>
        </p:nvPicPr>
        <p:blipFill>
          <a:blip r:embed="rId1"/>
          <a:stretch/>
        </p:blipFill>
        <p:spPr>
          <a:xfrm>
            <a:off x="5486400" y="3200400"/>
            <a:ext cx="3392640" cy="365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-477720" y="1050840"/>
            <a:ext cx="951048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астоящая леди- пример для подражания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дь умной и трудолюбивой 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иобщайся к миру прекрасного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мни: от любви и доброты все расцветает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Расширяй свой кругозор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леди за модой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екрасная леди -девочка 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ез вредных привычек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90920" y="0"/>
            <a:ext cx="51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Аннотация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04920" y="1336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98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0" y="9237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нятие по теме «Джентльмен и леди» проводится в 5 классе по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дулю «Основы светской этики». На изучение темы выделяется 2 часа.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ти разделяются на две группы, которые составляют нравственный образ джентльмена и леди. Подобран иллюстративный материал, на основе которого  анализируются жизненные ситуации . Итогом этого занятия будет детский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ект, где учащиеся, обобщив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ериал, создадут памятку для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днокласснико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7 правил  хорошего тона для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жентльменов и леди» помогут детям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уважением относиться друг к другу и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рабатывать в себе лучшие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равственные качества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5" name="Picture 9" descr="C:\Documents and Settings\Пользователь\Рабочий стол\Новая папка\700.jpg"/>
          <p:cNvPicPr/>
          <p:nvPr/>
        </p:nvPicPr>
        <p:blipFill>
          <a:blip r:embed="rId1"/>
          <a:stretch/>
        </p:blipFill>
        <p:spPr>
          <a:xfrm>
            <a:off x="5486400" y="4411800"/>
            <a:ext cx="36576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42228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знакомство учащихся с  правилами поведения   в светском обществе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-1703880" y="1600200"/>
            <a:ext cx="1274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Формирование нравственной позиции учащихс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чить видеть и анализировать поступки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кружающих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Развивать речь, творческие способности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и познавательный интерес детей к предмету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оспитывать коллективизм и умение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работать в группе.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Закреплять коммуникативные навыки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09480" y="533520"/>
            <a:ext cx="8534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Оборудование: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листы бумаги, фломастеры,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омпьютер, иллюстрации, энциклопедии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260496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Место проведения: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5 класс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43434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едварительная подготовка: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добрать иллюстрации, стихи и произведения о поведении детей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363040" y="0"/>
            <a:ext cx="37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лан занятий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787320"/>
            <a:ext cx="91440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ведение в урок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 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музыкальный ряд: отрывок из х/ф «Мери Попинс»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тановка проблемного вопроса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 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Кого вы считаете джентльменом и леди?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бота с иллюстративным материалом. Обсуждение и оценка ситуаций, представленных на рисунк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ление детей на две группы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 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Девочки. Мальчик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бор слов –ассоциаций к новым понятиям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полнение творческого задания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Работа со справочным материалом. Поиск информации о происхождении и значении слов- леди, джентльмен.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здание памятки для джентльменов и лед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распечатать и подарить своим одноклассникам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тение стихов о хороших и плохих поступках сверстнико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0" y="193680"/>
            <a:ext cx="89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идактическая цель: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формирование культуры общения и поведения между детьми и со взрослыми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1717560"/>
            <a:ext cx="9144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етодические задачи занятия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Расширение знаний о культуре поведения и формирование навыков культурного и нравственного поведения учащихся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читься добывать информацию из различных источников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Формировать умения работать по плану, представлять результат своей творческой деятельности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читься работать на компьютере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bibchildren"/>
          <p:cNvPicPr/>
          <p:nvPr/>
        </p:nvPicPr>
        <p:blipFill>
          <a:blip r:embed="rId1"/>
          <a:stretch/>
        </p:blipFill>
        <p:spPr>
          <a:xfrm>
            <a:off x="5715000" y="4694400"/>
            <a:ext cx="3429000" cy="2163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0" y="0"/>
            <a:ext cx="914400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мпетентности, формируемые у учащихся: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ланирование своей деятельности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существлять самоконтроль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ценивать свою работу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ыдвигать гипотезы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ходить и преобразовывать информацию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бобщать изученный материал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строение монологических высказываний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иводить аргументы, отстаивать свою точку зрения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Учатся ставить вопросы и четко формулировать ответ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Эффективное сотрудничество в групп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6400800" y="941400"/>
            <a:ext cx="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4920" y="81000"/>
            <a:ext cx="2743200" cy="2665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0" y="2165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57200" y="4118040"/>
            <a:ext cx="2819520" cy="2739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0" y="2174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6095880" y="84240"/>
            <a:ext cx="2743200" cy="2644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0" y="2174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0" y="2174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4"/>
          <a:stretch/>
        </p:blipFill>
        <p:spPr>
          <a:xfrm>
            <a:off x="6019920" y="4137120"/>
            <a:ext cx="2819160" cy="2720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4413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517680" y="3089160"/>
            <a:ext cx="832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0" y="2590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Рассмотрите  ситуации, которые изображены на иллюстрациях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Какие поступки противоречат морали и совести?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6400800" y="-1292400"/>
            <a:ext cx="36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7010640" cy="2843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0" y="1030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00800" y="-1635120"/>
            <a:ext cx="36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28600" y="3801960"/>
            <a:ext cx="7010280" cy="3056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-1788480" y="3108240"/>
            <a:ext cx="12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Дайте оценку действиям «джентльменов» и «леди»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6:31:52Z</dcterms:created>
  <dc:creator>user</dc:creator>
  <dc:description/>
  <dc:language>en-US</dc:language>
  <cp:lastModifiedBy>Коля</cp:lastModifiedBy>
  <dcterms:modified xsi:type="dcterms:W3CDTF">2013-04-03T20:58:44Z</dcterms:modified>
  <cp:revision>9</cp:revision>
  <dc:subject/>
  <dc:title>Презентация PowerPoint</dc:title>
</cp:coreProperties>
</file>