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3.gif" ContentType="image/gif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16B-85A2-48C7-8DAF-48232724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7B6-6404-47BD-AA42-F045C90A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36F-EACA-4146-B937-B39FBAAC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A8B-297E-469E-BA17-9315B99B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5C23-2284-41C5-B352-CFA08A50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D801-9773-4F6D-A8EC-C1B6BD2C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5AD3-6916-48CD-A2C0-6447BF26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0B44-2BCC-45F5-9D73-97D5247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1C3C-8749-47CB-BB00-A0680F57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7FB2-087B-47AC-8BB5-9EADFF4E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767C-58A9-416D-B6EA-E9B310B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788-CA8D-40A8-B64D-5BFED20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2198-8E1B-4FC5-A846-2C259C2B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E50A-5CF1-4EE0-8670-C0CC965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8CA9-78B8-4F81-97B0-44A325C3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AEA8-8777-4BAC-95DC-A07FC87C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BB8-5FDF-4A1B-AC7E-548574F0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B9D-C9D8-4793-9149-084A6145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B0D-7307-4E1B-8870-E8FA7EF3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D5B-57C6-4C4A-AE15-F50FDA2E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19F-9AD1-4847-A332-FD20B82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768-179D-43CD-94D2-3D179301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D9B-17E9-45AB-BB0F-F94076E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DB6-3773-450A-8CF7-FBC6F0CD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F04D-CCF7-4097-B8B7-610DE2CC25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D9D9-D7AF-4807-9183-69AFF4B872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1409760" y="336600"/>
            <a:ext cx="6324480" cy="26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Тема: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"Леди и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джентльмены"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37600" y="4367160"/>
            <a:ext cx="605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и: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ошелева В.Н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лкова Н. 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осякова А.Г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Еремина С.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апевалова Т.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Picture 5" descr="C:\Documents and Settings\Пользователь\Рабочий стол\Новая папка\78F8DEB4-29B6-A5BE-1CA9-1D4CD8BD7F60[1].jpg"/>
          <p:cNvPicPr/>
          <p:nvPr/>
        </p:nvPicPr>
        <p:blipFill>
          <a:blip r:embed="rId1"/>
          <a:stretch/>
        </p:blipFill>
        <p:spPr>
          <a:xfrm>
            <a:off x="5410080" y="3368520"/>
            <a:ext cx="31006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-180000" y="111240"/>
            <a:ext cx="890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Распределение по группам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8600" y="126036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65040" y="110808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28600" y="1031760"/>
            <a:ext cx="3733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льчики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«Рыцари»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800600" y="1066680"/>
            <a:ext cx="4343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вочки «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рекрасные леди»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5" name="Picture 8" descr="C:\Documents and Settings\Пользователь\Рабочий стол\картинки\анимашки\цветы\roza8_6.gif"/>
          <p:cNvPicPr/>
          <p:nvPr/>
        </p:nvPicPr>
        <p:blipFill>
          <a:blip r:embed="rId1"/>
          <a:stretch/>
        </p:blipFill>
        <p:spPr>
          <a:xfrm>
            <a:off x="5100480" y="2438280"/>
            <a:ext cx="3316320" cy="422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Пользователь\Рабочий стол\картинки\анимашки\веселые\11.gif"/>
          <p:cNvPicPr/>
          <p:nvPr/>
        </p:nvPicPr>
        <p:blipFill>
          <a:blip r:embed="rId2"/>
          <a:stretch/>
        </p:blipFill>
        <p:spPr>
          <a:xfrm>
            <a:off x="396720" y="3276720"/>
            <a:ext cx="3203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0"/>
          <p:cNvSpPr/>
          <p:nvPr/>
        </p:nvSpPr>
        <p:spPr>
          <a:xfrm>
            <a:off x="2286000" y="0"/>
            <a:ext cx="2887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Ассоциация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3520" y="838080"/>
            <a:ext cx="536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33"/>
                </a:solidFill>
                <a:latin typeface="Monotype Corsiva"/>
              </a:rPr>
              <a:t>Джентльмен</a:t>
            </a:r>
            <a:endParaRPr b="0" lang="en-US" sz="6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638680" y="228600"/>
            <a:ext cx="350532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Уверен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иль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Храбр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оспитан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разован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Чест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Элегант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нтеллигент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унктуаль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Добр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нимательный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Щедр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0" name="Picture 16" descr="C:\Documents and Settings\Пользователь\Рабочий стол\Новая папка\47825402.gif"/>
          <p:cNvPicPr/>
          <p:nvPr/>
        </p:nvPicPr>
        <p:blipFill>
          <a:blip r:embed="rId1"/>
          <a:stretch/>
        </p:blipFill>
        <p:spPr>
          <a:xfrm>
            <a:off x="304920" y="1981080"/>
            <a:ext cx="39369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"/>
          <p:cNvSpPr/>
          <p:nvPr/>
        </p:nvSpPr>
        <p:spPr>
          <a:xfrm>
            <a:off x="16606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666880" y="15228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Ассоциация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287800" y="1066680"/>
            <a:ext cx="23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ЛЕДИ</a:t>
            </a:r>
            <a:endParaRPr b="0" lang="en-US" sz="6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638680" y="907920"/>
            <a:ext cx="312444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расивая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Добр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разован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ультур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Аккурат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Мод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оспитан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Трудолюбив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ежлив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ниматель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5" name="Picture 16" descr="C:\Documents and Settings\Пользователь\Рабочий стол\Новая папка\ЛЕДИ__И__ДЖЕНТЛЬМЕНЫ.jpg"/>
          <p:cNvPicPr/>
          <p:nvPr/>
        </p:nvPicPr>
        <p:blipFill>
          <a:blip r:embed="rId1"/>
          <a:stretch/>
        </p:blipFill>
        <p:spPr>
          <a:xfrm>
            <a:off x="304920" y="2743200"/>
            <a:ext cx="48225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09480" y="45720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7" name="Picture 4" descr="C:\Documents and Settings\Пользователь\Рабочий стол\картинки\анимашки\люди\1.gif"/>
          <p:cNvPicPr/>
          <p:nvPr/>
        </p:nvPicPr>
        <p:blipFill>
          <a:blip r:embed="rId1"/>
          <a:stretch/>
        </p:blipFill>
        <p:spPr>
          <a:xfrm>
            <a:off x="433440" y="3429000"/>
            <a:ext cx="2338200" cy="32004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228600" y="1295280"/>
            <a:ext cx="8458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Джентльмены и лед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есть ещё на свете!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040640" y="556272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Детская презентац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838080" y="685800"/>
            <a:ext cx="14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Цель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0880" y="11430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ление золотых правил для юного джентльмена и прекрасной леди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685800" y="2362320"/>
            <a:ext cx="2514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адачи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14400" y="41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57200" y="327672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брать информацию по теме проекта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ть портрет джентльмена и леди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ить семь золотых правил для  воспитанных джентльменов и леди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57200" y="3049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жентльмен – честный, благородный, порядочный человек, который не позволить себе сомнительного поступка, не изменит данному слову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876920" y="43434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ди – образованная, хорошо воспитанная особа, следующая в своей жизни нравственным правилам 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7" name="Picture 6" descr="C:\Documents and Settings\Пользователь\Рабочий стол\Новая папка\bosser_014_1.jpg"/>
          <p:cNvPicPr/>
          <p:nvPr/>
        </p:nvPicPr>
        <p:blipFill>
          <a:blip r:embed="rId1"/>
          <a:stretch/>
        </p:blipFill>
        <p:spPr>
          <a:xfrm>
            <a:off x="5257800" y="380880"/>
            <a:ext cx="2590920" cy="358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Пользователь\Рабочий стол\Новая папка\587116.jpg"/>
          <p:cNvPicPr/>
          <p:nvPr/>
        </p:nvPicPr>
        <p:blipFill>
          <a:blip r:embed="rId2"/>
          <a:stretch/>
        </p:blipFill>
        <p:spPr>
          <a:xfrm>
            <a:off x="685800" y="2971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28600" y="2286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33"/>
                </a:solidFill>
                <a:latin typeface="Monotype Corsiva"/>
              </a:rPr>
              <a:t>7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олотых правил джентльменства.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0" name="Picture 5" descr="C:\Documents and Settings\Пользователь\Рабочий стол\Новая папка\86182196bdfc.jpg"/>
          <p:cNvPicPr/>
          <p:nvPr/>
        </p:nvPicPr>
        <p:blipFill>
          <a:blip r:embed="rId1"/>
          <a:stretch/>
        </p:blipFill>
        <p:spPr>
          <a:xfrm>
            <a:off x="5638680" y="3809880"/>
            <a:ext cx="3505320" cy="27939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228600" y="1050840"/>
            <a:ext cx="6977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дь воспитанным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чись вести диалог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нтеллигентность и пунктуальность-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изнаки хорошего тона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4. Будь внимательным 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5. Всегда стремись узнать больше ,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чем уже знаешь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6. Будь честным и справедливым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7. Помни- ты рыцарь!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-994320" y="108000"/>
            <a:ext cx="118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Monotype Corsiva"/>
              </a:rPr>
              <a:t>7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олотых правил прекрасной леди.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3" name="Picture 4" descr="C:\Documents and Settings\Пользователь\Рабочий стол\Новая папка\858899329[1].jpg"/>
          <p:cNvPicPr/>
          <p:nvPr/>
        </p:nvPicPr>
        <p:blipFill>
          <a:blip r:embed="rId1"/>
          <a:stretch/>
        </p:blipFill>
        <p:spPr>
          <a:xfrm>
            <a:off x="5486400" y="3200400"/>
            <a:ext cx="339264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-477720" y="1050840"/>
            <a:ext cx="951048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астоящая леди- пример для подражания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дь умной и трудолюбивой 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иобщайся к миру прекрасного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мни: от любви и доброты все расцветает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Расширяй свой кругозор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леди за модой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екрасная леди -девочка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ез вредных привычек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90920" y="0"/>
            <a:ext cx="51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Аннотация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04920" y="1336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98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0" y="9237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нятие по теме «Джентльмен и леди» проводится в 5 классе по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дулю «Основы светской этики». На изучение темы выделяется 2 часа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и разделяются на две группы, которые составляют нравственный образ джентльмена и леди. Подобран иллюстративный материал, на основе которого  анализируются жизненные ситуации . Итогом этого занятия будет детский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ект, где учащиеся, обобщив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риал, создадут памятку для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нокласснико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7 правил  хорошего тона дл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жентльменов и леди» помогут детям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уважением относиться друг к другу и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рабатывать в себе лучшие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равственные качества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5" name="Picture 9" descr="C:\Documents and Settings\Пользователь\Рабочий стол\Новая папка\700.jpg"/>
          <p:cNvPicPr/>
          <p:nvPr/>
        </p:nvPicPr>
        <p:blipFill>
          <a:blip r:embed="rId1"/>
          <a:stretch/>
        </p:blipFill>
        <p:spPr>
          <a:xfrm>
            <a:off x="5486400" y="4411800"/>
            <a:ext cx="3657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42228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знакомство учащихся с  правилами поведения   в светском обществе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-1703880" y="1600200"/>
            <a:ext cx="1274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Формирование нравственной позиции учащихс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чить видеть и анализировать поступки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кружающих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азвивать речь, творческие способности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и познавательный интерес детей к предмету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оспитывать коллективизм и умение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аботать в группе.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Закреплять коммуникативные навыки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09480" y="533520"/>
            <a:ext cx="8534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борудование: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листы бумаги, фломастеры,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омпьютер, иллюстрации, энциклопедии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260496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Место проведения: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5 класс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43434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едварительная подготовка: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добрать иллюстрации, стихи и произведения о поведении детей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363040" y="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лан занятий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787320"/>
            <a:ext cx="9144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ведение в урок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 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музыкальный ряд: отрывок из х/ф «Мери Попинс»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ановка проблемного вопроса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 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Кого вы считаете джентльменом и леди?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бота с иллюстративным материалом. Обсуждение и оценка ситуаций, представленных на рисунк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ление детей на две группы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 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Девочки. Мальчик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бор слов –ассоциаций к новым понятиям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полнение творческого задания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Работа со справочным материалом. Поиск информации о происхождении и значении слов- леди, джентльмен.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ние памятки для джентльменов и лед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распечатать и подарить своим одноклассникам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ение стихов о хороших и плохих поступках сверстнико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0" y="193680"/>
            <a:ext cx="89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идактическая цель: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формирование культуры общения и поведения между детьми и со взрослыми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1717560"/>
            <a:ext cx="9144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етодические задачи занятия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Расширение знаний о культуре поведения и формирование навыков культурного и нравственного поведения учащихся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читься добывать информацию из различных источников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Формировать умения работать по плану, представлять результат своей творческой деятельности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читься работать на компьютере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bibchildren"/>
          <p:cNvPicPr/>
          <p:nvPr/>
        </p:nvPicPr>
        <p:blipFill>
          <a:blip r:embed="rId1"/>
          <a:stretch/>
        </p:blipFill>
        <p:spPr>
          <a:xfrm>
            <a:off x="5715000" y="4694400"/>
            <a:ext cx="3429000" cy="2163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0" y="0"/>
            <a:ext cx="91440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, формируемые у учащихся: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ланирование своей деятельности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существлять самоконтроль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ценивать свою работу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ыдвигать гипотезы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ходить и преобразовывать информацию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бобщать изученный материал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строение монологических высказываний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иводить аргументы, отстаивать свою точку зрения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Учатся ставить вопросы и четко формулировать ответ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Эффективное сотрудничество в групп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6400800" y="941400"/>
            <a:ext cx="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4920" y="81000"/>
            <a:ext cx="2743200" cy="2665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0" y="2165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57200" y="4118040"/>
            <a:ext cx="2819520" cy="2739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0" y="2174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6095880" y="84240"/>
            <a:ext cx="2743200" cy="2644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0" y="2174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2174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4"/>
          <a:stretch/>
        </p:blipFill>
        <p:spPr>
          <a:xfrm>
            <a:off x="6019920" y="4137120"/>
            <a:ext cx="2819160" cy="2720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4413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517680" y="3089160"/>
            <a:ext cx="832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0" y="2590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Рассмотрите  ситуации, которые изображены на иллюстрациях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Какие поступки противоречат морали и совести?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6400800" y="-1292400"/>
            <a:ext cx="36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7010640" cy="2843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0" y="103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00800" y="-1635120"/>
            <a:ext cx="36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28600" y="3801960"/>
            <a:ext cx="7010280" cy="3056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-1788480" y="3108240"/>
            <a:ext cx="12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Дайте оценку действиям «джентльменов» и «леди»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6:31:52Z</dcterms:created>
  <dc:creator>user</dc:creator>
  <dc:description/>
  <dc:language>en-US</dc:language>
  <cp:lastModifiedBy>Коля</cp:lastModifiedBy>
  <dcterms:modified xsi:type="dcterms:W3CDTF">2013-04-03T20:58:44Z</dcterms:modified>
  <cp:revision>9</cp:revision>
  <dc:subject/>
  <dc:title>Презентация PowerPoint</dc:title>
</cp:coreProperties>
</file>