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A4E-DE94-4217-A054-C29AA17D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F1E-D7A5-46BC-A87E-410C1CA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E81-CAD4-4967-96B4-8CEDEB98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DC2-5AC3-4566-A509-600C92E3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11E-5150-419E-8940-9CAD781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3E1-2812-41F5-AFA9-3684A9E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8D4-922A-4CA0-BE77-F480EB5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FE-D971-44AA-9D61-03743C2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479-5FE9-48C2-8183-C355AAF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207-CD76-472F-8A74-07AA56B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73A-75EA-4FE6-A538-6A10BF3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CDA-FB3B-49D2-94E5-B7DF4E0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EEB-27E4-49F6-A50A-5BEF6FD81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476280"/>
            <a:ext cx="806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72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Как дышат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аквариумные рыбки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851280" y="435780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Бронников Дан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1 «Б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гимназии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Дубовцева Е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G_2624"/>
          <p:cNvPicPr/>
          <p:nvPr/>
        </p:nvPicPr>
        <p:blipFill>
          <a:blip r:embed="rId1"/>
          <a:stretch/>
        </p:blipFill>
        <p:spPr>
          <a:xfrm>
            <a:off x="395280" y="3860640"/>
            <a:ext cx="3384720" cy="25387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pic>
        <p:nvPicPr>
          <p:cNvPr id="44" name="Picture 8" descr="FIL6994"/>
          <p:cNvPicPr/>
          <p:nvPr/>
        </p:nvPicPr>
        <p:blipFill>
          <a:blip r:embed="rId2"/>
          <a:stretch/>
        </p:blipFill>
        <p:spPr>
          <a:xfrm rot="19253400">
            <a:off x="7667280" y="403920"/>
            <a:ext cx="960480" cy="88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L6989"/>
          <p:cNvPicPr/>
          <p:nvPr/>
        </p:nvPicPr>
        <p:blipFill>
          <a:blip r:embed="rId3"/>
          <a:stretch/>
        </p:blipFill>
        <p:spPr>
          <a:xfrm>
            <a:off x="4500720" y="3789360"/>
            <a:ext cx="115884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L6275"/>
          <p:cNvPicPr/>
          <p:nvPr/>
        </p:nvPicPr>
        <p:blipFill>
          <a:blip r:embed="rId4"/>
          <a:stretch/>
        </p:blipFill>
        <p:spPr>
          <a:xfrm>
            <a:off x="324000" y="692280"/>
            <a:ext cx="1152360" cy="98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27640" y="1700280"/>
            <a:ext cx="42703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перестали принимать корм и стали двигаться медле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2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ниж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MG_3248"/>
          <p:cNvPicPr/>
          <p:nvPr/>
        </p:nvPicPr>
        <p:blipFill>
          <a:blip r:embed="rId1"/>
          <a:stretch/>
        </p:blipFill>
        <p:spPr>
          <a:xfrm>
            <a:off x="900000" y="1557360"/>
            <a:ext cx="3119400" cy="234000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3" name="Rectangle 6"/>
          <p:cNvSpPr/>
          <p:nvPr/>
        </p:nvSpPr>
        <p:spPr>
          <a:xfrm>
            <a:off x="46836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е приспособлены к резким скачкам температуры, это вызывает у них сильный стресс, они также могут простудить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280" y="2205000"/>
            <a:ext cx="3961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ачали подниматься ближе к поверхности воды и чаще дыш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3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500" spc="-1" strike="noStrike">
                <a:solidFill>
                  <a:srgbClr val="336600"/>
                </a:solidFill>
                <a:latin typeface="Arial"/>
              </a:rPr>
              <a:t>отключение фильтра для очищения и продувания вод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_2631"/>
          <p:cNvPicPr/>
          <p:nvPr/>
        </p:nvPicPr>
        <p:blipFill>
          <a:blip r:embed="rId1"/>
          <a:stretch/>
        </p:blipFill>
        <p:spPr>
          <a:xfrm>
            <a:off x="5076720" y="1989000"/>
            <a:ext cx="3313080" cy="24861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7" name="Rectangle 6"/>
          <p:cNvSpPr/>
          <p:nvPr/>
        </p:nvSpPr>
        <p:spPr>
          <a:xfrm>
            <a:off x="468360" y="4581360"/>
            <a:ext cx="82072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ынуждены были сплывать на поверхность, так как там кислорода значительно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569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оя гипотеза о том, что аквариумные рыбки дышат растворенным в воде кислородом подтверд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411280" y="3573360"/>
            <a:ext cx="64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зультаты моего исследования могут быть полезны всем любителям аквариумных ры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IL7011"/>
          <p:cNvPicPr/>
          <p:nvPr/>
        </p:nvPicPr>
        <p:blipFill>
          <a:blip r:embed="rId1"/>
          <a:stretch/>
        </p:blipFill>
        <p:spPr>
          <a:xfrm>
            <a:off x="971640" y="5157720"/>
            <a:ext cx="1296720" cy="12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IL7010"/>
          <p:cNvPicPr/>
          <p:nvPr/>
        </p:nvPicPr>
        <p:blipFill>
          <a:blip r:embed="rId2"/>
          <a:stretch/>
        </p:blipFill>
        <p:spPr>
          <a:xfrm>
            <a:off x="7596360" y="263700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IL7011"/>
          <p:cNvPicPr/>
          <p:nvPr/>
        </p:nvPicPr>
        <p:blipFill>
          <a:blip r:embed="rId3"/>
          <a:stretch/>
        </p:blipFill>
        <p:spPr>
          <a:xfrm>
            <a:off x="468360" y="3141720"/>
            <a:ext cx="718920" cy="698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IL7011"/>
          <p:cNvPicPr/>
          <p:nvPr/>
        </p:nvPicPr>
        <p:blipFill>
          <a:blip r:embed="rId4"/>
          <a:stretch/>
        </p:blipFill>
        <p:spPr>
          <a:xfrm>
            <a:off x="7740720" y="404640"/>
            <a:ext cx="574560" cy="55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IL7010"/>
          <p:cNvPicPr/>
          <p:nvPr/>
        </p:nvPicPr>
        <p:blipFill>
          <a:blip r:embed="rId5"/>
          <a:stretch/>
        </p:blipFill>
        <p:spPr>
          <a:xfrm>
            <a:off x="1116000" y="189000"/>
            <a:ext cx="719280" cy="65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L7001"/>
          <p:cNvPicPr/>
          <p:nvPr/>
        </p:nvPicPr>
        <p:blipFill>
          <a:blip r:embed="rId1"/>
          <a:stretch/>
        </p:blipFill>
        <p:spPr>
          <a:xfrm>
            <a:off x="6659640" y="3068640"/>
            <a:ext cx="2251080" cy="3440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24000" y="260280"/>
            <a:ext cx="655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Как ухаживать за аквариумными рыб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рмите рыбок один раз в день в одно и то ж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сыщайте воду кислородом в аквариуме с помощью специального филь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держивайте постоянный температурный режим в воде, резко не повышая и не понижая температуру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свещайте аквариум при помощи лампы дневного с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риодически чистите аквар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Пом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оздание оптимальных условий содержания аквариумных рыбок способствует предупреждению заболеваний у ни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900000" y="90792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84464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Задачи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литературу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органы дыхания у рыб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рассмотреть способы обогащения воды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в аквариуме кислородом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понаблюдать за поведением рыбок в    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домашнем аквариуме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выявить оптимальные условия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содержания аквариумных ры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189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– показать, как и чем дышат аквариумны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3008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аквариумные рыбки</a:t>
            </a:r>
            <a:br>
              <a:rPr sz="3500"/>
            </a:br>
            <a:br>
              <a:rPr sz="3500"/>
            </a:b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условия содержания аквариумных рыбо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Методы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сравн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наблюд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788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Гипотеза</a:t>
            </a: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 возможно, аквариумные рыбки дышат растворенным в воде кислоро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604"/>
          <p:cNvPicPr/>
          <p:nvPr/>
        </p:nvPicPr>
        <p:blipFill>
          <a:blip r:embed="rId1"/>
          <a:stretch/>
        </p:blipFill>
        <p:spPr>
          <a:xfrm>
            <a:off x="2627280" y="3645000"/>
            <a:ext cx="3564000" cy="26733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6480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Список литера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Аквариумные рыбки / сост. И. Г. Иерусалимский. – Ростов н/Д,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етская иллюстрированная энциклопедия / под ред. Е. Мирской. – М.,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льник, В. Р. Зоология для всех : рыбы / В. Р. Дольник, М. А. Козлов. – М., 19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у, Д. Рыбы / под ред. Е. Б. Аузан. – М.,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Марковская, М. М. Уголок природы в детском саду / М. М. Марковская. – М., 198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Энциклопедия для детей : домашние питомцы. – М.,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Рыбы дышат кислородом, растворенным в воде, для этого у них есть жаб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00360" cy="2711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179280" y="5229360"/>
            <a:ext cx="8785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Когда рыбы дышат, они «вдыхают» и «выдыхают» не воздух, как люди, а вод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27280" y="465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дыхания рыб - жаб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66"/>
                </a:solidFill>
                <a:latin typeface="Arial"/>
              </a:rPr>
              <a:t>Обогащение воды в аквариуме кислородо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987640" y="5084640"/>
            <a:ext cx="288144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свещение аквар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997360"/>
            <a:ext cx="30956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остоянный температурны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932360" y="2997360"/>
            <a:ext cx="36734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одувание воды специальными филь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2195640" y="1844640"/>
            <a:ext cx="201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356000" y="1844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500720" y="1844640"/>
            <a:ext cx="20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Мои наблю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652640"/>
            <a:ext cx="8373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и нормальных условиях в аквариуме рот и жаберные крышки рыбок то открываются, то закрываются, обеспечивая организм свежим водным раствором кислорода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_3254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28591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стали чаще открывать рот, проявлять 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 очень теплой воде страдают от недостатка кислорода, т.к. его содержание в нагревающейся воде постоянно падает, а потребность рыб в кислороде постоянно рас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1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выш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23:19Z</dcterms:created>
  <dc:creator>админчик</dc:creator>
  <dc:description/>
  <dc:language>en-US</dc:language>
  <cp:lastModifiedBy>AMD</cp:lastModifiedBy>
  <dcterms:modified xsi:type="dcterms:W3CDTF">2012-04-28T15:08:40Z</dcterms:modified>
  <cp:revision>15</cp:revision>
  <dc:subject/>
  <dc:title>Слайд 1</dc:title>
</cp:coreProperties>
</file>