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280D5-EB41-47BE-BC5C-C2C0319D6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E7C08-382D-4AB9-9188-6592E1A6E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E9F52-DB59-495F-B30F-8004F8661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8D438-CF10-4D8C-B98E-8D1D90ADC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54E52-378D-480F-89EF-3A44011DB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E4C6D-F05B-4A3B-A5AD-C8990B58E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28054-BF9A-4495-B187-465FF826D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10DD7-67E9-418C-9F85-B4D762580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4AD4D-F67E-4E81-B4A6-FF148F2FF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913F7-4BAD-475D-8449-01CB16923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9A46F-B5E4-44FD-B954-64810A5B0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DFC59-A8A0-4E6C-A11C-9D7255D61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5BE63-5FA4-4004-8057-5F402E1BB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B2003-79DD-49E5-95A5-B9AE15DF7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CF509-9B0D-446F-867C-4B42BDCAA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55393-1EFA-461C-91D3-0A26720EA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F2CE5-B287-4B35-917B-734B9ED9D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1DD8B-27D9-4A48-B801-055765291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44D78-FC30-4056-9261-74B8A6B13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BB12B-0364-45FC-9F95-88EF7C523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349A1-2F48-4588-9B43-D854DD784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17E35-53DA-4C65-B019-F3C395868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A42A4-5753-440A-BF93-443A1E091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91DB4-FDF0-4132-9BDD-90F5D7BD2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prstGeom prst="pi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53D45-0CC8-4075-827B-2DF5781562BE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prstGeom prst="pi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30322-81A3-4BDC-B08E-B30E6538551C}" type="slidenum">
              <a:rPr b="0" lang="ru-RU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7" descr="1081332"/>
          <p:cNvPicPr/>
          <p:nvPr/>
        </p:nvPicPr>
        <p:blipFill>
          <a:blip r:embed="rId1"/>
          <a:stretch/>
        </p:blipFill>
        <p:spPr>
          <a:xfrm>
            <a:off x="468360" y="404640"/>
            <a:ext cx="8207280" cy="61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cc"/>
                </a:solidFill>
                <a:latin typeface="Arial Black"/>
              </a:rPr>
              <a:t>хижина</a:t>
            </a:r>
            <a:endParaRPr b="0" lang="en-US" sz="6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30" name="Picture 4" descr="b0008d48293628f4a2f7c6db9e86287a_full"/>
          <p:cNvPicPr/>
          <p:nvPr/>
        </p:nvPicPr>
        <p:blipFill>
          <a:blip r:embed="rId1"/>
          <a:stretch/>
        </p:blipFill>
        <p:spPr>
          <a:xfrm>
            <a:off x="1042920" y="1413000"/>
            <a:ext cx="720108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6" descr="m08"/>
          <p:cNvPicPr/>
          <p:nvPr/>
        </p:nvPicPr>
        <p:blipFill>
          <a:blip r:embed="rId1"/>
          <a:stretch/>
        </p:blipFill>
        <p:spPr>
          <a:xfrm>
            <a:off x="611280" y="1413000"/>
            <a:ext cx="7993080" cy="519264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cc"/>
                </a:solidFill>
                <a:latin typeface="Arial Black"/>
              </a:rPr>
              <a:t>Японская хижина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4" descr="064Hataevicha_57_59"/>
          <p:cNvPicPr/>
          <p:nvPr/>
        </p:nvPicPr>
        <p:blipFill>
          <a:blip r:embed="rId1"/>
          <a:stretch/>
        </p:blipFill>
        <p:spPr>
          <a:xfrm>
            <a:off x="539640" y="260280"/>
            <a:ext cx="792000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57160" y="213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600" spc="-1" strike="noStrike">
                <a:solidFill>
                  <a:srgbClr val="ffff00"/>
                </a:solidFill>
                <a:latin typeface="Arial"/>
              </a:rPr>
              <a:t>История жилища</a:t>
            </a:r>
            <a:endParaRPr b="0" lang="en-US" sz="6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99680" y="5785920"/>
            <a:ext cx="8286840" cy="13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Verdana"/>
              </a:rPr>
              <a:t>Разработка воспитателя МКОУ СОШ пгт Арбаж дошкольного отделения Новокшоновой Лады Валерьевны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17" name="Picture 2" descr="F:\учитель года\Жилища\hod1.jpg"/>
          <p:cNvPicPr/>
          <p:nvPr/>
        </p:nvPicPr>
        <p:blipFill>
          <a:blip r:embed="rId1"/>
          <a:stretch/>
        </p:blipFill>
        <p:spPr>
          <a:xfrm>
            <a:off x="2357280" y="1357200"/>
            <a:ext cx="4970520" cy="42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cc"/>
                </a:solidFill>
                <a:latin typeface="Arial Black"/>
              </a:rPr>
              <a:t>шалаш</a:t>
            </a:r>
            <a:endParaRPr b="0" lang="en-US" sz="6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19" name="Picture 4" descr="hut"/>
          <p:cNvPicPr/>
          <p:nvPr/>
        </p:nvPicPr>
        <p:blipFill>
          <a:blip r:embed="rId1"/>
          <a:stretch/>
        </p:blipFill>
        <p:spPr>
          <a:xfrm>
            <a:off x="684360" y="1341360"/>
            <a:ext cx="7848360" cy="54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4" descr="photo1791"/>
          <p:cNvPicPr/>
          <p:nvPr/>
        </p:nvPicPr>
        <p:blipFill>
          <a:blip r:embed="rId1"/>
          <a:stretch/>
        </p:blipFill>
        <p:spPr>
          <a:xfrm>
            <a:off x="539640" y="1125360"/>
            <a:ext cx="8001000" cy="547236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cc"/>
                </a:solidFill>
                <a:latin typeface="Arial Black"/>
              </a:rPr>
              <a:t>пещера</a:t>
            </a:r>
            <a:endParaRPr b="0" lang="en-US" sz="6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4" descr="sablino2"/>
          <p:cNvPicPr/>
          <p:nvPr/>
        </p:nvPicPr>
        <p:blipFill>
          <a:blip r:embed="rId1"/>
          <a:stretch/>
        </p:blipFill>
        <p:spPr>
          <a:xfrm>
            <a:off x="395280" y="549360"/>
            <a:ext cx="8265960" cy="57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4" descr="img42209"/>
          <p:cNvPicPr/>
          <p:nvPr/>
        </p:nvPicPr>
        <p:blipFill>
          <a:blip r:embed="rId1"/>
          <a:stretch/>
        </p:blipFill>
        <p:spPr>
          <a:xfrm>
            <a:off x="250920" y="141120"/>
            <a:ext cx="8893080" cy="65278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тростниковые хижины (Куба)"/>
          <p:cNvPicPr/>
          <p:nvPr/>
        </p:nvPicPr>
        <p:blipFill>
          <a:blip r:embed="rId1"/>
          <a:stretch/>
        </p:blipFill>
        <p:spPr>
          <a:xfrm>
            <a:off x="755640" y="549360"/>
            <a:ext cx="7704000" cy="57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4" descr="russkaj_izba"/>
          <p:cNvPicPr/>
          <p:nvPr/>
        </p:nvPicPr>
        <p:blipFill>
          <a:blip r:embed="rId1"/>
          <a:stretch/>
        </p:blipFill>
        <p:spPr>
          <a:xfrm>
            <a:off x="684360" y="549360"/>
            <a:ext cx="778824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cc"/>
                </a:solidFill>
                <a:latin typeface="Arial Black"/>
              </a:rPr>
              <a:t>Ч у м</a:t>
            </a:r>
            <a:endParaRPr b="0" lang="en-US" sz="6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8" name="Picture 4" descr="0_cfb9_19027d71_XL"/>
          <p:cNvPicPr/>
          <p:nvPr/>
        </p:nvPicPr>
        <p:blipFill>
          <a:blip r:embed="rId1"/>
          <a:stretch/>
        </p:blipFill>
        <p:spPr>
          <a:xfrm>
            <a:off x="755640" y="1413000"/>
            <a:ext cx="7848720" cy="51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7T13:22:33Z</dcterms:created>
  <dc:creator>Serge</dc:creator>
  <dc:description/>
  <dc:language>en-US</dc:language>
  <cp:lastModifiedBy>Shustova O.B.</cp:lastModifiedBy>
  <dcterms:modified xsi:type="dcterms:W3CDTF">2012-03-12T05:17:41Z</dcterms:modified>
  <cp:revision>4</cp:revision>
  <dc:subject/>
  <dc:title>Слайд 1</dc:title>
</cp:coreProperties>
</file>