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18C8-0787-49BC-BB5F-EA569345B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35D6-5F03-43F4-85D4-29675132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D24F-8CCE-4303-B602-B9F049B58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7373-F6D6-4B03-A404-1B194709C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E3EF1-B8D6-4B75-A2B1-1B831E388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4BD3D-CF25-472D-9E08-547420E6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F136-ACF5-41FC-A288-77072BB4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69BD8-5B12-449B-9A96-604FA19A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4F1D-5834-4B71-B8B9-F08FE412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F973-6DCC-4A00-B3A1-7E2A0D0B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021D-A664-42B2-A516-56BDB2D9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DF82-0005-4F9C-8AFE-1EE54038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EBD0-AE15-42C2-83D7-A1345699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AE38-D956-4050-8BA6-ED06C9DD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3707-B303-478A-BFEB-93D7A053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6D3AA-A17E-4E67-87CA-6FA461035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503E-CB3A-459B-8943-B3AC5DDA4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328A-AE49-462F-9806-DE7A0C56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2C56-F85F-4729-88BC-185CD21A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03AF-731E-48F1-B292-6159F32D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B515-FA57-4FC2-8640-0ED7168C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C2E9-B4A2-476E-B4AF-91354D80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BA7F-C578-4CCA-AD1D-AACE3E32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489A-8AD4-4126-9D50-3D5799BB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6325-07AD-426B-AC93-15815325013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FA65-1DF6-42CA-86C3-EF958FE095C4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1081332"/>
          <p:cNvPicPr/>
          <p:nvPr/>
        </p:nvPicPr>
        <p:blipFill>
          <a:blip r:embed="rId1"/>
          <a:stretch/>
        </p:blipFill>
        <p:spPr>
          <a:xfrm>
            <a:off x="468360" y="404640"/>
            <a:ext cx="82072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Arial Black"/>
              </a:rPr>
              <a:t>хижина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0" name="Picture 4" descr="b0008d48293628f4a2f7c6db9e86287a_full"/>
          <p:cNvPicPr/>
          <p:nvPr/>
        </p:nvPicPr>
        <p:blipFill>
          <a:blip r:embed="rId1"/>
          <a:stretch/>
        </p:blipFill>
        <p:spPr>
          <a:xfrm>
            <a:off x="1042920" y="1413000"/>
            <a:ext cx="7201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m08"/>
          <p:cNvPicPr/>
          <p:nvPr/>
        </p:nvPicPr>
        <p:blipFill>
          <a:blip r:embed="rId1"/>
          <a:stretch/>
        </p:blipFill>
        <p:spPr>
          <a:xfrm>
            <a:off x="611280" y="1413000"/>
            <a:ext cx="7993080" cy="51926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Arial Black"/>
              </a:rPr>
              <a:t>Японская хижина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064Hataevicha_57_59"/>
          <p:cNvPicPr/>
          <p:nvPr/>
        </p:nvPicPr>
        <p:blipFill>
          <a:blip r:embed="rId1"/>
          <a:stretch/>
        </p:blipFill>
        <p:spPr>
          <a:xfrm>
            <a:off x="539640" y="260280"/>
            <a:ext cx="79200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00"/>
                </a:solidFill>
                <a:latin typeface="Arial"/>
              </a:rPr>
              <a:t>История жилища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99680" y="5785920"/>
            <a:ext cx="828684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Разработка воспитателя МКОУ СОШ пгт Арбаж дошкольного отделения Новокшоновой Лады Валерьевны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7" name="Picture 2" descr="F:\учитель года\Жилища\hod1.jpg"/>
          <p:cNvPicPr/>
          <p:nvPr/>
        </p:nvPicPr>
        <p:blipFill>
          <a:blip r:embed="rId1"/>
          <a:stretch/>
        </p:blipFill>
        <p:spPr>
          <a:xfrm>
            <a:off x="2357280" y="1357200"/>
            <a:ext cx="497052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Arial Black"/>
              </a:rPr>
              <a:t>шалаш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9" name="Picture 4" descr="hut"/>
          <p:cNvPicPr/>
          <p:nvPr/>
        </p:nvPicPr>
        <p:blipFill>
          <a:blip r:embed="rId1"/>
          <a:stretch/>
        </p:blipFill>
        <p:spPr>
          <a:xfrm>
            <a:off x="684360" y="1341360"/>
            <a:ext cx="78483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photo1791"/>
          <p:cNvPicPr/>
          <p:nvPr/>
        </p:nvPicPr>
        <p:blipFill>
          <a:blip r:embed="rId1"/>
          <a:stretch/>
        </p:blipFill>
        <p:spPr>
          <a:xfrm>
            <a:off x="539640" y="1125360"/>
            <a:ext cx="8001000" cy="54723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Arial Black"/>
              </a:rPr>
              <a:t>пещера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sablino2"/>
          <p:cNvPicPr/>
          <p:nvPr/>
        </p:nvPicPr>
        <p:blipFill>
          <a:blip r:embed="rId1"/>
          <a:stretch/>
        </p:blipFill>
        <p:spPr>
          <a:xfrm>
            <a:off x="395280" y="549360"/>
            <a:ext cx="826596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img42209"/>
          <p:cNvPicPr/>
          <p:nvPr/>
        </p:nvPicPr>
        <p:blipFill>
          <a:blip r:embed="rId1"/>
          <a:stretch/>
        </p:blipFill>
        <p:spPr>
          <a:xfrm>
            <a:off x="250920" y="141120"/>
            <a:ext cx="8893080" cy="6527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тростниковые хижины (Куба)"/>
          <p:cNvPicPr/>
          <p:nvPr/>
        </p:nvPicPr>
        <p:blipFill>
          <a:blip r:embed="rId1"/>
          <a:stretch/>
        </p:blipFill>
        <p:spPr>
          <a:xfrm>
            <a:off x="755640" y="549360"/>
            <a:ext cx="770400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russkaj_izba"/>
          <p:cNvPicPr/>
          <p:nvPr/>
        </p:nvPicPr>
        <p:blipFill>
          <a:blip r:embed="rId1"/>
          <a:stretch/>
        </p:blipFill>
        <p:spPr>
          <a:xfrm>
            <a:off x="684360" y="549360"/>
            <a:ext cx="77882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Arial Black"/>
              </a:rPr>
              <a:t>Ч у м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Picture 4" descr="0_cfb9_19027d71_XL"/>
          <p:cNvPicPr/>
          <p:nvPr/>
        </p:nvPicPr>
        <p:blipFill>
          <a:blip r:embed="rId1"/>
          <a:stretch/>
        </p:blipFill>
        <p:spPr>
          <a:xfrm>
            <a:off x="755640" y="1413000"/>
            <a:ext cx="784872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3:22:33Z</dcterms:created>
  <dc:creator>Serge</dc:creator>
  <dc:description/>
  <dc:language>en-US</dc:language>
  <cp:lastModifiedBy>Shustova O.B.</cp:lastModifiedBy>
  <dcterms:modified xsi:type="dcterms:W3CDTF">2012-03-12T05:17:41Z</dcterms:modified>
  <cp:revision>4</cp:revision>
  <dc:subject/>
  <dc:title>Слайд 1</dc:title>
</cp:coreProperties>
</file>