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1179-A870-47CD-B9BB-30CDEFE39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BDAD-6559-45BD-BBF3-E97D00BC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0DCA-00F0-4AD6-B468-DE745C8D6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0F4D-F8EF-4C30-A322-385003B35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8F4D-568C-42F6-9A98-EC8B92D05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6126-67B6-4087-B14E-E005328D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72AB-3BD9-4E40-82BA-A6BD3084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9731-4C24-4093-BA39-2C768403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BBB8A-0BA2-4B35-A0E5-18F9A237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C5F3C-84FA-44F4-983B-F1754907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134A-F1D0-4382-9A5C-F94E0052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6573-9BA4-4F84-9E10-1016C1D7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6A0D9-DB55-4BAC-9B30-7C400799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F7EF-54DC-4265-9C3D-5BA8F2EC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E6A03-97B1-4318-9B17-17EDF365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6255F-1669-4F46-8562-5D94CFC73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7A8C-10DC-416D-BE3E-9AF48A79B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DEBD-C817-4D05-A301-CDE494D7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421E-5312-48A3-BCAA-874A8272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3F80-544C-462E-B2DA-85FE6DAF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995B-2A13-4DCE-907D-6869C843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E592-333D-43A7-AC13-17022841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0675-144D-42E3-B5C3-B95E1475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44B5-09E0-4436-B0B6-2F7817EC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D31B-915B-4192-8B1F-074CA909D54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8D3C-77EB-4A5D-B271-7B58D1D37105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1081332"/>
          <p:cNvPicPr/>
          <p:nvPr/>
        </p:nvPicPr>
        <p:blipFill>
          <a:blip r:embed="rId1"/>
          <a:stretch/>
        </p:blipFill>
        <p:spPr>
          <a:xfrm>
            <a:off x="468360" y="404640"/>
            <a:ext cx="82072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Arial Black"/>
              </a:rPr>
              <a:t>хижина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0" name="Picture 4" descr="b0008d48293628f4a2f7c6db9e86287a_full"/>
          <p:cNvPicPr/>
          <p:nvPr/>
        </p:nvPicPr>
        <p:blipFill>
          <a:blip r:embed="rId1"/>
          <a:stretch/>
        </p:blipFill>
        <p:spPr>
          <a:xfrm>
            <a:off x="1042920" y="1413000"/>
            <a:ext cx="7201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m08"/>
          <p:cNvPicPr/>
          <p:nvPr/>
        </p:nvPicPr>
        <p:blipFill>
          <a:blip r:embed="rId1"/>
          <a:stretch/>
        </p:blipFill>
        <p:spPr>
          <a:xfrm>
            <a:off x="611280" y="1413000"/>
            <a:ext cx="7993080" cy="51926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Arial Black"/>
              </a:rPr>
              <a:t>Японская хижина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064Hataevicha_57_59"/>
          <p:cNvPicPr/>
          <p:nvPr/>
        </p:nvPicPr>
        <p:blipFill>
          <a:blip r:embed="rId1"/>
          <a:stretch/>
        </p:blipFill>
        <p:spPr>
          <a:xfrm>
            <a:off x="539640" y="260280"/>
            <a:ext cx="79200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00"/>
                </a:solidFill>
                <a:latin typeface="Arial"/>
              </a:rPr>
              <a:t>История жилища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99680" y="5785920"/>
            <a:ext cx="828684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Разработка воспитателя МКОУ СОШ пгт Арбаж дошкольного отделения Новокшоновой Лады Валерьевны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7" name="Picture 2" descr="F:\учитель года\Жилища\hod1.jpg"/>
          <p:cNvPicPr/>
          <p:nvPr/>
        </p:nvPicPr>
        <p:blipFill>
          <a:blip r:embed="rId1"/>
          <a:stretch/>
        </p:blipFill>
        <p:spPr>
          <a:xfrm>
            <a:off x="2357280" y="1357200"/>
            <a:ext cx="497052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Arial Black"/>
              </a:rPr>
              <a:t>шалаш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9" name="Picture 4" descr="hut"/>
          <p:cNvPicPr/>
          <p:nvPr/>
        </p:nvPicPr>
        <p:blipFill>
          <a:blip r:embed="rId1"/>
          <a:stretch/>
        </p:blipFill>
        <p:spPr>
          <a:xfrm>
            <a:off x="684360" y="1341360"/>
            <a:ext cx="78483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photo1791"/>
          <p:cNvPicPr/>
          <p:nvPr/>
        </p:nvPicPr>
        <p:blipFill>
          <a:blip r:embed="rId1"/>
          <a:stretch/>
        </p:blipFill>
        <p:spPr>
          <a:xfrm>
            <a:off x="539640" y="1125360"/>
            <a:ext cx="8001000" cy="54723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Arial Black"/>
              </a:rPr>
              <a:t>пещера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sablino2"/>
          <p:cNvPicPr/>
          <p:nvPr/>
        </p:nvPicPr>
        <p:blipFill>
          <a:blip r:embed="rId1"/>
          <a:stretch/>
        </p:blipFill>
        <p:spPr>
          <a:xfrm>
            <a:off x="395280" y="549360"/>
            <a:ext cx="826596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img42209"/>
          <p:cNvPicPr/>
          <p:nvPr/>
        </p:nvPicPr>
        <p:blipFill>
          <a:blip r:embed="rId1"/>
          <a:stretch/>
        </p:blipFill>
        <p:spPr>
          <a:xfrm>
            <a:off x="250920" y="141120"/>
            <a:ext cx="8893080" cy="6527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тростниковые хижины (Куба)"/>
          <p:cNvPicPr/>
          <p:nvPr/>
        </p:nvPicPr>
        <p:blipFill>
          <a:blip r:embed="rId1"/>
          <a:stretch/>
        </p:blipFill>
        <p:spPr>
          <a:xfrm>
            <a:off x="755640" y="549360"/>
            <a:ext cx="770400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russkaj_izba"/>
          <p:cNvPicPr/>
          <p:nvPr/>
        </p:nvPicPr>
        <p:blipFill>
          <a:blip r:embed="rId1"/>
          <a:stretch/>
        </p:blipFill>
        <p:spPr>
          <a:xfrm>
            <a:off x="684360" y="549360"/>
            <a:ext cx="77882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Arial Black"/>
              </a:rPr>
              <a:t>Ч у м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Picture 4" descr="0_cfb9_19027d71_XL"/>
          <p:cNvPicPr/>
          <p:nvPr/>
        </p:nvPicPr>
        <p:blipFill>
          <a:blip r:embed="rId1"/>
          <a:stretch/>
        </p:blipFill>
        <p:spPr>
          <a:xfrm>
            <a:off x="755640" y="1413000"/>
            <a:ext cx="784872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3:22:33Z</dcterms:created>
  <dc:creator>Serge</dc:creator>
  <dc:description/>
  <dc:language>en-US</dc:language>
  <cp:lastModifiedBy>Shustova O.B.</cp:lastModifiedBy>
  <dcterms:modified xsi:type="dcterms:W3CDTF">2012-03-12T05:17:41Z</dcterms:modified>
  <cp:revision>4</cp:revision>
  <dc:subject/>
  <dc:title>Слайд 1</dc:title>
</cp:coreProperties>
</file>