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3201-84A7-4355-8441-6D9B88AC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B674-7373-4112-92A3-EA479BFF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9BA3-8E30-4E6F-B098-CB191174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C0CD-C7F6-4377-A6B1-B840D75A1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7CBF-2BE3-46BF-B5BB-792C5AC1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417E-BD3F-45A2-9139-96AE77C8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F6D6-6350-402E-AFE3-336135B6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075D-2D89-41E4-8CAB-505383C6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B7A2-20A2-4198-AFBA-A01C4FD8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123F-2B37-43EC-A4CB-8CBB2D0D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A977-38C6-4979-B0C2-D3B83AC2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9DB1-9684-4830-910A-660E3D0D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F56D-CB94-4EC3-82CD-421F341FB88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0" y="142920"/>
            <a:ext cx="9472680" cy="1949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3006000" y="5565600"/>
            <a:ext cx="4685760" cy="131364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Автор: преподаватель-организатор ОБ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Киикской СО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Кахадзе М.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2" descr="D:\КОПИЯ ФЛЕШКИ (папка ОБЖ)\ОБЖ\стрелковое оружие Российской армии\стрелковое оружие Российской армии\Гранатометы\ags17-автоматический гранатомет.jpg"/>
          <p:cNvPicPr/>
          <p:nvPr/>
        </p:nvPicPr>
        <p:blipFill>
          <a:blip r:embed="rId2"/>
          <a:stretch/>
        </p:blipFill>
        <p:spPr>
          <a:xfrm>
            <a:off x="2928960" y="2214720"/>
            <a:ext cx="45115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КОПИЯ ФЛЕШКИ (папка ОБЖ)\ОБЖ\стрелковое оружие Российской армии\стрелковое оружие Российской армии\Гранатометы\ags17-автоматический гранатомет.jpg"/>
          <p:cNvPicPr/>
          <p:nvPr/>
        </p:nvPicPr>
        <p:blipFill>
          <a:blip r:embed="rId1"/>
          <a:stretch/>
        </p:blipFill>
        <p:spPr>
          <a:xfrm>
            <a:off x="1071720" y="1785960"/>
            <a:ext cx="6929280" cy="482760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714240" y="285840"/>
            <a:ext cx="7858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Автоматический гранатоме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АГС1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КОПИЯ ФЛЕШКИ (папка ОБЖ)\ОБЖ\стрелковое оружие Российской армии\стрелковое оружие Российской армии\Гранатометы\gm94-1.jpg"/>
          <p:cNvPicPr/>
          <p:nvPr/>
        </p:nvPicPr>
        <p:blipFill>
          <a:blip r:embed="rId1"/>
          <a:stretch/>
        </p:blipFill>
        <p:spPr>
          <a:xfrm>
            <a:off x="285840" y="2643120"/>
            <a:ext cx="8526240" cy="264312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1857240" y="285840"/>
            <a:ext cx="55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2060"/>
                </a:solidFill>
                <a:latin typeface="Calibri"/>
              </a:rPr>
              <a:t>ГМ94-1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КОПИЯ ФЛЕШКИ (папка ОБЖ)\ОБЖ\стрелковое оружие Российской армии\стрелковое оружие Российской армии\Гранатометы\rpg-16.jpg"/>
          <p:cNvPicPr/>
          <p:nvPr/>
        </p:nvPicPr>
        <p:blipFill>
          <a:blip r:embed="rId1"/>
          <a:stretch/>
        </p:blipFill>
        <p:spPr>
          <a:xfrm>
            <a:off x="571680" y="2143080"/>
            <a:ext cx="8108640" cy="378144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1071720" y="357120"/>
            <a:ext cx="635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Calibri"/>
              </a:rPr>
              <a:t>ГР-16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КОПИЯ ФЛЕШКИ (папка ОБЖ)\ОБЖ\стрелковое оружие Российской армии\стрелковое оружие Российской армии\Гранатометы\rpg-29.jpg"/>
          <p:cNvPicPr/>
          <p:nvPr/>
        </p:nvPicPr>
        <p:blipFill>
          <a:blip r:embed="rId1"/>
          <a:stretch/>
        </p:blipFill>
        <p:spPr>
          <a:xfrm>
            <a:off x="557280" y="2357280"/>
            <a:ext cx="8165880" cy="328644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071800" y="35712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Calibri"/>
              </a:rPr>
              <a:t>ГР-29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КОПИЯ ФЛЕШКИ (папка ОБЖ)\ОБЖ\стрелковое оружие Российской армии\стрелковое оружие Российской армии\Гранатометы\подствольный гранатомет ГП-25.jpg"/>
          <p:cNvPicPr/>
          <p:nvPr/>
        </p:nvPicPr>
        <p:blipFill>
          <a:blip r:embed="rId1"/>
          <a:stretch/>
        </p:blipFill>
        <p:spPr>
          <a:xfrm>
            <a:off x="357120" y="3000240"/>
            <a:ext cx="8302680" cy="278604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714240" y="500040"/>
            <a:ext cx="771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alibri"/>
              </a:rPr>
              <a:t>Подстволоьный гранатоме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alibri"/>
              </a:rPr>
              <a:t>ГП-2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КОПИЯ ФЛЕШКИ (папка ОБЖ)\ОБЖ\стрелковое оружие Российской армии\стрелковое оружие Российской армии\Гранатометы\Противотанковый гранатомет РПГ-2 СССР.jpg"/>
          <p:cNvPicPr/>
          <p:nvPr/>
        </p:nvPicPr>
        <p:blipFill>
          <a:blip r:embed="rId1"/>
          <a:stretch/>
        </p:blipFill>
        <p:spPr>
          <a:xfrm>
            <a:off x="338040" y="2857680"/>
            <a:ext cx="8406000" cy="314316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857160" y="357120"/>
            <a:ext cx="7286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Calibri"/>
              </a:rPr>
              <a:t>Противотанковый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Calibri"/>
              </a:rPr>
              <a:t>гранатомет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:\КОПИЯ ФЛЕШКИ (папка ОБЖ)\ОБЖ\стрелковое оружие Российской армии\стрелковое оружие Российской армии\Гранатометы\Реактивный противотанковый гранатомет РПГ-7.jpg"/>
          <p:cNvPicPr/>
          <p:nvPr/>
        </p:nvPicPr>
        <p:blipFill>
          <a:blip r:embed="rId1"/>
          <a:stretch/>
        </p:blipFill>
        <p:spPr>
          <a:xfrm>
            <a:off x="571680" y="2611440"/>
            <a:ext cx="8001000" cy="343692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357120" y="357120"/>
            <a:ext cx="842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Реактивный противотанковы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гранатомет РПГ-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:\КОПИЯ ФЛЕШКИ (папка ОБЖ)\ОБЖ\стрелковое оружие Российской армии\стрелковое оружие Российской армии\Гранатометы\Реактивный противотанковый гранатомет РПГ-16.jpg"/>
          <p:cNvPicPr/>
          <p:nvPr/>
        </p:nvPicPr>
        <p:blipFill>
          <a:blip r:embed="rId1"/>
          <a:stretch/>
        </p:blipFill>
        <p:spPr>
          <a:xfrm>
            <a:off x="642960" y="2428920"/>
            <a:ext cx="7915320" cy="369072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642960" y="285840"/>
            <a:ext cx="792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Реактивный противотанковы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Гранатомет РПГ-1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4:24:53Z</dcterms:created>
  <dc:creator>FS</dc:creator>
  <dc:description/>
  <dc:language>en-US</dc:language>
  <cp:lastModifiedBy>Николай</cp:lastModifiedBy>
  <dcterms:modified xsi:type="dcterms:W3CDTF">2013-04-27T08:17:21Z</dcterms:modified>
  <cp:revision>9</cp:revision>
  <dc:subject/>
  <dc:title>Слайд 1</dc:title>
</cp:coreProperties>
</file>