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867-9BBD-43AE-93AA-2483CBE7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79A-ABBE-4978-8B12-9DB36DB8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05C-92D3-4750-8DF6-A4C35489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B0B-1580-4C81-A2BB-B862AD1D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A72-FC29-4D5B-815A-E108ED14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EDD-7ABE-4423-9F76-1E82ADB6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86A-9967-4C8A-BD11-0397C61E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93B-5123-4CEB-8218-F65B7C25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2677-0BF1-4A45-BC96-142D5D39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7D2-DFE5-411E-AF29-6572BC4D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D80A-7378-4FAF-9348-2AC952EB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6AA-6006-4BE8-AABE-EE9850A0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94D3-4FCA-491C-A0B6-68E0AC946FF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0" y="142920"/>
            <a:ext cx="9472680" cy="194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006000" y="5565600"/>
            <a:ext cx="4685760" cy="13136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Автор: преподаватель-организатор ОБ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Киикской СО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Кахадзе М.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" descr="D:\КОПИЯ ФЛЕШКИ (папка ОБЖ)\ОБЖ\стрелковое оружие Российской армии\стрелковое оружие Российской армии\Гранатометы\ags17-автоматический гранатомет.jpg"/>
          <p:cNvPicPr/>
          <p:nvPr/>
        </p:nvPicPr>
        <p:blipFill>
          <a:blip r:embed="rId2"/>
          <a:stretch/>
        </p:blipFill>
        <p:spPr>
          <a:xfrm>
            <a:off x="2928960" y="2214720"/>
            <a:ext cx="4511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КОПИЯ ФЛЕШКИ (папка ОБЖ)\ОБЖ\стрелковое оружие Российской армии\стрелковое оружие Российской армии\Гранатометы\ags17-автоматический гранатомет.jpg"/>
          <p:cNvPicPr/>
          <p:nvPr/>
        </p:nvPicPr>
        <p:blipFill>
          <a:blip r:embed="rId1"/>
          <a:stretch/>
        </p:blipFill>
        <p:spPr>
          <a:xfrm>
            <a:off x="1071720" y="1785960"/>
            <a:ext cx="6929280" cy="4827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4240" y="285840"/>
            <a:ext cx="785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Автоматический гранатом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АГС1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КОПИЯ ФЛЕШКИ (папка ОБЖ)\ОБЖ\стрелковое оружие Российской армии\стрелковое оружие Российской армии\Гранатометы\gm94-1.jpg"/>
          <p:cNvPicPr/>
          <p:nvPr/>
        </p:nvPicPr>
        <p:blipFill>
          <a:blip r:embed="rId1"/>
          <a:stretch/>
        </p:blipFill>
        <p:spPr>
          <a:xfrm>
            <a:off x="285840" y="2643120"/>
            <a:ext cx="8526240" cy="2643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857240" y="285840"/>
            <a:ext cx="55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Calibri"/>
              </a:rPr>
              <a:t>ГМ94-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КОПИЯ ФЛЕШКИ (папка ОБЖ)\ОБЖ\стрелковое оружие Российской армии\стрелковое оружие Российской армии\Гранатометы\rpg-16.jpg"/>
          <p:cNvPicPr/>
          <p:nvPr/>
        </p:nvPicPr>
        <p:blipFill>
          <a:blip r:embed="rId1"/>
          <a:stretch/>
        </p:blipFill>
        <p:spPr>
          <a:xfrm>
            <a:off x="571680" y="2143080"/>
            <a:ext cx="8108640" cy="3781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071720" y="357120"/>
            <a:ext cx="635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Calibri"/>
              </a:rPr>
              <a:t>ГР-1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КОПИЯ ФЛЕШКИ (папка ОБЖ)\ОБЖ\стрелковое оружие Российской армии\стрелковое оружие Российской армии\Гранатометы\rpg-29.jpg"/>
          <p:cNvPicPr/>
          <p:nvPr/>
        </p:nvPicPr>
        <p:blipFill>
          <a:blip r:embed="rId1"/>
          <a:stretch/>
        </p:blipFill>
        <p:spPr>
          <a:xfrm>
            <a:off x="557280" y="2357280"/>
            <a:ext cx="8165880" cy="3286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071800" y="3571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Calibri"/>
              </a:rPr>
              <a:t>ГР-29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КОПИЯ ФЛЕШКИ (папка ОБЖ)\ОБЖ\стрелковое оружие Российской армии\стрелковое оружие Российской армии\Гранатометы\подствольный гранатомет ГП-25.jpg"/>
          <p:cNvPicPr/>
          <p:nvPr/>
        </p:nvPicPr>
        <p:blipFill>
          <a:blip r:embed="rId1"/>
          <a:stretch/>
        </p:blipFill>
        <p:spPr>
          <a:xfrm>
            <a:off x="357120" y="3000240"/>
            <a:ext cx="8302680" cy="27860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714240" y="500040"/>
            <a:ext cx="771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Подстволоьный гранатом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ГП-2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КОПИЯ ФЛЕШКИ (папка ОБЖ)\ОБЖ\стрелковое оружие Российской армии\стрелковое оружие Российской армии\Гранатометы\Противотанковый гранатомет РПГ-2 СССР.jpg"/>
          <p:cNvPicPr/>
          <p:nvPr/>
        </p:nvPicPr>
        <p:blipFill>
          <a:blip r:embed="rId1"/>
          <a:stretch/>
        </p:blipFill>
        <p:spPr>
          <a:xfrm>
            <a:off x="338040" y="2857680"/>
            <a:ext cx="8406000" cy="3143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857160" y="357120"/>
            <a:ext cx="7286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Противотанковы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гранатомет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КОПИЯ ФЛЕШКИ (папка ОБЖ)\ОБЖ\стрелковое оружие Российской армии\стрелковое оружие Российской армии\Гранатометы\Реактивный противотанковый гранатомет РПГ-7.jpg"/>
          <p:cNvPicPr/>
          <p:nvPr/>
        </p:nvPicPr>
        <p:blipFill>
          <a:blip r:embed="rId1"/>
          <a:stretch/>
        </p:blipFill>
        <p:spPr>
          <a:xfrm>
            <a:off x="571680" y="2611440"/>
            <a:ext cx="8001000" cy="3436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357120" y="35712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Реактивный противотанков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гранатомет РПГ-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КОПИЯ ФЛЕШКИ (папка ОБЖ)\ОБЖ\стрелковое оружие Российской армии\стрелковое оружие Российской армии\Гранатометы\Реактивный противотанковый гранатомет РПГ-16.jpg"/>
          <p:cNvPicPr/>
          <p:nvPr/>
        </p:nvPicPr>
        <p:blipFill>
          <a:blip r:embed="rId1"/>
          <a:stretch/>
        </p:blipFill>
        <p:spPr>
          <a:xfrm>
            <a:off x="642960" y="2428920"/>
            <a:ext cx="7915320" cy="3690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642960" y="28584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еактивный противотанков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Гранатомет РПГ-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4:24:53Z</dcterms:created>
  <dc:creator>FS</dc:creator>
  <dc:description/>
  <dc:language>en-US</dc:language>
  <cp:lastModifiedBy>Николай</cp:lastModifiedBy>
  <dcterms:modified xsi:type="dcterms:W3CDTF">2013-04-27T08:17:21Z</dcterms:modified>
  <cp:revision>9</cp:revision>
  <dc:subject/>
  <dc:title>Слайд 1</dc:title>
</cp:coreProperties>
</file>