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945D-4866-4A6E-B795-7B83193C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E077-AFDF-401C-8014-1E84962F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EA14A-A135-4817-AD34-9102DDF7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67812-9B0F-40AD-9CA9-123221B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53194-3A89-4994-B406-7AAD40E8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CC421-0566-4257-80A8-8E1D0B2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13280-25C1-401B-8E12-D077D35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483D5-DF34-4902-B411-3E0C495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D6DF-76E2-4D8A-840B-84FA330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165F-A11E-428C-B8C5-D24D5A15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3BBE8-D22F-4DAF-BE44-B7524932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071A-98F5-4E48-9EDF-AC1F8BB9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A931-0D56-476F-A943-96DD940A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F43C-94EB-41E6-9853-054701DC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A005-D06D-4F52-ABAB-7FF964C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641D-B260-4520-821D-8B22723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1FAA-0283-4386-907B-DD945FE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05D-353E-4814-8807-C0879A78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5437-E598-4383-A800-28EF835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216-8F05-412B-8E75-509767F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017F-AC7E-48C0-98F8-86D5E76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0582-FCCD-4ED7-A011-75A222C6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B820-BEE4-4E75-AEC3-FDAE26B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8AE-84BD-4A20-A0EB-CB5ACF02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6DC-1939-40D7-9D7F-B5699F10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C617-D90D-48CE-B9AC-3BFAADDF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ECCD-1AF6-4AB5-94A7-56DAFB57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0D21-0DA3-44BA-8557-A98DE08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32AF-9A88-43E8-BF5E-9B5DC9F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F1E4-E828-4B3D-BFEE-8D3354D9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8528-4C8D-4594-81C6-9E9431A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FBDE-5F17-4611-88C8-6CA0E2E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2A70-CF46-4458-A4C8-8263028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87A3-FC2B-4507-A349-7371C2D3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63A4-5D0F-4F20-B760-C3FBD7B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008D-3D97-4941-9103-EA70973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CC37-08FF-4F03-B802-07C4847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A563-168E-4AFC-93B6-B3018639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D1C7-5D69-4886-BD29-28A8C5D2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E11E-3DE6-4384-B4BA-ED921C52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B6B5-B094-437E-94B8-6A7A6F82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583B-4F2F-4256-8CD9-19E8B8F9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811C-3CA9-4310-A31C-EDFEEC7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1BD47-68DC-4056-8D93-865FAC0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3E37-B36E-4137-AA5B-09BE254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A57C-8F7E-4866-916E-7F86D74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C737-471F-430E-B01E-108DF6A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8EA7-9612-4EDF-B2CD-3D85AE59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3149-141A-4DB7-AA1F-EB7D734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0F47-9736-4D34-B858-AA0312CF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DCC9-A825-466F-B4C6-B6A2D7B7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5DB5-9026-4BE3-9262-E0540B60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9E85-247F-46A8-A49D-4035C942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1996-0409-4E63-AC73-3387C275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0BD7-5087-4CE9-A6A4-FB39F575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5C20-5B0C-47F3-88C0-57715FE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E212-6745-4664-91F1-7A54E84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1CEE7-3D3E-43DF-9DD4-7054973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6D11-B8C2-4B44-BED8-463F7BB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106C-1CCF-49BD-943D-19069FA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7F79-625B-47D4-AA7F-1F4F00C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06F18-F090-473D-AF9B-CA529F7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9C9C-1AAA-467A-BC7D-0906624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C887-A2A2-4D78-845C-644F47A5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E2D1-2361-4E28-BA71-95991BD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A669-7F06-490C-A041-D02BD442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6DA4-C4F6-4068-83AD-F510BB26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D9C0-7D71-4AAB-BF8B-D371D7DC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3234C-FE5E-4448-B843-EAD56C3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9F3D-5990-4C3F-AF86-0C9F120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1CD7-1402-426D-A5A2-CD118FF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2605-5912-4921-BC73-98BB286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606A7-4A12-49F3-B0C8-C6067151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D01F-0C2D-42BB-9A9B-E52A681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4FA6-5031-458F-BC84-9746F9A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15F-713C-412A-8A73-E2D3EC9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5196-BC7E-49AB-8621-B807719B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200F-95CD-44C9-8F10-9791D523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F983-A9CD-40E9-B98C-374EEFC8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C5A69-6F63-4B6A-B53A-A8D1CD9B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5746-E44B-4CD5-835D-6DB30730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DD13-C8B1-4C8B-BFF1-FACFA8C8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554E-A1F5-48E7-A72A-DAA4A69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3E06-FB23-463F-8C95-3B3E444A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6CEC5-1DBF-4CDF-8FA3-A65B1E7E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87D17-D2F0-4003-8F13-B365786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7A16-A3B2-49BB-8CAB-ED925A78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0DB7-C3AF-4B36-8FEB-A4ECF6C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FCE2B-6425-4268-A18D-E761182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91EC-4B37-4E3F-B71D-A824D7E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6BE1-6B2D-40C5-BE17-1F6FE44D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EF59-5A5D-463E-BEE8-CD5E04A0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7934-EC7A-4218-95D9-B3310B9B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12FE-0C29-4FB8-A9E0-5E9EBE13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73C3-4F13-454A-A556-E7889BC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F768E-BB64-41F5-A711-6EAFFF07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6F505-D4E0-433D-89D3-6A2402A7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5FC2-9610-4591-A00E-5B2E838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934E7-BC2E-4289-AA27-E575E31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CC06-C8F6-4AF3-A8DC-7EFB99F3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DC763-22CB-4DDF-BCF4-E6356381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21BCB-2890-4C6F-BE5E-72E5F7B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29DE-A818-4420-83A3-9CADFBD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A1E7-971D-485A-86A9-D1722A02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AB23-268D-471C-BC32-BC1B2B92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D6A39-E9B6-4809-8590-0361FC0E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ED3A6-EAFA-422C-8404-76E3A32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19ED-A996-40DC-8E9E-A0A6FE1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874-70D6-49D1-87EB-82B52145C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A9FA-F58A-466F-9404-CA25CAC71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5C49-16A8-49CD-B9C7-A609AAD71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6718-74AC-4525-B4BB-301516F493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0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6F3B-50A7-4590-90D5-9E2517463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605-839B-4995-A7B1-3B28B59BC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D488-F2E2-4395-AA58-6473BA0BA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917-B0AD-4ED6-8032-6578D77945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1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B413-75D3-45A0-A407-2557A7BD61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7"/>
          <p:cNvSpPr/>
          <p:nvPr/>
        </p:nvSpPr>
        <p:spPr>
          <a:xfrm>
            <a:off x="457200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900000" y="227664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42"/>
          <p:cNvSpPr/>
          <p:nvPr/>
        </p:nvSpPr>
        <p:spPr>
          <a:xfrm>
            <a:off x="2916360" y="450864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льянинова Наталья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натольевн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Учитель математики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МОУ СОШ № 9 с.Подлужног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Изобильненского  района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WordArt 47"/>
          <p:cNvSpPr txBox="1"/>
          <p:nvPr/>
        </p:nvSpPr>
        <p:spPr>
          <a:xfrm>
            <a:off x="250920" y="1125360"/>
            <a:ext cx="820872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длина окружно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1979640" y="692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рок математики в 6 классе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1403280" y="189000"/>
            <a:ext cx="67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379f"/>
                </a:solidFill>
                <a:latin typeface="Impact"/>
              </a:rPr>
              <a:t>Найди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379f"/>
              </a:solidFill>
              <a:latin typeface="Impact"/>
              <a:ea typeface="Impact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116000" y="1098720"/>
            <a:ext cx="77533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=5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,4 см               б) 32,6 см              в) 31,8 с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 =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0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8 м                     б) 314 м                 в) 341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Ученики организовали соревнования п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игурному катанию на велосипеде. В этих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ревнованиях нужно было проехать п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кружности радиусом 3 м. Какое расстояние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ехали велосипедисты в этом виде фигурног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тания?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70 м                      б) 85 м                     в) 75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ПРОВЕРЬ СЕБЯ 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1. а)                       2. б)                      3. в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755640" y="1367280"/>
            <a:ext cx="7920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урока раскрывает одну из  важных тем математики 6 класса «Длина окружности»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считана на школьников 11-12 лет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будет использована при объяснении нового материала, поэтому от учащихся на данном уроке знаний компьютера не требует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крывает способности школьников проводить собственные исследования и делать выводы, знакомит учащихся с историческим материалом, с разными нестандартными способами запоминания учебного материала, развивает познавательный интерес учащих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ная презентация прививает учащимся навык самостоятельности в работе, учит трудолюбию, аккуратности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тодика личностно-ориентированного обучения, а также групповой метод работы прослеживается в ходе выполнения практической работы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ние ИКТ на данном уроке эффективно: четко выстраивается логика и последовательность изучения материала, выделяется главная мысль каждого блока, повышается интерес к математике через зрительное восприятие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урсе математики использование ИКТ целесообразно на разных этапах урока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WordArt 6"/>
          <p:cNvSpPr txBox="1"/>
          <p:nvPr/>
        </p:nvSpPr>
        <p:spPr>
          <a:xfrm>
            <a:off x="1258920" y="189000"/>
            <a:ext cx="684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ннот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5400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d379f"/>
                </a:solidFill>
                <a:latin typeface="Arial Black"/>
              </a:rPr>
              <a:t>Устный опрос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32,829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                   11,2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,8 см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          9см        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8; 6,1; 7,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00720" y="177300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83,735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6 см                    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                             7,4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,3; 6,5; 6,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 rot="11956800">
            <a:off x="971280" y="4149000"/>
            <a:ext cx="2439720" cy="593640"/>
          </a:xfrm>
          <a:prstGeom prst="triangle">
            <a:avLst>
              <a:gd name="adj" fmla="val 50000"/>
            </a:avLst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8"/>
          <p:cNvSpPr/>
          <p:nvPr/>
        </p:nvSpPr>
        <p:spPr>
          <a:xfrm rot="17738400">
            <a:off x="6134760" y="3112200"/>
            <a:ext cx="1233360" cy="1546200"/>
          </a:xfrm>
          <a:prstGeom prst="rtTriangle">
            <a:avLst/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7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34"/>
          <p:cNvSpPr/>
          <p:nvPr/>
        </p:nvSpPr>
        <p:spPr>
          <a:xfrm>
            <a:off x="4356000" y="1341360"/>
            <a:ext cx="4788000" cy="3382920"/>
          </a:xfrm>
          <a:prstGeom prst="cloudCallout">
            <a:avLst>
              <a:gd name="adj1" fmla="val 28115"/>
              <a:gd name="adj2" fmla="val 60231"/>
            </a:avLst>
          </a:prstGeom>
          <a:solidFill>
            <a:srgbClr val="ffff00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26"/>
          <p:cNvSpPr/>
          <p:nvPr/>
        </p:nvSpPr>
        <p:spPr>
          <a:xfrm>
            <a:off x="0" y="1268280"/>
            <a:ext cx="4861080" cy="3888000"/>
          </a:xfrm>
          <a:prstGeom prst="cloudCallout">
            <a:avLst>
              <a:gd name="adj1" fmla="val -34717"/>
              <a:gd name="adj2" fmla="val 66662"/>
            </a:avLst>
          </a:prstGeom>
          <a:solidFill>
            <a:srgbClr val="0000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39225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уроке необычные гости. Давайте поинтересуемся,       как они здесь появились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435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к появились? Эх, ступа повредилась.  Пришлось к   лешему в ремонт тащить. Починил, лохматый. Только сдается мне, скорость у нее не та стала. Как бы проверит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8" descr="баба Яга 3"/>
          <p:cNvPicPr/>
          <p:nvPr/>
        </p:nvPicPr>
        <p:blipFill>
          <a:blip r:embed="rId1"/>
          <a:stretch/>
        </p:blipFill>
        <p:spPr>
          <a:xfrm>
            <a:off x="7054920" y="4890960"/>
            <a:ext cx="2089080" cy="19670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81" name="Picture 9" descr="j0356784"/>
          <p:cNvPicPr/>
          <p:nvPr/>
        </p:nvPicPr>
        <p:blipFill>
          <a:blip r:embed="rId2"/>
          <a:stretch/>
        </p:blipFill>
        <p:spPr>
          <a:xfrm>
            <a:off x="-181080" y="5516640"/>
            <a:ext cx="1028880" cy="102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2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WordArt 25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395280" y="2421000"/>
            <a:ext cx="4032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просто. Ты полетай по кругу. Я время замечу, а скор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м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/t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8"/>
          <p:cNvSpPr/>
          <p:nvPr/>
        </p:nvSpPr>
        <p:spPr>
          <a:xfrm>
            <a:off x="250920" y="3141720"/>
            <a:ext cx="4033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х ты! Еще древние греки умели находить длину окружности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 окружности.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9"/>
          <p:cNvSpPr/>
          <p:nvPr/>
        </p:nvSpPr>
        <p:spPr>
          <a:xfrm>
            <a:off x="468360" y="414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греческая бук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ПИ».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4932360" y="292428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Как же мой путь измерить? Он же не прямой!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4859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Это что  за «закорючка» в формуле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5003640" y="3789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Как же, ребята, найти это число </a:t>
            </a:r>
            <a:r>
              <a:rPr b="0" i="1" lang="ru-RU" sz="1400" spc="-1" strike="noStrike">
                <a:solidFill>
                  <a:srgbClr val="006600"/>
                </a:solidFill>
                <a:latin typeface="Arial"/>
              </a:rPr>
              <a:t>π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 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5"/>
          <p:cNvSpPr txBox="1"/>
          <p:nvPr/>
        </p:nvSpPr>
        <p:spPr>
          <a:xfrm>
            <a:off x="971640" y="549360"/>
            <a:ext cx="691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бы найти число "ПИ"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WordArt 6"/>
          <p:cNvSpPr txBox="1"/>
          <p:nvPr/>
        </p:nvSpPr>
        <p:spPr>
          <a:xfrm>
            <a:off x="2987640" y="1268280"/>
            <a:ext cx="22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ужно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1. «Опоясать» банку ниткой, затем ее «распрямить». Длина нитки будет приблизительно равна длине окружности банки. Чтобы получить более точный результат, нужно «опоясать» банку ниткой несколько раз, а затем длину всей нити разделить на количество «опоясывающих» кру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2. Измерить диаметр окружности банки линей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3. Из формул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найти неизвестный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множите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разделив длину окружности на диамет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Полученные данные занесите в таблиц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5229360"/>
          <a:ext cx="7512120" cy="1490400"/>
        </p:xfrm>
        <a:graphic>
          <a:graphicData uri="http://schemas.openxmlformats.org/drawingml/2006/table">
            <a:tbl>
              <a:tblPr/>
              <a:tblGrid>
                <a:gridCol w="1252800"/>
                <a:gridCol w="1252440"/>
                <a:gridCol w="1252440"/>
                <a:gridCol w="1249560"/>
                <a:gridCol w="1252440"/>
                <a:gridCol w="125244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1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2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3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р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800" spc="-1" strike="noStrike">
                          <a:solidFill>
                            <a:srgbClr val="070106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</a:tbl>
          </a:graphicData>
        </a:graphic>
      </p:graphicFrame>
    </p:spTree>
  </p:cSld>
  <p:transition spd="med">
    <p:wedg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4"/>
          <p:cNvSpPr txBox="1"/>
          <p:nvPr/>
        </p:nvSpPr>
        <p:spPr>
          <a:xfrm>
            <a:off x="1403280" y="476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Сделаем выво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1979640" y="198864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данные обобщим в таблиц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9" name="Object 45"/>
          <p:cNvGraphicFramePr/>
          <p:nvPr/>
        </p:nvGraphicFramePr>
        <p:xfrm>
          <a:off x="5580000" y="1844640"/>
          <a:ext cx="7164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844640"/>
                    <a:ext cx="716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835280" y="2852640"/>
          <a:ext cx="6265800" cy="5176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че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835280" y="3429000"/>
          <a:ext cx="6265800" cy="431640"/>
        </p:xfrm>
        <a:graphic>
          <a:graphicData uri="http://schemas.openxmlformats.org/drawingml/2006/table">
            <a:tbl>
              <a:tblPr/>
              <a:tblGrid>
                <a:gridCol w="2087280"/>
                <a:gridCol w="2090880"/>
                <a:gridCol w="208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1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2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3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835280" y="3933720"/>
          <a:ext cx="6265800" cy="3970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реднее арифметическое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04" name="Text Box 114"/>
          <p:cNvSpPr/>
          <p:nvPr/>
        </p:nvSpPr>
        <p:spPr>
          <a:xfrm>
            <a:off x="1403280" y="5229360"/>
            <a:ext cx="5977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Так и как 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d = 2r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, то получаем еще одну формулу для вычисления длины окружности (через радиус) 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С = 2 </a:t>
            </a:r>
            <a:r>
              <a:rPr b="0" i="1" lang="el-GR" sz="3200" spc="-1" strike="noStrike">
                <a:solidFill>
                  <a:srgbClr val="ff0066"/>
                </a:solidFill>
                <a:latin typeface="Tahoma"/>
              </a:rPr>
              <a:t>π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r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  <p:sndAc>
      <p:stSnd>
        <p:snd r:embed="rId3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Эйлер"/>
          <p:cNvPicPr/>
          <p:nvPr/>
        </p:nvPicPr>
        <p:blipFill>
          <a:blip r:embed="rId2"/>
          <a:stretch/>
        </p:blipFill>
        <p:spPr>
          <a:xfrm>
            <a:off x="6877080" y="378936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archimedes"/>
          <p:cNvPicPr/>
          <p:nvPr/>
        </p:nvPicPr>
        <p:blipFill>
          <a:blip r:embed="rId3"/>
          <a:stretch/>
        </p:blipFill>
        <p:spPr>
          <a:xfrm>
            <a:off x="250920" y="1700280"/>
            <a:ext cx="1944720" cy="2668680"/>
          </a:xfrm>
          <a:prstGeom prst="rect">
            <a:avLst/>
          </a:prstGeom>
          <a:ln w="0">
            <a:noFill/>
          </a:ln>
        </p:spPr>
      </p:pic>
      <p:sp>
        <p:nvSpPr>
          <p:cNvPr id="607" name="WordArt 10"/>
          <p:cNvSpPr txBox="1"/>
          <p:nvPr/>
        </p:nvSpPr>
        <p:spPr>
          <a:xfrm>
            <a:off x="900000" y="692280"/>
            <a:ext cx="72010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a8456"/>
                </a:solidFill>
                <a:latin typeface="Arial"/>
              </a:rPr>
              <a:t>Немного истор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a8456"/>
              </a:solidFill>
              <a:latin typeface="Arial"/>
              <a:ea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2061000" y="1628640"/>
            <a:ext cx="6732000" cy="143460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ученый Древней Греции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Архимед определил, что значение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находится в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следующих пределах: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1955880" y="5157720"/>
            <a:ext cx="4835160" cy="143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математик Эйлер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ычислил для числа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153 десятичных знака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3"/>
              <p:cNvSpPr txBox="1"/>
              <p:nvPr/>
            </p:nvSpPr>
            <p:spPr>
              <a:xfrm>
                <a:off x="3059280" y="3357720"/>
                <a:ext cx="309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⊲</m:t>
                    </m:r>
                    <m:r>
                      <m:t xml:space="preserve">П</m:t>
                    </m:r>
                    <m:r>
                      <m:t xml:space="preserve">⊲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 spokes="8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WordArt 7"/>
          <p:cNvSpPr txBox="1"/>
          <p:nvPr/>
        </p:nvSpPr>
        <p:spPr>
          <a:xfrm>
            <a:off x="32400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запомнить число "ПИ"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663480" y="1857240"/>
            <a:ext cx="830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1. Первые восемь цифр этого числа можно запомнить так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ри, четырнадцать, пятнадцать, девяносто два и шес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(3, 1415926).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2. В практических расчетах редко бывает нужно зна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более трех–пяти цифр числа </a:t>
            </a:r>
            <a:r>
              <a:rPr b="0" i="1" lang="ru-RU" sz="2200" spc="-1" strike="noStrike">
                <a:solidFill>
                  <a:srgbClr val="ffff00"/>
                </a:solidFill>
                <a:latin typeface="Tahoma"/>
              </a:rPr>
              <a:t>П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. Если со временем вы их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забудете, то задайте себе вопрос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403280" y="4581360"/>
          <a:ext cx="6720120" cy="1168560"/>
        </p:xfrm>
        <a:graphic>
          <a:graphicData uri="http://schemas.openxmlformats.org/drawingml/2006/table">
            <a:tbl>
              <a:tblPr/>
              <a:tblGrid>
                <a:gridCol w="1344600"/>
                <a:gridCol w="1343160"/>
                <a:gridCol w="1344600"/>
                <a:gridCol w="1031760"/>
                <a:gridCol w="16560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т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ю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ругах?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88e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7" name="Picture 4" descr="баба Яга 3"/>
          <p:cNvPicPr/>
          <p:nvPr/>
        </p:nvPicPr>
        <p:blipFill>
          <a:blip r:embed="rId1"/>
          <a:stretch/>
        </p:blipFill>
        <p:spPr>
          <a:xfrm>
            <a:off x="0" y="1341360"/>
            <a:ext cx="1727280" cy="172728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sp>
        <p:nvSpPr>
          <p:cNvPr id="618" name="Text Box 7"/>
          <p:cNvSpPr/>
          <p:nvPr/>
        </p:nvSpPr>
        <p:spPr>
          <a:xfrm>
            <a:off x="2309040" y="1617840"/>
            <a:ext cx="645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Ага, научилась, научилась вычислять длину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кружности! Только какой радиус нам выбрать?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Подержи меня за помело, я и покручусь. В не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Как раз два метра. А один оборот я совершила з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дну секунду. Помогите, ребята, найти скорость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625480" y="387360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C = 2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= 3,14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 2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• 2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2,56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3"/>
              <p:cNvSpPr txBox="1"/>
              <p:nvPr/>
            </p:nvSpPr>
            <p:spPr>
              <a:xfrm>
                <a:off x="2556000" y="4653000"/>
                <a:ext cx="3384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18"/>
          <p:cNvSpPr/>
          <p:nvPr/>
        </p:nvSpPr>
        <p:spPr>
          <a:xfrm>
            <a:off x="6172200" y="514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6103440" y="49417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м/с)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comb dir="vert"/>
    <p:sndAc>
      <p:stSnd>
        <p:snd r:embed="rId2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06:39:17Z</dcterms:created>
  <dc:creator>Группа5</dc:creator>
  <dc:description/>
  <dc:language>en-US</dc:language>
  <cp:lastModifiedBy>User</cp:lastModifiedBy>
  <dcterms:modified xsi:type="dcterms:W3CDTF">2011-11-15T16:26:15Z</dcterms:modified>
  <cp:revision>21</cp:revision>
  <dc:subject/>
  <dc:title>Слайд 1</dc:title>
</cp:coreProperties>
</file>