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DE19-B7B7-432D-AFB3-9B1BAD67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993C-694D-426A-8EE6-2419EAD3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DA4CA-FAC2-43FF-A230-6BAC2F1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2B922-F79C-446C-9BEB-565C5C3D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53C9-4456-49BE-9CFD-1C468108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F47AD-E163-4991-9914-5076F3B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DE3C-6575-4632-AE25-F9DE0A4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F00AB-179A-49D3-8D6A-FFA32377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8AF0E-0080-479D-A412-2025F1A4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3E3AD-7105-49CB-8F6C-F9780018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EC0F-C022-4207-9A9E-E2EF421D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C0BF-AA53-4110-AD84-BAE80311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1580-25F6-45CA-9643-2F27A116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395-C59C-4D5D-99D8-8C8777D8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0011-08D6-42CA-B85B-BAD8EC6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889C-C167-4618-B41C-2959FFE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78C6-4C95-4CA6-902A-67D082E4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C37-B35E-41A4-BBEF-52C05EB2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B1BC-BAAA-4C5B-80D9-34CFB71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D4C4-6F07-4E4D-9435-C23BF4E5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02A6-6D1D-428C-BDF3-5A6CEBDD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6C55-51D3-4C22-9DC1-9BC6E222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C87A-53E1-4FBD-8AD3-98265E4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534-E3B7-4909-931E-F1EC14CB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FD4-1CDA-4EA0-AE69-128F11A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0D0-814B-459F-B1B2-2E6DC1B6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CE87-8A81-487D-943E-B0304886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3E50-9C86-46D9-BEBD-67FA48C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8BA1-6029-4F29-BA00-2F2B9D6B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5BEE-E79F-4E16-A8A2-34820E4D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10CB-392A-46D4-B3D1-48FD2F5D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EA69-0C61-4E69-818E-B8BBA7FB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E88D-8CF6-4929-87E0-C4C1B122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57F1-6E0E-4150-8946-3C1611CC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AA3D-B39E-4FD3-9CAC-C566D36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0FB0-48B0-40C6-AE71-B84E1C5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393A-3355-4A7E-8DE2-B9EF299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6A5F-3C4E-4EEF-82C1-B92F93B0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3B3E-02CD-4F30-A41C-3067B0EF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73163-F68E-42AC-A0BF-F30394F8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3055-4EE7-4044-B3F3-DE5E962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6BDA-FE23-4E69-9E68-F472253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086-E759-4F27-8DA8-6A0A4DD0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09CF-A58E-4ECA-AC3D-258B9E9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0FEB-8EF4-4082-8853-A56FF00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BDFF-4F08-43D8-A203-DE1B2651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DD02-B2AF-4C48-A4E6-084B3C2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D81E-58DE-4DA3-B8D3-A9D8602C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86D1-B975-4AC9-857D-1D6BC9C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EE09-2310-4EC6-B060-4E009864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4220-51F3-41C6-B4B3-C81AB1C0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CF91-11D6-4EC9-8D5F-E620E1A0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FA88-62AA-49DF-8DB7-0F0A0785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9CC3-6108-4852-B623-A765A38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0507-87F1-4F07-B4F2-3D98C8D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9A35-4A74-4BEB-8C66-2C34C7E2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B85C-3516-487E-B745-51490935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9B34-EAB0-4571-A86D-A07F2D1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879A2-EA79-472C-9A9A-0A75A259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2E0B-582C-4BFA-86E3-5D7CD24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5AED-D710-427A-BC8B-D831B43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9189-6412-4F06-B6E1-E0111C7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FD3F-40E9-446A-8A11-BEFD417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8C3A-511D-45B2-8072-8E9ECCA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67C1-FA6C-426B-B80D-A531A99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FEBF-205F-4142-B5B0-F0C246F0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C768-748E-49AE-94C3-D47B143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348B6-71E9-463A-B35F-4378F616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58E2-6C3A-49A1-9C33-1A20F45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C5301-FAC7-4B05-BC7A-24C86A30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1D47-FA3D-4D99-9469-4A3C4B7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53AD-4049-4157-A0C3-9CCDBA6E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7F9FC-3908-41A4-AFB4-D1CA719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41E9F-E74C-4B96-8AC3-7C3228E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A576-E874-4D55-958F-AD92CD8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C898-E5A7-41C0-8A4A-858F499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E275-EBB8-4569-8087-E0B844DC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4CB6-CA3A-48E7-81D3-1F7FCAF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21D0-693E-4BDA-A33E-3CB457A9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6C7D-60FB-4080-A34F-D40AA5EB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2CF9B-47CB-48EA-8F67-32ADDD4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FFD9-C4E9-40F1-BE5B-B8152660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3BC9-B627-404C-9756-D3BB481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C5BF4-330B-40C0-8820-4392C7CE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181D-FEAE-41FB-87DE-2C258CF4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632C-EB97-4FE2-9CA7-6E3BF39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0885-F7DE-4A06-A486-F371A4C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DCD4-8F36-4237-B377-E96CB08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F0BE9-2948-4A44-8C83-0D5E43C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0FB93-618B-492F-9C01-9BBA38A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9A5E-2E23-4A0D-86C1-F700351C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5379-B5BE-4577-9986-AB7F45DC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D6CD-687D-4D3C-83B3-432F0A29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96CE-05D9-40E6-9629-F40799F3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89FB-4B43-4153-93B7-76A347D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C91F-60D3-4583-ACD7-61F4089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A503-71E2-4DA6-830C-0B047E3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1BF6-EF5C-4134-AE02-5790BDA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CAA1-686B-44B3-92EF-AAA54B94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6A7A3-8C88-4077-A217-EDE6414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70F07-A0FC-4144-A4F3-DF92772F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BFA3-3AD6-4313-99CB-770B0A8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6C23-E787-446A-95F5-A9479E7B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C8099-8D14-47BA-95FA-BFC233CF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715D5-EBC1-497C-96CF-A41D9E20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1ECFB-669D-4150-8260-0B7AF42D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39A8B-ED94-4551-B849-7AC5BACF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F8D44-1D62-4926-AB78-6FF3D065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D47F-941D-4149-82DD-2D9BF62F6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11B-5FA3-4CFC-AFD0-3113AD406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37C-FFFF-4E39-9C93-8C8A4FBD5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D55C-5F3E-42FD-A9C1-E1E5A77EAD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0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5D7-DED1-4485-8DA8-B2FB6EF4B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5893-D5F2-48E4-AE7C-6298E935B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6DA-1C6A-4EB5-BEE8-8FFE208B0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F1E-2BC3-42D2-9C1A-1C1B15F9D6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1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679E-9BDA-421B-B22E-A259F895796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7"/>
          <p:cNvSpPr/>
          <p:nvPr/>
        </p:nvSpPr>
        <p:spPr>
          <a:xfrm>
            <a:off x="457200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900000" y="227664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42"/>
          <p:cNvSpPr/>
          <p:nvPr/>
        </p:nvSpPr>
        <p:spPr>
          <a:xfrm>
            <a:off x="2916360" y="450864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льянинова Наталья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натольевн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Учитель математики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МОУ СОШ № 9 с.Подлужног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Изобильненского  района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WordArt 47"/>
          <p:cNvSpPr txBox="1"/>
          <p:nvPr/>
        </p:nvSpPr>
        <p:spPr>
          <a:xfrm>
            <a:off x="250920" y="1125360"/>
            <a:ext cx="820872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длина окружно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1979640" y="692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рок математики в 6 классе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1403280" y="189000"/>
            <a:ext cx="67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379f"/>
                </a:solidFill>
                <a:latin typeface="Impact"/>
              </a:rPr>
              <a:t>Найди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379f"/>
              </a:solidFill>
              <a:latin typeface="Impact"/>
              <a:ea typeface="Impact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116000" y="1098720"/>
            <a:ext cx="77533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=5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,4 см               б) 32,6 см              в) 31,8 с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 =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0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8 м                     б) 314 м                 в) 341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Ученики организовали соревнования п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игурному катанию на велосипеде. В этих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ревнованиях нужно было проехать п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кружности радиусом 3 м. Какое расстояние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ехали велосипедисты в этом виде фигурног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тания?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70 м                      б) 85 м                     в) 75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ПРОВЕРЬ СЕБЯ 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1. а)                       2. б)                      3. в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755640" y="1367280"/>
            <a:ext cx="7920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урока раскрывает одну из  важных тем математики 6 класса «Длина окружности»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считана на школьников 11-12 лет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будет использована при объяснении нового материала, поэтому от учащихся на данном уроке знаний компьютера не требует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крывает способности школьников проводить собственные исследования и делать выводы, знакомит учащихся с историческим материалом, с разными нестандартными способами запоминания учебного материала, развивает познавательный интерес учащих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ная презентация прививает учащимся навык самостоятельности в работе, учит трудолюбию, аккуратности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тодика личностно-ориентированного обучения, а также групповой метод работы прослеживается в ходе выполнения практической работы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ние ИКТ на данном уроке эффективно: четко выстраивается логика и последовательность изучения материала, выделяется главная мысль каждого блока, повышается интерес к математике через зрительное восприятие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урсе математики использование ИКТ целесообразно на разных этапах урока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WordArt 6"/>
          <p:cNvSpPr txBox="1"/>
          <p:nvPr/>
        </p:nvSpPr>
        <p:spPr>
          <a:xfrm>
            <a:off x="1258920" y="189000"/>
            <a:ext cx="684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ннот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5400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d379f"/>
                </a:solidFill>
                <a:latin typeface="Arial Black"/>
              </a:rPr>
              <a:t>Устный опрос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32,829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                   11,2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,8 см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          9см        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8; 6,1; 7,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00720" y="177300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83,735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6 см                    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                             7,4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,3; 6,5; 6,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 rot="11956800">
            <a:off x="971280" y="4149000"/>
            <a:ext cx="2439720" cy="593640"/>
          </a:xfrm>
          <a:prstGeom prst="triangle">
            <a:avLst>
              <a:gd name="adj" fmla="val 50000"/>
            </a:avLst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8"/>
          <p:cNvSpPr/>
          <p:nvPr/>
        </p:nvSpPr>
        <p:spPr>
          <a:xfrm rot="17738400">
            <a:off x="6134760" y="3112200"/>
            <a:ext cx="1233360" cy="1546200"/>
          </a:xfrm>
          <a:prstGeom prst="rtTriangle">
            <a:avLst/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7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34"/>
          <p:cNvSpPr/>
          <p:nvPr/>
        </p:nvSpPr>
        <p:spPr>
          <a:xfrm>
            <a:off x="4356000" y="1341360"/>
            <a:ext cx="4788000" cy="3382920"/>
          </a:xfrm>
          <a:prstGeom prst="cloudCallout">
            <a:avLst>
              <a:gd name="adj1" fmla="val 28115"/>
              <a:gd name="adj2" fmla="val 60231"/>
            </a:avLst>
          </a:prstGeom>
          <a:solidFill>
            <a:srgbClr val="ffff00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26"/>
          <p:cNvSpPr/>
          <p:nvPr/>
        </p:nvSpPr>
        <p:spPr>
          <a:xfrm>
            <a:off x="0" y="1268280"/>
            <a:ext cx="4861080" cy="3888000"/>
          </a:xfrm>
          <a:prstGeom prst="cloudCallout">
            <a:avLst>
              <a:gd name="adj1" fmla="val -34717"/>
              <a:gd name="adj2" fmla="val 66662"/>
            </a:avLst>
          </a:prstGeom>
          <a:solidFill>
            <a:srgbClr val="0000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39225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уроке необычные гости. Давайте поинтересуемся,       как они здесь появились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435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к появились? Эх, ступа повредилась.  Пришлось к   лешему в ремонт тащить. Починил, лохматый. Только сдается мне, скорость у нее не та стала. Как бы проверит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8" descr="баба Яга 3"/>
          <p:cNvPicPr/>
          <p:nvPr/>
        </p:nvPicPr>
        <p:blipFill>
          <a:blip r:embed="rId1"/>
          <a:stretch/>
        </p:blipFill>
        <p:spPr>
          <a:xfrm>
            <a:off x="7054920" y="4890960"/>
            <a:ext cx="2089080" cy="19670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81" name="Picture 9" descr="j0356784"/>
          <p:cNvPicPr/>
          <p:nvPr/>
        </p:nvPicPr>
        <p:blipFill>
          <a:blip r:embed="rId2"/>
          <a:stretch/>
        </p:blipFill>
        <p:spPr>
          <a:xfrm>
            <a:off x="-181080" y="5516640"/>
            <a:ext cx="1028880" cy="102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2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WordArt 25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395280" y="2421000"/>
            <a:ext cx="4032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просто. Ты полетай по кругу. Я время замечу, а скор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м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/t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8"/>
          <p:cNvSpPr/>
          <p:nvPr/>
        </p:nvSpPr>
        <p:spPr>
          <a:xfrm>
            <a:off x="250920" y="3141720"/>
            <a:ext cx="4033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х ты! Еще древние греки умели находить длину окружности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 окружности.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9"/>
          <p:cNvSpPr/>
          <p:nvPr/>
        </p:nvSpPr>
        <p:spPr>
          <a:xfrm>
            <a:off x="468360" y="414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греческая бук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ПИ».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4932360" y="292428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Как же мой путь измерить? Он же не прямой!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4859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Это что  за «закорючка» в формуле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5003640" y="3789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Как же, ребята, найти это число </a:t>
            </a:r>
            <a:r>
              <a:rPr b="0" i="1" lang="ru-RU" sz="1400" spc="-1" strike="noStrike">
                <a:solidFill>
                  <a:srgbClr val="006600"/>
                </a:solidFill>
                <a:latin typeface="Arial"/>
              </a:rPr>
              <a:t>π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 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5"/>
          <p:cNvSpPr txBox="1"/>
          <p:nvPr/>
        </p:nvSpPr>
        <p:spPr>
          <a:xfrm>
            <a:off x="971640" y="549360"/>
            <a:ext cx="691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бы найти число "ПИ"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WordArt 6"/>
          <p:cNvSpPr txBox="1"/>
          <p:nvPr/>
        </p:nvSpPr>
        <p:spPr>
          <a:xfrm>
            <a:off x="2987640" y="1268280"/>
            <a:ext cx="22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ужно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1. «Опоясать» банку ниткой, затем ее «распрямить». Длина нитки будет приблизительно равна длине окружности банки. Чтобы получить более точный результат, нужно «опоясать» банку ниткой несколько раз, а затем длину всей нити разделить на количество «опоясывающих» кру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2. Измерить диаметр окружности банки линей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3. Из формул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найти неизвестный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множите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разделив длину окружности на диамет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Полученные данные занесите в таблиц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5229360"/>
          <a:ext cx="7512120" cy="1490400"/>
        </p:xfrm>
        <a:graphic>
          <a:graphicData uri="http://schemas.openxmlformats.org/drawingml/2006/table">
            <a:tbl>
              <a:tblPr/>
              <a:tblGrid>
                <a:gridCol w="1252800"/>
                <a:gridCol w="1252440"/>
                <a:gridCol w="1252440"/>
                <a:gridCol w="1249560"/>
                <a:gridCol w="1252440"/>
                <a:gridCol w="125244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1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2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3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р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800" spc="-1" strike="noStrike">
                          <a:solidFill>
                            <a:srgbClr val="070106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</a:tbl>
          </a:graphicData>
        </a:graphic>
      </p:graphicFrame>
    </p:spTree>
  </p:cSld>
  <p:transition spd="med">
    <p:wedg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4"/>
          <p:cNvSpPr txBox="1"/>
          <p:nvPr/>
        </p:nvSpPr>
        <p:spPr>
          <a:xfrm>
            <a:off x="1403280" y="476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Сделаем выво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1979640" y="198864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данные обобщим в таблиц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9" name="Object 45"/>
          <p:cNvGraphicFramePr/>
          <p:nvPr/>
        </p:nvGraphicFramePr>
        <p:xfrm>
          <a:off x="5580000" y="1844640"/>
          <a:ext cx="7164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844640"/>
                    <a:ext cx="716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835280" y="2852640"/>
          <a:ext cx="6265800" cy="5176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че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835280" y="3429000"/>
          <a:ext cx="6265800" cy="431640"/>
        </p:xfrm>
        <a:graphic>
          <a:graphicData uri="http://schemas.openxmlformats.org/drawingml/2006/table">
            <a:tbl>
              <a:tblPr/>
              <a:tblGrid>
                <a:gridCol w="2087280"/>
                <a:gridCol w="2090880"/>
                <a:gridCol w="208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1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2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3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835280" y="3933720"/>
          <a:ext cx="6265800" cy="3970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реднее арифметическое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04" name="Text Box 114"/>
          <p:cNvSpPr/>
          <p:nvPr/>
        </p:nvSpPr>
        <p:spPr>
          <a:xfrm>
            <a:off x="1403280" y="5229360"/>
            <a:ext cx="5977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Так и как 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d = 2r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, то получаем еще одну формулу для вычисления длины окружности (через радиус) 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С = 2 </a:t>
            </a:r>
            <a:r>
              <a:rPr b="0" i="1" lang="el-GR" sz="3200" spc="-1" strike="noStrike">
                <a:solidFill>
                  <a:srgbClr val="ff0066"/>
                </a:solidFill>
                <a:latin typeface="Tahoma"/>
              </a:rPr>
              <a:t>π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r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  <p:sndAc>
      <p:stSnd>
        <p:snd r:embed="rId3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Эйлер"/>
          <p:cNvPicPr/>
          <p:nvPr/>
        </p:nvPicPr>
        <p:blipFill>
          <a:blip r:embed="rId2"/>
          <a:stretch/>
        </p:blipFill>
        <p:spPr>
          <a:xfrm>
            <a:off x="6877080" y="378936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archimedes"/>
          <p:cNvPicPr/>
          <p:nvPr/>
        </p:nvPicPr>
        <p:blipFill>
          <a:blip r:embed="rId3"/>
          <a:stretch/>
        </p:blipFill>
        <p:spPr>
          <a:xfrm>
            <a:off x="250920" y="1700280"/>
            <a:ext cx="1944720" cy="2668680"/>
          </a:xfrm>
          <a:prstGeom prst="rect">
            <a:avLst/>
          </a:prstGeom>
          <a:ln w="0">
            <a:noFill/>
          </a:ln>
        </p:spPr>
      </p:pic>
      <p:sp>
        <p:nvSpPr>
          <p:cNvPr id="607" name="WordArt 10"/>
          <p:cNvSpPr txBox="1"/>
          <p:nvPr/>
        </p:nvSpPr>
        <p:spPr>
          <a:xfrm>
            <a:off x="900000" y="692280"/>
            <a:ext cx="72010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a8456"/>
                </a:solidFill>
                <a:latin typeface="Arial"/>
              </a:rPr>
              <a:t>Немного истор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a8456"/>
              </a:solidFill>
              <a:latin typeface="Arial"/>
              <a:ea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2061000" y="1628640"/>
            <a:ext cx="6732000" cy="143460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ученый Древней Греции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Архимед определил, что значение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находится в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следующих пределах: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1955880" y="5157720"/>
            <a:ext cx="4835160" cy="143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математик Эйлер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ычислил для числа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153 десятичных знака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3"/>
              <p:cNvSpPr txBox="1"/>
              <p:nvPr/>
            </p:nvSpPr>
            <p:spPr>
              <a:xfrm>
                <a:off x="3059280" y="3357720"/>
                <a:ext cx="309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⊲</m:t>
                    </m:r>
                    <m:r>
                      <m:t xml:space="preserve">П</m:t>
                    </m:r>
                    <m:r>
                      <m:t xml:space="preserve">⊲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 spokes="8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WordArt 7"/>
          <p:cNvSpPr txBox="1"/>
          <p:nvPr/>
        </p:nvSpPr>
        <p:spPr>
          <a:xfrm>
            <a:off x="32400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запомнить число "ПИ"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663480" y="1857240"/>
            <a:ext cx="830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1. Первые восемь цифр этого числа можно запомнить так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ри, четырнадцать, пятнадцать, девяносто два и шес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(3, 1415926).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2. В практических расчетах редко бывает нужно зна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более трех–пяти цифр числа </a:t>
            </a:r>
            <a:r>
              <a:rPr b="0" i="1" lang="ru-RU" sz="2200" spc="-1" strike="noStrike">
                <a:solidFill>
                  <a:srgbClr val="ffff00"/>
                </a:solidFill>
                <a:latin typeface="Tahoma"/>
              </a:rPr>
              <a:t>П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. Если со временем вы их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забудете, то задайте себе вопрос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403280" y="4581360"/>
          <a:ext cx="6720120" cy="1168560"/>
        </p:xfrm>
        <a:graphic>
          <a:graphicData uri="http://schemas.openxmlformats.org/drawingml/2006/table">
            <a:tbl>
              <a:tblPr/>
              <a:tblGrid>
                <a:gridCol w="1344600"/>
                <a:gridCol w="1343160"/>
                <a:gridCol w="1344600"/>
                <a:gridCol w="1031760"/>
                <a:gridCol w="16560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т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ю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ругах?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88e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7" name="Picture 4" descr="баба Яга 3"/>
          <p:cNvPicPr/>
          <p:nvPr/>
        </p:nvPicPr>
        <p:blipFill>
          <a:blip r:embed="rId1"/>
          <a:stretch/>
        </p:blipFill>
        <p:spPr>
          <a:xfrm>
            <a:off x="0" y="1341360"/>
            <a:ext cx="1727280" cy="172728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sp>
        <p:nvSpPr>
          <p:cNvPr id="618" name="Text Box 7"/>
          <p:cNvSpPr/>
          <p:nvPr/>
        </p:nvSpPr>
        <p:spPr>
          <a:xfrm>
            <a:off x="2309040" y="1617840"/>
            <a:ext cx="645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Ага, научилась, научилась вычислять длину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кружности! Только какой радиус нам выбрать?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Подержи меня за помело, я и покручусь. В не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Как раз два метра. А один оборот я совершила з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дну секунду. Помогите, ребята, найти скорость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625480" y="387360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C = 2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= 3,14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 2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• 2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2,56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3"/>
              <p:cNvSpPr txBox="1"/>
              <p:nvPr/>
            </p:nvSpPr>
            <p:spPr>
              <a:xfrm>
                <a:off x="2556000" y="4653000"/>
                <a:ext cx="3384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18"/>
          <p:cNvSpPr/>
          <p:nvPr/>
        </p:nvSpPr>
        <p:spPr>
          <a:xfrm>
            <a:off x="6172200" y="514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6103440" y="49417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м/с)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comb dir="vert"/>
    <p:sndAc>
      <p:stSnd>
        <p:snd r:embed="rId2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06:39:17Z</dcterms:created>
  <dc:creator>Группа5</dc:creator>
  <dc:description/>
  <dc:language>en-US</dc:language>
  <cp:lastModifiedBy>User</cp:lastModifiedBy>
  <dcterms:modified xsi:type="dcterms:W3CDTF">2011-11-15T16:26:15Z</dcterms:modified>
  <cp:revision>21</cp:revision>
  <dc:subject/>
  <dc:title>Слайд 1</dc:title>
</cp:coreProperties>
</file>