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chimes.wav" ContentType="audio/x-wav"/>
  <Override PartName="/ppt/media/image6.jpeg" ContentType="image/jpeg"/>
  <Override PartName="/ppt/media/image7.wmf" ContentType="image/x-wmf"/>
  <Override PartName="/ppt/media/image3.png" ContentType="image/png"/>
  <Override PartName="/ppt/media/image4.jpeg" ContentType="image/jpeg"/>
  <Override PartName="/ppt/media/image5.gif" ContentType="image/gi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BABA-2983-4590-BD1A-C49895C3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F851-907E-4BF1-A942-0CF60EB5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1D1C0-3461-499F-9537-B1762F9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148F-CC8C-436F-A0A1-1DCB7A37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ED800-56C7-4C7C-B13D-0469C31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85973-18AA-44A0-BB3E-F1A84AD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5F631-5492-4639-8D4F-44470FB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DB56C-4632-4790-9AFA-6B37490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E2596-F102-4268-A19D-91AB643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D4F2F-6465-40B3-A471-B5FD9E54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895EA-2E2B-4225-B126-6F1D685D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46B9-0DFE-4D8C-91C0-91BB8307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05CE-5B4A-4351-A64E-B6777ACF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5EF-00DC-47B6-817F-76BF20BC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B47E-2BD4-4A6E-B365-A5013BAC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A65A-9F0F-4657-A9F7-99B2FB79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0836-E40B-42C7-9848-2768C9E6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CFD5-8337-4F6D-8E8C-ED0CA55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62B9-8D6B-4A95-9ABD-3BFAE923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EE9A-40B8-4DC1-8F31-F7ECE974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342C-C36C-41E5-82DB-8282F541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C21-F5F2-470B-A56B-442E3F4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049E-3CC5-4240-8F20-827771D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1D2-9413-4430-A9D1-66576A7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7DC7-A09A-448C-9C6B-C8D0B840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66E4-3ED1-48C7-BA2B-D933DDCE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EE17-CCA7-4219-80E7-6415FDE0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AF40-DCEF-4788-BFA3-C1977861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D502-E05F-4F7B-B48F-28FF47E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0E7C-F07F-4F50-91C7-6B4B9E99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B457-E0B1-49E1-9CBD-B5FE310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BFA0-721B-4A77-88E8-227272AA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A024-C177-403D-8436-D5DE40A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990A-E2DE-46D8-8AD4-10C68FF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2E457-F0A3-4482-B22C-D7018181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2092-9A47-41A2-BA6D-840F70F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18CD-5177-44CB-AF21-7498BA4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681D-3840-481C-87EF-12EF18AD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53EA-158A-4E1E-9DED-C321671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65DA-5747-434B-95FA-922C95C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A1414-100B-4845-AF81-CB8686CA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DF158-88C3-4D61-87C3-E7E0D414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2706-7B4C-4659-A120-242CBF85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F4CAF-40F2-4379-842F-522EB92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8B3B-055B-4559-AA07-BD081A5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F507-278E-4289-9595-11B282B5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3777-445E-4210-B77A-52448A0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A551-4FBC-4758-B418-3DF0FB2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6A5E-B0E8-4FED-8F17-EF24206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957F-AF42-4796-9D3E-FD15FFD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BCB0-F7F6-4AAA-814F-47FC612E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F1785-75AA-46B3-8153-2C7B2E5E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C059-9564-4BBD-B017-B81D35D8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EEF5-6C40-443D-91D3-DC56865A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3AA3-1099-4787-BD2A-CC42B03A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C3900-7D61-4170-93BA-F836F56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2F5A-8EF4-454A-A11B-D8522EB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21965-C5F9-4EF5-99CA-2CF71443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0B85-07C2-4B45-BBE1-35C23BC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5DECD-A4B0-417E-BB9A-93414AE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AB8A-D62D-4618-A934-75C3EB5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73B1-7746-459B-A565-C084C38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A32EA-BAA7-41A9-B823-15833092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3F12-8D51-4359-93C1-41D0632A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1B95-1BFD-4F7B-9CF6-EDC69FB9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9D18-D9F1-41A8-A0A0-B9949231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8AC4-7434-4E15-BBDF-0BF78700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9A43B-B9D7-44CB-90C8-3BA5B59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0DFA-692F-42C0-9839-B9845486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2C958-8383-43A5-84F9-5CF54CE9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DECD-B877-4689-9369-237A1E8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0AE45-A052-43C0-AE80-28F441C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8548-A5CE-4B20-8A01-9FB408A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4718-02B3-4575-A6D8-D41810D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B796-987D-4BAC-8A80-ED41113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DA5E-2800-454C-AC16-8D6497B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5C81-71ED-4D76-A9A0-BBAAF1C4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8F24-1EC4-46D9-83EB-EAB3825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8C4F-CCC5-433F-9656-C25813B6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7361-BA97-44EC-B302-0B14DE0D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A06F-2743-4E54-9FB5-9BA7C5D2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284A2-12C7-4B85-B24D-0B4F6F78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B4DE-B604-42F1-83D1-73A189A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B814-0BE8-4360-9C93-77755128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A8E9-C425-4EE0-8B42-DD65EE8A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69310-B451-4FF0-A100-493ED19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679C-D26A-4F00-BBEC-9EE78A7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90277-009C-4FBF-AA3C-A3C2B80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BA2B7-A443-49DF-A0E2-49FCF3F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75F40-F88E-4986-80D7-7C08C3ED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E5A1-E18D-4C97-B124-805F0FFA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D838-98F3-4096-859F-468625EC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E1F4-1E56-4109-A94D-BE73F42A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1476-F225-4050-992C-16F3327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779E-546E-43A4-A113-5985956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E69F2-B180-4D27-93AC-1D25387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4344-9777-4F43-A35A-7B895B6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322C-7EC5-42C9-883D-7814DCB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FF565-0F77-438F-B39B-148AFC5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1CD9D-23A0-4994-8A8A-1AB64BA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13BF-5379-4A2D-9E14-E249471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6430E-80E1-49C6-BFF8-A1F7392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955AB-EEB9-4525-B921-91FA2D77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D0294-857A-41ED-B8D6-82A48FD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6B392-B2D8-4754-888A-E3327256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8D263-6756-4B5A-85CC-AC79FA9E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9251-D205-469D-B1E2-2FFA6AB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D7742-76F7-4D86-9EED-13B7FFD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9FF6-CDA5-48BC-8DC2-CD3948CA0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8919-63EA-42E7-AA56-E5A0D8006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03DC-5C4E-4233-9A12-D6173F839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2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AC85-324F-403D-91F9-2EBD1E144E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0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2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13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4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2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3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0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1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8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9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8B7-4883-47AA-9871-660912F39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0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0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1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D647-3A5A-4F87-886D-6497C9866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A07-A5CA-46FA-81D1-B934F6E70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66E-B256-4AFB-966C-DCF82F9F2C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0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9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1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B621-AD26-46A0-8ACD-A680F6B772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7"/>
          <p:cNvSpPr/>
          <p:nvPr/>
        </p:nvSpPr>
        <p:spPr>
          <a:xfrm>
            <a:off x="457200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900000" y="2276640"/>
            <a:ext cx="770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42"/>
          <p:cNvSpPr/>
          <p:nvPr/>
        </p:nvSpPr>
        <p:spPr>
          <a:xfrm>
            <a:off x="2916360" y="450864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льянинова Наталья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Анатольевн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Учитель математики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МОУ СОШ № 9 с.Подлужног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2e2e6"/>
                </a:solidFill>
                <a:latin typeface="Arial Black"/>
              </a:rPr>
              <a:t>Изобильненского  района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WordArt 47"/>
          <p:cNvSpPr txBox="1"/>
          <p:nvPr/>
        </p:nvSpPr>
        <p:spPr>
          <a:xfrm>
            <a:off x="250920" y="1125360"/>
            <a:ext cx="820872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Impact"/>
              </a:rPr>
              <a:t>длина окружнос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8" name="Text Box 52"/>
          <p:cNvSpPr/>
          <p:nvPr/>
        </p:nvSpPr>
        <p:spPr>
          <a:xfrm>
            <a:off x="1979640" y="692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Урок математики в 6 классе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1403280" y="189000"/>
            <a:ext cx="676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379f"/>
                </a:solidFill>
                <a:latin typeface="Impact"/>
              </a:rPr>
              <a:t>Найди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379f"/>
              </a:solidFill>
              <a:latin typeface="Impact"/>
              <a:ea typeface="Impact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116000" y="1098720"/>
            <a:ext cx="77533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=5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,4 см               б) 32,6 см              в) 31,8 с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 Вычислите длину окружности, если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 =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0 см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318 м                     б) 314 м                 в) 341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 Ученики организовали соревнования п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игурному катанию на велосипеде. В этих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ревнованиях нужно было проехать по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кружности радиусом 3 м. Какое расстояние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ехали велосипедисты в этом виде фигурного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тания?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) 70 м                      б) 85 м                     в) 75 м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ПРОВЕРЬ СЕБЯ :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1. а)                       2. б)                      3. в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6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6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6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6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6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6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755640" y="1367280"/>
            <a:ext cx="7920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урока раскрывает одну из  важных тем математики 6 класса «Длина окружности»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считана на школьников 11-12 лет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будет использована при объяснении нового материала, поэтому от учащихся на данном уроке знаний компьютера не требует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зентация раскрывает способности школьников проводить собственные исследования и делать выводы, знакомит учащихся с историческим материалом, с разными нестандартными способами запоминания учебного материала, развивает познавательный интерес учащихся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ная презентация прививает учащимся навык самостоятельности в работе, учит трудолюбию, аккуратности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тодика личностно-ориентированного обучения, а также групповой метод работы прослеживается в ходе выполнения практической работы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пользование ИКТ на данном уроке эффективно: четко выстраивается логика и последовательность изучения материала, выделяется главная мысль каждого блока, повышается интерес к математике через зрительное восприятие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урсе математики использование ИКТ целесообразно на разных этапах урока.</a:t>
            </a:r>
            <a:endParaRPr b="0" i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WordArt 6"/>
          <p:cNvSpPr txBox="1"/>
          <p:nvPr/>
        </p:nvSpPr>
        <p:spPr>
          <a:xfrm>
            <a:off x="1258920" y="189000"/>
            <a:ext cx="684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ннот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5400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d379f"/>
                </a:solidFill>
                <a:latin typeface="Arial Black"/>
              </a:rPr>
              <a:t>Устный опрос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32,829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                   11,2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,8 см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          9см        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8; 6,1; 7,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00720" y="177300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риант 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круглите число 83,735 до единиц, десятых, сот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Найдите отношение длины ломаной АВС к расстоянию между ее концами А и 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,6 см                      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                             7,4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Найдите среднее арифметическое чисе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,3; 6,5; 6,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 rot="11956800">
            <a:off x="971280" y="4149000"/>
            <a:ext cx="2439720" cy="593640"/>
          </a:xfrm>
          <a:prstGeom prst="triangle">
            <a:avLst>
              <a:gd name="adj" fmla="val 50000"/>
            </a:avLst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8"/>
          <p:cNvSpPr/>
          <p:nvPr/>
        </p:nvSpPr>
        <p:spPr>
          <a:xfrm rot="17738400">
            <a:off x="6134760" y="3112200"/>
            <a:ext cx="1233360" cy="1546200"/>
          </a:xfrm>
          <a:prstGeom prst="rtTriangle">
            <a:avLst/>
          </a:prstGeom>
          <a:solidFill>
            <a:srgbClr val="ad37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7e7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34"/>
          <p:cNvSpPr/>
          <p:nvPr/>
        </p:nvSpPr>
        <p:spPr>
          <a:xfrm>
            <a:off x="4356000" y="1341360"/>
            <a:ext cx="4788000" cy="3382920"/>
          </a:xfrm>
          <a:prstGeom prst="cloudCallout">
            <a:avLst>
              <a:gd name="adj1" fmla="val 28115"/>
              <a:gd name="adj2" fmla="val 60231"/>
            </a:avLst>
          </a:prstGeom>
          <a:solidFill>
            <a:srgbClr val="ffff00">
              <a:alpha val="5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26"/>
          <p:cNvSpPr/>
          <p:nvPr/>
        </p:nvSpPr>
        <p:spPr>
          <a:xfrm>
            <a:off x="0" y="1268280"/>
            <a:ext cx="4861080" cy="3888000"/>
          </a:xfrm>
          <a:prstGeom prst="cloudCallout">
            <a:avLst>
              <a:gd name="adj1" fmla="val -34717"/>
              <a:gd name="adj2" fmla="val 66662"/>
            </a:avLst>
          </a:prstGeom>
          <a:solidFill>
            <a:srgbClr val="0000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39225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уроке необычные гости. Давайте поинтересуемся,       как они здесь появились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435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к появились? Эх, ступа повредилась.  Пришлось к   лешему в ремонт тащить. Починил, лохматый. Только сдается мне, скорость у нее не та стала. Как бы проверит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8" descr="баба Яга 3"/>
          <p:cNvPicPr/>
          <p:nvPr/>
        </p:nvPicPr>
        <p:blipFill>
          <a:blip r:embed="rId1"/>
          <a:stretch/>
        </p:blipFill>
        <p:spPr>
          <a:xfrm>
            <a:off x="7054920" y="4890960"/>
            <a:ext cx="2089080" cy="19670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581" name="Picture 9" descr="j0356784"/>
          <p:cNvPicPr/>
          <p:nvPr/>
        </p:nvPicPr>
        <p:blipFill>
          <a:blip r:embed="rId2"/>
          <a:stretch/>
        </p:blipFill>
        <p:spPr>
          <a:xfrm>
            <a:off x="-181080" y="5516640"/>
            <a:ext cx="1028880" cy="102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2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WordArt 25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395280" y="2421000"/>
            <a:ext cx="4032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просто. Ты полетай по кругу. Я время замечу, а скор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м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/t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28"/>
          <p:cNvSpPr/>
          <p:nvPr/>
        </p:nvSpPr>
        <p:spPr>
          <a:xfrm>
            <a:off x="250920" y="3141720"/>
            <a:ext cx="4033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х ты! Еще древние греки умели находить длину окружности по форму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метр окружности.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29"/>
          <p:cNvSpPr/>
          <p:nvPr/>
        </p:nvSpPr>
        <p:spPr>
          <a:xfrm>
            <a:off x="468360" y="414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Это греческая бук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«ПИ».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30"/>
          <p:cNvSpPr/>
          <p:nvPr/>
        </p:nvSpPr>
        <p:spPr>
          <a:xfrm>
            <a:off x="4932360" y="292428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Как же мой путь измерить? Он же не прямой!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31"/>
          <p:cNvSpPr/>
          <p:nvPr/>
        </p:nvSpPr>
        <p:spPr>
          <a:xfrm>
            <a:off x="4859280" y="335772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Это что  за «закорючка» в формуле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32"/>
          <p:cNvSpPr/>
          <p:nvPr/>
        </p:nvSpPr>
        <p:spPr>
          <a:xfrm>
            <a:off x="5003640" y="3789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- Как же, ребята, найти это число </a:t>
            </a:r>
            <a:r>
              <a:rPr b="0" i="1" lang="ru-RU" sz="1400" spc="-1" strike="noStrike">
                <a:solidFill>
                  <a:srgbClr val="006600"/>
                </a:solidFill>
                <a:latin typeface="Arial"/>
              </a:rPr>
              <a:t>π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 ?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WordArt 5"/>
          <p:cNvSpPr txBox="1"/>
          <p:nvPr/>
        </p:nvSpPr>
        <p:spPr>
          <a:xfrm>
            <a:off x="971640" y="549360"/>
            <a:ext cx="691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бы найти число "ПИ"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WordArt 6"/>
          <p:cNvSpPr txBox="1"/>
          <p:nvPr/>
        </p:nvSpPr>
        <p:spPr>
          <a:xfrm>
            <a:off x="2987640" y="1268280"/>
            <a:ext cx="22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ужно: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1. «Опоясать» банку ниткой, затем ее «распрямить». Длина нитки будет приблизительно равна длине окружности банки. Чтобы получить более точный результат, нужно «опоясать» банку ниткой несколько раз, а затем длину всей нити разделить на количество «опоясывающих» кру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2. Измерить диаметр окружности банки линей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</a:rPr>
              <a:t>3. Из формул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=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найти неизвестный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множител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0000"/>
                </a:solidFill>
                <a:latin typeface="Arial"/>
                <a:ea typeface="Arial"/>
              </a:rPr>
              <a:t>π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разделив длину окружности на диамет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644a0"/>
                </a:solidFill>
                <a:latin typeface="Arial"/>
                <a:ea typeface="Arial"/>
              </a:rPr>
              <a:t>Полученные данные занесите в таблиц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5229360"/>
          <a:ext cx="7512120" cy="1490400"/>
        </p:xfrm>
        <a:graphic>
          <a:graphicData uri="http://schemas.openxmlformats.org/drawingml/2006/table">
            <a:tbl>
              <a:tblPr/>
              <a:tblGrid>
                <a:gridCol w="1252800"/>
                <a:gridCol w="1252440"/>
                <a:gridCol w="1252440"/>
                <a:gridCol w="1249560"/>
                <a:gridCol w="1252440"/>
                <a:gridCol w="1252440"/>
              </a:tblGrid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1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2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3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</a:t>
                      </a:r>
                      <a:r>
                        <a:rPr b="1" i="1" lang="ru-RU" sz="9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ср</a:t>
                      </a:r>
                      <a:endParaRPr b="0" i="1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70106"/>
                          </a:solidFill>
                          <a:latin typeface="Arial"/>
                        </a:rPr>
                        <a:t>d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800" spc="-1" strike="noStrike">
                          <a:solidFill>
                            <a:srgbClr val="070106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d379f"/>
                    </a:solidFill>
                  </a:tcPr>
                </a:tc>
              </a:tr>
            </a:tbl>
          </a:graphicData>
        </a:graphic>
      </p:graphicFrame>
    </p:spTree>
  </p:cSld>
  <p:transition spd="med">
    <p:wedg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4"/>
          <p:cNvSpPr txBox="1"/>
          <p:nvPr/>
        </p:nvSpPr>
        <p:spPr>
          <a:xfrm>
            <a:off x="1403280" y="476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Сделаем выво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1979640" y="1988640"/>
            <a:ext cx="439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данные обобщим в таблиц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9" name="Object 45"/>
          <p:cNvGraphicFramePr/>
          <p:nvPr/>
        </p:nvGraphicFramePr>
        <p:xfrm>
          <a:off x="5580000" y="1844640"/>
          <a:ext cx="7164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844640"/>
                    <a:ext cx="716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1835280" y="2852640"/>
          <a:ext cx="6265800" cy="5176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чение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1835280" y="3429000"/>
          <a:ext cx="6265800" cy="431640"/>
        </p:xfrm>
        <a:graphic>
          <a:graphicData uri="http://schemas.openxmlformats.org/drawingml/2006/table">
            <a:tbl>
              <a:tblPr/>
              <a:tblGrid>
                <a:gridCol w="2087280"/>
                <a:gridCol w="2090880"/>
                <a:gridCol w="20876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1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2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d379f"/>
                          </a:solidFill>
                          <a:latin typeface="Arial"/>
                        </a:rPr>
                        <a:t>3-й ряд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835280" y="3933720"/>
          <a:ext cx="6265800" cy="3970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реднее арифметическое</a:t>
                      </a:r>
                      <a:endParaRPr b="0" i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04" name="Text Box 114"/>
          <p:cNvSpPr/>
          <p:nvPr/>
        </p:nvSpPr>
        <p:spPr>
          <a:xfrm>
            <a:off x="1403280" y="5229360"/>
            <a:ext cx="5977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Так и как  </a:t>
            </a:r>
            <a:r>
              <a:rPr b="1" i="1" lang="en-US" sz="2400" spc="-1" strike="noStrike">
                <a:solidFill>
                  <a:srgbClr val="ff0066"/>
                </a:solidFill>
                <a:latin typeface="Tahoma"/>
              </a:rPr>
              <a:t>d = 2r</a:t>
            </a: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, то получаем еще одну формулу для вычисления длины окружности (через радиус) 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С = 2 </a:t>
            </a:r>
            <a:r>
              <a:rPr b="0" i="1" lang="el-GR" sz="3200" spc="-1" strike="noStrike">
                <a:solidFill>
                  <a:srgbClr val="ff0066"/>
                </a:solidFill>
                <a:latin typeface="Tahoma"/>
              </a:rPr>
              <a:t>π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r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  <p:sndAc>
      <p:stSnd>
        <p:snd r:embed="rId3" name="chimes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Эйлер"/>
          <p:cNvPicPr/>
          <p:nvPr/>
        </p:nvPicPr>
        <p:blipFill>
          <a:blip r:embed="rId2"/>
          <a:stretch/>
        </p:blipFill>
        <p:spPr>
          <a:xfrm>
            <a:off x="6877080" y="378936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archimedes"/>
          <p:cNvPicPr/>
          <p:nvPr/>
        </p:nvPicPr>
        <p:blipFill>
          <a:blip r:embed="rId3"/>
          <a:stretch/>
        </p:blipFill>
        <p:spPr>
          <a:xfrm>
            <a:off x="250920" y="1700280"/>
            <a:ext cx="1944720" cy="2668680"/>
          </a:xfrm>
          <a:prstGeom prst="rect">
            <a:avLst/>
          </a:prstGeom>
          <a:ln w="0">
            <a:noFill/>
          </a:ln>
        </p:spPr>
      </p:pic>
      <p:sp>
        <p:nvSpPr>
          <p:cNvPr id="607" name="WordArt 10"/>
          <p:cNvSpPr txBox="1"/>
          <p:nvPr/>
        </p:nvSpPr>
        <p:spPr>
          <a:xfrm>
            <a:off x="900000" y="692280"/>
            <a:ext cx="72010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a8456"/>
                </a:solidFill>
                <a:latin typeface="Arial"/>
              </a:rPr>
              <a:t>Немного истор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a8456"/>
              </a:solidFill>
              <a:latin typeface="Arial"/>
              <a:ea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2061000" y="1628640"/>
            <a:ext cx="6732000" cy="1434600"/>
          </a:xfrm>
          <a:prstGeom prst="rect">
            <a:avLst/>
          </a:prstGeom>
          <a:gradFill rotWithShape="0">
            <a:gsLst>
              <a:gs pos="0">
                <a:srgbClr val="eec85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ученый Древней Греции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Архимед определил, что значение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находится в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следующих пределах:</a:t>
            </a:r>
            <a:r>
              <a:rPr b="0" i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1955880" y="5157720"/>
            <a:ext cx="4835160" cy="143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еликий математик Эйлер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вычислил для числа 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800000"/>
                </a:solidFill>
                <a:latin typeface="Tahoma"/>
              </a:rPr>
              <a:t>π</a:t>
            </a: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 153 десятичных знака.</a:t>
            </a:r>
            <a:endParaRPr b="0" i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3"/>
              <p:cNvSpPr txBox="1"/>
              <p:nvPr/>
            </p:nvSpPr>
            <p:spPr>
              <a:xfrm>
                <a:off x="3059280" y="3357720"/>
                <a:ext cx="3097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⊲</m:t>
                    </m:r>
                    <m:r>
                      <m:t xml:space="preserve">П</m:t>
                    </m:r>
                    <m:r>
                      <m:t xml:space="preserve">⊲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 spokes="8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5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WordArt 7"/>
          <p:cNvSpPr txBox="1"/>
          <p:nvPr/>
        </p:nvSpPr>
        <p:spPr>
          <a:xfrm>
            <a:off x="32400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запомнить число "ПИ"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663480" y="1857240"/>
            <a:ext cx="830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1. Первые восемь цифр этого числа можно запомнить так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Три, четырнадцать, пятнадцать, девяносто два и шес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(3, 1415926).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2. В практических расчетах редко бывает нужно знать 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более трех–пяти цифр числа </a:t>
            </a:r>
            <a:r>
              <a:rPr b="0" i="1" lang="ru-RU" sz="2200" spc="-1" strike="noStrike">
                <a:solidFill>
                  <a:srgbClr val="ffff00"/>
                </a:solidFill>
                <a:latin typeface="Tahoma"/>
              </a:rPr>
              <a:t>П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. Если со временем вы их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Tahoma"/>
              </a:rPr>
              <a:t>забудете, то задайте себе вопрос:</a:t>
            </a:r>
            <a:endParaRPr b="0" i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403280" y="4581360"/>
          <a:ext cx="6720120" cy="1168560"/>
        </p:xfrm>
        <a:graphic>
          <a:graphicData uri="http://schemas.openxmlformats.org/drawingml/2006/table">
            <a:tbl>
              <a:tblPr/>
              <a:tblGrid>
                <a:gridCol w="1344600"/>
                <a:gridCol w="1343160"/>
                <a:gridCol w="1344600"/>
                <a:gridCol w="1031760"/>
                <a:gridCol w="16560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Чт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наю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ругах?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2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88e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5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моги решить проблем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7" name="Picture 4" descr="баба Яга 3"/>
          <p:cNvPicPr/>
          <p:nvPr/>
        </p:nvPicPr>
        <p:blipFill>
          <a:blip r:embed="rId1"/>
          <a:stretch/>
        </p:blipFill>
        <p:spPr>
          <a:xfrm>
            <a:off x="0" y="1341360"/>
            <a:ext cx="1727280" cy="1727280"/>
          </a:xfrm>
          <a:prstGeom prst="rect">
            <a:avLst/>
          </a:prstGeom>
          <a:ln w="9360">
            <a:solidFill>
              <a:srgbClr val="0088e4"/>
            </a:solidFill>
            <a:miter/>
          </a:ln>
        </p:spPr>
      </p:pic>
      <p:sp>
        <p:nvSpPr>
          <p:cNvPr id="618" name="Text Box 7"/>
          <p:cNvSpPr/>
          <p:nvPr/>
        </p:nvSpPr>
        <p:spPr>
          <a:xfrm>
            <a:off x="2309040" y="1617840"/>
            <a:ext cx="645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Ага, научилась, научилась вычислять длину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кружности! Только какой радиус нам выбрать?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Подержи меня за помело, я и покручусь. В нем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Как раз два метра. А один оборот я совершила за 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ahoma"/>
              </a:rPr>
              <a:t>Одну секунду. Помогите, ребята, найти скорость.</a:t>
            </a:r>
            <a:endParaRPr b="0" i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2625480" y="387360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C = 2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= 3,14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 2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• 2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2,56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)</a:t>
            </a:r>
            <a:endParaRPr b="0" i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13"/>
              <p:cNvSpPr txBox="1"/>
              <p:nvPr/>
            </p:nvSpPr>
            <p:spPr>
              <a:xfrm>
                <a:off x="2556000" y="4653000"/>
                <a:ext cx="3384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18"/>
          <p:cNvSpPr/>
          <p:nvPr/>
        </p:nvSpPr>
        <p:spPr>
          <a:xfrm>
            <a:off x="6172200" y="514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6103440" y="49417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(м/с)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comb dir="vert"/>
    <p:sndAc>
      <p:stSnd>
        <p:snd r:embed="rId2" name="chimes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06:39:17Z</dcterms:created>
  <dc:creator>Группа5</dc:creator>
  <dc:description/>
  <dc:language>en-US</dc:language>
  <cp:lastModifiedBy>User</cp:lastModifiedBy>
  <dcterms:modified xsi:type="dcterms:W3CDTF">2011-11-15T16:26:15Z</dcterms:modified>
  <cp:revision>21</cp:revision>
  <dc:subject/>
  <dc:title>Слайд 1</dc:title>
</cp:coreProperties>
</file>