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B81-FB83-488A-B9DC-3C4BE46E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A84-83E7-43CB-97BD-5DFD770F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974-392D-415C-9F3E-91295C32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E35-3C33-4EB0-8C8E-7753F24E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FBE-FC05-40CA-B704-267DBD74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DA9-2D8A-4E14-AD7F-92493C49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EA0-34F5-4F41-898B-B806C5D3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2C5-D3BC-485B-9704-01D4CBF4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7C4-0913-47DC-A37B-6659F5AD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71D-8225-4549-8404-B6B6660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E5F-DDA3-4125-B1E5-AFA909D1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79D-2284-497C-A200-43A91CE2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9123-7019-4A7C-ACB3-D1F3C4599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s020.radikal.ru/i716/1405/ed/1f3e33166f2c.png" TargetMode="External"/><Relationship Id="rId3" Type="http://schemas.openxmlformats.org/officeDocument/2006/relationships/hyperlink" Target="http://www.filebase.ws/torrents/documental/162447/" TargetMode="External"/><Relationship Id="rId4" Type="http://schemas.openxmlformats.org/officeDocument/2006/relationships/hyperlink" Target="http://www.sovmusic.ru/m32/sp_marsh.mp3" TargetMode="External"/><Relationship Id="rId5" Type="http://schemas.openxmlformats.org/officeDocument/2006/relationships/hyperlink" Target="http://www.krasfun.ru/images/2011/6/53dee_moskva-003.jpg" TargetMode="External"/><Relationship Id="rId6" Type="http://schemas.openxmlformats.org/officeDocument/2006/relationships/hyperlink" Target="http://www.krasfun.ru/images/2011/6/c2e9d_moskva-066.jpg" TargetMode="External"/><Relationship Id="rId7" Type="http://schemas.openxmlformats.org/officeDocument/2006/relationships/hyperlink" Target="http://www.krasfun.ru/images/2011/6/e4da5_moskva-146.jpg" TargetMode="External"/><Relationship Id="rId8" Type="http://schemas.openxmlformats.org/officeDocument/2006/relationships/hyperlink" Target="http://www.sovmusic.ru/m32/molotov1.mp3" TargetMode="External"/><Relationship Id="rId9" Type="http://schemas.openxmlformats.org/officeDocument/2006/relationships/hyperlink" Target="http://data.lact.ru/f1/s/43/482/image/1064/716/medium_000008.jpg" TargetMode="External"/><Relationship Id="rId10" Type="http://schemas.openxmlformats.org/officeDocument/2006/relationships/hyperlink" Target="http://cs412321.vk.me/v412321587/17c1/3o-KygZo5MI.jpg" TargetMode="External"/><Relationship Id="rId11" Type="http://schemas.openxmlformats.org/officeDocument/2006/relationships/hyperlink" Target="http://content.foto.my.mail.ru/mail/mr.prodiga/_blogs/i-3673.jpg" TargetMode="External"/><Relationship Id="rId12" Type="http://schemas.openxmlformats.org/officeDocument/2006/relationships/hyperlink" Target="http://club.foto.ru/classics/images/photos/or/1497.jpg" TargetMode="Externa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900igr.net/datai/istorija/Borba-posle-smerti-Stalina/0008-004-III-etap-fevral-1955-mart-1957-gg.jpg" TargetMode="External"/><Relationship Id="rId3" Type="http://schemas.openxmlformats.org/officeDocument/2006/relationships/hyperlink" Target="http://www.up74.ru/files/images/07_soldat.jpg" TargetMode="External"/><Relationship Id="rId4" Type="http://schemas.openxmlformats.org/officeDocument/2006/relationships/hyperlink" Target="http://flavorwire.files.wordpress.com/2011/10/ashurov-mountain-jew-triangular-letter-06.jpeg" TargetMode="External"/><Relationship Id="rId5" Type="http://schemas.openxmlformats.org/officeDocument/2006/relationships/hyperlink" Target="http://i060.radikal.ru/1208/7b/2c061228f908.jpg" TargetMode="External"/><Relationship Id="rId6" Type="http://schemas.openxmlformats.org/officeDocument/2006/relationships/hyperlink" Target="http://img.ii4.ru/images/2013/05/09/361863_1273646235_099.jpg" TargetMode="External"/><Relationship Id="rId7" Type="http://schemas.openxmlformats.org/officeDocument/2006/relationships/hyperlink" Target="http://waralbum.ru/wp-content/uploads/yapb_cache/1102.5frgmcw2dioswcc84kkkocwcc" TargetMode="External"/><Relationship Id="rId8" Type="http://schemas.openxmlformats.org/officeDocument/2006/relationships/hyperlink" Target="http://img1.liveinternet.ru/images/foto/c/9/apps/3/31/3031557_1269840932_rusenine.jpg" TargetMode="External"/><Relationship Id="rId9" Type="http://schemas.openxmlformats.org/officeDocument/2006/relationships/hyperlink" Target="http://stat17.privet.ru/lr/0a0d45dd015c100dbecdfa29990dd909" TargetMode="External"/><Relationship Id="rId10" Type="http://schemas.openxmlformats.org/officeDocument/2006/relationships/hyperlink" Target="http://forum.exler.ru/uploads/127/post-1139012907.jpg" TargetMode="External"/><Relationship Id="rId11" Type="http://schemas.openxmlformats.org/officeDocument/2006/relationships/hyperlink" Target="http://warweapons.ru/wp-content/uploads/2013/02/wpid-IHstNBAjBAs.jpg" TargetMode="External"/><Relationship Id="rId12" Type="http://schemas.openxmlformats.org/officeDocument/2006/relationships/hyperlink" Target="http://www.stihi.ru/pics/2013/11/12/3842.jpg" TargetMode="External"/><Relationship Id="rId13" Type="http://schemas.openxmlformats.org/officeDocument/2006/relationships/hyperlink" Target="http://vedomosti.sfo.ru/files/flib/1696.jpg" TargetMode="External"/><Relationship Id="rId14" Type="http://schemas.openxmlformats.org/officeDocument/2006/relationships/hyperlink" Target="http://grin.com.ua/index.php?spec_cmd=getcontent&amp;args=id:3b2460a61e97aa2ef9d8b852eb3d0c3145920a3a010101010201010102020202020403" TargetMode="Externa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474120" y="765000"/>
            <a:ext cx="800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т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ликой Отечественной вой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1621800" y="3141720"/>
            <a:ext cx="5930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тегрированное  занят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учащихся начальной шко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1"/>
          <p:cNvSpPr/>
          <p:nvPr/>
        </p:nvSpPr>
        <p:spPr>
          <a:xfrm>
            <a:off x="7101000" y="465300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лента"/>
          <p:cNvPicPr/>
          <p:nvPr/>
        </p:nvPicPr>
        <p:blipFill>
          <a:blip r:embed="rId1"/>
          <a:stretch/>
        </p:blipFill>
        <p:spPr>
          <a:xfrm>
            <a:off x="6659640" y="5749920"/>
            <a:ext cx="2484360" cy="1108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3"/>
          <p:cNvSpPr/>
          <p:nvPr/>
        </p:nvSpPr>
        <p:spPr>
          <a:xfrm>
            <a:off x="468360" y="544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фак И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ГКОУ «Кохомская школа-интерна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/>
          <p:cNvSpPr/>
          <p:nvPr/>
        </p:nvSpPr>
        <p:spPr>
          <a:xfrm>
            <a:off x="7236000" y="4797360"/>
            <a:ext cx="1538280" cy="13464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лента"/>
          <p:cNvPicPr/>
          <p:nvPr/>
        </p:nvPicPr>
        <p:blipFill>
          <a:blip r:embed="rId1"/>
          <a:stretch/>
        </p:blipFill>
        <p:spPr>
          <a:xfrm>
            <a:off x="6804000" y="5589720"/>
            <a:ext cx="2340000" cy="104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2c061228f908"/>
          <p:cNvPicPr/>
          <p:nvPr/>
        </p:nvPicPr>
        <p:blipFill>
          <a:blip r:embed="rId2"/>
          <a:stretch/>
        </p:blipFill>
        <p:spPr>
          <a:xfrm>
            <a:off x="2124000" y="260280"/>
            <a:ext cx="5715000" cy="581040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1" name="Picture 10" descr="iCAFMA2K5"/>
          <p:cNvPicPr/>
          <p:nvPr/>
        </p:nvPicPr>
        <p:blipFill>
          <a:blip r:embed="rId3"/>
          <a:stretch/>
        </p:blipFill>
        <p:spPr>
          <a:xfrm>
            <a:off x="2627280" y="333360"/>
            <a:ext cx="4691160" cy="601488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2" name="Picture 12" descr="3031557_1269840932_rusenine"/>
          <p:cNvPicPr/>
          <p:nvPr/>
        </p:nvPicPr>
        <p:blipFill>
          <a:blip r:embed="rId4"/>
          <a:stretch/>
        </p:blipFill>
        <p:spPr>
          <a:xfrm>
            <a:off x="1908000" y="692280"/>
            <a:ext cx="6890040" cy="486864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3" name="Picture 13" descr="1102_5frgmcw2dioswcc84kkkocwcc_ejcuplo1l0oo0sk8c40s8osc4_th"/>
          <p:cNvPicPr/>
          <p:nvPr/>
        </p:nvPicPr>
        <p:blipFill>
          <a:blip r:embed="rId5"/>
          <a:stretch/>
        </p:blipFill>
        <p:spPr>
          <a:xfrm>
            <a:off x="2484360" y="333360"/>
            <a:ext cx="4521240" cy="619272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4" name="Picture 14" descr="iCAJTE5AG"/>
          <p:cNvPicPr/>
          <p:nvPr/>
        </p:nvPicPr>
        <p:blipFill>
          <a:blip r:embed="rId6"/>
          <a:stretch/>
        </p:blipFill>
        <p:spPr>
          <a:xfrm>
            <a:off x="2843280" y="692280"/>
            <a:ext cx="4824360" cy="561024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5" name="Picture 17" descr="iCAM7TMRR"/>
          <p:cNvPicPr/>
          <p:nvPr/>
        </p:nvPicPr>
        <p:blipFill>
          <a:blip r:embed="rId7"/>
          <a:stretch/>
        </p:blipFill>
        <p:spPr>
          <a:xfrm>
            <a:off x="1979640" y="1052640"/>
            <a:ext cx="6367320" cy="438120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6" name="Picture 21" descr="994967514"/>
          <p:cNvPicPr/>
          <p:nvPr/>
        </p:nvPicPr>
        <p:blipFill>
          <a:blip r:embed="rId8"/>
          <a:stretch/>
        </p:blipFill>
        <p:spPr>
          <a:xfrm>
            <a:off x="2771640" y="333360"/>
            <a:ext cx="4287960" cy="596916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7" name="Picture 22" descr="1744002"/>
          <p:cNvPicPr/>
          <p:nvPr/>
        </p:nvPicPr>
        <p:blipFill>
          <a:blip r:embed="rId9"/>
          <a:stretch/>
        </p:blipFill>
        <p:spPr>
          <a:xfrm>
            <a:off x="2987640" y="333360"/>
            <a:ext cx="3975120" cy="611352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8" name="Picture 23" descr="243529"/>
          <p:cNvPicPr/>
          <p:nvPr/>
        </p:nvPicPr>
        <p:blipFill>
          <a:blip r:embed="rId10"/>
          <a:stretch/>
        </p:blipFill>
        <p:spPr>
          <a:xfrm>
            <a:off x="2916360" y="0"/>
            <a:ext cx="4311360" cy="648000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9" name="Picture 25" descr="iCA6BZVO2"/>
          <p:cNvPicPr/>
          <p:nvPr/>
        </p:nvPicPr>
        <p:blipFill>
          <a:blip r:embed="rId11"/>
          <a:stretch/>
        </p:blipFill>
        <p:spPr>
          <a:xfrm>
            <a:off x="1692360" y="1125360"/>
            <a:ext cx="5892840" cy="455616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90" name="эх, дороги.mp3" descr=""/>
          <p:cNvPicPr/>
          <p:nvPr/>
        </p:nvPicPr>
        <p:blipFill>
          <a:blip r:embed="rId12"/>
          <a:stretch/>
        </p:blipFill>
        <p:spPr>
          <a:xfrm>
            <a:off x="190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7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9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8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6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3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40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7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22812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/>
          <p:cNvSpPr/>
          <p:nvPr/>
        </p:nvSpPr>
        <p:spPr>
          <a:xfrm>
            <a:off x="3276720" y="3933720"/>
            <a:ext cx="2401920" cy="206712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2556000" y="4968720"/>
            <a:ext cx="3924000" cy="1889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179280" y="72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читайте вопросы и постарайтесь каждый для себя на них ответи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 Понравился ли тебе сегодняшнее занятие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 Чем он был полезен для теб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 Научился ли ты ново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. Как оцениваешь свою работ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9"/>
          <p:cNvSpPr/>
          <p:nvPr/>
        </p:nvSpPr>
        <p:spPr>
          <a:xfrm>
            <a:off x="3203640" y="4005360"/>
            <a:ext cx="2259000" cy="19206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627280" y="1773360"/>
            <a:ext cx="3592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ПАСИБ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2556000" y="4968720"/>
            <a:ext cx="39240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539640" y="260280"/>
            <a:ext cx="83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ые интернет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ргиевская л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020.radikal.ru/i716/1405/ed/1f3e33166f2c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фрагмент  по материалам киноэпопеи «Великая Отечественная» загрузка с сай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ilebase.ws/torrents/documental/16244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5 – Песня из 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 «Врат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vmusic.ru/m32/sp_marsh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енное время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krasfun.ru/images/2011/6/53dee_moskva-0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rasfun.ru/images/2011/6/c2e9d_moskva-06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krasfun.ru/images/2011/6/e4da5_moskva-14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6 - Речь Молотова В.М. 22.июня 1941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sovmusic.ru/m32/molotov1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data.lact.ru/f1/s/43/482/image/1064/716/medium_0000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cs412321.vk.me/v412321587/17c1/3o-KygZo5M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content.foto.my.mail.ru/mail/mr.prodiga/_blogs/i-367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club.foto.ru/classics/images/photos/or/149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0" y="0"/>
            <a:ext cx="8893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тов В.М. –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900igr.net/datai/istorija/Borba-posle-smerti-Stalina/0008-004-III-etap-fevral-1955-mart-1957-g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p74.ru/files/images/07_sold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lavorwire.files.wordpress.com/2011/10/ashurov-mountain-jew-triangular-letter-06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060.radikal.ru/1208/7b/2c061228f9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.ii4.ru/images/2013/05/09/361863_1273646235_09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aralbum.ru/wp-content/uploads/yapb_cache/1102.5frgmcw2dioswcc84kkkocw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g1.liveinternet.ru/images/foto/c/9/apps/3/31/3031557_1269840932_rusenin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tat17.privet.ru/lr/0a0d45dd015c100dbecdfa29990dd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forum.exler.ru/uploads/127/post-113901290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arweapons.ru/wp-content/uploads/2013/02/wpid-IHstNBAjBA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stihi.ru/pics/2013/11/12/384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vedomosti.sfo.ru/files/flib/169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grin.com.ua/index.php?spec_cmd=getcontent&amp;args=id:3b2460a61e97aa2ef9d8b852eb3d0c3145920a3a010101010201010102020202020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11280" y="333360"/>
            <a:ext cx="684036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ский 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rin.com.ua/index.php?spec_cmd=getcontent&amp;args=id:3b2460a61e97aa2ef9d8b852eb3d0c3145920a3a010101010201010102020202020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авиана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odst.ru/pix/user_files/2/6387/nalet_aviaciistrelbavzryvy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х дор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usvid.net/muscat/%D1%8D%D1%85%20%D0%B4%D0%BE%D1%80%D0%BE%D0%B3%D0%B8%20%D0%BC%D0%B8%D0%BD%D1%83%D1%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1908000" y="333360"/>
            <a:ext cx="5284800" cy="46292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лента"/>
          <p:cNvPicPr/>
          <p:nvPr/>
        </p:nvPicPr>
        <p:blipFill>
          <a:blip r:embed="rId1"/>
          <a:stretch/>
        </p:blipFill>
        <p:spPr>
          <a:xfrm>
            <a:off x="2124000" y="3284640"/>
            <a:ext cx="4788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619280" y="907920"/>
            <a:ext cx="5689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 июня 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41 года 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6804000" y="443700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лента"/>
          <p:cNvPicPr/>
          <p:nvPr/>
        </p:nvPicPr>
        <p:blipFill>
          <a:blip r:embed="rId1"/>
          <a:stretch/>
        </p:blipFill>
        <p:spPr>
          <a:xfrm>
            <a:off x="6443640" y="5445000"/>
            <a:ext cx="2484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340000" y="981000"/>
            <a:ext cx="4635360" cy="34322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лента"/>
          <p:cNvPicPr/>
          <p:nvPr/>
        </p:nvPicPr>
        <p:blipFill>
          <a:blip r:embed="rId1"/>
          <a:stretch/>
        </p:blipFill>
        <p:spPr>
          <a:xfrm>
            <a:off x="2411280" y="3141720"/>
            <a:ext cx="4284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443640" y="414972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лента"/>
          <p:cNvPicPr/>
          <p:nvPr/>
        </p:nvPicPr>
        <p:blipFill>
          <a:blip r:embed="rId1"/>
          <a:stretch/>
        </p:blipFill>
        <p:spPr>
          <a:xfrm>
            <a:off x="6227640" y="5300640"/>
            <a:ext cx="2484720" cy="110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11200720moskvamoskva_154"/>
          <p:cNvPicPr/>
          <p:nvPr/>
        </p:nvPicPr>
        <p:blipFill>
          <a:blip r:embed="rId2"/>
          <a:stretch/>
        </p:blipFill>
        <p:spPr>
          <a:xfrm>
            <a:off x="250920" y="2924280"/>
            <a:ext cx="433044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марш отрывок.mp3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53dee_moskva-003"/>
          <p:cNvPicPr/>
          <p:nvPr/>
        </p:nvPicPr>
        <p:blipFill>
          <a:blip r:embed="rId4"/>
          <a:stretch/>
        </p:blipFill>
        <p:spPr>
          <a:xfrm>
            <a:off x="4284720" y="260280"/>
            <a:ext cx="3690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3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2"/>
          <p:cNvSpPr/>
          <p:nvPr/>
        </p:nvSpPr>
        <p:spPr>
          <a:xfrm>
            <a:off x="6804000" y="450864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лента"/>
          <p:cNvPicPr/>
          <p:nvPr/>
        </p:nvPicPr>
        <p:blipFill>
          <a:blip r:embed="rId1"/>
          <a:stretch/>
        </p:blipFill>
        <p:spPr>
          <a:xfrm>
            <a:off x="6659640" y="5516640"/>
            <a:ext cx="2484360" cy="110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0_3acfd_6acd0856_XL"/>
          <p:cNvPicPr/>
          <p:nvPr/>
        </p:nvPicPr>
        <p:blipFill>
          <a:blip r:embed="rId2"/>
          <a:stretch/>
        </p:blipFill>
        <p:spPr>
          <a:xfrm>
            <a:off x="179280" y="189000"/>
            <a:ext cx="4762440" cy="326700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61" name="молотов отрывок.mp3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_6824b_67f5a94d_XL"/>
          <p:cNvPicPr/>
          <p:nvPr/>
        </p:nvPicPr>
        <p:blipFill>
          <a:blip r:embed="rId4"/>
          <a:stretch/>
        </p:blipFill>
        <p:spPr>
          <a:xfrm>
            <a:off x="5292720" y="692280"/>
            <a:ext cx="4284720" cy="32144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63" name="Picture 10" descr="1497"/>
          <p:cNvPicPr/>
          <p:nvPr/>
        </p:nvPicPr>
        <p:blipFill>
          <a:blip r:embed="rId5"/>
          <a:stretch/>
        </p:blipFill>
        <p:spPr>
          <a:xfrm>
            <a:off x="4788000" y="3141720"/>
            <a:ext cx="3984480" cy="33512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64" name="Picture 11" descr="miting"/>
          <p:cNvPicPr/>
          <p:nvPr/>
        </p:nvPicPr>
        <p:blipFill>
          <a:blip r:embed="rId6"/>
          <a:stretch/>
        </p:blipFill>
        <p:spPr>
          <a:xfrm>
            <a:off x="539640" y="2708280"/>
            <a:ext cx="4419720" cy="29066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86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4716360" y="1603440"/>
            <a:ext cx="282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л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ячесл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й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315(1)"/>
          <p:cNvPicPr/>
          <p:nvPr/>
        </p:nvPicPr>
        <p:blipFill>
          <a:blip r:embed="rId1">
            <a:alphaModFix amt="29000"/>
          </a:blip>
          <a:stretch/>
        </p:blipFill>
        <p:spPr>
          <a:xfrm>
            <a:off x="971640" y="836640"/>
            <a:ext cx="2544840" cy="34574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sp>
        <p:nvSpPr>
          <p:cNvPr id="67" name="AutoShape 10"/>
          <p:cNvSpPr/>
          <p:nvPr/>
        </p:nvSpPr>
        <p:spPr>
          <a:xfrm>
            <a:off x="6732720" y="443700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лента"/>
          <p:cNvPicPr/>
          <p:nvPr/>
        </p:nvPicPr>
        <p:blipFill>
          <a:blip r:embed="rId2"/>
          <a:stretch/>
        </p:blipFill>
        <p:spPr>
          <a:xfrm>
            <a:off x="6443640" y="5445000"/>
            <a:ext cx="2484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10"/>
          <p:cNvSpPr txBox="1"/>
          <p:nvPr/>
        </p:nvSpPr>
        <p:spPr>
          <a:xfrm>
            <a:off x="2411280" y="3933720"/>
            <a:ext cx="406728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ЙНА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1547640" y="765000"/>
            <a:ext cx="58467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ЛИКАЯ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250920" y="2637000"/>
            <a:ext cx="871380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ЕЧЕСТВЕННАЯ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7236000" y="4797360"/>
            <a:ext cx="1538280" cy="13464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лента"/>
          <p:cNvPicPr/>
          <p:nvPr/>
        </p:nvPicPr>
        <p:blipFill>
          <a:blip r:embed="rId1"/>
          <a:stretch/>
        </p:blipFill>
        <p:spPr>
          <a:xfrm>
            <a:off x="6804000" y="5589720"/>
            <a:ext cx="23400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6"/>
          <p:cNvSpPr/>
          <p:nvPr/>
        </p:nvSpPr>
        <p:spPr>
          <a:xfrm>
            <a:off x="7236000" y="4797360"/>
            <a:ext cx="1538280" cy="13464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лента"/>
          <p:cNvPicPr/>
          <p:nvPr/>
        </p:nvPicPr>
        <p:blipFill>
          <a:blip r:embed="rId1"/>
          <a:stretch/>
        </p:blipFill>
        <p:spPr>
          <a:xfrm>
            <a:off x="6804000" y="5589720"/>
            <a:ext cx="2340000" cy="104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shurov-mountain-jew-triangular-letter-06"/>
          <p:cNvPicPr/>
          <p:nvPr/>
        </p:nvPicPr>
        <p:blipFill>
          <a:blip r:embed="rId2"/>
          <a:stretch/>
        </p:blipFill>
        <p:spPr>
          <a:xfrm>
            <a:off x="4284720" y="1052640"/>
            <a:ext cx="3332160" cy="3932280"/>
          </a:xfrm>
          <a:prstGeom prst="rect">
            <a:avLst/>
          </a:prstGeom>
          <a:ln w="63360">
            <a:solidFill>
              <a:srgbClr val="ff9900"/>
            </a:solidFill>
            <a:miter/>
          </a:ln>
        </p:spPr>
      </p:pic>
      <p:pic>
        <p:nvPicPr>
          <p:cNvPr id="77" name="Picture 9" descr="07_soldat"/>
          <p:cNvPicPr/>
          <p:nvPr/>
        </p:nvPicPr>
        <p:blipFill>
          <a:blip r:embed="rId3"/>
          <a:stretch/>
        </p:blipFill>
        <p:spPr>
          <a:xfrm>
            <a:off x="611280" y="333360"/>
            <a:ext cx="3282840" cy="4797360"/>
          </a:xfrm>
          <a:prstGeom prst="rect">
            <a:avLst/>
          </a:prstGeom>
          <a:ln w="633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21:40:16Z</dcterms:created>
  <dc:creator>Windows User</dc:creator>
  <dc:description/>
  <dc:language>en-US</dc:language>
  <cp:lastModifiedBy>ОЛЕГ</cp:lastModifiedBy>
  <dcterms:modified xsi:type="dcterms:W3CDTF">2014-12-03T16:37:04Z</dcterms:modified>
  <cp:revision>18</cp:revision>
  <dc:subject/>
  <dc:title>Слайд 1</dc:title>
</cp:coreProperties>
</file>