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gif" ContentType="image/gif"/>
  <Override PartName="/ppt/media/image20.png" ContentType="image/png"/>
  <Override PartName="/ppt/media/image2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4471-3B0C-4F72-9AA5-B6529EF442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110-1CB2-46B0-9D05-3A94B8F9AA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9E00-B86D-42D5-B8DA-01E6A5C282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18D-D76A-4242-9965-ABB43342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7BA-C038-41B2-9884-C5251AD3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ED4-1758-43A6-A32A-8F404CEE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ACF-95EB-438F-A159-961470FB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A355-BCA3-4739-B0E9-F662BF7B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BC65-A24E-4B63-901C-200FD2DE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3296-31BB-4FF5-A8C2-A3BCD3A2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884B-FF25-4D5B-94FD-A9B1518F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7797-3F49-43E0-9844-332063D5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7829-177F-428B-BD68-8E1B6939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F933-704A-47FB-86EC-56A4306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8C7-8A35-4E4E-B951-0602098E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8C8D-8FD9-409C-9D07-4BA13048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F178-E467-4DC6-BBC9-2F560F1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EEC3-A263-4E7B-BDF1-71FDAC6D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A206-0F1E-4AD1-B21E-F2C5843A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8581-14F1-42B1-8514-C40CCD33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C72-ED62-4F1D-9D3A-FA477BC0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C47-41D7-4F83-9614-542AB6A0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12B-2FB4-41C5-9642-7A8759B2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B30-A51F-4C37-B0D9-35C8E0B4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E72-5ED2-4990-AB6C-514395BF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7E2-D6C0-472A-BF10-19B1F50C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877-5B3E-4ABC-A2DE-00079C0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BDEB-1B12-4D87-B75A-F9AD7269C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AC4E-7864-4CA1-914C-46C7CBB88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7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3745080" cy="5335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42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уква П,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ь! У тебя получилось та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т летает на самолё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ник пилит пил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 плавает на кораб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 варит на пл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knizhechka"/>
          <p:cNvPicPr/>
          <p:nvPr/>
        </p:nvPicPr>
        <p:blipFill>
          <a:blip r:embed="rId1"/>
          <a:stretch/>
        </p:blipFill>
        <p:spPr>
          <a:xfrm>
            <a:off x="6516720" y="4440240"/>
            <a:ext cx="172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500040" y="1163520"/>
            <a:ext cx="5715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цветка к цветку ле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ёд душистый собир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ньше всех ст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-ка-ре-ку!” по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адим зёрныш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стит солныш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вост крюч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с пятач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572000" y="174456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круглый и кра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глаз свето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еди овощей нет сочне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ый дом несу в ру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ерцы дома на зам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м лежат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жке и тетр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642960" y="571680"/>
            <a:ext cx="828720" cy="761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3643200" y="2143080"/>
            <a:ext cx="102888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3214800" y="5516640"/>
            <a:ext cx="1214280" cy="912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5"/>
          <a:stretch/>
        </p:blipFill>
        <p:spPr>
          <a:xfrm>
            <a:off x="5786280" y="30718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7286760" y="5715000"/>
            <a:ext cx="142848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1571760" y="4572000"/>
            <a:ext cx="777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7"/>
          <p:cNvSpPr txBox="1"/>
          <p:nvPr/>
        </p:nvSpPr>
        <p:spPr>
          <a:xfrm>
            <a:off x="468360" y="2060640"/>
            <a:ext cx="29322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5076720" y="126828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зн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5148360" y="2492280"/>
            <a:ext cx="3456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5219640" y="3789360"/>
            <a:ext cx="338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5364000" y="501336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ив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3419640" y="2133360"/>
            <a:ext cx="151272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 flipV="1">
            <a:off x="3419640" y="3068640"/>
            <a:ext cx="1584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419640" y="4005360"/>
            <a:ext cx="158400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3419640" y="4076640"/>
            <a:ext cx="172872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216720" cy="6858000"/>
            <a:chOff x="0" y="0"/>
            <a:chExt cx="9216720" cy="6858000"/>
          </a:xfrm>
        </p:grpSpPr>
        <p:sp>
          <p:nvSpPr>
            <p:cNvPr id="93" name="Line 3"/>
            <p:cNvSpPr/>
            <p:nvPr/>
          </p:nvSpPr>
          <p:spPr>
            <a:xfrm>
              <a:off x="36360" y="69372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"/>
            <p:cNvSpPr/>
            <p:nvPr/>
          </p:nvSpPr>
          <p:spPr>
            <a:xfrm>
              <a:off x="36360" y="119700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36360" y="213192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"/>
            <p:cNvSpPr/>
            <p:nvPr/>
          </p:nvSpPr>
          <p:spPr>
            <a:xfrm>
              <a:off x="36360" y="270828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36360" y="371808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72720" y="429264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 flipH="1">
              <a:off x="36000" y="0"/>
              <a:ext cx="2771640" cy="40053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 flipH="1">
              <a:off x="1439640" y="0"/>
              <a:ext cx="4464000" cy="6858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 flipH="1">
              <a:off x="4679280" y="0"/>
              <a:ext cx="4249800" cy="6858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 flipH="1">
              <a:off x="7487640" y="3860640"/>
              <a:ext cx="1692360" cy="29973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34920" y="530208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0" y="587700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6" descr="BRD270"/>
          <p:cNvPicPr/>
          <p:nvPr/>
        </p:nvPicPr>
        <p:blipFill>
          <a:blip r:embed="rId1"/>
          <a:stretch/>
        </p:blipFill>
        <p:spPr>
          <a:xfrm>
            <a:off x="571680" y="285840"/>
            <a:ext cx="5735520" cy="6381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7"/>
          <p:cNvSpPr/>
          <p:nvPr/>
        </p:nvSpPr>
        <p:spPr>
          <a:xfrm rot="20511600">
            <a:off x="2268360" y="870840"/>
            <a:ext cx="31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рь, друж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Ты готов начать уро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на 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в порядк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иги, ру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трад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5332320" y="5143680"/>
            <a:ext cx="341784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ьянов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АУ «Гимназия №1 г.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1" descr="File0100.jpg"/>
          <p:cNvPicPr/>
          <p:nvPr/>
        </p:nvPicPr>
        <p:blipFill>
          <a:blip r:embed="rId1"/>
          <a:stretch/>
        </p:blipFill>
        <p:spPr>
          <a:xfrm>
            <a:off x="500040" y="500040"/>
            <a:ext cx="81439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071880" cy="6181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3571920" y="282888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ква П на парово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полям и по лес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тичкам песенки развоз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евает: “Трам-пам-пам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нгви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Пингвин  живёт  в Антарктиде, среди  льдов. Его  тело  покрыто  густым  непромокаемым  оперением. Толстый  слой жира  защищает  его от  мороз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нгвин  летать  не  умеет. Зато  в  воде  он  очень  проворный, а  крылья  ему  служат  вёслами. Пингвин  умеет нырять  на  несколько  десятков  метров  и  выпрыгивать  из  воды  на  два  метра. Прямо  акроба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41200" y="620640"/>
            <a:ext cx="4172040" cy="496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643280" y="133200"/>
            <a:ext cx="417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428760" y="5643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а букву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найд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глянув в дверной про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3643200" y="1285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” - тур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нем гимн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тянулся сорок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тянись попробуй 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е бойся высо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06600" y="1357200"/>
            <a:ext cx="2608200" cy="17859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5" descr=""/>
          <p:cNvPicPr/>
          <p:nvPr/>
        </p:nvPicPr>
        <p:blipFill>
          <a:blip r:embed="rId2"/>
          <a:stretch/>
        </p:blipFill>
        <p:spPr>
          <a:xfrm>
            <a:off x="1627200" y="274680"/>
            <a:ext cx="6194520" cy="974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4857840" y="3571920"/>
            <a:ext cx="3214440" cy="21398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7"/>
          <p:cNvSpPr/>
          <p:nvPr/>
        </p:nvSpPr>
        <p:spPr>
          <a:xfrm>
            <a:off x="5286240" y="57862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ворил недавно кто-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хожа на 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1143000" y="3429000"/>
            <a:ext cx="1366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отнести слово и рисун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152424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590920" y="5105520"/>
            <a:ext cx="152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724280" y="5105520"/>
            <a:ext cx="1828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5105520"/>
            <a:ext cx="1828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190476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905120" cy="3124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1905120" cy="30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1"/>
          <p:cNvSpPr/>
          <p:nvPr/>
        </p:nvSpPr>
        <p:spPr>
          <a:xfrm>
            <a:off x="38088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Проверь! Ты сделал т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4 -0.00532 L 0.7467 0.00578 E">
                                      <p:cBhvr>
                                        <p:cTn id="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347 L -0.24167 0.00347 E">
                                      <p:cBhvr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4 0.00347 L -0.25 0.00347 E">
                                      <p:cBhvr>
                                        <p:cTn id="1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0.00347 L -0.20833 0.00347 E">
                                      <p:cBhvr>
                                        <p:cTn id="1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читай слова. Составь предложения из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т            пилит        на самолё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ник         плавает    пил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         летает      на пл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            варит        на кораб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6" descr="knizhechka"/>
          <p:cNvPicPr/>
          <p:nvPr/>
        </p:nvPicPr>
        <p:blipFill>
          <a:blip r:embed="rId1"/>
          <a:stretch/>
        </p:blipFill>
        <p:spPr>
          <a:xfrm>
            <a:off x="6516720" y="4440240"/>
            <a:ext cx="172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4:03:10Z</dcterms:created>
  <dc:creator>Admin</dc:creator>
  <dc:description/>
  <dc:language>en-US</dc:language>
  <cp:lastModifiedBy>Admin</cp:lastModifiedBy>
  <dcterms:modified xsi:type="dcterms:W3CDTF">2012-08-06T16:03:01Z</dcterms:modified>
  <cp:revision>11</cp:revision>
  <dc:subject/>
  <dc:title>Слайд 1</dc:title>
</cp:coreProperties>
</file>