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gif" ContentType="image/gif"/>
  <Override PartName="/ppt/media/image20.png" ContentType="image/png"/>
  <Override PartName="/ppt/media/image2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DE4B-70BF-4E9F-B4BD-6F47376472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F450-CC81-4AB0-A7D1-2CB3750785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3431-E780-4A6B-8A30-669A38D692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92A3-7E30-4EF3-8E35-ED600469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3699-17ED-4FA3-86D0-C5FB51FA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F950-67AD-4F4E-A132-4B04E3535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70FB-A550-49A8-A078-A283C7AD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5C55-CAA8-4B41-8833-FA794C7D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13F0-FF76-4FB9-B8EB-1CA76ED4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6973-29C2-436E-987F-3FAB88B9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7CEF-6634-4AFA-A585-8FAC39B9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48CA-2416-4B42-A9EE-0BC48B86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90D8-775A-4825-B48C-F3954A16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83A9-BA70-4D3D-955A-8D1AC138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0D3F-B8A4-4138-B874-065058B1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8588-03B4-426C-A808-EB72435A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1C3A-CFBD-4288-A6F5-64041044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1F05-86D5-4E54-A83F-5FF2F9C7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C2F3-BC42-4B8E-AA14-7B9C6BAD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5228-B4B3-41DC-92FB-CD349F9E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49F0-22EC-479B-8449-7BBCAA64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49E1-485E-45AD-BED7-2E71F2EB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C5D2-FA62-481B-8526-BEC981FA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817F-58D1-4A32-AE8F-0E836762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8227-F674-4268-B1E6-DE6E5639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7747-EAA7-4EEA-86E3-D126BF41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F401-ECD3-4FD6-B168-4497C7C6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0848-67A7-4DDD-901F-CCBC0F5A10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505E-6711-4D2D-9ED8-8C9F8E328F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37" descr=""/>
          <p:cNvPicPr/>
          <p:nvPr/>
        </p:nvPicPr>
        <p:blipFill>
          <a:blip r:embed="rId1"/>
          <a:stretch/>
        </p:blipFill>
        <p:spPr>
          <a:xfrm>
            <a:off x="4356000" y="189000"/>
            <a:ext cx="3745080" cy="53355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учение грамо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424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Буква П,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верь! У тебя получилось та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лот летает на самолё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отник пилит пил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питан плавает на кораб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ар варит на пл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6" descr="knizhechka"/>
          <p:cNvPicPr/>
          <p:nvPr/>
        </p:nvPicPr>
        <p:blipFill>
          <a:blip r:embed="rId1"/>
          <a:stretch/>
        </p:blipFill>
        <p:spPr>
          <a:xfrm>
            <a:off x="6516720" y="4440240"/>
            <a:ext cx="17272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2"/>
          <p:cNvSpPr/>
          <p:nvPr/>
        </p:nvSpPr>
        <p:spPr>
          <a:xfrm>
            <a:off x="500040" y="1163520"/>
            <a:ext cx="5715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 цветка к цветку лет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ёд душистый собир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ньше всех ста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у-ка-ре-ку!” по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адим зёрныш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растит солныш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вост крючк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с пятач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4572000" y="174456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н круглый и крас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глаз светоф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реди овощей нет сочне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вый дом несу в ру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верцы дома на зам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ам лежат в поряд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нижке и тетр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" descr=""/>
          <p:cNvPicPr/>
          <p:nvPr/>
        </p:nvPicPr>
        <p:blipFill>
          <a:blip r:embed="rId2"/>
          <a:stretch/>
        </p:blipFill>
        <p:spPr>
          <a:xfrm>
            <a:off x="642960" y="571680"/>
            <a:ext cx="828720" cy="761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3"/>
          <a:stretch/>
        </p:blipFill>
        <p:spPr>
          <a:xfrm>
            <a:off x="3643200" y="2143080"/>
            <a:ext cx="1028880" cy="1219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4"/>
          <a:stretch/>
        </p:blipFill>
        <p:spPr>
          <a:xfrm>
            <a:off x="3214800" y="5516640"/>
            <a:ext cx="1214280" cy="912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5"/>
          <a:stretch/>
        </p:blipFill>
        <p:spPr>
          <a:xfrm>
            <a:off x="5786280" y="307188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"/>
          <p:cNvPicPr/>
          <p:nvPr/>
        </p:nvPicPr>
        <p:blipFill>
          <a:blip r:embed="rId6"/>
          <a:stretch/>
        </p:blipFill>
        <p:spPr>
          <a:xfrm>
            <a:off x="7286760" y="5715000"/>
            <a:ext cx="1428480" cy="928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"/>
          <p:cNvPicPr/>
          <p:nvPr/>
        </p:nvPicPr>
        <p:blipFill>
          <a:blip r:embed="rId7"/>
          <a:stretch/>
        </p:blipFill>
        <p:spPr>
          <a:xfrm>
            <a:off x="1571760" y="4572000"/>
            <a:ext cx="7776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7"/>
          <p:cNvSpPr txBox="1"/>
          <p:nvPr/>
        </p:nvSpPr>
        <p:spPr>
          <a:xfrm>
            <a:off x="468360" y="2060640"/>
            <a:ext cx="293220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WordArt 8"/>
          <p:cNvSpPr txBox="1"/>
          <p:nvPr/>
        </p:nvSpPr>
        <p:spPr>
          <a:xfrm>
            <a:off x="5076720" y="1268280"/>
            <a:ext cx="3095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зна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WordArt 9"/>
          <p:cNvSpPr txBox="1"/>
          <p:nvPr/>
        </p:nvSpPr>
        <p:spPr>
          <a:xfrm>
            <a:off x="5148360" y="2492280"/>
            <a:ext cx="345600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помни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WordArt 10"/>
          <p:cNvSpPr txBox="1"/>
          <p:nvPr/>
        </p:nvSpPr>
        <p:spPr>
          <a:xfrm>
            <a:off x="5219640" y="3789360"/>
            <a:ext cx="33847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училс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2" name="WordArt 11"/>
          <p:cNvSpPr txBox="1"/>
          <p:nvPr/>
        </p:nvSpPr>
        <p:spPr>
          <a:xfrm>
            <a:off x="5364000" y="5013360"/>
            <a:ext cx="3095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дивилс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Line 13"/>
          <p:cNvSpPr/>
          <p:nvPr/>
        </p:nvSpPr>
        <p:spPr>
          <a:xfrm flipV="1">
            <a:off x="3419640" y="2133360"/>
            <a:ext cx="1512720" cy="165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4"/>
          <p:cNvSpPr/>
          <p:nvPr/>
        </p:nvSpPr>
        <p:spPr>
          <a:xfrm flipV="1">
            <a:off x="3419640" y="3068640"/>
            <a:ext cx="158400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>
            <a:off x="3419640" y="4005360"/>
            <a:ext cx="158400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6"/>
          <p:cNvSpPr/>
          <p:nvPr/>
        </p:nvSpPr>
        <p:spPr>
          <a:xfrm>
            <a:off x="3419640" y="4076640"/>
            <a:ext cx="172872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216720" cy="6858000"/>
            <a:chOff x="0" y="0"/>
            <a:chExt cx="9216720" cy="6858000"/>
          </a:xfrm>
        </p:grpSpPr>
        <p:sp>
          <p:nvSpPr>
            <p:cNvPr id="93" name="Line 3"/>
            <p:cNvSpPr/>
            <p:nvPr/>
          </p:nvSpPr>
          <p:spPr>
            <a:xfrm>
              <a:off x="36360" y="693720"/>
              <a:ext cx="91440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4"/>
            <p:cNvSpPr/>
            <p:nvPr/>
          </p:nvSpPr>
          <p:spPr>
            <a:xfrm>
              <a:off x="36360" y="1197000"/>
              <a:ext cx="91440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5"/>
            <p:cNvSpPr/>
            <p:nvPr/>
          </p:nvSpPr>
          <p:spPr>
            <a:xfrm>
              <a:off x="36360" y="2131920"/>
              <a:ext cx="91440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6"/>
            <p:cNvSpPr/>
            <p:nvPr/>
          </p:nvSpPr>
          <p:spPr>
            <a:xfrm>
              <a:off x="36360" y="2708280"/>
              <a:ext cx="91440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7"/>
            <p:cNvSpPr/>
            <p:nvPr/>
          </p:nvSpPr>
          <p:spPr>
            <a:xfrm>
              <a:off x="36360" y="3718080"/>
              <a:ext cx="91440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8"/>
            <p:cNvSpPr/>
            <p:nvPr/>
          </p:nvSpPr>
          <p:spPr>
            <a:xfrm>
              <a:off x="72720" y="4292640"/>
              <a:ext cx="91440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9"/>
            <p:cNvSpPr/>
            <p:nvPr/>
          </p:nvSpPr>
          <p:spPr>
            <a:xfrm flipH="1">
              <a:off x="36000" y="0"/>
              <a:ext cx="2771640" cy="40053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0"/>
            <p:cNvSpPr/>
            <p:nvPr/>
          </p:nvSpPr>
          <p:spPr>
            <a:xfrm flipH="1">
              <a:off x="1439640" y="0"/>
              <a:ext cx="4464000" cy="685800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1"/>
            <p:cNvSpPr/>
            <p:nvPr/>
          </p:nvSpPr>
          <p:spPr>
            <a:xfrm flipH="1">
              <a:off x="4679280" y="0"/>
              <a:ext cx="4249800" cy="685800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2"/>
            <p:cNvSpPr/>
            <p:nvPr/>
          </p:nvSpPr>
          <p:spPr>
            <a:xfrm flipH="1">
              <a:off x="7487640" y="3860640"/>
              <a:ext cx="1692360" cy="29973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3"/>
            <p:cNvSpPr/>
            <p:nvPr/>
          </p:nvSpPr>
          <p:spPr>
            <a:xfrm>
              <a:off x="34920" y="5302080"/>
              <a:ext cx="91440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4"/>
            <p:cNvSpPr/>
            <p:nvPr/>
          </p:nvSpPr>
          <p:spPr>
            <a:xfrm>
              <a:off x="0" y="5877000"/>
              <a:ext cx="91440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16" descr="BRD270"/>
          <p:cNvPicPr/>
          <p:nvPr/>
        </p:nvPicPr>
        <p:blipFill>
          <a:blip r:embed="rId1"/>
          <a:stretch/>
        </p:blipFill>
        <p:spPr>
          <a:xfrm>
            <a:off x="571680" y="285840"/>
            <a:ext cx="5735520" cy="63817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7"/>
          <p:cNvSpPr/>
          <p:nvPr/>
        </p:nvSpPr>
        <p:spPr>
          <a:xfrm rot="20511600">
            <a:off x="2268360" y="870840"/>
            <a:ext cx="313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верь, дружок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Ты готов начать урок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е на мес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е в порядк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ниги, ру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тетрад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6"/>
          <p:cNvSpPr/>
          <p:nvPr/>
        </p:nvSpPr>
        <p:spPr>
          <a:xfrm>
            <a:off x="5332320" y="5143680"/>
            <a:ext cx="3417840" cy="1191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ьянова Татья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АУ «Гимназия №1 г.Ор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1" descr="File0100.jpg"/>
          <p:cNvPicPr/>
          <p:nvPr/>
        </p:nvPicPr>
        <p:blipFill>
          <a:blip r:embed="rId1"/>
          <a:stretch/>
        </p:blipFill>
        <p:spPr>
          <a:xfrm>
            <a:off x="500040" y="500040"/>
            <a:ext cx="814392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071880" cy="61815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2"/>
          <p:cNvSpPr/>
          <p:nvPr/>
        </p:nvSpPr>
        <p:spPr>
          <a:xfrm>
            <a:off x="3571920" y="2828880"/>
            <a:ext cx="492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уква П на паровоз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 полям и по лес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тичкам песенки развоз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певает: “Трам-пам-пам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нгвин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Пингвин  живёт  в Антарктиде, среди  льдов. Его  тело  покрыто  густым  непромокаемым  оперением. Толстый  слой жира  защищает  его от  морозов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нгвин  летать  не  умеет. Зато  в  воде  он  очень  проворный, а  крылья  ему  служат  вёслами. Пингвин  умеет нырять  на  несколько  десятков  метров  и  выпрыгивать  из  воды  на  два  метра. Прямо  акробат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241200" y="620640"/>
            <a:ext cx="4172040" cy="4969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4643280" y="133200"/>
            <a:ext cx="4176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2"/>
          <p:cNvSpPr/>
          <p:nvPr/>
        </p:nvSpPr>
        <p:spPr>
          <a:xfrm>
            <a:off x="428760" y="5643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ма букву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П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найдё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глянув в дверной про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3643200" y="1285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” - тур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нем гимн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тянулся сорок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тянись попробуй 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не бойся высот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606600" y="1357200"/>
            <a:ext cx="2608200" cy="178596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5" descr=""/>
          <p:cNvPicPr/>
          <p:nvPr/>
        </p:nvPicPr>
        <p:blipFill>
          <a:blip r:embed="rId2"/>
          <a:stretch/>
        </p:blipFill>
        <p:spPr>
          <a:xfrm>
            <a:off x="1627200" y="274680"/>
            <a:ext cx="6194520" cy="974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3"/>
          <a:stretch/>
        </p:blipFill>
        <p:spPr>
          <a:xfrm>
            <a:off x="4857840" y="3571920"/>
            <a:ext cx="3214440" cy="213984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7"/>
          <p:cNvSpPr/>
          <p:nvPr/>
        </p:nvSpPr>
        <p:spPr>
          <a:xfrm>
            <a:off x="5286240" y="578628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ворил недавно кто-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П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похожа на во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4"/>
          <a:stretch/>
        </p:blipFill>
        <p:spPr>
          <a:xfrm>
            <a:off x="1143000" y="3429000"/>
            <a:ext cx="13669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отнести слово и рисун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152424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л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590920" y="5105520"/>
            <a:ext cx="1523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724280" y="5105520"/>
            <a:ext cx="1828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о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934320" y="5105520"/>
            <a:ext cx="1828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пи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1904760" cy="3047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2"/>
          <a:stretch/>
        </p:blipFill>
        <p:spPr>
          <a:xfrm>
            <a:off x="6858000" y="1676520"/>
            <a:ext cx="1905120" cy="3124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3"/>
          <a:stretch/>
        </p:blipFill>
        <p:spPr>
          <a:xfrm>
            <a:off x="2438280" y="1676520"/>
            <a:ext cx="1905120" cy="3047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4"/>
          <a:stretch/>
        </p:blipFill>
        <p:spPr>
          <a:xfrm>
            <a:off x="4648320" y="1676520"/>
            <a:ext cx="2057400" cy="3124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1"/>
          <p:cNvSpPr/>
          <p:nvPr/>
        </p:nvSpPr>
        <p:spPr>
          <a:xfrm>
            <a:off x="380880" y="57150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Проверь! Ты сделал та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04 -0.00532 L 0.7467 0.00578 E">
                                      <p:cBhvr>
                                        <p:cTn id="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0.00347 L -0.24167 0.00347 E">
                                      <p:cBhvr>
                                        <p:cTn id="1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834 0.00347 L -0.25 0.00347 E">
                                      <p:cBhvr>
                                        <p:cTn id="14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66 0.00347 L -0.20833 0.00347 E">
                                      <p:cBhvr>
                                        <p:cTn id="18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очитай слова. Составь предложения из с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лот            пилит        на самолё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отник         плавает    пил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питан         летает      на пл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ар            варит        на корабл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6" descr="knizhechka"/>
          <p:cNvPicPr/>
          <p:nvPr/>
        </p:nvPicPr>
        <p:blipFill>
          <a:blip r:embed="rId1"/>
          <a:stretch/>
        </p:blipFill>
        <p:spPr>
          <a:xfrm>
            <a:off x="6516720" y="4440240"/>
            <a:ext cx="17272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14:03:10Z</dcterms:created>
  <dc:creator>Admin</dc:creator>
  <dc:description/>
  <dc:language>en-US</dc:language>
  <cp:lastModifiedBy>Admin</cp:lastModifiedBy>
  <dcterms:modified xsi:type="dcterms:W3CDTF">2012-08-06T16:03:01Z</dcterms:modified>
  <cp:revision>11</cp:revision>
  <dc:subject/>
  <dc:title>Слайд 1</dc:title>
</cp:coreProperties>
</file>