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AMERA.WAV" ContentType="audio/x-wav"/>
  <Override PartName="/ppt/media/LASER.WAV" ContentType="audio/x-wav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TYPE.WAV" ContentType="audio/x-wav"/>
  <Override PartName="/ppt/media/image3.png" ContentType="image/png"/>
  <Override PartName="/ppt/media/image4.png" ContentType="image/png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642-E2F9-4BA4-8C2B-1E9E16A5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CCB-8066-4B2C-BFF4-09D3C3F2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785-D4CC-420E-B50A-70B1212B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AE9-62B4-420C-BEDE-B13F73DE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C0B0-B245-4ADE-B561-47966F1E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ACBD-483F-4792-B555-E1CD3660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466-944C-421D-9240-21195B16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208-8EBB-44A8-8ABE-64EB463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656-5227-4026-8446-C877EEFC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FE2D-E122-4105-8D66-570110D8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8F6-21FA-4F4F-AD29-CBE6E21C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8A4-1FA2-4FDD-A81F-F999134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828E-1D89-4B91-A603-30201F3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115-23D2-46CA-8AE7-E9D139F0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6DAA-A91C-4D28-B353-720B99EE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83D-DA7C-4ED6-85A8-6087D2E0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7DF2-ACC2-4729-9EA3-9DA72837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25157-AC06-49BF-A960-C5F56FB7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340FA-AF76-4A17-B3D6-652D1F1C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39246-F351-4758-A038-9280A424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E25E5-1500-4174-94B1-8F456FB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8DC9B-C2FD-40F3-91F5-367DF9DC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DD0-EF55-40B3-A1AB-861415D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688D3-79DA-439E-A9C7-82811FA1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D75B7-92CF-40DA-8B2C-8F46427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2FED7-C686-4829-A091-5D35172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32767-5A8A-4D3E-A929-7D5547C5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4B53C-B8B2-4AD0-955A-B9A09A54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1C7A7-1C21-4297-90E7-8C5EB96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ACA71-9A5B-4C2F-A92A-999288EC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0EC-5E89-45F7-BBFE-CBA1DFED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F06-9C6F-49FD-9DD2-09A52ED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E68-267B-49A3-A56B-8DBB5C29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918-ABC7-42AD-86CC-1A3A778D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2D3-8F0E-4368-B2FD-537C69B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F31-5E63-44F4-A653-59160CE9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0F3D-8CD6-4EA4-9A55-3F1353CC58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9CE-78A6-4050-97F9-C87704E09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8ECD-BA8C-4045-B64E-273182396F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64008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езопасность жизнедея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earthspin"/>
          <p:cNvPicPr/>
          <p:nvPr/>
        </p:nvPicPr>
        <p:blipFill>
          <a:blip r:embed="rId1"/>
          <a:stretch/>
        </p:blipFill>
        <p:spPr>
          <a:xfrm>
            <a:off x="7086600" y="457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700360" y="46036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только думай, когда выбираешь, но и тщательно выбирай, о чем думае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3786120" y="5929200"/>
            <a:ext cx="2286000" cy="50004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9"/>
          <p:cNvSpPr/>
          <p:nvPr/>
        </p:nvSpPr>
        <p:spPr>
          <a:xfrm>
            <a:off x="611280" y="47628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онтраст объекта с фоном различ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й определяется отношением абсолютной разности между яркостью объек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фо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 яркости ф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6"/>
              <p:cNvSpPr txBox="1"/>
              <p:nvPr/>
            </p:nvSpPr>
            <p:spPr>
              <a:xfrm>
                <a:off x="755640" y="1700280"/>
                <a:ext cx="2486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9"/>
          <p:cNvSpPr/>
          <p:nvPr/>
        </p:nvSpPr>
        <p:spPr>
          <a:xfrm>
            <a:off x="3419640" y="1557360"/>
            <a:ext cx="541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 контрас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- 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 % - малый контра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= 20-50 % - средний контра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50 % - большой контра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11280" y="3645000"/>
            <a:ext cx="79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Характеристика фона, которая задаётся в зависимости от коэффициента отражения с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азличают фо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л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ём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.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а фона:  при коэф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4 – фон светл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2-0,4 – сред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0,2 – тем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мирование искусственного освещения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57200" y="1557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ида освещения (общее или комбинированно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57200" y="23493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Тип источника света: лампы накаливания или газоразрядные (для газоразрядных ламп нормы освещённости задаются выше, так как световая отдача этих ламп больше и нет смысла задавать меньшую нормативную освещённос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324000" y="4437000"/>
            <a:ext cx="8640720" cy="1833120"/>
            <a:chOff x="324000" y="4437000"/>
            <a:chExt cx="8640720" cy="1833120"/>
          </a:xfrm>
        </p:grpSpPr>
        <p:sp>
          <p:nvSpPr>
            <p:cNvPr id="225" name="Text Box 6"/>
            <p:cNvSpPr/>
            <p:nvPr/>
          </p:nvSpPr>
          <p:spPr>
            <a:xfrm>
              <a:off x="1044000" y="4437000"/>
              <a:ext cx="71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Примеры нормирования освещён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324000" y="4713120"/>
              <a:ext cx="864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еханический цех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: местное в составе комбинированного при газоразрядных лампах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80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.; общее в составе комбинированного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0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.; одно общее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50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; при лампах накаливания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35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,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5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,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0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  соответственно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Text Box 10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7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2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15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Улучшение светового режи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2193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Классификация систем осве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33520" y="1676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кусственное освещение по виду дел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00200" y="2209680"/>
            <a:ext cx="327672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рав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600200" y="2895480"/>
            <a:ext cx="3733920" cy="459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локализов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600200" y="3581280"/>
            <a:ext cx="3200400" cy="4597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омбинирован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029200" y="3581280"/>
            <a:ext cx="152388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705720" y="3581280"/>
            <a:ext cx="144756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7621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 функциональному назначен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1371600" y="4724280"/>
            <a:ext cx="16002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657600" y="4724280"/>
            <a:ext cx="167652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жу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019920" y="4724280"/>
            <a:ext cx="1828800" cy="4597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вари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514600" y="5410080"/>
            <a:ext cx="38862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щённое осве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1600200" y="6019920"/>
            <a:ext cx="2133720" cy="459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4114800" y="601992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876920" y="6019920"/>
            <a:ext cx="2361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скус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3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2100"/>
                            </p:stCondLst>
                            <p:childTnLst>
                              <p:par>
                                <p:cTn id="227" nodeType="afterEffect" fill="hold" presetClass="entr" presetID="2" presetSubtype="3">
                                  <p:stCondLst>
                                    <p:cond delay="3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75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465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15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465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15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265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5150"/>
                            </p:stCondLst>
                            <p:childTnLst>
                              <p:par>
                                <p:cTn id="257" nodeType="afterEffect" fill="hold" presetClass="entr" presetID="2" presetSubtype="3">
                                  <p:stCondLst>
                                    <p:cond delay="3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8325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4750"/>
                            </p:stCondLst>
                            <p:childTnLst>
                              <p:par>
                                <p:cTn id="266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1225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2075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125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4475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625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3520" y="1219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04920" y="18288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абочее напряж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и электрическая мощ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04920" y="2209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ветовой поток лам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0492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Характеристика спектра из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04920" y="297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рок  службы ламп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049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онструктивные параметры (форма колбы лампы, т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накала; наличие и состав газа, заполняющего колбу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80880" y="411480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ветовая отдача или экономично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/Вт), то е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отношение светового потока к мощности лам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3505320" y="5029200"/>
                <a:ext cx="16002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1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65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615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265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15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650"/>
                            </p:stCondLst>
                            <p:childTnLst>
                              <p:par>
                                <p:cTn id="314" nodeType="afterEffect" fill="hold" presetClass="entr" presetID="5" presetSubtype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915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8465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209680" y="1066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Лампы накаливания (Л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1752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чение возникает в результате нагрева вольфрамовой нити до высокой темп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33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ипы лам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90920" y="2590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вакуум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590920" y="3124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газонаполнен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90920" y="3581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биспираль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049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лые габариты, простота включения, нечувствительность к внешней темп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5105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к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изкая световая отдача ( 7-20 лм/Вт), небольшой срок службы (1000ч), восприимчивость к изменению напряжения, преобладание в спектре излучения красно-жёлтых т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6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1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3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95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4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73850"/>
                            </p:stCondLst>
                            <p:childTnLst>
                              <p:par>
                                <p:cTn id="343" nodeType="afterEffect" fill="hold" presetClass="entr" presetID="2" presetSubtype="1">
                                  <p:stCondLst>
                                    <p:cond delay="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3350"/>
                            </p:stCondLst>
                            <p:childTnLst>
                              <p:par>
                                <p:cTn id="348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485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635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785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75248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Галогенные лампы накал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0880" y="16765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 колбе паров йода повышает температуру накала спирали; образующиеся пары вольфрама соединяются с йодом и вновь оседают на вольфрамовую спираль, препятствуя распылению вольфрамовой ни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5720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галогенных ламп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ее высокая, чем у ламп накаливания световая отдача (до 40 лм/Вт), срок службы 3000ч, спектр излучения близок к естествен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752480" y="4343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Газоразрядные лам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49402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т свет в результате электрических разрядов в парах газов. Слой  люминофора преобразует электрические разряды в видимый свет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аю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зоразрядные лампы низкого (люминесцентные)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го д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1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3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75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85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13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86350"/>
                            </p:stCondLst>
                            <p:childTnLst>
                              <p:par>
                                <p:cTn id="384" nodeType="afterEffect" fill="hold" presetClass="entr" presetID="2" presetSubtype="3">
                                  <p:stCondLst>
                                    <p:cond delay="10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75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9285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19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75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минесцентные лампы (Л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и ламп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бел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дневн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Т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тёпло-бел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Х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холодн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Д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с улучшенной цветоперед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2209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чительная световая отдача (40-80 лм/Вт), большой срок службы (8000ч), спектр излучения близок к естественному св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0" y="3352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к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ие габариты, чувствительность к низкой температуре, пульсация светового потока, высокая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143000" y="4191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зоразрядные лампы высокого д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и лам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ртутная люминесцентна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К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ксеноновая трубчата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натриевая трубчат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и лампы работают при любой темп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66ff"/>
                </a:solidFill>
                <a:uFillTx/>
                <a:latin typeface="Times New Roman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для открытых площадок и в высоких помещен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16002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75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725"/>
                            </p:stCondLst>
                            <p:childTnLst>
                              <p:par>
                                <p:cTn id="401" nodeType="afterEffect" fill="hold" presetClass="entr" presetID="18" presetSubtype="3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6225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6725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80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7225"/>
                            </p:stCondLst>
                            <p:childTnLst>
                              <p:par>
                                <p:cTn id="415" nodeType="afterEffect" fill="hold" presetClass="entr" presetID="2" presetSubtype="3">
                                  <p:stCondLst>
                                    <p:cond delay="7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4775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41275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77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8775"/>
                            </p:stCondLst>
                            <p:childTnLst>
                              <p:par>
                                <p:cTn id="429" nodeType="afterEffect" fill="hold" presetClass="entr" presetID="2" presetSubtype="4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83808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Некоторые типы  ламп (масштабы раз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5181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- криптоновая; б - зеркальная; в - галогенная; г - ДРЛ; д - ДНаТ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- отражающий слой; 2 - нить накала; 3 - кварцевая колба; 4 - ртут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я кварцевая лампа; 5 - внешняя стеклянная колба; 6 - люминофор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- горелка, заполненная парами нат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609480" y="0"/>
          <a:ext cx="82296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82296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Oval 7"/>
          <p:cNvSpPr/>
          <p:nvPr/>
        </p:nvSpPr>
        <p:spPr>
          <a:xfrm>
            <a:off x="1905120" y="2209680"/>
            <a:ext cx="914400" cy="60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3276720" y="2514600"/>
            <a:ext cx="91440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6019920" y="2743200"/>
            <a:ext cx="22860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7543800" y="2057400"/>
            <a:ext cx="228600" cy="1295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1905120" y="3657600"/>
            <a:ext cx="1981080" cy="76320"/>
          </a:xfrm>
          <a:prstGeom prst="flowChartTermina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4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1" nodeType="afterEffect" fill="hold" presetClass="entr" presetID="1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7500"/>
                            </p:stCondLst>
                            <p:childTnLst>
                              <p:par>
                                <p:cTn id="454" nodeType="afterEffect" fill="hold" presetClass="entr" presetID="1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1979640" y="684360"/>
          <a:ext cx="5183280" cy="35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84360"/>
                    <a:ext cx="5183280" cy="35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143000" y="4343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Лампы накаливания общего на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Б 220 - 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накаливания биспиральная, световой поток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0 лм, световая отдача - 12,4 лм/В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0" y="5638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БК 220 -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биспиральная криптоновая, свето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 поток - 1380 лм; световая отдача - 13,8 лм/В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3657600" y="2286000"/>
            <a:ext cx="2590920" cy="228600"/>
            <a:chOff x="3657600" y="2286000"/>
            <a:chExt cx="2590920" cy="228600"/>
          </a:xfrm>
        </p:grpSpPr>
        <p:sp>
          <p:nvSpPr>
            <p:cNvPr id="292" name="AutoShape 8"/>
            <p:cNvSpPr/>
            <p:nvPr/>
          </p:nvSpPr>
          <p:spPr>
            <a:xfrm>
              <a:off x="3657600" y="2286000"/>
              <a:ext cx="457200" cy="2286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5791320" y="2286000"/>
              <a:ext cx="457200" cy="2286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светительные 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066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етительные приборы включают источник света и арматуру. Их делят на светильники и прожект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533520" y="19051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Характеристики светильников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 - кривые распределения силы света; 2 - защитный угол (от ослепления), 3 - КПД светильника, как отношение светового потока светильника к световому потоку источника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4648320" y="3429000"/>
            <a:ext cx="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457200" y="35053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 распределению световог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тока светильники деля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ямого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имущественно прямо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ассеянного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ражённого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7242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По исполнению светильники</a:t>
            </a:r>
            <a:br>
              <a:rPr sz="2400"/>
            </a:b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деля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крыт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щищённ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брызгозащищённ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зрывозащищённые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Object 10" descr=""/>
          <p:cNvPicPr/>
          <p:nvPr/>
        </p:nvPicPr>
        <p:blipFill>
          <a:blip r:embed="rId1"/>
          <a:stretch/>
        </p:blipFill>
        <p:spPr>
          <a:xfrm>
            <a:off x="1219320" y="58680"/>
            <a:ext cx="699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1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75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6225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1725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130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32225"/>
                            </p:stCondLst>
                            <p:childTnLst>
                              <p:par>
                                <p:cTn id="486" nodeType="afterEffect" fill="hold" presetClass="entr" presetID="12" presetSubtype="4">
                                  <p:stCondLst>
                                    <p:cond delay="89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21725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ебные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Тема: Освещ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Освещение, общие с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Светотехнические велич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ценка и нормирование естественного освещ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ормирование искусственного освещ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Улучшение светового режи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Источники св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светительные приб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Расчёты осве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457200" y="1066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ируя осветительную установку, необходимо решать следующие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066680" y="19051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ыбор типа источника света. Рекомендуется применять газоразрядные лампы, а для помещений, где температура воздуха может быть менее +10 </a:t>
            </a:r>
            <a:r>
              <a:rPr b="0" lang="ru-RU" sz="2400" spc="-1" strike="noStrike" baseline="32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следует отдавать предпочтение лампам накали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990720" y="34290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бор системы освещения. Более экономичной является система комбинированного освещения, но в гигиеническом отношении система общего освещения более совершен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9907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ыбор типа светильника с учётом загрязнённости воздушной среды, распределения яркостей и с требованиями взрыво- и пожаробезопас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расчёта освещения применяют метод коэффициента использования светового потока и точечный мет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2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495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645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30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9695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15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1245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94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Расчётная схема при проектировании системы общ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ещения методом коэффициента использов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го пото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а - лампы накаливания; б - люминесцентные лам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19920" y="1295280"/>
            <a:ext cx="3124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ширин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высота помещени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высота подвес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ильников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от пола 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поверхност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от потол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 до светильников, 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304920" y="304920"/>
            <a:ext cx="5867280" cy="4635360"/>
            <a:chOff x="304920" y="304920"/>
            <a:chExt cx="5867280" cy="4635360"/>
          </a:xfrm>
        </p:grpSpPr>
        <p:sp>
          <p:nvSpPr>
            <p:cNvPr id="310" name="Text Box 7"/>
            <p:cNvSpPr/>
            <p:nvPr/>
          </p:nvSpPr>
          <p:spPr>
            <a:xfrm>
              <a:off x="5638680" y="30492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8"/>
            <p:cNvSpPr/>
            <p:nvPr/>
          </p:nvSpPr>
          <p:spPr>
            <a:xfrm>
              <a:off x="4419720" y="4419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1905120" y="4419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Group 10"/>
            <p:cNvGrpSpPr/>
            <p:nvPr/>
          </p:nvGrpSpPr>
          <p:grpSpPr>
            <a:xfrm>
              <a:off x="837720" y="304920"/>
              <a:ext cx="4572360" cy="3809880"/>
              <a:chOff x="837720" y="304920"/>
              <a:chExt cx="4572360" cy="3809880"/>
            </a:xfrm>
          </p:grpSpPr>
          <p:grpSp>
            <p:nvGrpSpPr>
              <p:cNvPr id="314" name="Group 11"/>
              <p:cNvGrpSpPr/>
              <p:nvPr/>
            </p:nvGrpSpPr>
            <p:grpSpPr>
              <a:xfrm>
                <a:off x="837720" y="609480"/>
                <a:ext cx="2514960" cy="1524240"/>
                <a:chOff x="837720" y="609480"/>
                <a:chExt cx="2514960" cy="1524240"/>
              </a:xfrm>
            </p:grpSpPr>
            <p:sp>
              <p:nvSpPr>
                <p:cNvPr id="315" name="Line 12"/>
                <p:cNvSpPr/>
                <p:nvPr/>
              </p:nvSpPr>
              <p:spPr>
                <a:xfrm flipV="1">
                  <a:off x="838080" y="609480"/>
                  <a:ext cx="0" cy="152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3"/>
                <p:cNvSpPr/>
                <p:nvPr/>
              </p:nvSpPr>
              <p:spPr>
                <a:xfrm>
                  <a:off x="838080" y="60948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4"/>
                <p:cNvSpPr/>
                <p:nvPr/>
              </p:nvSpPr>
              <p:spPr>
                <a:xfrm>
                  <a:off x="3352680" y="609480"/>
                  <a:ext cx="0" cy="152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5"/>
                <p:cNvSpPr/>
                <p:nvPr/>
              </p:nvSpPr>
              <p:spPr>
                <a:xfrm flipH="1">
                  <a:off x="837720" y="213372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16"/>
              <p:cNvGrpSpPr/>
              <p:nvPr/>
            </p:nvGrpSpPr>
            <p:grpSpPr>
              <a:xfrm>
                <a:off x="3885840" y="304920"/>
                <a:ext cx="1524240" cy="1828800"/>
                <a:chOff x="3885840" y="304920"/>
                <a:chExt cx="1524240" cy="1828800"/>
              </a:xfrm>
            </p:grpSpPr>
            <p:sp>
              <p:nvSpPr>
                <p:cNvPr id="320" name="Line 17"/>
                <p:cNvSpPr/>
                <p:nvPr/>
              </p:nvSpPr>
              <p:spPr>
                <a:xfrm flipV="1">
                  <a:off x="3886200" y="30492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8"/>
                <p:cNvSpPr/>
                <p:nvPr/>
              </p:nvSpPr>
              <p:spPr>
                <a:xfrm>
                  <a:off x="3886200" y="30492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9"/>
                <p:cNvSpPr/>
                <p:nvPr/>
              </p:nvSpPr>
              <p:spPr>
                <a:xfrm>
                  <a:off x="5410080" y="30492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20"/>
                <p:cNvSpPr/>
                <p:nvPr/>
              </p:nvSpPr>
              <p:spPr>
                <a:xfrm flipH="1">
                  <a:off x="3885840" y="213372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21"/>
              <p:cNvGrpSpPr/>
              <p:nvPr/>
            </p:nvGrpSpPr>
            <p:grpSpPr>
              <a:xfrm>
                <a:off x="837720" y="2590560"/>
                <a:ext cx="2514960" cy="1524240"/>
                <a:chOff x="837720" y="2590560"/>
                <a:chExt cx="2514960" cy="1524240"/>
              </a:xfrm>
            </p:grpSpPr>
            <p:sp>
              <p:nvSpPr>
                <p:cNvPr id="325" name="Line 22"/>
                <p:cNvSpPr/>
                <p:nvPr/>
              </p:nvSpPr>
              <p:spPr>
                <a:xfrm flipV="1">
                  <a:off x="838080" y="259056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23"/>
                <p:cNvSpPr/>
                <p:nvPr/>
              </p:nvSpPr>
              <p:spPr>
                <a:xfrm>
                  <a:off x="838080" y="259092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24"/>
                <p:cNvSpPr/>
                <p:nvPr/>
              </p:nvSpPr>
              <p:spPr>
                <a:xfrm>
                  <a:off x="3352680" y="259092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25"/>
                <p:cNvSpPr/>
                <p:nvPr/>
              </p:nvSpPr>
              <p:spPr>
                <a:xfrm flipH="1">
                  <a:off x="837720" y="411480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6"/>
              <p:cNvGrpSpPr/>
              <p:nvPr/>
            </p:nvGrpSpPr>
            <p:grpSpPr>
              <a:xfrm>
                <a:off x="3885840" y="2286000"/>
                <a:ext cx="1524240" cy="1828800"/>
                <a:chOff x="3885840" y="2286000"/>
                <a:chExt cx="1524240" cy="1828800"/>
              </a:xfrm>
            </p:grpSpPr>
            <p:sp>
              <p:nvSpPr>
                <p:cNvPr id="330" name="Line 27"/>
                <p:cNvSpPr/>
                <p:nvPr/>
              </p:nvSpPr>
              <p:spPr>
                <a:xfrm flipV="1">
                  <a:off x="3886200" y="22860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28"/>
                <p:cNvSpPr/>
                <p:nvPr/>
              </p:nvSpPr>
              <p:spPr>
                <a:xfrm>
                  <a:off x="3886200" y="22860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29"/>
                <p:cNvSpPr/>
                <p:nvPr/>
              </p:nvSpPr>
              <p:spPr>
                <a:xfrm>
                  <a:off x="5410080" y="22860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30"/>
                <p:cNvSpPr/>
                <p:nvPr/>
              </p:nvSpPr>
              <p:spPr>
                <a:xfrm flipH="1">
                  <a:off x="3885840" y="4114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Line 31"/>
            <p:cNvSpPr/>
            <p:nvPr/>
          </p:nvSpPr>
          <p:spPr>
            <a:xfrm flipH="1">
              <a:off x="837720" y="10666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 flipH="1">
              <a:off x="837720" y="16765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33"/>
            <p:cNvSpPr/>
            <p:nvPr/>
          </p:nvSpPr>
          <p:spPr>
            <a:xfrm>
              <a:off x="114300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34"/>
            <p:cNvSpPr/>
            <p:nvPr/>
          </p:nvSpPr>
          <p:spPr>
            <a:xfrm>
              <a:off x="160020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AutoShape 35"/>
            <p:cNvSpPr/>
            <p:nvPr/>
          </p:nvSpPr>
          <p:spPr>
            <a:xfrm>
              <a:off x="198108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36"/>
            <p:cNvSpPr/>
            <p:nvPr/>
          </p:nvSpPr>
          <p:spPr>
            <a:xfrm>
              <a:off x="236232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37"/>
            <p:cNvSpPr/>
            <p:nvPr/>
          </p:nvSpPr>
          <p:spPr>
            <a:xfrm>
              <a:off x="281952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38"/>
            <p:cNvSpPr/>
            <p:nvPr/>
          </p:nvSpPr>
          <p:spPr>
            <a:xfrm>
              <a:off x="114300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39"/>
            <p:cNvSpPr/>
            <p:nvPr/>
          </p:nvSpPr>
          <p:spPr>
            <a:xfrm>
              <a:off x="160020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40"/>
            <p:cNvSpPr/>
            <p:nvPr/>
          </p:nvSpPr>
          <p:spPr>
            <a:xfrm>
              <a:off x="198108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41"/>
            <p:cNvSpPr/>
            <p:nvPr/>
          </p:nvSpPr>
          <p:spPr>
            <a:xfrm>
              <a:off x="236232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42"/>
            <p:cNvSpPr/>
            <p:nvPr/>
          </p:nvSpPr>
          <p:spPr>
            <a:xfrm>
              <a:off x="281952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43"/>
            <p:cNvSpPr/>
            <p:nvPr/>
          </p:nvSpPr>
          <p:spPr>
            <a:xfrm>
              <a:off x="4114800" y="6094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44"/>
            <p:cNvSpPr/>
            <p:nvPr/>
          </p:nvSpPr>
          <p:spPr>
            <a:xfrm>
              <a:off x="4724280" y="6094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5"/>
            <p:cNvSpPr/>
            <p:nvPr/>
          </p:nvSpPr>
          <p:spPr>
            <a:xfrm flipV="1">
              <a:off x="4267080" y="304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46"/>
            <p:cNvSpPr/>
            <p:nvPr/>
          </p:nvSpPr>
          <p:spPr>
            <a:xfrm flipV="1">
              <a:off x="4876920" y="304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7"/>
            <p:cNvSpPr/>
            <p:nvPr/>
          </p:nvSpPr>
          <p:spPr>
            <a:xfrm>
              <a:off x="121932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8"/>
            <p:cNvSpPr/>
            <p:nvPr/>
          </p:nvSpPr>
          <p:spPr>
            <a:xfrm>
              <a:off x="1752480" y="2743200"/>
              <a:ext cx="15264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9"/>
            <p:cNvSpPr/>
            <p:nvPr/>
          </p:nvSpPr>
          <p:spPr>
            <a:xfrm>
              <a:off x="228600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50"/>
            <p:cNvSpPr/>
            <p:nvPr/>
          </p:nvSpPr>
          <p:spPr>
            <a:xfrm>
              <a:off x="281952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121932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2"/>
            <p:cNvSpPr/>
            <p:nvPr/>
          </p:nvSpPr>
          <p:spPr>
            <a:xfrm>
              <a:off x="1752480" y="3429000"/>
              <a:ext cx="15264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53"/>
            <p:cNvSpPr/>
            <p:nvPr/>
          </p:nvSpPr>
          <p:spPr>
            <a:xfrm>
              <a:off x="228600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4"/>
            <p:cNvSpPr/>
            <p:nvPr/>
          </p:nvSpPr>
          <p:spPr>
            <a:xfrm>
              <a:off x="281952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5"/>
            <p:cNvSpPr/>
            <p:nvPr/>
          </p:nvSpPr>
          <p:spPr>
            <a:xfrm rot="16200000">
              <a:off x="4228920" y="239976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6"/>
            <p:cNvSpPr/>
            <p:nvPr/>
          </p:nvSpPr>
          <p:spPr>
            <a:xfrm rot="16200000">
              <a:off x="4914720" y="239976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7"/>
            <p:cNvSpPr/>
            <p:nvPr/>
          </p:nvSpPr>
          <p:spPr>
            <a:xfrm flipV="1">
              <a:off x="434340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8"/>
            <p:cNvSpPr/>
            <p:nvPr/>
          </p:nvSpPr>
          <p:spPr>
            <a:xfrm flipV="1">
              <a:off x="495288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9"/>
            <p:cNvSpPr/>
            <p:nvPr/>
          </p:nvSpPr>
          <p:spPr>
            <a:xfrm>
              <a:off x="838080" y="43434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0"/>
            <p:cNvSpPr/>
            <p:nvPr/>
          </p:nvSpPr>
          <p:spPr>
            <a:xfrm>
              <a:off x="3886200" y="4343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1"/>
            <p:cNvSpPr/>
            <p:nvPr/>
          </p:nvSpPr>
          <p:spPr>
            <a:xfrm>
              <a:off x="3733920" y="2286000"/>
              <a:ext cx="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2"/>
            <p:cNvSpPr/>
            <p:nvPr/>
          </p:nvSpPr>
          <p:spPr>
            <a:xfrm>
              <a:off x="3886200" y="380988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3"/>
            <p:cNvSpPr/>
            <p:nvPr/>
          </p:nvSpPr>
          <p:spPr>
            <a:xfrm>
              <a:off x="3886200" y="182880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4"/>
            <p:cNvSpPr/>
            <p:nvPr/>
          </p:nvSpPr>
          <p:spPr>
            <a:xfrm>
              <a:off x="4038480" y="762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>
              <a:off x="54100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6"/>
            <p:cNvSpPr/>
            <p:nvPr/>
          </p:nvSpPr>
          <p:spPr>
            <a:xfrm>
              <a:off x="5410080" y="1828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>
              <a:off x="5410080" y="304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8"/>
            <p:cNvSpPr/>
            <p:nvPr/>
          </p:nvSpPr>
          <p:spPr>
            <a:xfrm>
              <a:off x="5562720" y="304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69"/>
            <p:cNvSpPr/>
            <p:nvPr/>
          </p:nvSpPr>
          <p:spPr>
            <a:xfrm>
              <a:off x="5562720" y="7621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70"/>
            <p:cNvSpPr/>
            <p:nvPr/>
          </p:nvSpPr>
          <p:spPr>
            <a:xfrm>
              <a:off x="5562720" y="1828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71"/>
            <p:cNvSpPr/>
            <p:nvPr/>
          </p:nvSpPr>
          <p:spPr>
            <a:xfrm>
              <a:off x="5638680" y="990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72"/>
            <p:cNvSpPr/>
            <p:nvPr/>
          </p:nvSpPr>
          <p:spPr>
            <a:xfrm>
              <a:off x="5562720" y="16765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73"/>
            <p:cNvSpPr/>
            <p:nvPr/>
          </p:nvSpPr>
          <p:spPr>
            <a:xfrm>
              <a:off x="3352680" y="2895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74"/>
            <p:cNvSpPr/>
            <p:nvPr/>
          </p:nvSpPr>
          <p:spPr>
            <a:xfrm>
              <a:off x="304920" y="762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75"/>
            <p:cNvSpPr/>
            <p:nvPr/>
          </p:nvSpPr>
          <p:spPr>
            <a:xfrm>
              <a:off x="3049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Метод коэффициента использования светового пот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572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именяется для расчёта общего осв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533520" y="137160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установке ламп накаливания определяют требуемый све- товой пото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м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мпы, чтобы обеспечить норму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л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3048120" y="2133720"/>
                <a:ext cx="26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ор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6"/>
          <p:cNvSpPr/>
          <p:nvPr/>
        </p:nvSpPr>
        <p:spPr>
          <a:xfrm>
            <a:off x="609480" y="2971800"/>
            <a:ext cx="8077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неравномерности освещения (1,1-1,2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эффициент запаса, который учитывает стар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лампы и запылённость (1,3-1,5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лощадь освещаемой поверхности,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ламп, которое задаётс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оэффициент использования  светового потока рав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ный отношению полезного светового потока к сум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марному ; зависит от индекса помещения, коэфф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циентов отражения  света и от типа свети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533520" y="6324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люминесцентных лампах по этой формуле находят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8150"/>
                            </p:stCondLst>
                            <p:childTnLst>
                              <p:par>
                                <p:cTn id="538" nodeType="afterEffect" fill="hold" presetClass="entr" presetID="3" presetSubtype="5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965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68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38150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3650"/>
                            </p:stCondLst>
                            <p:childTnLst>
                              <p:par>
                                <p:cTn id="551" nodeType="afterEffect" fill="hold" presetClass="entr" presetID="2" presetSubtype="3">
                                  <p:stCondLst>
                                    <p:cond delay="16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Точечный метод расчёта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09480" y="10666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именяют для расчёта местного освещени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вещения наклонных поверхностей, наружного осве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 также может быть использован для расчёта общ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вещения, особенно при светильниках прямого све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685800" y="2590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й световой поток лампы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954600" y="3352680"/>
            <a:ext cx="493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μ - коэффициент по учёту отражённого света  (1,1);Σ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у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уммарная условная освещё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0" y="5029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Условной освещённостью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называет- ся освещённость, создаваемая све-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ильником с лампой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= 1000 л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800600" y="4724280"/>
            <a:ext cx="416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ная освещённость дл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ильников определяется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ам пространстве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лю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1" descr=""/>
          <p:cNvPicPr/>
          <p:nvPr/>
        </p:nvPicPr>
        <p:blipFill>
          <a:blip r:embed="rId1"/>
          <a:stretch/>
        </p:blipFill>
        <p:spPr>
          <a:xfrm>
            <a:off x="103320" y="3324240"/>
            <a:ext cx="3676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2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3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63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1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75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385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8035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7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75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628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треча оконч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3" descr="file19"/>
          <p:cNvPicPr/>
          <p:nvPr/>
        </p:nvPicPr>
        <p:blipFill>
          <a:blip r:embed="rId1"/>
          <a:srcRect l="0" t="18765" r="0" b="14902"/>
          <a:stretch/>
        </p:blipFill>
        <p:spPr>
          <a:xfrm>
            <a:off x="1762200" y="2492280"/>
            <a:ext cx="6697440" cy="3319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image015"/>
          <p:cNvPicPr/>
          <p:nvPr/>
        </p:nvPicPr>
        <p:blipFill>
          <a:blip r:embed="rId2"/>
          <a:stretch/>
        </p:blipFill>
        <p:spPr>
          <a:xfrm>
            <a:off x="108000" y="3789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ЕСТВЕННОЕ И ИСКУССТВЕННОЕ ОСВЕ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П 23-05-95 разработан в соответствии с общей системой нормативных документов в строительстве и входит в состав комплекса 23 (приложение Б СНиП 10-01-9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устанавливает нормы естественного, искусственного и совмещенного освещения зданий и сооружений, а также нормы искусственного освещения селитебных зон, площадок предприятий и мест производства работ вне зд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Освещение. Общие свед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ь электромагнитного спектра с длинами волн от 0,1 до 3,4 мкм (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ц) называется оптической областью спект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ктр дели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ьтрафиолетовое излучение – 0,1-0,38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имое излучение – 0,38-0,77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ракрасное излучение – 0,77-3,4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рение наиболее чувствительно к излучению с диной волны 0,555 м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79280" y="476280"/>
            <a:ext cx="896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технические величи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11253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ые излучения входят в оптическую часть спектра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916280"/>
            <a:ext cx="856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ветовым потоко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, лм) называется мощность лучистой энергии, воспринимаемая как свет, оцениваемая по действию на средний человеческий гл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=1/683 свет. Вт.   1 свет. Вт – мощность излучения в 1 Вт с длиной волны 0,555 м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426708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ила света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дела, кд) - это пространственная плотность светового потока, заключённого в телесном угле Ώ, который конической поверхностью ограничивает часть простран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553080" y="5486400"/>
            <a:ext cx="9907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7010280" y="5638680"/>
            <a:ext cx="533520" cy="685800"/>
            <a:chOff x="7010280" y="5638680"/>
            <a:chExt cx="533520" cy="685800"/>
          </a:xfrm>
        </p:grpSpPr>
        <p:sp>
          <p:nvSpPr>
            <p:cNvPr id="139" name="Oval 9"/>
            <p:cNvSpPr/>
            <p:nvPr/>
          </p:nvSpPr>
          <p:spPr>
            <a:xfrm>
              <a:off x="7238880" y="5638680"/>
              <a:ext cx="304920" cy="68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 flipV="1">
              <a:off x="7010280" y="57146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7010280" y="6019920"/>
              <a:ext cx="3812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2"/>
          <p:cNvGrpSpPr/>
          <p:nvPr/>
        </p:nvGrpSpPr>
        <p:grpSpPr>
          <a:xfrm>
            <a:off x="5867280" y="5486400"/>
            <a:ext cx="2667240" cy="539640"/>
            <a:chOff x="5867280" y="5486400"/>
            <a:chExt cx="2667240" cy="539640"/>
          </a:xfrm>
        </p:grpSpPr>
        <p:sp>
          <p:nvSpPr>
            <p:cNvPr id="143" name="Freeform 13"/>
            <p:cNvSpPr/>
            <p:nvPr/>
          </p:nvSpPr>
          <p:spPr>
            <a:xfrm>
              <a:off x="7415280" y="5896080"/>
              <a:ext cx="436320" cy="12996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5" h="82">
                  <a:moveTo>
                    <a:pt x="0" y="65"/>
                  </a:moveTo>
                  <a:cubicBezTo>
                    <a:pt x="16" y="54"/>
                    <a:pt x="29" y="33"/>
                    <a:pt x="48" y="33"/>
                  </a:cubicBezTo>
                  <a:cubicBezTo>
                    <a:pt x="63" y="33"/>
                    <a:pt x="68" y="57"/>
                    <a:pt x="81" y="65"/>
                  </a:cubicBezTo>
                  <a:cubicBezTo>
                    <a:pt x="96" y="74"/>
                    <a:pt x="113" y="76"/>
                    <a:pt x="129" y="82"/>
                  </a:cubicBezTo>
                  <a:cubicBezTo>
                    <a:pt x="156" y="76"/>
                    <a:pt x="187" y="79"/>
                    <a:pt x="211" y="65"/>
                  </a:cubicBezTo>
                  <a:cubicBezTo>
                    <a:pt x="228" y="55"/>
                    <a:pt x="230" y="31"/>
                    <a:pt x="243" y="17"/>
                  </a:cubicBezTo>
                  <a:cubicBezTo>
                    <a:pt x="251" y="8"/>
                    <a:pt x="264" y="6"/>
                    <a:pt x="27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7924680" y="5486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6307200" y="5691240"/>
              <a:ext cx="828720" cy="2746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22" h="173">
                  <a:moveTo>
                    <a:pt x="503" y="162"/>
                  </a:moveTo>
                  <a:cubicBezTo>
                    <a:pt x="467" y="52"/>
                    <a:pt x="522" y="173"/>
                    <a:pt x="390" y="97"/>
                  </a:cubicBezTo>
                  <a:cubicBezTo>
                    <a:pt x="375" y="88"/>
                    <a:pt x="383" y="62"/>
                    <a:pt x="373" y="48"/>
                  </a:cubicBezTo>
                  <a:cubicBezTo>
                    <a:pt x="360" y="29"/>
                    <a:pt x="341" y="16"/>
                    <a:pt x="325" y="0"/>
                  </a:cubicBezTo>
                  <a:cubicBezTo>
                    <a:pt x="266" y="19"/>
                    <a:pt x="218" y="52"/>
                    <a:pt x="163" y="81"/>
                  </a:cubicBezTo>
                  <a:cubicBezTo>
                    <a:pt x="130" y="76"/>
                    <a:pt x="97" y="57"/>
                    <a:pt x="65" y="65"/>
                  </a:cubicBezTo>
                  <a:cubicBezTo>
                    <a:pt x="46" y="70"/>
                    <a:pt x="47" y="100"/>
                    <a:pt x="33" y="113"/>
                  </a:cubicBezTo>
                  <a:cubicBezTo>
                    <a:pt x="24" y="122"/>
                    <a:pt x="11" y="124"/>
                    <a:pt x="0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586728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4211640" y="5583240"/>
                <a:ext cx="1298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714680" y="5661000"/>
                <a:ext cx="952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875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250"/>
                            </p:stCondLst>
                            <p:childTnLst>
                              <p:par>
                                <p:cTn id="21" nodeType="afterEffect" fill="hold" presetClass="entr" presetID="17" presetSubtype="4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175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625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925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175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425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8675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технические величины (продолже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79280" y="907920"/>
            <a:ext cx="72723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вещённость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кс, лк) - это поверхностная плотность светового потока, отнесённая к площа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ую он распределяется. Величина освещённости задаётся в нор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7707240" y="1268280"/>
                <a:ext cx="125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5"/>
          <p:cNvSpPr/>
          <p:nvPr/>
        </p:nvSpPr>
        <p:spPr>
          <a:xfrm>
            <a:off x="611280" y="2565360"/>
            <a:ext cx="79246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Яркость поверхности 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д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это отношение силы света, к проекции светящейся поверхности на плоскость, перпендикулярную направлению распространен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410080" y="4017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40179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943600" y="45514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8153280" y="424656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32"/>
          <p:cNvGrpSpPr/>
          <p:nvPr/>
        </p:nvGrpSpPr>
        <p:grpSpPr>
          <a:xfrm>
            <a:off x="5334120" y="4017960"/>
            <a:ext cx="1218960" cy="1143000"/>
            <a:chOff x="5334120" y="4017960"/>
            <a:chExt cx="1218960" cy="1143000"/>
          </a:xfrm>
        </p:grpSpPr>
        <p:sp>
          <p:nvSpPr>
            <p:cNvPr id="158" name="Line 8"/>
            <p:cNvSpPr/>
            <p:nvPr/>
          </p:nvSpPr>
          <p:spPr>
            <a:xfrm>
              <a:off x="5410080" y="401796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334120" y="4475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5943600" y="3865320"/>
            <a:ext cx="1523880" cy="1374480"/>
            <a:chOff x="5943600" y="3865320"/>
            <a:chExt cx="1523880" cy="1374480"/>
          </a:xfrm>
        </p:grpSpPr>
        <p:sp>
          <p:nvSpPr>
            <p:cNvPr id="161" name="Freeform 13"/>
            <p:cNvSpPr/>
            <p:nvPr/>
          </p:nvSpPr>
          <p:spPr>
            <a:xfrm>
              <a:off x="6307200" y="4848480"/>
              <a:ext cx="231840" cy="68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46" h="43">
                  <a:moveTo>
                    <a:pt x="0" y="43"/>
                  </a:moveTo>
                  <a:cubicBezTo>
                    <a:pt x="33" y="32"/>
                    <a:pt x="65" y="0"/>
                    <a:pt x="98" y="11"/>
                  </a:cubicBezTo>
                  <a:cubicBezTo>
                    <a:pt x="114" y="16"/>
                    <a:pt x="146" y="27"/>
                    <a:pt x="14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7010280" y="478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6513480" y="4848480"/>
              <a:ext cx="488880" cy="145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08" h="92">
                  <a:moveTo>
                    <a:pt x="0" y="92"/>
                  </a:moveTo>
                  <a:cubicBezTo>
                    <a:pt x="92" y="0"/>
                    <a:pt x="98" y="29"/>
                    <a:pt x="260" y="43"/>
                  </a:cubicBezTo>
                  <a:cubicBezTo>
                    <a:pt x="276" y="48"/>
                    <a:pt x="308" y="59"/>
                    <a:pt x="308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6858000" y="3942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 flipV="1">
              <a:off x="5943600" y="38653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AutoShape 26"/>
          <p:cNvSpPr/>
          <p:nvPr/>
        </p:nvSpPr>
        <p:spPr>
          <a:xfrm>
            <a:off x="3429000" y="4398840"/>
            <a:ext cx="1676520" cy="609840"/>
          </a:xfrm>
          <a:prstGeom prst="parallelogram">
            <a:avLst>
              <a:gd name="adj" fmla="val 687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4724280" y="39416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8"/>
          <p:cNvSpPr/>
          <p:nvPr/>
        </p:nvSpPr>
        <p:spPr>
          <a:xfrm flipV="1">
            <a:off x="4038480" y="38656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3581280" y="3789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4343400" y="378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1"/>
              <p:cNvSpPr txBox="1"/>
              <p:nvPr/>
            </p:nvSpPr>
            <p:spPr>
              <a:xfrm>
                <a:off x="673200" y="3789360"/>
                <a:ext cx="2070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36"/>
          <p:cNvSpPr/>
          <p:nvPr/>
        </p:nvSpPr>
        <p:spPr>
          <a:xfrm>
            <a:off x="611280" y="5445000"/>
            <a:ext cx="77724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ачественные 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оэффициент пульсации, показатель ослепленности и дискомфорта, спектральный состав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9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8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7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9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3000"/>
                            </p:stCondLst>
                            <p:childTnLst>
                              <p:par>
                                <p:cTn id="82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5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8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4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18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21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2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5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ие световых излу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304920" y="1600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вет обеспечивает связь организма с окружающей средой, передачу  80% информации, обладает высоким биологическим и тонизирующим действием. Наиболее благоприятен для человека естественный свет, причём в отличие от искусственного, он содержит гораздо большую долю ультрафиолетовых луч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28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и недостаточной освещённости у человека появляется ощущение дискомфорта, снижается активность функций ЦНС, повыш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мляе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недостаточной освещённости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зорук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худшается процесс аккомодации. При чрезмерной яркости светящейся поверхности может наступить снижение видимости объектов различения из-з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епящего эфф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2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16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и нормирование естественного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58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ое освещение непостоянно в течение суток и поэтому его оценивают относительной величиной - коэффициентом естественной освещён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0"/>
              <p:cNvSpPr txBox="1"/>
              <p:nvPr/>
            </p:nvSpPr>
            <p:spPr>
              <a:xfrm>
                <a:off x="3200400" y="2971800"/>
                <a:ext cx="2438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ЕО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ар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7"/>
          <p:cNvSpPr/>
          <p:nvPr/>
        </p:nvSpPr>
        <p:spPr>
          <a:xfrm>
            <a:off x="1371600" y="4114800"/>
            <a:ext cx="777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свещённость в данной точке помещения, лк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дновременная освещённость от небосвода, л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50"/>
          <p:cNvGrpSpPr/>
          <p:nvPr/>
        </p:nvGrpSpPr>
        <p:grpSpPr>
          <a:xfrm>
            <a:off x="5715000" y="4952520"/>
            <a:ext cx="2057400" cy="1371960"/>
            <a:chOff x="5715000" y="4952520"/>
            <a:chExt cx="2057400" cy="1371960"/>
          </a:xfrm>
        </p:grpSpPr>
        <p:sp>
          <p:nvSpPr>
            <p:cNvPr id="181" name="Line 9"/>
            <p:cNvSpPr/>
            <p:nvPr/>
          </p:nvSpPr>
          <p:spPr>
            <a:xfrm flipV="1">
              <a:off x="5791320" y="5257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5791320" y="5257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772400" y="52578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H="1">
              <a:off x="5790960" y="63244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5715000" y="5334120"/>
              <a:ext cx="7632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5791320" y="61722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 flipV="1">
              <a:off x="5791320" y="4971960"/>
              <a:ext cx="106668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H="1" flipV="1">
              <a:off x="6858000" y="495252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Arc 24"/>
          <p:cNvSpPr/>
          <p:nvPr/>
        </p:nvSpPr>
        <p:spPr>
          <a:xfrm rot="10127400">
            <a:off x="5943240" y="4878000"/>
            <a:ext cx="1671480" cy="128916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fill="none" w="20925" h="21600">
                <a:moveTo>
                  <a:pt x="-1" y="0"/>
                </a:moveTo>
                <a:cubicBezTo>
                  <a:pt x="9865" y="0"/>
                  <a:pt x="18477" y="6684"/>
                  <a:pt x="20924" y="16241"/>
                </a:cubicBezTo>
              </a:path>
              <a:path stroke="0" w="20925" h="21600">
                <a:moveTo>
                  <a:pt x="-1" y="0"/>
                </a:moveTo>
                <a:cubicBezTo>
                  <a:pt x="9865" y="0"/>
                  <a:pt x="18477" y="6684"/>
                  <a:pt x="20924" y="16241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52"/>
          <p:cNvGrpSpPr/>
          <p:nvPr/>
        </p:nvGrpSpPr>
        <p:grpSpPr>
          <a:xfrm>
            <a:off x="7772400" y="5105520"/>
            <a:ext cx="1371600" cy="1447560"/>
            <a:chOff x="7772400" y="5105520"/>
            <a:chExt cx="1371600" cy="1447560"/>
          </a:xfrm>
        </p:grpSpPr>
        <p:sp>
          <p:nvSpPr>
            <p:cNvPr id="191" name="Line 34"/>
            <p:cNvSpPr/>
            <p:nvPr/>
          </p:nvSpPr>
          <p:spPr>
            <a:xfrm>
              <a:off x="7772400" y="6172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5"/>
            <p:cNvSpPr/>
            <p:nvPr/>
          </p:nvSpPr>
          <p:spPr>
            <a:xfrm>
              <a:off x="777240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6"/>
            <p:cNvSpPr/>
            <p:nvPr/>
          </p:nvSpPr>
          <p:spPr>
            <a:xfrm flipV="1">
              <a:off x="8077320" y="6172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077320" y="5715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8"/>
            <p:cNvSpPr/>
            <p:nvPr/>
          </p:nvSpPr>
          <p:spPr>
            <a:xfrm>
              <a:off x="7924680" y="5105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нор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47"/>
          <p:cNvSpPr/>
          <p:nvPr/>
        </p:nvSpPr>
        <p:spPr>
          <a:xfrm>
            <a:off x="324000" y="5013360"/>
            <a:ext cx="448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яется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точках по про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ьному разрезу помещ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 нормой сравнивается  м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мальная величи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648320" y="6461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ор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ют от точности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4"/>
          <p:cNvGrpSpPr/>
          <p:nvPr/>
        </p:nvGrpSpPr>
        <p:grpSpPr>
          <a:xfrm>
            <a:off x="4800600" y="5181480"/>
            <a:ext cx="2819520" cy="990720"/>
            <a:chOff x="4800600" y="5181480"/>
            <a:chExt cx="2819520" cy="990720"/>
          </a:xfrm>
        </p:grpSpPr>
        <p:sp>
          <p:nvSpPr>
            <p:cNvPr id="199" name="Line 25"/>
            <p:cNvSpPr/>
            <p:nvPr/>
          </p:nvSpPr>
          <p:spPr>
            <a:xfrm>
              <a:off x="6019920" y="556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6"/>
            <p:cNvSpPr/>
            <p:nvPr/>
          </p:nvSpPr>
          <p:spPr>
            <a:xfrm>
              <a:off x="640080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678168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8"/>
            <p:cNvSpPr/>
            <p:nvPr/>
          </p:nvSpPr>
          <p:spPr>
            <a:xfrm>
              <a:off x="716292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9"/>
            <p:cNvSpPr/>
            <p:nvPr/>
          </p:nvSpPr>
          <p:spPr>
            <a:xfrm>
              <a:off x="754380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3"/>
            <p:cNvSpPr/>
            <p:nvPr/>
          </p:nvSpPr>
          <p:spPr>
            <a:xfrm>
              <a:off x="6705720" y="5334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в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31"/>
            <p:cNvSpPr/>
            <p:nvPr/>
          </p:nvSpPr>
          <p:spPr>
            <a:xfrm>
              <a:off x="4952880" y="57150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2"/>
            <p:cNvSpPr/>
            <p:nvPr/>
          </p:nvSpPr>
          <p:spPr>
            <a:xfrm>
              <a:off x="4800600" y="5181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на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5943600" y="54864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43"/>
            <p:cNvSpPr/>
            <p:nvPr/>
          </p:nvSpPr>
          <p:spPr>
            <a:xfrm>
              <a:off x="6324480" y="5715000"/>
              <a:ext cx="15264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44"/>
            <p:cNvSpPr/>
            <p:nvPr/>
          </p:nvSpPr>
          <p:spPr>
            <a:xfrm>
              <a:off x="6705720" y="5867280"/>
              <a:ext cx="152280" cy="1526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45"/>
            <p:cNvSpPr/>
            <p:nvPr/>
          </p:nvSpPr>
          <p:spPr>
            <a:xfrm>
              <a:off x="7086600" y="59436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6"/>
            <p:cNvSpPr/>
            <p:nvPr/>
          </p:nvSpPr>
          <p:spPr>
            <a:xfrm>
              <a:off x="7467480" y="5943600"/>
              <a:ext cx="15264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49"/>
            <p:cNvSpPr/>
            <p:nvPr/>
          </p:nvSpPr>
          <p:spPr>
            <a:xfrm>
              <a:off x="5257800" y="59436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3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825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97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4325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7825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2325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7825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23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6825"/>
                            </p:stCondLst>
                            <p:childTnLst>
                              <p:par>
                                <p:cTn id="16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20325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мирование искусственного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049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 человека воспринимает яркость, но нормы задаются по освещённости, так как нормирование по яркости каждой, одновременно видимой поверхности, затрудните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57200" y="2514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ируемым параметром явля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пустимая минимальная освещё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к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торая устанавливается в зависимости от следующих факто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3520" y="3809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Характеристика зрительной работы (работы по точности делят на 8 разряд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6" presetSubtype="42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9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75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565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88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6:29:47Z</dcterms:created>
  <dc:creator>Sechin A.I.</dc:creator>
  <dc:description/>
  <dc:language>en-US</dc:language>
  <cp:lastModifiedBy>Admin</cp:lastModifiedBy>
  <dcterms:modified xsi:type="dcterms:W3CDTF">2012-05-13T14:47:56Z</dcterms:modified>
  <cp:revision>47</cp:revision>
  <dc:subject/>
  <dc:title>2.10. Световые излучения. Воздействие на человека</dc:title>
</cp:coreProperties>
</file>