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AA6-55F4-485C-952D-A5309163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74E-E941-4B23-BB47-06157AC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CB5-54CD-4DE9-9772-5C9CF3FF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251-5F5B-4F6D-BF2D-A68DED1C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19EDC-D77C-458D-A285-94B1DEE4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6C316-D21D-4104-82F2-A08F49E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85070-618E-4BD2-A3E7-DDC8441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ECA79-2A31-4646-BB12-F3532F9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3C3A1-8D89-4DC4-8D3B-6604FC7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63F8-3495-4CDF-B48D-33C49D7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875F1-1E7C-47B3-8B75-9919570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A67-CB38-43FD-9F0A-A6900BCE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77C6-E4CF-4ABC-830B-703D972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6BC40-7118-4BEF-BFC2-339D7D8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82A4-A1EC-409A-97C6-F3E0FFF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4449-458D-4D07-A691-75593621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CA55-94B0-4083-AD9A-2CDD98D1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582-FA64-450B-BC1A-6D5766A2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9AB-230E-4914-A368-74908DFC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22F-0BD3-474B-8477-62A8791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232-BA2C-45B1-B5A7-F2E08A0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C8B-EE16-4A49-8E04-8F5DC3A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01B-9014-46DB-90A6-6B36A28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6BC-EAEC-4AC8-A3BD-BDFFAA5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C83-9163-4BD6-8EFA-9C4039EC1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F37-3A3D-46FC-92FC-DF71B59665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зовск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Жарко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ль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ы 8 «А»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5060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у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41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хтиофауна Азовского моря в настоящее время включает 103 вида и подвида рыб, относящихся к 76 родам, и представлена проходными, полупроходными, морскими и пресноводными видам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оходные виды рыб нагуливаются в море до наступления половой зрелости, а в реку заходят только на нерест. Период размножения в реках и или на займищах обычно не превышает 1-2 месяца. Среди азовских проходных рыб имеются ценнейшие промысловые виды, такие как белуга, осётр, севрюга, сельди, рыбец и шема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упроходные виды для размножения заходят из моря в реки. Однако в реках они могут задерживаться на более продолжительное время, чем проходные (до года). Что касается молоди, то она скатывается из нерестилищ очень медленно и часто остаётся в реке на зимовку. К полупроходным рыбам относятся массовые виды, такие как судак, лещ, тарань, чехонь и некоторые другие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рские виды размножаются и нагуливаются в солёных водах. Среди них выделяются виды, постоянно обитающие в Азовском море. Это — пиленгас, камбала-калкан, глосса, тюлька, перкарина, комашка трёхиглая, рыбы-иглы и все виды бычков. И, наконец, имеется большая группа морских рыб, заходящая в Азовское море из Чёрного моря, в том числе совершающая регулярные миграции. К ним относятся: азовская хамса, черноморская хамса, черноморская сельдь, барабуля, сингиль, остронос, лобан, калкан черноморский, ставрида, скумбри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есноводные виды обычно постоянно обитают в одном районе водоёма и больших миграций не совершают. Эти виды населяют обычно опреснённые акватории моря. Здесь встречаются такие рыбы, как стерлядь, серебряный карась, щука, язь, укле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 количеству растительных и животных организмов Азовскому морю нет равных в мире. По продуктивности Азовское море в 6,5 раз превосходит Каспийское, в 40 раз — Черное и в 160 раз Средиземное моря. А ведь по размеру оно меньше Черного в 10 раз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wapos_ru_26860g"/>
          <p:cNvPicPr/>
          <p:nvPr/>
        </p:nvPicPr>
        <p:blipFill>
          <a:blip r:embed="rId1"/>
          <a:stretch/>
        </p:blipFill>
        <p:spPr>
          <a:xfrm>
            <a:off x="4427640" y="765000"/>
            <a:ext cx="4462200" cy="557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Экономика в XIX ве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зовское море было весьма важно для России XIX века из-за, с одной стороны, обилия рыбы, а с другой — постоянно увеличивающегося торгового оборота через море. Среднее годовое число входящих в гавани Азовского моря кораблей находилось в 1866—1871 годах в количестве 2662 шт. с общим тоннажем 362951 тонн. Более половины их приходилась на Таганрог, 558 на Бердянск, 296 на Керчь, 263 на Мариуполь. Береговых лодок в море прибыло 6807, ушло — 6832. В это время русский торговый флот Азовского моря состоял из 1210 кораблей общим тоннажем 40658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Более активно торговля на Азовском море стала развиваться в связи со строительством железнодорожных транспортных магистралей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аганрог двумя железными дорогами (в Харьков и Воронеж) был соединён с остальной частью Российской империи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железная дорога из Калача в Царицын (ныне — Волгоград) — достигнуто прямое сообщение между Доном и Волгой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строена железнодорожная ветка из Бердянска до станции Чаплино (1899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роме расположенного выше дельты Дона Ростова-на-Дону, приходными гаванями были — Таганрог, Мариуполь и Бердянс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дых на Азовском море привлекает не только возможностью улучшить свое самочувствие, но и полюбоваться удивительной, неповторимой красотой этого заповедного уголка Краснодарского края. Азовское побережье не столь изобильно разнообразием пейзажей, в отличие от черноморского. Но в плавных изгибах береговой линии, песчаных косах, уходящих далеко в море, круглых зеленых холмах, плавнях, заросших камышом, есть свое особое очар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a678d282661dcbee34814c48171c54724fa5e070405442"/>
          <p:cNvPicPr/>
          <p:nvPr/>
        </p:nvPicPr>
        <p:blipFill>
          <a:blip r:embed="rId1"/>
          <a:stretch/>
        </p:blipFill>
        <p:spPr>
          <a:xfrm>
            <a:off x="826920" y="1989000"/>
            <a:ext cx="762012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0_30d8c_ec455d2d_XL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8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зо́вское мо́ре — северо-восточный боковой бассейн Черного моря, с которым оно соединяется Керченским проливом (Босфор Киммерийский в древности, шириною в 4,2 километров). Азовское море относится к морям Атлантического оке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azov2"/>
          <p:cNvPicPr/>
          <p:nvPr/>
        </p:nvPicPr>
        <p:blipFill>
          <a:blip r:embed="rId1"/>
          <a:stretch/>
        </p:blipFill>
        <p:spPr>
          <a:xfrm>
            <a:off x="4356000" y="189000"/>
            <a:ext cx="468000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291960"/>
            <a:ext cx="90360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сторасположение Азовского мо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йние точки Азовского моря лежат между 45°12′30″ и 47°17′30″ сев. широты и между 33°38′ (Сиваш) и 39°18′ вост. долготы. Самая большая его длина 343 километра, самая большая ширина 231 километр; длина береговой линии 1472 километра; площадь поверхности — 37605 квадратных километров(в эту площадь не входят острова и косы, занимающие 107,9 квадратных километров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800px-Bm_krim"/>
          <p:cNvPicPr/>
          <p:nvPr/>
        </p:nvPicPr>
        <p:blipFill>
          <a:blip r:embed="rId1"/>
          <a:stretch/>
        </p:blipFill>
        <p:spPr>
          <a:xfrm>
            <a:off x="826920" y="2781360"/>
            <a:ext cx="7620120" cy="39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морфологическим признакам Азовское море относится к плоским морям и представляет собой мелководный водоем с невысокими береговыми склон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ьшая глубина не превышает 14 метров, а средняя глубина около 8 метров При этом глубины до 5 метров занимают более половины объема Азовского моря. Объем его также невелик и равен 320 кубических метров. Для сравнения скажем, что Аральское море превышает Азовское по площади почти в 2 раза. Черное море больше Азовского по площади почти в 11 раз, а по объему - в 1678 раз. И все же Азовское море не такое уж маленькое, на нем свободно разместились бы два таких государства Европы, как Нидерланды и Люксембург. Его наибольшая длина 380 километров, а наибольшая ширина - 200 километров. Общая протяженность береговой линии моря составляет 2686 киломе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весьма прост, глубины в основном медленно и плавно возрастают по мере удаления от берегов, и самые большие глубины находятся в центре моря. Дно его почти плоское. Азовское море образует несколько заливов, из которых самыми крупными являются Таганрогский, Темрюкский и сильно обособленный Сиваш, который правильнее считать лиманом. Крупных островов на Азовском море нет. Имеется ряд отмелей, частично заливаемых водой и расположенных близ берегов. Таковы, например, острова Бирючий, Черепаха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504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тров Бирюч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800px-Byriuchyi_Island"/>
          <p:cNvPicPr/>
          <p:nvPr/>
        </p:nvPicPr>
        <p:blipFill>
          <a:blip r:embed="rId1"/>
          <a:stretch/>
        </p:blipFill>
        <p:spPr>
          <a:xfrm>
            <a:off x="826920" y="1413000"/>
            <a:ext cx="7620120" cy="50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тиметрия Азовского мор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6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сравнительно прост. По мере удаления от берега глубины медленно и плавно нарастают, достигая в центральной части моря 14,4 метра. Основная площадь дна Азовского моря характеризуется глубиной 5-13 метров. Область наибольших глубин находится в центре моря. Расположение изобат, близкое к симметричному, нарушается небольшой вытянутостью их на северо-востоке в сторону Таганрогского залива. Изобата 5 метров располагается примерно в 2 километрах от берега, удаляясь от него около Таганрогского залива и в самом заливе около устья Дона. В Таганрогском заливе глубины увеличиваются от устья Дона (2-3 метра) по направлению к открытой части моря, достигая на границе залива с морем 8-9 мет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03feadb71a29"/>
          <p:cNvPicPr/>
          <p:nvPr/>
        </p:nvPicPr>
        <p:blipFill>
          <a:blip r:embed="rId1"/>
          <a:stretch/>
        </p:blipFill>
        <p:spPr>
          <a:xfrm>
            <a:off x="4284720" y="1125360"/>
            <a:ext cx="465444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 рельефе дна Азовского моря отмечаются системы подводных возвышенностей, вытянутые вдоль восточного (банка Железинская) и западного (банки Морская и Арабатская) побережий, глубины над которыми уменьшаются от 8-9 до 3-5 метров. Для подводного берегового склона северного побережья характерно широкое мелководье (20-30 километров) с глубинами 6-7 метров, для южного побережья — крутой подводный склон до глубин 11-12 метров. Площадь водосбора Бассейна Азовского моря составляет 586 000 квадратных километр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берега в основном плоские и песчаные, только на южном берегу встречаются холмы вулканического происхождения, которые местами переходят в крутые передовые горы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течения находятся в зависимости от дующих здесь очень сильных северо-восточных и юго-западных ветров и поэтому весьма часто меняют направление. Основным течением является круговое течение вдоль берегов Азовского моря против часовой стрелки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ausreef"/>
          <p:cNvPicPr/>
          <p:nvPr/>
        </p:nvPicPr>
        <p:blipFill>
          <a:blip r:embed="rId1"/>
          <a:stretch/>
        </p:blipFill>
        <p:spPr>
          <a:xfrm>
            <a:off x="4067280" y="476280"/>
            <a:ext cx="5076720" cy="55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141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Географические объекты Азовского мор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Перечислены крупные или представляющие особый интерес географические объекты в порядке их следования по часовой стрелке вдоль побережья Азовского моря, начиная от Керченского проли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Заливы и лиман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Казантипский залив, Арабат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залив Сиваш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Утлюкский лиман, Молочный лиман, Обиточный - залив, Бердян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Таганрогский залив, Миусский лиман, Ей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Ясенский залив, Бейсугский лиман, Ахтар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е-востоке: Темрюкский залив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Косы и мыс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мыс Хрони, мыс Зюк, мыс Чаганы и мыс Казантип (Казантип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коса Арабатская Стрелка (залив Сиваш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Федотова коса и коса Бирючий остров (Утлюкский лиман), Обиточная коса (Обиточный залив), Бердянская коса (Бердян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Белосарайская коса, коса Крив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Тузл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коса Беглицк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мыс Чумбурский, Глафировская коса, Долгая коса, Камышеватская коса, Ясенская коса (Бейсугский лиман), Ачуевская коса (Ахтарский лиман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востоке: мыс Ачуевский и мыс Каменный (Темрюкский залив)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Чуш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еки, впадающие в Азовское море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Малый Утлюк, Молочная, Корсак, Лозоватка, Обиточная, Берда, Кальмиус, Грузский Еланчик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Мокрый Еланчик, Миус, Самбек, Дон, Кагальник, Мокрая Чубурка, Е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на юго-востоке: Протока, Кубань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лё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т фитопланктон и бентос. Фитопланктон состоит (в %): из диатомовых — 55, перидиниевых − 41,2, и сине-зелёных водорослей — 2,2. Среди биомассы бентоса моллюски занимают доминирующее положение. Их скелетные остатки, представленные карбонатом кальция, имеют значительный удельный вес в формировании современного донного осадка и аккумулятивных надводных т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дрохимические особенности Азовского моря формируются в первую очередь под влиянием обильного притока речных вод (до 12 % объёма воды) и затруднённого водообмена с Чёрным мор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ёность моря до зарегулирования Дона была в три раза меньше средней солёности океана. Величина её на поверхности изменялась от 1 промилле в устье Дона до 10,5 промилле в центральной части моря и 11,5 промилле у Керченского пролива. После создания Цимлянского гидроузла солёность моря начала повышаться (до 13 промилле в центральной части). Средние сезонные колебания величин солёности редко достигают 1-2 проц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содержит очень мало соли в северной части Азовского моря. По этой причине море легко замерзает, и поэтому до появления ледоколов оно было несудоходно с декабря до середины апреля. Южная часть моря не замерзает и остаётся умеренной темпера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XX века практически все более-менее крупные реки, впадающие в Азовское море, были перегорожены плотинами для создания водохранилищ. Это привело к значительному сокращению сброса пресной воды и ила в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04:14Z</dcterms:created>
  <dc:creator>Пользователь</dc:creator>
  <dc:description/>
  <dc:language>en-US</dc:language>
  <cp:lastModifiedBy>Admin</cp:lastModifiedBy>
  <dcterms:modified xsi:type="dcterms:W3CDTF">2016-01-09T19:41:18Z</dcterms:modified>
  <cp:revision>5</cp:revision>
  <dc:subject/>
  <dc:title>Азовское море</dc:title>
</cp:coreProperties>
</file>