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9D48-8B11-45DD-9618-22A741A71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7B5D-A341-4F8D-BB66-9FFFA573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4018-9CC4-44FD-80E1-F241DA4F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A3B5-DC32-4B29-BD71-D72AD008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303F7-3F92-4234-8C0B-A1CB040E7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C152D-73DE-4171-B40A-7EC27C6D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E74CD-4C7A-4AF3-A1C6-5A4B9AC4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33EF4-C186-474A-87DE-DC76687E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C790E-E5A4-4F1A-A115-48FBE4CA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0A410-BEFB-4D88-AEBE-68CE7F96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D743C-A0C2-4059-AFA5-DF10B945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4B10-D9C9-49FD-8117-5FC14591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93A2E-4928-4C0F-BF37-B3AA3898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34E67-E6EB-4D9A-BC94-5C5768B8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9C1FC-04DC-4C74-93A5-0301365B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C6094-E792-4528-9765-ECB7986FC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48417-5684-4A25-8BBE-B48ADC8D5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B26D-2C04-4601-8AAA-3F7346DA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A320-5CFA-49DC-9A15-F798997E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E2EB-F8A3-4B64-B628-8A36A83C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040E-4857-4BB5-8818-E81A1986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62DE-AE09-40C2-A625-E4AE7BE3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ED13-4D42-4747-A31C-8DBA0C66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4E51-039D-465D-B53D-29250ACC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BE3C-28D3-4489-AA1B-2F0FB71AE3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029E-50C7-42DE-B1C5-F05C2BEF4F1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1197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зовское мор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ентация Жарково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льг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ницы 8 «А» клас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708360" y="-360"/>
            <a:ext cx="506088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Фау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89000"/>
            <a:ext cx="414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Ихтиофауна Азовского моря в настоящее время включает 103 вида и подвида рыб, относящихся к 76 родам, и представлена проходными, полупроходными, морскими и пресноводными видами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Проходные виды рыб нагуливаются в море до наступления половой зрелости, а в реку заходят только на нерест. Период размножения в реках и или на займищах обычно не превышает 1-2 месяца. Среди азовских проходных рыб имеются ценнейшие промысловые виды, такие как белуга, осётр, севрюга, сельди, рыбец и шемая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Полупроходные виды для размножения заходят из моря в реки. Однако в реках они могут задерживаться на более продолжительное время, чем проходные (до года). Что касается молоди, то она скатывается из нерестилищ очень медленно и часто остаётся в реке на зимовку. К полупроходным рыбам относятся массовые виды, такие как судак, лещ, тарань, чехонь и некоторые другие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Морские виды размножаются и нагуливаются в солёных водах. Среди них выделяются виды, постоянно обитающие в Азовском море. Это — пиленгас, камбала-калкан, глосса, тюлька, перкарина, комашка трёхиглая, рыбы-иглы и все виды бычков. И, наконец, имеется большая группа морских рыб, заходящая в Азовское море из Чёрного моря, в том числе совершающая регулярные миграции. К ним относятся: азовская хамса, черноморская хамса, черноморская сельдь, барабуля, сингиль, остронос, лобан, калкан черноморский, ставрида, скумбрия и др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Пресноводные виды обычно постоянно обитают в одном районе водоёма и больших миграций не совершают. Эти виды населяют обычно опреснённые акватории моря. Здесь встречаются такие рыбы, как стерлядь, серебряный карась, щука, язь, уклея и др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По количеству растительных и животных организмов Азовскому морю нет равных в мире. По продуктивности Азовское море в 6,5 раз превосходит Каспийское, в 40 раз — Черное и в 160 раз Средиземное моря. А ведь по размеру оно меньше Черного в 10 раз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wapos_ru_26860g"/>
          <p:cNvPicPr/>
          <p:nvPr/>
        </p:nvPicPr>
        <p:blipFill>
          <a:blip r:embed="rId1"/>
          <a:stretch/>
        </p:blipFill>
        <p:spPr>
          <a:xfrm>
            <a:off x="4427640" y="765000"/>
            <a:ext cx="4462200" cy="557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Экономика в XIX век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Азовское море было весьма важно для России XIX века из-за, с одной стороны, обилия рыбы, а с другой — постоянно увеличивающегося торгового оборота через море. Среднее годовое число входящих в гавани Азовского моря кораблей находилось в 1866—1871 годах в количестве 2662 шт. с общим тоннажем 362951 тонн. Более половины их приходилась на Таганрог, 558 на Бердянск, 296 на Керчь, 263 на Мариуполь. Береговых лодок в море прибыло 6807, ушло — 6832. В это время русский торговый флот Азовского моря состоял из 1210 кораблей общим тоннажем 40658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Более активно торговля на Азовском море стала развиваться в связи со строительством железнодорожных транспортных магистралей: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Таганрог двумя железными дорогами (в Харьков и Воронеж) был соединён с остальной частью Российской империи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железная дорога из Калача в Царицын (ныне — Волгоград) — достигнуто прямое сообщение между Доном и Волгой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построена железнодорожная ветка из Бердянска до станции Чаплино (1899)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Кроме расположенного выше дельты Дона Ростова-на-Дону, приходными гаванями были — Таганрог, Мариуполь и Бердянск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дых на Азовском море привлекает не только возможностью улучшить свое самочувствие, но и полюбоваться удивительной, неповторимой красотой этого заповедного уголка Краснодарского края. Азовское побережье не столь изобильно разнообразием пейзажей, в отличие от черноморского. Но в плавных изгибах береговой линии, песчаных косах, уходящих далеко в море, круглых зеленых холмах, плавнях, заросших камышом, есть свое особое очарова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6" descr="a678d282661dcbee34814c48171c54724fa5e070405442"/>
          <p:cNvPicPr/>
          <p:nvPr/>
        </p:nvPicPr>
        <p:blipFill>
          <a:blip r:embed="rId1"/>
          <a:stretch/>
        </p:blipFill>
        <p:spPr>
          <a:xfrm>
            <a:off x="826920" y="1989000"/>
            <a:ext cx="7620120" cy="458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9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0_30d8c_ec455d2d_XL"/>
          <p:cNvPicPr/>
          <p:nvPr/>
        </p:nvPicPr>
        <p:blipFill>
          <a:blip r:embed="rId1"/>
          <a:stretch/>
        </p:blipFill>
        <p:spPr>
          <a:xfrm>
            <a:off x="826920" y="1628640"/>
            <a:ext cx="7620120" cy="485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4500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зо́вское мо́ре — северо-восточный боковой бассейн Черного моря, с которым оно соединяется Керченским проливом (Босфор Киммерийский в древности, шириною в 4,2 километров). Азовское море относится к морям Атлантического океа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4" descr="azov2"/>
          <p:cNvPicPr/>
          <p:nvPr/>
        </p:nvPicPr>
        <p:blipFill>
          <a:blip r:embed="rId1"/>
          <a:stretch/>
        </p:blipFill>
        <p:spPr>
          <a:xfrm>
            <a:off x="4356000" y="189000"/>
            <a:ext cx="4680000" cy="655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8000" y="291960"/>
            <a:ext cx="90360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есторасположение Азовского мор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айние точки Азовского моря лежат между 45°12′30″ и 47°17′30″ сев. широты и между 33°38′ (Сиваш) и 39°18′ вост. долготы. Самая большая его длина 343 километра, самая большая ширина 231 километр; длина береговой линии 1472 километра; площадь поверхности — 37605 квадратных километров(в эту площадь не входят острова и косы, занимающие 107,9 квадратных километров.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4" descr="800px-Bm_krim"/>
          <p:cNvPicPr/>
          <p:nvPr/>
        </p:nvPicPr>
        <p:blipFill>
          <a:blip r:embed="rId1"/>
          <a:stretch/>
        </p:blipFill>
        <p:spPr>
          <a:xfrm>
            <a:off x="826920" y="2781360"/>
            <a:ext cx="7620120" cy="39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морфологическим признакам Азовское море относится к плоским морям и представляет собой мелководный водоем с невысокими береговыми склона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ибольшая глубина не превышает 14 метров, а средняя глубина около 8 метров При этом глубины до 5 метров занимают более половины объема Азовского моря. Объем его также невелик и равен 320 кубических метров. Для сравнения скажем, что Аральское море превышает Азовское по площади почти в 2 раза. Черное море больше Азовского по площади почти в 11 раз, а по объему - в 1678 раз. И все же Азовское море не такое уж маленькое, на нем свободно разместились бы два таких государства Европы, как Нидерланды и Люксембург. Его наибольшая длина 380 километров, а наибольшая ширина - 200 километров. Общая протяженность береговой линии моря составляет 2686 километр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водный рельеф Азовского моря весьма прост, глубины в основном медленно и плавно возрастают по мере удаления от берегов, и самые большие глубины находятся в центре моря. Дно его почти плоское. Азовское море образует несколько заливов, из которых самыми крупными являются Таганрогский, Темрюкский и сильно обособленный Сиваш, который правильнее считать лиманом. Крупных островов на Азовском море нет. Имеется ряд отмелей, частично заливаемых водой и расположенных близ берегов. Таковы, например, острова Бирючий, Черепаха и друг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5040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стров Бирюч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800px-Byriuchyi_Island"/>
          <p:cNvPicPr/>
          <p:nvPr/>
        </p:nvPicPr>
        <p:blipFill>
          <a:blip r:embed="rId1"/>
          <a:stretch/>
        </p:blipFill>
        <p:spPr>
          <a:xfrm>
            <a:off x="826920" y="1413000"/>
            <a:ext cx="7620120" cy="5086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Батиметрия Азовского мор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40672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дводный рельеф Азовского моря сравнительно прост. По мере удаления от берега глубины медленно и плавно нарастают, достигая в центральной части моря 14,4 метра. Основная площадь дна Азовского моря характеризуется глубиной 5-13 метров. Область наибольших глубин находится в центре моря. Расположение изобат, близкое к симметричному, нарушается небольшой вытянутостью их на северо-востоке в сторону Таганрогского залива. Изобата 5 метров располагается примерно в 2 километрах от берега, удаляясь от него около Таганрогского залива и в самом заливе около устья Дона. В Таганрогском заливе глубины увеличиваются от устья Дона (2-3 метра) по направлению к открытой части моря, достигая на границе залива с морем 8-9 метр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03feadb71a29"/>
          <p:cNvPicPr/>
          <p:nvPr/>
        </p:nvPicPr>
        <p:blipFill>
          <a:blip r:embed="rId1"/>
          <a:stretch/>
        </p:blipFill>
        <p:spPr>
          <a:xfrm>
            <a:off x="4284720" y="1125360"/>
            <a:ext cx="4654440" cy="525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211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В рельефе дна Азовского моря отмечаются системы подводных возвышенностей, вытянутые вдоль восточного (банка Железинская) и западного (банки Морская и Арабатская) побережий, глубины над которыми уменьшаются от 8-9 до 3-5 метров. Для подводного берегового склона северного побережья характерно широкое мелководье (20-30 километров) с глубинами 6-7 метров, для южного побережья — крутой подводный склон до глубин 11-12 метров. Площадь водосбора Бассейна Азовского моря составляет 586 000 квадратных километров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Морские берега в основном плоские и песчаные, только на южном берегу встречаются холмы вулканического происхождения, которые местами переходят в крутые передовые горы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Морские течения находятся в зависимости от дующих здесь очень сильных северо-восточных и юго-западных ветров и поэтому весьма часто меняют направление. Основным течением является круговое течение вдоль берегов Азовского моря против часовой стрелки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hausreef"/>
          <p:cNvPicPr/>
          <p:nvPr/>
        </p:nvPicPr>
        <p:blipFill>
          <a:blip r:embed="rId1"/>
          <a:stretch/>
        </p:blipFill>
        <p:spPr>
          <a:xfrm>
            <a:off x="4067280" y="476280"/>
            <a:ext cx="5076720" cy="5587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1141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Географические объекты Азовского моря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Перечислены крупные или представляющие особый интерес географические объекты в порядке их следования по часовой стрелке вдоль побережья Азовского моря, начиная от Керченского пролива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Заливы и лиманы Азовского моря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Украина: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юго-западе: Казантипский залив, Арабатский залив;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западе: залив Сиваш;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северо-западе: Утлюкский лиман, Молочный лиман, Обиточный - залив, Бердянский залив;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Россия: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северо-востоке: Таганрогский залив, Миусский лиман, Ейский лиман;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востоке: Ясенский залив, Бейсугский лиман, Ахтарский лиман;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юге-востоке: Темрюкский залив.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Косы и мысы Азовского моря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Украина: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юго-западе: мыс Хрони, мыс Зюк, мыс Чаганы и мыс Казантип (Казантипский залив);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западе: коса Арабатская Стрелка (залив Сиваш);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северо-западе: Федотова коса и коса Бирючий остров (Утлюкский лиман), Обиточная коса (Обиточный залив), Бердянская коса (Бердянский залив);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северо-востоке: Белосарайская коса, коса Кривая;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в Керченском проливе: коса Тузла.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Россия: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северо-востоке: коса Беглицкая;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востоке: мыс Чумбурский, Глафировская коса, Долгая коса, Камышеватская коса, Ясенская коса (Бейсугский лиман), Ачуевская коса (Ахтарский лиман);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юго-востоке: мыс Ачуевский и мыс Каменный (Темрюкский залив).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в Керченском проливе: коса Чушка.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Реки, впадающие в Азовское море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Украина: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северо-западе: Малый Утлюк, Молочная, Корсак, Лозоватка, Обиточная, Берда, Кальмиус, Грузский Еланчик;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Россия: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северо-востоке: Мокрый Еланчик, Миус, Самбек, Дон, Кагальник, Мокрая Чубурка, Ея;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на юго-востоке: Протока, Кубань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0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0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0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01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1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1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01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1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1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олё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звит фитопланктон и бентос. Фитопланктон состоит (в %): из диатомовых — 55, перидиниевых − 41,2, и сине-зелёных водорослей — 2,2. Среди биомассы бентоса моллюски занимают доминирующее положение. Их скелетные остатки, представленные карбонатом кальция, имеют значительный удельный вес в формировании современного донного осадка и аккумулятивных надводных те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идрохимические особенности Азовского моря формируются в первую очередь под влиянием обильного притока речных вод (до 12 % объёма воды) и затруднённого водообмена с Чёрным море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лёность моря до зарегулирования Дона была в три раза меньше средней солёности океана. Величина её на поверхности изменялась от 1 промилле в устье Дона до 10,5 промилле в центральной части моря и 11,5 промилле у Керченского пролива. После создания Цимлянского гидроузла солёность моря начала повышаться (до 13 промилле в центральной части). Средние сезонные колебания величин солёности редко достигают 1-2 процен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да содержит очень мало соли в северной части Азовского моря. По этой причине море легко замерзает, и поэтому до появления ледоколов оно было несудоходно с декабря до середины апреля. Южная часть моря не замерзает и остаётся умеренной температур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течение XX века практически все более-менее крупные реки, впадающие в Азовское море, были перегорожены плотинами для создания водохранилищ. Это привело к значительному сокращению сброса пресной воды и ила в мо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6:04:14Z</dcterms:created>
  <dc:creator>Пользователь</dc:creator>
  <dc:description/>
  <dc:language>en-US</dc:language>
  <cp:lastModifiedBy>Admin</cp:lastModifiedBy>
  <dcterms:modified xsi:type="dcterms:W3CDTF">2016-01-09T19:41:18Z</dcterms:modified>
  <cp:revision>5</cp:revision>
  <dc:subject/>
  <dc:title>Азовское море</dc:title>
</cp:coreProperties>
</file>