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75C-4B20-4BDE-9522-65FBC06F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EED-D115-4FA6-AD6C-99F4E4A5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306-6ADB-475C-AA1E-C5D4956D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D7E-D801-430E-AB1F-18D5DBC9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C4A-3A86-49CD-93D7-462E79EE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5E1-3350-41FB-9C93-0B53EB61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C2B-E88D-4C54-A6E8-477C890C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E8F-751A-4EDA-84B6-9F0C8FE6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229-0F29-467E-8E3D-E58B847B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571-A0BA-454E-A8C1-6A9F319F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7AB-7C73-4999-AA8E-7257EF5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A53-EDDE-438F-9405-2549DF32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C1AC-A38B-448A-BC8C-2508CF14D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5229360"/>
            <a:ext cx="697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оева Елена 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итель-логопед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5399" r="0" b="0"/>
          <a:stretch/>
        </p:blipFill>
        <p:spPr>
          <a:xfrm>
            <a:off x="4356000" y="1844640"/>
            <a:ext cx="4319640" cy="309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5399" r="0" b="0"/>
          <a:stretch/>
        </p:blipFill>
        <p:spPr>
          <a:xfrm>
            <a:off x="395280" y="1844640"/>
            <a:ext cx="4176720" cy="3090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4360" y="115920"/>
            <a:ext cx="799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анк загадок об осе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50000">
                    <a:srgbClr val="ffff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48320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и улетели, леса пожел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и зеленеют  сосны и 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ни стали короче, длиннее ноч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скажет, кто знает, когда это б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087720" cy="3160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2884680" cy="3051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21800" y="472428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О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868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Arial"/>
              </a:rPr>
              <a:t>Методические 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 загадок предназначен для широкого круга пользователей: специалистов, учителей, воспитателей, библиотекарей, родител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презентация содержит богатый лексический и картинный материал, который можно использовать выборочно или целиком, учитывая избранную цель и задачи, и рассчитана на творческое использование. Иллюстрации и отгадки появляются не всегда синхронно, что позволяет в трудных случаях провести беседу с учащимися, актуализировать их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 значительно облегчит подготовку внеклассных мероприятий, логопедических занятий,  различных уроков и позволит обогатить словарный запас учащихся и расширить знания по теме «Осен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3716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152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Используемая литература и Интернет-ресу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13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00280"/>
            <a:ext cx="8424720" cy="49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От осени до лета. Детям о природе и временах года в стихах, загадках, пословицах, рассказах о православных праздниках, народных обычаях и поверьях» Составитель: Л.А. Владимирская, Волгоград, издательство «Учитель»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Стихи о временах года и игры». Дидактические материалы по развитию речи детей 5-6 лет. Авторы-составители: О.Е. Громова, Г.Н. Соломат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.П. Савинова, Москва, Творческий центр «Сфера»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ллюстрации были найдены с помощью поисковой системы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oogl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7840" y="1504800"/>
            <a:ext cx="83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868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3716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70028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витие интереса к логопедическим занятиям, к различным школьным дисциплинам, оказание помощи в подготовке уроков, логопедических занятий и внекласс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уализация знаний учащихся по теме «Осень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изация пассивного словаря и расширение    активного словаря учащихся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положительной эмоциональной атмосф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лочение детского коллект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62024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шла без красок и без ки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ерекрасила все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310824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556000" cy="475308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069080" y="371628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3e16"/>
                </a:solidFill>
                <a:latin typeface="Arial"/>
              </a:rPr>
              <a:t>О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11280" y="1125000"/>
            <a:ext cx="6408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у я урожаи, поля я убир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тиц к югу отправл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евья раздев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 касаюсь ёлочек да сос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268280"/>
            <a:ext cx="2365560" cy="208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881440" cy="28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3683160"/>
            <a:ext cx="3672000" cy="2752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142160" y="443088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3e16"/>
                </a:solidFill>
                <a:latin typeface="Arial"/>
              </a:rPr>
              <a:t>О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9280" y="1340280"/>
            <a:ext cx="58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устел колхозный с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тинки вдаль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 южный край зем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янулись жура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ахнулись двери ш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 к нам приш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66364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56360" y="4508640"/>
            <a:ext cx="2673360" cy="208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2625840" cy="207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94520" y="4797360"/>
            <a:ext cx="23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Сен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92000" y="1341000"/>
            <a:ext cx="547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мрачней лицо прир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рнели ого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оляются ле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кнут птичь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шка в спячку завалил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 к нам явилс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flipH="1">
            <a:off x="250920" y="1844640"/>
            <a:ext cx="316872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54520" y="5108400"/>
            <a:ext cx="22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Октябр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6633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840" y="1556280"/>
            <a:ext cx="545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 черно-белым ста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дает то дождь, то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еще похолодал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ьдом сковало воды р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знет в поле озимь рж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месяц, подскаж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67280" y="1268280"/>
            <a:ext cx="3108600" cy="326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3097440" cy="205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67280" y="4653000"/>
            <a:ext cx="3097440" cy="2049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637800" y="503568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Но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22:02Z</dcterms:created>
  <dc:creator>МО логопедов</dc:creator>
  <dc:description/>
  <dc:language>en-US</dc:language>
  <cp:lastModifiedBy>ПУШИСТЫЙ</cp:lastModifiedBy>
  <dcterms:modified xsi:type="dcterms:W3CDTF">2011-11-08T16:35:25Z</dcterms:modified>
  <cp:revision>61</cp:revision>
  <dc:subject/>
  <dc:title>Слайд 1</dc:title>
</cp:coreProperties>
</file>