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3.gif" ContentType="image/gif"/>
  <Override PartName="/ppt/media/image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A0E-E95D-476A-9276-5F7BDEB9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7E9-6314-41AF-A15C-46600AFE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B8D-A0A5-4A19-8C6B-C8D72A96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EEB-DAB6-47BA-8EC3-12B02D82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3AD-1820-4A6B-B246-378E1DC8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1EA-E367-45FE-9250-2B7D423C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2B7-B13B-4666-9DA6-94D914BF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824-0A55-4670-8789-50618F4C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A33-E67F-4327-9590-48F5B4C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DA8-8F67-48EB-A6BD-FB5E4A8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0C2-69D6-40AC-9A71-7C4736F4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FAA-BDC3-47F1-A21B-DD168503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17F3-16D6-412F-93EE-5AF587CC6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7994520" cy="25005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редные привычки, или Новые приключения Колоб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оал.jpg"/>
          <p:cNvPicPr/>
          <p:nvPr/>
        </p:nvPicPr>
        <p:blipFill>
          <a:blip r:embed="rId1"/>
          <a:stretch/>
        </p:blipFill>
        <p:spPr>
          <a:xfrm>
            <a:off x="3357720" y="3371760"/>
            <a:ext cx="264312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Documents and Settings\Администратор\Мои документы\Мои рисунки\-IMAGES-\NICE\FOOD\PG1FO008.JPG"/>
          <p:cNvPicPr/>
          <p:nvPr/>
        </p:nvPicPr>
        <p:blipFill>
          <a:blip r:embed="rId1"/>
          <a:stretch/>
        </p:blipFill>
        <p:spPr>
          <a:xfrm>
            <a:off x="571680" y="714240"/>
            <a:ext cx="79578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28684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alibri"/>
                <a:ea typeface="Times New Roman"/>
              </a:rPr>
              <a:t>Алкоголь особенно активно влияет на несформировавшийся организм, постепенно разрушая его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20EWCA9TGY9VCAEKXJBMCAQNN2LGCAQCVHM5CAHZA9VPCAYNQQ5UCAILXU5XCAW7LORSCA9IH5TXCA1B10ASCAMJ48ZXCAONPARMCATT7V98CA0935W2CAK14W34CABUV01OCAC2FCS2CASTUSQ3CA5MKO3C.jpg"/>
          <p:cNvPicPr/>
          <p:nvPr/>
        </p:nvPicPr>
        <p:blipFill>
          <a:blip r:embed="rId1"/>
          <a:stretch/>
        </p:blipFill>
        <p:spPr>
          <a:xfrm>
            <a:off x="2786040" y="3429000"/>
            <a:ext cx="3571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3"/>
          <p:cNvGrpSpPr/>
          <p:nvPr/>
        </p:nvGrpSpPr>
        <p:grpSpPr>
          <a:xfrm>
            <a:off x="665280" y="781200"/>
            <a:ext cx="7888320" cy="1650960"/>
            <a:chOff x="665280" y="781200"/>
            <a:chExt cx="7888320" cy="1650960"/>
          </a:xfrm>
        </p:grpSpPr>
        <p:pic>
          <p:nvPicPr>
            <p:cNvPr id="71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665280" y="781200"/>
              <a:ext cx="78883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2160" y="928800"/>
              <a:ext cx="777240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наркомани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Рисунок 5" descr="MTR0CAEXIRDWCALB0PJKCAR2JDDPCABGMWLXCAXBNNF9CADXS1H3CA2B3SWYCAW98WWTCABNX2LHCAX1U6A2CAALAS03CAMCZ6T1CAVVUY52CATLZX27CAL6DK23CAHDIQGDCA1HCP1DCAUVNWWICARDHCVX.jpg"/>
          <p:cNvPicPr/>
          <p:nvPr/>
        </p:nvPicPr>
        <p:blipFill>
          <a:blip r:embed="rId2"/>
          <a:stretch/>
        </p:blipFill>
        <p:spPr>
          <a:xfrm>
            <a:off x="2357280" y="2857680"/>
            <a:ext cx="4419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love_injection_by_bionic7.jpg"/>
          <p:cNvPicPr/>
          <p:nvPr/>
        </p:nvPicPr>
        <p:blipFill>
          <a:blip r:embed="rId1"/>
          <a:stretch/>
        </p:blipFill>
        <p:spPr>
          <a:xfrm>
            <a:off x="214308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3HOICAVEIBS5CAKCBFQMCA0Z2HZ4CACJFBDPCAHWK4HTCARKXE4NCASPMPLDCA3GJ35WCASC7I7ZCA1FIKFHCACFLID9CAFSJ4MGCAYGC44JCA402ND8CAM3QTCHCAL5IP98CAA4PKUWCACLDKTLCAIAS99L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357120"/>
            <a:ext cx="78584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7152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ловек рождается на свет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б творить, дерзать – и не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иначе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б оставить в жизни добрый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след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 решить все трудные задачи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ловек рождается на свет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ля чего? Ищите свой ответ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0_20022_7af16b03_XS.gif"/>
          <p:cNvPicPr/>
          <p:nvPr/>
        </p:nvPicPr>
        <p:blipFill>
          <a:blip r:embed="rId1"/>
          <a:stretch/>
        </p:blipFill>
        <p:spPr>
          <a:xfrm>
            <a:off x="2571840" y="1500120"/>
            <a:ext cx="41781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Заголовок 3"/>
          <p:cNvGrpSpPr/>
          <p:nvPr/>
        </p:nvGrpSpPr>
        <p:grpSpPr>
          <a:xfrm>
            <a:off x="652320" y="743040"/>
            <a:ext cx="7888320" cy="1403280"/>
            <a:chOff x="652320" y="743040"/>
            <a:chExt cx="7888320" cy="1403280"/>
          </a:xfrm>
        </p:grpSpPr>
        <p:pic>
          <p:nvPicPr>
            <p:cNvPr id="4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652320" y="743040"/>
              <a:ext cx="7888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14240" y="857160"/>
              <a:ext cx="7772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0000"/>
                  </a:solidFill>
                  <a:latin typeface="Calibri"/>
                </a:rPr>
                <a:t>Антисанитария</a:t>
              </a: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Рисунок 6" descr="IF3ICA9X7MWOCAHP8QEGCAZ2JSWRCAOLDDDXCATBMZXOCAEGD5W4CAO2RRVDCAF4XIHPCAMQ8YY6CA7BL5HJCAWAIBLSCAJX5P04CAWBD5RZCA35RKAICAO0OYEGCAH7NY68CAJA6E7NCAYDS8GRCA5G1JXN.jpg"/>
          <p:cNvPicPr/>
          <p:nvPr/>
        </p:nvPicPr>
        <p:blipFill>
          <a:blip r:embed="rId2"/>
          <a:stretch/>
        </p:blipFill>
        <p:spPr>
          <a:xfrm>
            <a:off x="2571840" y="3143160"/>
            <a:ext cx="4017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09af03d0a2ef9006f427397bb7f2fd9f_medium.jpg"/>
          <p:cNvPicPr/>
          <p:nvPr/>
        </p:nvPicPr>
        <p:blipFill>
          <a:blip r:embed="rId1"/>
          <a:stretch/>
        </p:blipFill>
        <p:spPr>
          <a:xfrm>
            <a:off x="285840" y="428760"/>
            <a:ext cx="8686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517680" y="536400"/>
            <a:ext cx="8156520" cy="2683080"/>
            <a:chOff x="517680" y="536400"/>
            <a:chExt cx="8156520" cy="268308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17680" y="536400"/>
              <a:ext cx="8156520" cy="26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14240" y="571680"/>
              <a:ext cx="77724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Брань площадна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Рисунок 3" descr="2.jpg"/>
          <p:cNvPicPr/>
          <p:nvPr/>
        </p:nvPicPr>
        <p:blipFill>
          <a:blip r:embed="rId2">
            <a:lum bright="-10000"/>
          </a:blip>
          <a:srcRect l="53751" t="0" r="0" b="0"/>
          <a:stretch/>
        </p:blipFill>
        <p:spPr>
          <a:xfrm>
            <a:off x="3214800" y="2857680"/>
            <a:ext cx="2643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OBYQCAZO0WMFCAVV2WE6CAJ7EZA4CAWZ7ARECA7EJT5ACAR010X8CA9ZQQNNCA3KL15ACA58SUAGCAYS1GNWCAW6J4GACAH094OWCATZD0F3CA43KIUHCA64UQ71CA0KVRMLCAIN8DJDCAGXTAJPCA8U801O.jpg"/>
          <p:cNvPicPr/>
          <p:nvPr/>
        </p:nvPicPr>
        <p:blipFill>
          <a:blip r:embed="rId1"/>
          <a:stretch/>
        </p:blipFill>
        <p:spPr>
          <a:xfrm>
            <a:off x="428760" y="428760"/>
            <a:ext cx="82152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665280" y="298440"/>
            <a:ext cx="7888320" cy="2700360"/>
            <a:chOff x="665280" y="298440"/>
            <a:chExt cx="7888320" cy="270036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298440"/>
              <a:ext cx="78883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22160" y="500040"/>
              <a:ext cx="777240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Сигарета худородна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3" descr="IXK8CANZDOOPCAV1RLB4CA1I5Z4LCA0KTAVOCABZM1WBCASX9MG3CA0U1OYZCAGD5OMDCA1M4TDVCAWVVCTOCAM02DZ3CAH5B9E8CASXANL7CAO5LKQKCA3GWP4FCA98XSZQCAXRF48TCANAGJ1PCAFFXL5A.jpg"/>
          <p:cNvPicPr/>
          <p:nvPr/>
        </p:nvPicPr>
        <p:blipFill>
          <a:blip r:embed="rId2"/>
          <a:stretch/>
        </p:blipFill>
        <p:spPr>
          <a:xfrm>
            <a:off x="3357720" y="3429000"/>
            <a:ext cx="2428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585720" y="536400"/>
            <a:ext cx="8034480" cy="1322640"/>
            <a:chOff x="585720" y="536400"/>
            <a:chExt cx="8034480" cy="132264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85720" y="536400"/>
              <a:ext cx="80344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2160" y="571680"/>
              <a:ext cx="7772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Calibri"/>
                </a:rPr>
                <a:t>В табачном дыме содержится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7120" y="1928520"/>
            <a:ext cx="8137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котин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ж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сид мышья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глекислый г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сусная кисло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альдеги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25" descr="C:\Documents and Settings\Администратор\Рабочий стол\ира\ресурсы\sigar.jpg"/>
          <p:cNvPicPr/>
          <p:nvPr/>
        </p:nvPicPr>
        <p:blipFill>
          <a:blip r:embed="rId2"/>
          <a:stretch/>
        </p:blipFill>
        <p:spPr>
          <a:xfrm>
            <a:off x="5286240" y="2500200"/>
            <a:ext cx="3254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P4L6CA43TQHCCA03WJACCA1DW1XNCALOKM3BCAJOSDZ5CAMFKFX3CABJCKCNCA5FUMKOCAWTF9H7CA4C10TECAN55185CAE3HDSCCACI7SUJCAX9SXGLCACNC3E4CA5YDWXWCA63X8NNCAR1GYAPCAOHKMKF.jpg"/>
          <p:cNvPicPr/>
          <p:nvPr/>
        </p:nvPicPr>
        <p:blipFill>
          <a:blip r:embed="rId1"/>
          <a:stretch/>
        </p:blipFill>
        <p:spPr>
          <a:xfrm>
            <a:off x="714240" y="428760"/>
            <a:ext cx="80010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665280" y="884160"/>
            <a:ext cx="7888320" cy="1687680"/>
            <a:chOff x="665280" y="884160"/>
            <a:chExt cx="7888320" cy="168768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884160"/>
              <a:ext cx="78883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22160" y="100008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алкоголизм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Рисунок 3" descr="M84MCAK9TOJ9CAF8ZSQCCA00XKOYCASS2D9XCAP7N6FLCADAQQS9CAYXUCMPCA5JYMIYCAJROVOICARHOAUECAOBKKSRCABLIOV5CA6EVC8KCA24P4QOCA2E9ZC3CATFHBFBCABQA3ORCANPI4MECA4JH7T8.jpg"/>
          <p:cNvPicPr/>
          <p:nvPr/>
        </p:nvPicPr>
        <p:blipFill>
          <a:blip r:embed="rId2"/>
          <a:stretch/>
        </p:blipFill>
        <p:spPr>
          <a:xfrm>
            <a:off x="2071800" y="2714760"/>
            <a:ext cx="50004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8-22T06:14:25Z</dcterms:modified>
  <cp:revision>14</cp:revision>
  <dc:subject/>
  <dc:title>Вредные привычки, или Новые приключения Колобка</dc:title>
</cp:coreProperties>
</file>