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23.gif" ContentType="image/gif"/>
  <Override PartName="/ppt/media/image5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58AC-9530-4D19-93AD-E94C49C36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0E87-4884-4F46-AAF3-6986CD86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B713-8EEA-4322-83A8-81CED5E5B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AC4C-8B30-4551-BC18-B3A0FACA9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9C7A-5B2E-4099-AE52-7CE1BD53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6C8B-D652-414E-932E-0225D5DF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9D76-CE74-446E-9A9E-C979E125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BB16-BD4A-4814-A9AF-9236B846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13F6-7328-47E1-830E-807338E8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6FB7-CC78-4019-92F1-FBFEE5B4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78F8-9CB0-400D-9E08-A3FAC831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DFA7-5466-4EAF-8E7C-295E3C94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BD55-38A0-485B-973B-33820BBD60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9680" y="714240"/>
            <a:ext cx="7994520" cy="250056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Вредные привычки, или Новые приключения Колоб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3" descr="оал.jpg"/>
          <p:cNvPicPr/>
          <p:nvPr/>
        </p:nvPicPr>
        <p:blipFill>
          <a:blip r:embed="rId1"/>
          <a:stretch/>
        </p:blipFill>
        <p:spPr>
          <a:xfrm>
            <a:off x="3357720" y="3371760"/>
            <a:ext cx="2643120" cy="250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C:\Documents and Settings\Администратор\Мои документы\Мои рисунки\-IMAGES-\NICE\FOOD\PG1FO008.JPG"/>
          <p:cNvPicPr/>
          <p:nvPr/>
        </p:nvPicPr>
        <p:blipFill>
          <a:blip r:embed="rId1"/>
          <a:stretch/>
        </p:blipFill>
        <p:spPr>
          <a:xfrm>
            <a:off x="571680" y="714240"/>
            <a:ext cx="795780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6760" y="214200"/>
            <a:ext cx="8286840" cy="33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Calibri"/>
                <a:ea typeface="Times New Roman"/>
              </a:rPr>
              <a:t>Алкоголь особенно активно влияет на несформировавшийся организм, постепенно разрушая его.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4" descr="20EWCA9TGY9VCAEKXJBMCAQNN2LGCAQCVHM5CAHZA9VPCAYNQQ5UCAILXU5XCAW7LORSCA9IH5TXCA1B10ASCAMJ48ZXCAONPARMCATT7V98CA0935W2CAK14W34CABUV01OCAC2FCS2CASTUSQ3CA5MKO3C.jpg"/>
          <p:cNvPicPr/>
          <p:nvPr/>
        </p:nvPicPr>
        <p:blipFill>
          <a:blip r:embed="rId1"/>
          <a:stretch/>
        </p:blipFill>
        <p:spPr>
          <a:xfrm>
            <a:off x="2786040" y="3429000"/>
            <a:ext cx="35719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9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6" dur="2000" fill="hold"/>
                                        <p:tgtEl>
                                          <p:spTgt spid="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Заголовок 3"/>
          <p:cNvGrpSpPr/>
          <p:nvPr/>
        </p:nvGrpSpPr>
        <p:grpSpPr>
          <a:xfrm>
            <a:off x="665280" y="781200"/>
            <a:ext cx="7888320" cy="1650960"/>
            <a:chOff x="665280" y="781200"/>
            <a:chExt cx="7888320" cy="1650960"/>
          </a:xfrm>
        </p:grpSpPr>
        <p:pic>
          <p:nvPicPr>
            <p:cNvPr id="71" name="Заголовок 3" descr=""/>
            <p:cNvPicPr/>
            <p:nvPr/>
          </p:nvPicPr>
          <p:blipFill>
            <a:blip r:embed="rId1"/>
            <a:stretch/>
          </p:blipFill>
          <p:spPr>
            <a:xfrm>
              <a:off x="665280" y="781200"/>
              <a:ext cx="7888320" cy="16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722160" y="928800"/>
              <a:ext cx="777240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ff0000"/>
                  </a:solidFill>
                  <a:latin typeface="Calibri"/>
                </a:rPr>
                <a:t>наркомания</a:t>
              </a:r>
              <a:endParaRPr b="0" lang="en-US" sz="7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3" name="Рисунок 5" descr="MTR0CAEXIRDWCALB0PJKCAR2JDDPCABGMWLXCAXBNNF9CADXS1H3CA2B3SWYCAW98WWTCABNX2LHCAX1U6A2CAALAS03CAMCZ6T1CAVVUY52CATLZX27CAL6DK23CAHDIQGDCA1HCP1DCAUVNWWICARDHCVX.jpg"/>
          <p:cNvPicPr/>
          <p:nvPr/>
        </p:nvPicPr>
        <p:blipFill>
          <a:blip r:embed="rId2"/>
          <a:stretch/>
        </p:blipFill>
        <p:spPr>
          <a:xfrm>
            <a:off x="2357280" y="2857680"/>
            <a:ext cx="441972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2" descr="love_injection_by_bionic7.jpg"/>
          <p:cNvPicPr/>
          <p:nvPr/>
        </p:nvPicPr>
        <p:blipFill>
          <a:blip r:embed="rId1"/>
          <a:stretch/>
        </p:blipFill>
        <p:spPr>
          <a:xfrm>
            <a:off x="2143080" y="0"/>
            <a:ext cx="457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3HOICAVEIBS5CAKCBFQMCA0Z2HZ4CACJFBDPCAHWK4HTCARKXE4NCASPMPLDCA3GJ35WCASC7I7ZCA1FIKFHCACFLID9CAFSJ4MGCAYGC44JCA402ND8CAM3QTCHCAL5IP98CAA4PKUWCACLDKTLCAIAS99L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714240" y="357120"/>
            <a:ext cx="7858440" cy="59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5480" y="428400"/>
            <a:ext cx="8715240" cy="61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        </a:t>
            </a: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Человек рождается на свет,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Чтоб творить, дерзать – и не  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        иначе,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Чтоб оставить в жизни добрый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       след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И решить все трудные задачи.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Человек рождается на свет.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Для чего? Ищите свой ответ.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2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2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2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2" descr="0_20022_7af16b03_XS.gif"/>
          <p:cNvPicPr/>
          <p:nvPr/>
        </p:nvPicPr>
        <p:blipFill>
          <a:blip r:embed="rId1"/>
          <a:stretch/>
        </p:blipFill>
        <p:spPr>
          <a:xfrm>
            <a:off x="2571840" y="1500120"/>
            <a:ext cx="4178160" cy="288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Заголовок 3"/>
          <p:cNvGrpSpPr/>
          <p:nvPr/>
        </p:nvGrpSpPr>
        <p:grpSpPr>
          <a:xfrm>
            <a:off x="652320" y="743040"/>
            <a:ext cx="7888320" cy="1403280"/>
            <a:chOff x="652320" y="743040"/>
            <a:chExt cx="7888320" cy="1403280"/>
          </a:xfrm>
        </p:grpSpPr>
        <p:pic>
          <p:nvPicPr>
            <p:cNvPr id="44" name="Заголовок 3" descr=""/>
            <p:cNvPicPr/>
            <p:nvPr/>
          </p:nvPicPr>
          <p:blipFill>
            <a:blip r:embed="rId1"/>
            <a:stretch/>
          </p:blipFill>
          <p:spPr>
            <a:xfrm>
              <a:off x="652320" y="743040"/>
              <a:ext cx="7888320" cy="14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714240" y="857160"/>
              <a:ext cx="7772400" cy="12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ff0000"/>
                  </a:solidFill>
                  <a:latin typeface="Calibri"/>
                </a:rPr>
                <a:t>Антисанитария</a:t>
              </a:r>
              <a:r>
                <a:rPr b="0" lang="ru-RU" sz="4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6" name="Рисунок 6" descr="IF3ICA9X7MWOCAHP8QEGCAZ2JSWRCAOLDDDXCATBMZXOCAEGD5W4CAO2RRVDCAF4XIHPCAMQ8YY6CA7BL5HJCAWAIBLSCAJX5P04CAWBD5RZCA35RKAICAO0OYEGCAH7NY68CAJA6E7NCAYDS8GRCA5G1JXN.jpg"/>
          <p:cNvPicPr/>
          <p:nvPr/>
        </p:nvPicPr>
        <p:blipFill>
          <a:blip r:embed="rId2"/>
          <a:stretch/>
        </p:blipFill>
        <p:spPr>
          <a:xfrm>
            <a:off x="2571840" y="3143160"/>
            <a:ext cx="401796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4" descr="09af03d0a2ef9006f427397bb7f2fd9f_medium.jpg"/>
          <p:cNvPicPr/>
          <p:nvPr/>
        </p:nvPicPr>
        <p:blipFill>
          <a:blip r:embed="rId1"/>
          <a:stretch/>
        </p:blipFill>
        <p:spPr>
          <a:xfrm>
            <a:off x="285840" y="428760"/>
            <a:ext cx="868680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Заголовок 1"/>
          <p:cNvGrpSpPr/>
          <p:nvPr/>
        </p:nvGrpSpPr>
        <p:grpSpPr>
          <a:xfrm>
            <a:off x="517680" y="536400"/>
            <a:ext cx="8156520" cy="2683080"/>
            <a:chOff x="517680" y="536400"/>
            <a:chExt cx="8156520" cy="2683080"/>
          </a:xfrm>
        </p:grpSpPr>
        <p:pic>
          <p:nvPicPr>
            <p:cNvPr id="49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517680" y="536400"/>
              <a:ext cx="8156520" cy="26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714240" y="571680"/>
              <a:ext cx="7772400" cy="257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ff0000"/>
                  </a:solidFill>
                  <a:latin typeface="Calibri"/>
                </a:rPr>
                <a:t>Брань площадная</a:t>
              </a:r>
              <a:endParaRPr b="0" lang="en-US" sz="7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1" name="Рисунок 3" descr="2.jpg"/>
          <p:cNvPicPr/>
          <p:nvPr/>
        </p:nvPicPr>
        <p:blipFill>
          <a:blip r:embed="rId2">
            <a:lum bright="-10000"/>
          </a:blip>
          <a:srcRect l="53751" t="0" r="0" b="0"/>
          <a:stretch/>
        </p:blipFill>
        <p:spPr>
          <a:xfrm>
            <a:off x="3214800" y="2857680"/>
            <a:ext cx="26431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3" descr="OBYQCAZO0WMFCAVV2WE6CAJ7EZA4CAWZ7ARECA7EJT5ACAR010X8CA9ZQQNNCA3KL15ACA58SUAGCAYS1GNWCAW6J4GACAH094OWCATZD0F3CA43KIUHCA64UQ71CA0KVRMLCAIN8DJDCAGXTAJPCA8U801O.jpg"/>
          <p:cNvPicPr/>
          <p:nvPr/>
        </p:nvPicPr>
        <p:blipFill>
          <a:blip r:embed="rId1"/>
          <a:stretch/>
        </p:blipFill>
        <p:spPr>
          <a:xfrm>
            <a:off x="428760" y="428760"/>
            <a:ext cx="8215200" cy="59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Заголовок 1"/>
          <p:cNvGrpSpPr/>
          <p:nvPr/>
        </p:nvGrpSpPr>
        <p:grpSpPr>
          <a:xfrm>
            <a:off x="665280" y="298440"/>
            <a:ext cx="7888320" cy="2700360"/>
            <a:chOff x="665280" y="298440"/>
            <a:chExt cx="7888320" cy="2700360"/>
          </a:xfrm>
        </p:grpSpPr>
        <p:pic>
          <p:nvPicPr>
            <p:cNvPr id="5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665280" y="298440"/>
              <a:ext cx="7888320" cy="27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722160" y="500040"/>
              <a:ext cx="7772400" cy="24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ff0000"/>
                  </a:solidFill>
                  <a:latin typeface="Calibri"/>
                </a:rPr>
                <a:t>Сигарета худородная</a:t>
              </a:r>
              <a:endParaRPr b="0" lang="en-US" sz="7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6" name="Рисунок 3" descr="IXK8CANZDOOPCAV1RLB4CA1I5Z4LCA0KTAVOCABZM1WBCASX9MG3CA0U1OYZCAGD5OMDCA1M4TDVCAWVVCTOCAM02DZ3CAH5B9E8CASXANL7CAO5LKQKCA3GWP4FCA98XSZQCAXRF48TCANAGJ1PCAFFXL5A.jpg"/>
          <p:cNvPicPr/>
          <p:nvPr/>
        </p:nvPicPr>
        <p:blipFill>
          <a:blip r:embed="rId2"/>
          <a:stretch/>
        </p:blipFill>
        <p:spPr>
          <a:xfrm>
            <a:off x="3357720" y="3429000"/>
            <a:ext cx="24285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Заголовок 1"/>
          <p:cNvGrpSpPr/>
          <p:nvPr/>
        </p:nvGrpSpPr>
        <p:grpSpPr>
          <a:xfrm>
            <a:off x="585720" y="536400"/>
            <a:ext cx="8034480" cy="1322640"/>
            <a:chOff x="585720" y="536400"/>
            <a:chExt cx="8034480" cy="1322640"/>
          </a:xfrm>
        </p:grpSpPr>
        <p:pic>
          <p:nvPicPr>
            <p:cNvPr id="5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585720" y="536400"/>
              <a:ext cx="8034480" cy="132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722160" y="571680"/>
              <a:ext cx="777240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0000"/>
                  </a:solidFill>
                  <a:latin typeface="Calibri"/>
                </a:rPr>
                <a:t>В табачном дыме содержится: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57120" y="1928520"/>
            <a:ext cx="81374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икотин                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аж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молы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ксид мышья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глекислый газ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уравьиная кислот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ксусная кислот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Формальдегид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ммиа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ероводород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1025" descr="C:\Documents and Settings\Администратор\Рабочий стол\ира\ресурсы\sigar.jpg"/>
          <p:cNvPicPr/>
          <p:nvPr/>
        </p:nvPicPr>
        <p:blipFill>
          <a:blip r:embed="rId2"/>
          <a:stretch/>
        </p:blipFill>
        <p:spPr>
          <a:xfrm>
            <a:off x="5286240" y="2500200"/>
            <a:ext cx="32544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500"/>
                            </p:stCondLst>
                            <p:childTnLst>
                              <p:par>
                                <p:cTn id="12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500"/>
                            </p:stCondLst>
                            <p:childTnLst>
                              <p:par>
                                <p:cTn id="14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3" descr="P4L6CA43TQHCCA03WJACCA1DW1XNCALOKM3BCAJOSDZ5CAMFKFX3CABJCKCNCA5FUMKOCAWTF9H7CA4C10TECAN55185CAE3HDSCCACI7SUJCAX9SXGLCACNC3E4CA5YDWXWCA63X8NNCAR1GYAPCAOHKMKF.jpg"/>
          <p:cNvPicPr/>
          <p:nvPr/>
        </p:nvPicPr>
        <p:blipFill>
          <a:blip r:embed="rId1"/>
          <a:stretch/>
        </p:blipFill>
        <p:spPr>
          <a:xfrm>
            <a:off x="714240" y="428760"/>
            <a:ext cx="8001000" cy="59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Заголовок 1"/>
          <p:cNvGrpSpPr/>
          <p:nvPr/>
        </p:nvGrpSpPr>
        <p:grpSpPr>
          <a:xfrm>
            <a:off x="665280" y="884160"/>
            <a:ext cx="7888320" cy="1687680"/>
            <a:chOff x="665280" y="884160"/>
            <a:chExt cx="7888320" cy="1687680"/>
          </a:xfrm>
        </p:grpSpPr>
        <p:pic>
          <p:nvPicPr>
            <p:cNvPr id="6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665280" y="884160"/>
              <a:ext cx="7888320" cy="168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722160" y="1000080"/>
              <a:ext cx="777240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ff0000"/>
                  </a:solidFill>
                  <a:latin typeface="Calibri"/>
                </a:rPr>
                <a:t>алкоголизм</a:t>
              </a:r>
              <a:endParaRPr b="0" lang="en-US" sz="7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6" name="Рисунок 3" descr="M84MCAK9TOJ9CAF8ZSQCCA00XKOYCASS2D9XCAP7N6FLCADAQQS9CAYXUCMPCA5JYMIYCAJROVOICARHOAUECAOBKKSRCABLIOV5CA6EVC8KCA24P4QOCA2E9ZC3CATFHBFBCABQA3ORCANPI4MECA4JH7T8.jpg"/>
          <p:cNvPicPr/>
          <p:nvPr/>
        </p:nvPicPr>
        <p:blipFill>
          <a:blip r:embed="rId2"/>
          <a:stretch/>
        </p:blipFill>
        <p:spPr>
          <a:xfrm>
            <a:off x="2071800" y="2714760"/>
            <a:ext cx="5000400" cy="37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ша</cp:lastModifiedBy>
  <dcterms:modified xsi:type="dcterms:W3CDTF">2011-08-22T06:14:25Z</dcterms:modified>
  <cp:revision>14</cp:revision>
  <dc:subject/>
  <dc:title>Вредные привычки, или Новые приключения Колобка</dc:title>
</cp:coreProperties>
</file>