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3.gif" ContentType="image/gif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BFE-5F7F-450F-92A9-C66BC0A5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1D7-8D72-4A2D-AC77-C3C7BCF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709-8268-4EA1-9293-36B0D308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A7E-94E8-419E-B06E-1F757399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598-93EC-4609-94B5-6306B1E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D7F-1C02-4309-9312-37560600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4F0-48CA-47D6-8445-39CBB161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9E4-5F0D-4288-A95A-9814F00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1AC-B0AC-4A65-B0E8-0A93D705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7C2-08ED-40A2-95EA-E40D2ED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FC9-1800-4F06-8B6E-30CEF483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DDC-9514-467C-90C9-440D16AC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265B-A56E-429E-BE30-01D0455FB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7994520" cy="25005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Вредные привычки, или Новые приключения Колоб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оал.jpg"/>
          <p:cNvPicPr/>
          <p:nvPr/>
        </p:nvPicPr>
        <p:blipFill>
          <a:blip r:embed="rId1"/>
          <a:stretch/>
        </p:blipFill>
        <p:spPr>
          <a:xfrm>
            <a:off x="3357720" y="3371760"/>
            <a:ext cx="264312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Documents and Settings\Администратор\Мои документы\Мои рисунки\-IMAGES-\NICE\FOOD\PG1FO008.JPG"/>
          <p:cNvPicPr/>
          <p:nvPr/>
        </p:nvPicPr>
        <p:blipFill>
          <a:blip r:embed="rId1"/>
          <a:stretch/>
        </p:blipFill>
        <p:spPr>
          <a:xfrm>
            <a:off x="571680" y="714240"/>
            <a:ext cx="79578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286840" cy="33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alibri"/>
                <a:ea typeface="Times New Roman"/>
              </a:rPr>
              <a:t>Алкоголь особенно активно влияет на несформировавшийся организм, постепенно разрушая его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0EWCA9TGY9VCAEKXJBMCAQNN2LGCAQCVHM5CAHZA9VPCAYNQQ5UCAILXU5XCAW7LORSCA9IH5TXCA1B10ASCAMJ48ZXCAONPARMCATT7V98CA0935W2CAK14W34CABUV01OCAC2FCS2CASTUSQ3CA5MKO3C.jpg"/>
          <p:cNvPicPr/>
          <p:nvPr/>
        </p:nvPicPr>
        <p:blipFill>
          <a:blip r:embed="rId1"/>
          <a:stretch/>
        </p:blipFill>
        <p:spPr>
          <a:xfrm>
            <a:off x="2786040" y="3429000"/>
            <a:ext cx="3571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3"/>
          <p:cNvGrpSpPr/>
          <p:nvPr/>
        </p:nvGrpSpPr>
        <p:grpSpPr>
          <a:xfrm>
            <a:off x="665280" y="781200"/>
            <a:ext cx="7888320" cy="1650960"/>
            <a:chOff x="665280" y="781200"/>
            <a:chExt cx="7888320" cy="1650960"/>
          </a:xfrm>
        </p:grpSpPr>
        <p:pic>
          <p:nvPicPr>
            <p:cNvPr id="71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65280" y="781200"/>
              <a:ext cx="78883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2160" y="928800"/>
              <a:ext cx="777240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наркомани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Рисунок 5" descr="MTR0CAEXIRDWCALB0PJKCAR2JDDPCABGMWLXCAXBNNF9CADXS1H3CA2B3SWYCAW98WWTCABNX2LHCAX1U6A2CAALAS03CAMCZ6T1CAVVUY52CATLZX27CAL6DK23CAHDIQGDCA1HCP1DCAUVNWWICARDHCVX.jpg"/>
          <p:cNvPicPr/>
          <p:nvPr/>
        </p:nvPicPr>
        <p:blipFill>
          <a:blip r:embed="rId2"/>
          <a:stretch/>
        </p:blipFill>
        <p:spPr>
          <a:xfrm>
            <a:off x="2357280" y="2857680"/>
            <a:ext cx="4419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love_injection_by_bionic7.jpg"/>
          <p:cNvPicPr/>
          <p:nvPr/>
        </p:nvPicPr>
        <p:blipFill>
          <a:blip r:embed="rId1"/>
          <a:stretch/>
        </p:blipFill>
        <p:spPr>
          <a:xfrm>
            <a:off x="214308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HOICAVEIBS5CAKCBFQMCA0Z2HZ4CACJFBDPCAHWK4HTCARKXE4NCASPMPLDCA3GJ35WCASC7I7ZCA1FIKFHCACFLID9CAFSJ4MGCAYGC44JCA402ND8CAM3QTCHCAL5IP98CAA4PKUWCACLDKTLCAIAS99L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14240" y="357120"/>
            <a:ext cx="78584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480" y="428400"/>
            <a:ext cx="87152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творить, дерзать – и не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 иначе,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б оставить в жизни добрый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       след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И решить все трудные задачи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еловек рождается на свет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Для чего? Ищите свой ответ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0_20022_7af16b03_XS.gif"/>
          <p:cNvPicPr/>
          <p:nvPr/>
        </p:nvPicPr>
        <p:blipFill>
          <a:blip r:embed="rId1"/>
          <a:stretch/>
        </p:blipFill>
        <p:spPr>
          <a:xfrm>
            <a:off x="2571840" y="1500120"/>
            <a:ext cx="417816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Заголовок 3"/>
          <p:cNvGrpSpPr/>
          <p:nvPr/>
        </p:nvGrpSpPr>
        <p:grpSpPr>
          <a:xfrm>
            <a:off x="652320" y="743040"/>
            <a:ext cx="7888320" cy="1403280"/>
            <a:chOff x="652320" y="743040"/>
            <a:chExt cx="7888320" cy="1403280"/>
          </a:xfrm>
        </p:grpSpPr>
        <p:pic>
          <p:nvPicPr>
            <p:cNvPr id="4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652320" y="743040"/>
              <a:ext cx="788832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14240" y="857160"/>
              <a:ext cx="7772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Calibri"/>
                </a:rPr>
                <a:t>Антисанитария</a:t>
              </a: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Рисунок 6" descr="IF3ICA9X7MWOCAHP8QEGCAZ2JSWRCAOLDDDXCATBMZXOCAEGD5W4CAO2RRVDCAF4XIHPCAMQ8YY6CA7BL5HJCAWAIBLSCAJX5P04CAWBD5RZCA35RKAICAO0OYEGCAH7NY68CAJA6E7NCAYDS8GRCA5G1JXN.jpg"/>
          <p:cNvPicPr/>
          <p:nvPr/>
        </p:nvPicPr>
        <p:blipFill>
          <a:blip r:embed="rId2"/>
          <a:stretch/>
        </p:blipFill>
        <p:spPr>
          <a:xfrm>
            <a:off x="2571840" y="3143160"/>
            <a:ext cx="40179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09af03d0a2ef9006f427397bb7f2fd9f_medium.jpg"/>
          <p:cNvPicPr/>
          <p:nvPr/>
        </p:nvPicPr>
        <p:blipFill>
          <a:blip r:embed="rId1"/>
          <a:stretch/>
        </p:blipFill>
        <p:spPr>
          <a:xfrm>
            <a:off x="285840" y="428760"/>
            <a:ext cx="8686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517680" y="536400"/>
            <a:ext cx="8156520" cy="2683080"/>
            <a:chOff x="517680" y="536400"/>
            <a:chExt cx="8156520" cy="268308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17680" y="536400"/>
              <a:ext cx="8156520" cy="26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14240" y="571680"/>
              <a:ext cx="77724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Брань площа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Рисунок 3" descr="2.jpg"/>
          <p:cNvPicPr/>
          <p:nvPr/>
        </p:nvPicPr>
        <p:blipFill>
          <a:blip r:embed="rId2">
            <a:lum bright="-10000"/>
          </a:blip>
          <a:srcRect l="53751" t="0" r="0" b="0"/>
          <a:stretch/>
        </p:blipFill>
        <p:spPr>
          <a:xfrm>
            <a:off x="3214800" y="2857680"/>
            <a:ext cx="2643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OBYQCAZO0WMFCAVV2WE6CAJ7EZA4CAWZ7ARECA7EJT5ACAR010X8CA9ZQQNNCA3KL15ACA58SUAGCAYS1GNWCAW6J4GACAH094OWCATZD0F3CA43KIUHCA64UQ71CA0KVRMLCAIN8DJDCAGXTAJPCA8U801O.jpg"/>
          <p:cNvPicPr/>
          <p:nvPr/>
        </p:nvPicPr>
        <p:blipFill>
          <a:blip r:embed="rId1"/>
          <a:stretch/>
        </p:blipFill>
        <p:spPr>
          <a:xfrm>
            <a:off x="428760" y="428760"/>
            <a:ext cx="82152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665280" y="298440"/>
            <a:ext cx="7888320" cy="2700360"/>
            <a:chOff x="665280" y="298440"/>
            <a:chExt cx="7888320" cy="270036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298440"/>
              <a:ext cx="788832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22160" y="500040"/>
              <a:ext cx="777240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Сигарета худородная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3" descr="IXK8CANZDOOPCAV1RLB4CA1I5Z4LCA0KTAVOCABZM1WBCASX9MG3CA0U1OYZCAGD5OMDCA1M4TDVCAWVVCTOCAM02DZ3CAH5B9E8CASXANL7CAO5LKQKCA3GWP4FCA98XSZQCAXRF48TCANAGJ1PCAFFXL5A.jpg"/>
          <p:cNvPicPr/>
          <p:nvPr/>
        </p:nvPicPr>
        <p:blipFill>
          <a:blip r:embed="rId2"/>
          <a:stretch/>
        </p:blipFill>
        <p:spPr>
          <a:xfrm>
            <a:off x="3357720" y="3429000"/>
            <a:ext cx="2428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585720" y="536400"/>
            <a:ext cx="8034480" cy="1322640"/>
            <a:chOff x="585720" y="536400"/>
            <a:chExt cx="8034480" cy="132264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85720" y="536400"/>
              <a:ext cx="80344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2160" y="571680"/>
              <a:ext cx="7772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Calibri"/>
                </a:rPr>
                <a:t>В табачном дыме содержится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7120" y="1928520"/>
            <a:ext cx="8137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котин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ж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ксид мышья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глекислый г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ксусная кисло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льдеги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025" descr="C:\Documents and Settings\Администратор\Рабочий стол\ира\ресурсы\sigar.jpg"/>
          <p:cNvPicPr/>
          <p:nvPr/>
        </p:nvPicPr>
        <p:blipFill>
          <a:blip r:embed="rId2"/>
          <a:stretch/>
        </p:blipFill>
        <p:spPr>
          <a:xfrm>
            <a:off x="5286240" y="2500200"/>
            <a:ext cx="3254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P4L6CA43TQHCCA03WJACCA1DW1XNCALOKM3BCAJOSDZ5CAMFKFX3CABJCKCNCA5FUMKOCAWTF9H7CA4C10TECAN55185CAE3HDSCCACI7SUJCAX9SXGLCACNC3E4CA5YDWXWCA63X8NNCAR1GYAPCAOHKMKF.jpg"/>
          <p:cNvPicPr/>
          <p:nvPr/>
        </p:nvPicPr>
        <p:blipFill>
          <a:blip r:embed="rId1"/>
          <a:stretch/>
        </p:blipFill>
        <p:spPr>
          <a:xfrm>
            <a:off x="714240" y="428760"/>
            <a:ext cx="800100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Заголовок 1"/>
          <p:cNvGrpSpPr/>
          <p:nvPr/>
        </p:nvGrpSpPr>
        <p:grpSpPr>
          <a:xfrm>
            <a:off x="665280" y="884160"/>
            <a:ext cx="7888320" cy="1687680"/>
            <a:chOff x="665280" y="884160"/>
            <a:chExt cx="7888320" cy="1687680"/>
          </a:xfrm>
        </p:grpSpPr>
        <p:pic>
          <p:nvPicPr>
            <p:cNvPr id="6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884160"/>
              <a:ext cx="78883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22160" y="1000080"/>
              <a:ext cx="77724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ff0000"/>
                  </a:solidFill>
                  <a:latin typeface="Calibri"/>
                </a:rPr>
                <a:t>алкоголизм</a:t>
              </a:r>
              <a:endParaRPr b="0" lang="en-US" sz="7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Рисунок 3" descr="M84MCAK9TOJ9CAF8ZSQCCA00XKOYCASS2D9XCAP7N6FLCADAQQS9CAYXUCMPCA5JYMIYCAJROVOICARHOAUECAOBKKSRCABLIOV5CA6EVC8KCA24P4QOCA2E9ZC3CATFHBFBCABQA3ORCANPI4MECA4JH7T8.jpg"/>
          <p:cNvPicPr/>
          <p:nvPr/>
        </p:nvPicPr>
        <p:blipFill>
          <a:blip r:embed="rId2"/>
          <a:stretch/>
        </p:blipFill>
        <p:spPr>
          <a:xfrm>
            <a:off x="2071800" y="2714760"/>
            <a:ext cx="500040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8-22T06:14:25Z</dcterms:modified>
  <cp:revision>14</cp:revision>
  <dc:subject/>
  <dc:title>Вредные привычки, или Новые приключения Колобка</dc:title>
</cp:coreProperties>
</file>