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wmf" ContentType="image/x-wmf"/>
  <Override PartName="/ppt/media/image8.gif" ContentType="image/gi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C3B-5F4F-4D07-B394-C0757D08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56B-DA48-4F03-A2E4-AED76075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0CE-8BBF-4CC3-AD19-4EA96E37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129-D054-462C-BC69-A844D174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2FBB-0A16-4BDE-BDDA-EC8CCEE8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D69D-694E-4792-B219-7BCBE2D2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8BF0-73AC-45F7-9D31-156919DD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1E7B-1D49-431F-8929-8FED558F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8F9C-B8B0-495A-AC3E-D44307EE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9743-E9E3-4D83-971E-4B7DEF68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0453-78F4-4230-8E24-0D34CA10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61D-B188-4DEB-8D2D-A86A645F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86A2-C61B-4582-9845-8328025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4183-9519-4711-A7AB-F641C772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1D4A-01B8-421E-8736-3C942CD6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52FA-A9E3-4C4C-A9C8-9F7057FF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D389-E737-4A28-89EB-34082E2B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A0DD-18CE-43B3-9367-7C4090DD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C75D-EE19-4B73-A873-C1EC9AD9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2C5A-3B1D-4D35-9699-4DA31323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3C04-2911-476D-B48B-4DF08CB7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3C0BF-1493-4B89-9775-F2D75F15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690-F885-4C84-A55D-0195E4A5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0E83-8A53-49C0-9B27-05D9B2B1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1BBA-9AB5-4A3D-B148-AFA01706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4E40-D9A7-49B4-9CF0-D7AC251C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86A0-3B6D-49D4-8715-9532A402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3640-642E-4D08-9F70-135067AC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E714-9EDA-4795-B069-00A390C8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1553-5CA3-4F08-9BCC-93F66F79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F1F106-886F-49A2-B601-37962442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683BD-668F-42A0-9D13-FCD3F09A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4D8704-7DC4-4550-B080-EA8444D4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E21-DF4B-4272-AF4C-DDDE97DE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248D5-2638-4464-9962-F6D4F858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413DE-F57D-4CC5-AFE9-FF7492DD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979FA-D192-4A4A-B90C-96F5739A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AE11A-687B-499F-8638-A43FF889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9F3EB1-11F2-411F-B3ED-7C026E1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8737D-D51F-4139-AD42-F9A821B9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D682C-3099-4910-A538-ABF86D08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A9001B-73DB-4405-99F1-39666852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07E2E-5FB1-4396-BCD8-15C5CE3A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2E4-A944-417A-AAFA-7F6EFEDA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C18-9B7C-4913-BC83-5533BD91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2D7-1C01-4CBA-AB5B-1B55ED96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3DA-090A-43F8-A677-7000348E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ED2-3426-45A4-BF98-D8511780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E260-0564-4795-935E-B64AB3E17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8CF9-7376-4CD2-9FE2-433AAE50F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31DA-4633-49D0-A155-49EEAC2AE0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8207-9001-4673-B64A-01478355C5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2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3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4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5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6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7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8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9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10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11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12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13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e7f4"/>
                </a:solidFill>
                <a:latin typeface="Times New Roman"/>
              </a:rPr>
              <a:t>ГЕОМЕТРИЯ 9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910880" y="5105520"/>
            <a:ext cx="7232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математики школы №10 Приволжского района города Казани Шафеев Ф.Ш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285264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42840" y="2793960"/>
            <a:ext cx="725832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ртикальные и смежные углы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Найти углы 2, 3, 4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3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2 угол 3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3 угол 1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4 угол 3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3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2 угол 7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3 угол 1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4 угол 7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2492280"/>
            <a:ext cx="2448000" cy="28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364000" y="2421000"/>
            <a:ext cx="187200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1800" y="19890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3800" y="20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57720" y="33577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57440" y="276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08720" y="350028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81640" y="4262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65164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1960" cy="100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485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глы 1 и 2 – смежные. Угол 1 меньше угла 2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4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Найти эти уг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 :1) </a:t>
            </a:r>
            <a:r>
              <a:rPr b="0" lang="en-US" sz="2800" spc="-1" strike="noStrike" u="sng">
                <a:solidFill>
                  <a:srgbClr val="1ace9f"/>
                </a:solidFill>
                <a:uFillTx/>
                <a:latin typeface="Arial"/>
                <a:hlinkClick r:id="rId1"/>
              </a:rPr>
              <a:t>75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2"/>
              </a:rPr>
              <a:t>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3"/>
              </a:rPr>
              <a:t> и 105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4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2800" spc="-1" strike="noStrike" u="sng">
                <a:solidFill>
                  <a:srgbClr val="1ace9f"/>
                </a:solidFill>
                <a:uFillTx/>
                <a:latin typeface="Arial"/>
                <a:hlinkClick r:id="rId5"/>
              </a:rPr>
              <a:t>7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6"/>
              </a:rPr>
              <a:t>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7"/>
              </a:rPr>
              <a:t> и 11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8"/>
              </a:rPr>
              <a:t>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9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2800" spc="-1" strike="noStrike" u="sng">
                <a:solidFill>
                  <a:srgbClr val="1ace9f"/>
                </a:solidFill>
                <a:uFillTx/>
                <a:latin typeface="Arial"/>
                <a:hlinkClick r:id="rId10"/>
              </a:rPr>
              <a:t>85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11"/>
              </a:rPr>
              <a:t>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12"/>
              </a:rPr>
              <a:t> и 95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13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4"/>
          <a:stretch/>
        </p:blipFill>
        <p:spPr>
          <a:xfrm>
            <a:off x="4905360" y="2571840"/>
            <a:ext cx="3524400" cy="2581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24000" y="83664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Задание №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116000" y="1773360"/>
            <a:ext cx="4537080" cy="23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ЕЦ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6" name="">
            <a:hlinkClick r:id="rId1" action="ppaction://hlinksldjump"/>
          </p:cNvPr>
          <p:cNvSpPr/>
          <p:nvPr/>
        </p:nvSpPr>
        <p:spPr>
          <a:xfrm>
            <a:off x="6084720" y="5877000"/>
            <a:ext cx="1656000" cy="647640"/>
          </a:xfrm>
          <a:custGeom>
            <a:avLst/>
            <a:gdLst>
              <a:gd name="textAreaLeft" fmla="*/ 41760 w 1656000"/>
              <a:gd name="textAreaRight" fmla="*/ 1614240 w 1656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5212" h="21600">
                <a:moveTo>
                  <a:pt x="0" y="0"/>
                </a:moveTo>
                <a:lnTo>
                  <a:pt x="55212" y="0"/>
                </a:lnTo>
                <a:lnTo>
                  <a:pt x="55212" y="21600"/>
                </a:lnTo>
                <a:lnTo>
                  <a:pt x="0" y="21600"/>
                </a:lnTo>
                <a:close/>
              </a:path>
              <a:path fill="lightenLess" w="55212" h="21600">
                <a:moveTo>
                  <a:pt x="0" y="0"/>
                </a:moveTo>
                <a:lnTo>
                  <a:pt x="55212" y="0"/>
                </a:lnTo>
                <a:lnTo>
                  <a:pt x="53812" y="1400"/>
                </a:lnTo>
                <a:lnTo>
                  <a:pt x="1400" y="1400"/>
                </a:lnTo>
                <a:close/>
              </a:path>
              <a:path fill="darken" w="55212" h="21600">
                <a:moveTo>
                  <a:pt x="55212" y="0"/>
                </a:moveTo>
                <a:lnTo>
                  <a:pt x="55212" y="21600"/>
                </a:lnTo>
                <a:lnTo>
                  <a:pt x="53812" y="20200"/>
                </a:lnTo>
                <a:lnTo>
                  <a:pt x="53812" y="1400"/>
                </a:lnTo>
                <a:close/>
              </a:path>
              <a:path fill="darkenLess" w="55212" h="21600">
                <a:moveTo>
                  <a:pt x="55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812" y="20200"/>
                </a:lnTo>
                <a:close/>
              </a:path>
              <a:path fill="lighten" w="55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212" h="21600">
                <a:moveTo>
                  <a:pt x="20600" y="3794"/>
                </a:moveTo>
                <a:lnTo>
                  <a:pt x="34612" y="10800"/>
                </a:lnTo>
                <a:lnTo>
                  <a:pt x="20600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132000" y="4292640"/>
            <a:ext cx="1855800" cy="1819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95280" y="34999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ый  ответ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7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1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6084720" y="5877000"/>
            <a:ext cx="1656000" cy="576360"/>
          </a:xfrm>
          <a:custGeom>
            <a:avLst/>
            <a:gdLst>
              <a:gd name="textAreaLeft" fmla="*/ 37080 w 1656000"/>
              <a:gd name="textAreaRight" fmla="*/ 1618920 w 165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2036" h="21600">
                <a:moveTo>
                  <a:pt x="0" y="0"/>
                </a:moveTo>
                <a:lnTo>
                  <a:pt x="62036" y="0"/>
                </a:lnTo>
                <a:lnTo>
                  <a:pt x="62036" y="21600"/>
                </a:lnTo>
                <a:lnTo>
                  <a:pt x="0" y="21600"/>
                </a:lnTo>
                <a:close/>
              </a:path>
              <a:path fill="lightenLess" w="62036" h="21600">
                <a:moveTo>
                  <a:pt x="0" y="0"/>
                </a:moveTo>
                <a:lnTo>
                  <a:pt x="62036" y="0"/>
                </a:lnTo>
                <a:lnTo>
                  <a:pt x="60636" y="1400"/>
                </a:lnTo>
                <a:lnTo>
                  <a:pt x="1400" y="1400"/>
                </a:lnTo>
                <a:close/>
              </a:path>
              <a:path fill="darken" w="62036" h="21600">
                <a:moveTo>
                  <a:pt x="62036" y="0"/>
                </a:moveTo>
                <a:lnTo>
                  <a:pt x="62036" y="21600"/>
                </a:lnTo>
                <a:lnTo>
                  <a:pt x="60636" y="20200"/>
                </a:lnTo>
                <a:lnTo>
                  <a:pt x="60636" y="1400"/>
                </a:lnTo>
                <a:close/>
              </a:path>
              <a:path fill="darkenLess" w="62036" h="21600">
                <a:moveTo>
                  <a:pt x="62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36" y="20200"/>
                </a:lnTo>
                <a:close/>
              </a:path>
              <a:path fill="lighten" w="62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36" h="21600">
                <a:moveTo>
                  <a:pt x="24011" y="3794"/>
                </a:moveTo>
                <a:lnTo>
                  <a:pt x="38024" y="10800"/>
                </a:lnTo>
                <a:lnTo>
                  <a:pt x="2401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124000" y="1268280"/>
            <a:ext cx="4005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вер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Задание №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Углы </a:t>
            </a: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 PAS </a:t>
            </a: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MAN </a:t>
            </a: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–прям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Доказать, что углы </a:t>
            </a: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PAM </a:t>
            </a: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NAS </a:t>
            </a: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рав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576760" y="2962440"/>
            <a:ext cx="2181240" cy="180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7786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Знание данной темы </a:t>
            </a:r>
            <a:br>
              <a:rPr sz="3600"/>
            </a:b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необходимо для дальнейшего изучения геометрии</a:t>
            </a:r>
            <a:r>
              <a:rPr b="0" lang="en-US" sz="2800" spc="-1" strike="noStrike">
                <a:solidFill>
                  <a:srgbClr val="ff99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654360" cy="36338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900000" y="4125960"/>
            <a:ext cx="2354400" cy="2054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данян С. С.Задачи по                    планиметрии с практическим содерж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орелов А. В. Геометрия ,7 – 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тянский В. Д. , Глейзер 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 7 -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еоретический материа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 . Два угла называются смежными , если у них одна сторона общая , а другие стороны этих углов являются дополнительными полупрям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24000" y="5229360"/>
            <a:ext cx="25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059280" y="4076640"/>
            <a:ext cx="129672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65080" y="522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11640" y="530064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618000" y="3803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16360" y="5300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межные угл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ема. Сумма смежных углов равна 180 градусам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казательство . Пусть АОВ и СОВ – смежные углы . Луч ОВ проходит между сторонами АО и ОС развернутого угла . Поэтому сумма углов АОВ и СОВ равна развернутому углу , т . е . 180 градус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Теорема доказана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едствие 1. Если два угла равны , то смежные с ними углы равны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едствие 2. Если угол не развернутый , то его градусная мера меньше 180 градусов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едствие 3. Угол , смежный с прямым углом , есть прямой угол.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ертикальные угл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. Два угла называются вертикальными, если стороны одного угла являются дополнительными полупрямыми сторон другого.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124000" y="4437000"/>
            <a:ext cx="403236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4005360"/>
            <a:ext cx="367344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058920" y="3933360"/>
            <a:ext cx="14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86000" y="3422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3933720"/>
            <a:ext cx="8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7080" y="357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68560" y="5245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36560" y="546084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Теорема. Вертикальные углы равны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казательство. Пусть углы АОВ и СОД – вертикальные углы. Угол ДОВ является смежным с углом ДОС и с углом АОВ. Отсюда по теореме о сумме смежных углов заключаем, что каждый из углов АОВ и СОД дополняет угол ДОВ до 180 градусов, т. е. углы АОВ и СОД равны. Теорема доказ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059280" y="4797360"/>
            <a:ext cx="244944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5013360"/>
            <a:ext cx="28083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5800" y="4653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86880" y="530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26160" y="465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52920" y="5753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868720" y="558972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Решение задач. Задача №1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475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ите по рисунку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ертикальные и смежные уг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6000" y="3693960"/>
            <a:ext cx="8604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и 2, 2 и 3, 3 и 4, 4 и 1, 7 и 6, 6 и 8, 8 и 5, 5 и 7, 12 и 10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и 11, 11 и 9, 9 и 12 –смежные у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и 3, 2 и 4, 6 и 5, 7 и 8, 12 и 11, 10 и 9 –вертикальные уг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и 2, 2 и 3, 3 и 4, 4 и 1, 7 и 6, 6 и 8, 8 и 5, 5 и 7, 12 и 10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и 11,11 и 9, 9 и 12 –вертикальные у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и 3, 2 и 4, 6 и 5, 7 и 8, 12 и 11, 10 и 9 –смежные углы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5292720" y="1052640"/>
            <a:ext cx="3524400" cy="2581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68360" y="28526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а №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24000" y="328464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" y="2205000"/>
            <a:ext cx="369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лы 1 и 2 верт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ьные или смеж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ые 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4954680"/>
            <a:ext cx="209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386064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вертикаль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смежные.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859280" y="2054160"/>
            <a:ext cx="2698920" cy="2698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Решить устно . Задача №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гол 2 на 3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е угла 1.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йдите эти уг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6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1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) 7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10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3) 10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8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19640" y="414972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012000" y="3213000"/>
            <a:ext cx="115236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20000" y="458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342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2472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308720" y="3429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Задача №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7760"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ол 2 на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ьше угла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те эти уг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7760"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70 и 1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80 и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60 и 1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905360" y="2571840"/>
            <a:ext cx="3524400" cy="2581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1:15:03Z</dcterms:created>
  <dc:creator>Slash</dc:creator>
  <dc:description/>
  <dc:language>en-US</dc:language>
  <cp:lastModifiedBy>Slash</cp:lastModifiedBy>
  <dcterms:modified xsi:type="dcterms:W3CDTF">2003-02-26T12:17:23Z</dcterms:modified>
  <cp:revision>44</cp:revision>
  <dc:subject/>
  <dc:title>Слайд 1</dc:title>
</cp:coreProperties>
</file>