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9A3-5AAF-49E4-81B2-FC65A4E6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8CD-6E75-40DE-909C-1B6C5731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0E8-5577-4E40-8763-7761E0AD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D00-6F5F-4B5A-BD74-5225E039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027D-1334-4910-BCD0-EA7EE5D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FC8-FD75-461D-8D8F-440D715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184-1F5D-4B04-A28B-46CD627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524-555E-4C53-A4EF-7DE93B54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DFBB-C45D-487A-8AE0-6545B1A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4C8-A9EC-44B5-8ABA-FB8CE674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5C2-1886-421B-B01D-5B07844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020-3EF6-4949-97CF-9DEC48FE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D08B-C13E-4FC1-8039-9A97120F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02D2-AA09-441E-B536-C2D4506F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5B5C-6253-438F-A20B-6DFF0BC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774-CDA9-477F-B068-32487E6E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E81D-6E70-44C9-86C2-7DB462D1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E7C4-F0DA-4390-88BA-22B5E77F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74C4-9F6B-4821-8A62-7499806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D6DC-1C43-408F-9F89-EE02F9A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3A7B-E37E-46F4-826D-4F9B604E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F19A-16B2-47E1-B4CB-F7B2B56F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69D-7FD4-47DB-9E1F-E6000E58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77788-C2BC-499F-B69D-B0772B9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74B9-E6EC-428E-82E7-FBF0A0E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7D09-5C18-4FDF-95D0-DC801B8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7C9E-6067-4FF7-8545-5C3B3744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8EF1-4656-4394-B3CE-F596ECA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5DD1-199D-4B9A-961F-ADEE22E6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0958-8765-46EC-87DE-02AACBB9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B1736-FAC6-4247-B1CA-00602181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F007A-1F23-47E0-A1A0-D81C2777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0FA4D-BB24-4B20-9036-670CBC2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C4D-6C21-4C39-A632-2E2B4A73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E6F92-BEC8-407C-90B4-019D225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597B1-41EE-4E89-975B-6C4300A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37738-D257-4182-9387-76B0307D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51799-0CFD-4656-B1A7-F703697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5D563-4637-4F8F-8ABB-1CF923A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6C996-5963-40CA-89FD-F8D00D7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C0C4F-3FD6-4BDC-9F36-12D08C0E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9D13A-51D8-47E2-AE84-FB713F92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08334-9703-46A6-8BCF-9935473D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5EC-4A01-486B-B973-498718A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428-9BA0-4780-ADD0-B5DE3481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3E7-86AB-4BF8-B6F5-1439DB4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794-2435-4785-B0E7-39ACE6A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B22-F7B0-4525-BE9C-71F00A5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8EE5-435C-4E31-95FA-DF562E662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379-7EF0-4CAE-85E2-428879F4E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917B-D702-4462-8463-BB1A83AE63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2E9-360D-4652-8F3C-9128AE9BC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4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5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6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7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8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9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10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e7f4"/>
                </a:solidFill>
                <a:latin typeface="Times New Roman"/>
              </a:rPr>
              <a:t>ГЕОМЕТРИЯ 9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910880" y="510552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атематики школы №10 Приволжского района города Казани Шафеев Ф.Ш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2852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42840" y="2793960"/>
            <a:ext cx="72583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ртикальные и смежные угл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Найти углы 2, 3,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2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4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2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4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2492280"/>
            <a:ext cx="2448000" cy="28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364000" y="2421000"/>
            <a:ext cx="18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1800" y="19890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3800" y="20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57720" y="3357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57440" y="276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8720" y="350028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81640" y="426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5164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196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ы 1 и 2 – смежные. Угол 1 меньше угла 2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4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айти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1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"/>
              </a:rPr>
              <a:t>7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2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3"/>
              </a:rPr>
              <a:t> и 10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4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5"/>
              </a:rPr>
              <a:t>7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6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7"/>
              </a:rPr>
              <a:t> и 11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8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0"/>
              </a:rPr>
              <a:t>8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1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2"/>
              </a:rPr>
              <a:t> и 9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3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4000" y="836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№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116000" y="1773360"/>
            <a:ext cx="4537080" cy="23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647640"/>
          </a:xfrm>
          <a:custGeom>
            <a:avLst/>
            <a:gdLst>
              <a:gd name="textAreaLeft" fmla="*/ 41760 w 1656000"/>
              <a:gd name="textAreaRight" fmla="*/ 1614240 w 1656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5212" h="21600">
                <a:moveTo>
                  <a:pt x="0" y="0"/>
                </a:moveTo>
                <a:lnTo>
                  <a:pt x="55212" y="0"/>
                </a:lnTo>
                <a:lnTo>
                  <a:pt x="55212" y="21600"/>
                </a:lnTo>
                <a:lnTo>
                  <a:pt x="0" y="21600"/>
                </a:lnTo>
                <a:close/>
              </a:path>
              <a:path fill="lightenLess" w="55212" h="21600">
                <a:moveTo>
                  <a:pt x="0" y="0"/>
                </a:moveTo>
                <a:lnTo>
                  <a:pt x="55212" y="0"/>
                </a:lnTo>
                <a:lnTo>
                  <a:pt x="53812" y="1400"/>
                </a:lnTo>
                <a:lnTo>
                  <a:pt x="1400" y="1400"/>
                </a:lnTo>
                <a:close/>
              </a:path>
              <a:path fill="darken" w="55212" h="21600">
                <a:moveTo>
                  <a:pt x="55212" y="0"/>
                </a:moveTo>
                <a:lnTo>
                  <a:pt x="55212" y="21600"/>
                </a:lnTo>
                <a:lnTo>
                  <a:pt x="53812" y="20200"/>
                </a:lnTo>
                <a:lnTo>
                  <a:pt x="53812" y="1400"/>
                </a:lnTo>
                <a:close/>
              </a:path>
              <a:path fill="darkenLess" w="55212" h="21600">
                <a:moveTo>
                  <a:pt x="55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12" y="20200"/>
                </a:lnTo>
                <a:close/>
              </a:path>
              <a:path fill="lighten" w="55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212" h="21600">
                <a:moveTo>
                  <a:pt x="20600" y="3794"/>
                </a:moveTo>
                <a:lnTo>
                  <a:pt x="34612" y="10800"/>
                </a:lnTo>
                <a:lnTo>
                  <a:pt x="2060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132000" y="4292640"/>
            <a:ext cx="1855800" cy="1819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95280" y="3499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ый  ответ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7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1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5763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36" y="1400"/>
                </a:lnTo>
                <a:lnTo>
                  <a:pt x="1400" y="140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36" y="20200"/>
                </a:lnTo>
                <a:lnTo>
                  <a:pt x="60636" y="140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36" y="2020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36" h="21600">
                <a:moveTo>
                  <a:pt x="24011" y="3794"/>
                </a:moveTo>
                <a:lnTo>
                  <a:pt x="38024" y="10800"/>
                </a:lnTo>
                <a:lnTo>
                  <a:pt x="2401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124000" y="1268280"/>
            <a:ext cx="400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Задание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 P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MAN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–пря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Доказать, что 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PAM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N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ра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576760" y="2962440"/>
            <a:ext cx="2181240" cy="180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Знание данной темы </a:t>
            </a:r>
            <a:br>
              <a:rPr sz="3600"/>
            </a:b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необходимо для дальнейшего изучения геометрии</a:t>
            </a: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654360" cy="36338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900000" y="4125960"/>
            <a:ext cx="2354400" cy="2054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данян С. С.Задачи по                    планиметрии с практическим содерж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релов А. В. Геометрия ,7 – 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тянский В. Д. , Глейзер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 -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оретический материа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. Два угла называются смежными , если у них одна сторона общая , а другие стороны этих углов являются дополнительными полупрям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522936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059280" y="4076640"/>
            <a:ext cx="129672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5080" y="522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53006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18000" y="3803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530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ема. Сумма смежных углов равна 180 градуса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казательство . Пусть АОВ и СОВ – смежные углы . Луч ОВ проходит между сторонами АО и ОС развернутого угла . Поэтому сумма углов АОВ и СОВ равна развернутому углу , т . е . 180 граду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Теорема доказан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1. Если два угла равны , то смежные с ними углы равны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2. Если угол не развернутый , то его градусная мера меньше 180 градус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3. Угол , смежный с прямым углом , есть прямой угол.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. Два угла называются вертикальными, если стороны одного угла являются дополнительными полупрямыми сторон другого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124000" y="4437000"/>
            <a:ext cx="403236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4005360"/>
            <a:ext cx="3673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058920" y="393336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342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933720"/>
            <a:ext cx="8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708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68560" y="5245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36560" y="54608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еорема. Вертикальные углы равн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тельство. Пусть углы АОВ и СОД – вертикальные углы. Угол ДОВ является смежным с углом ДОС и с углом АОВ. Отсюда по теореме о сумме смежных углов заключаем, что каждый из углов АОВ и СОД дополняет угол ДОВ до 180 градусов, т. е. углы АОВ и СОД равны. Теорема доказ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059280" y="4797360"/>
            <a:ext cx="24494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5013360"/>
            <a:ext cx="2808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580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688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26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2920" y="575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68720" y="558972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Решение задач. Задача №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475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е по рисунку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ертикальные и смежные у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00" y="3693960"/>
            <a:ext cx="860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 11 и 9, 9 и 12 –смеж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вертикальные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11 и 9, 9 и 12 –вертикаль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смежные угл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5292720" y="10526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68360" y="285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32846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2205000"/>
            <a:ext cx="369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лы 1 и 2 верт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ьные или смеж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ые 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4954680"/>
            <a:ext cx="209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38606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вертик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смежные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2054160"/>
            <a:ext cx="2698920" cy="269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шить устно . Задача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ол 2 на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е угла 1.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ите эти уг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6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) 7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0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) 1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8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12000" y="3213000"/>
            <a:ext cx="115236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2000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342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2472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8720" y="3429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ол 2 на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ьше угла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70 и 1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80 и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60 и 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1:15:03Z</dcterms:created>
  <dc:creator>Slash</dc:creator>
  <dc:description/>
  <dc:language>en-US</dc:language>
  <cp:lastModifiedBy>Slash</cp:lastModifiedBy>
  <dcterms:modified xsi:type="dcterms:W3CDTF">2003-02-26T12:17:23Z</dcterms:modified>
  <cp:revision>44</cp:revision>
  <dc:subject/>
  <dc:title>Слайд 1</dc:title>
</cp:coreProperties>
</file>