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6AF-4855-4A35-AF33-CAAF8793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D23-E6D9-4C22-945B-2376C466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F28-DEA8-46EC-AED3-9700D2D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B66-A5AE-46BF-9D9D-13CB61BC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8539-1302-475A-B256-F2F95BF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DCF-2B71-4E4B-896F-2E66EF2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3F9-627E-4811-9A81-A6635F00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81D-3D1D-4EF3-B57B-1CBF252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92F0-5D0D-4A1C-961E-3D082402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78C-B208-4DA0-98F5-DF88984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31A4-907D-417D-8AF9-03EF4EB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2AB-2BDA-4111-813B-0990D38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FDD3-7489-4BEA-8775-AE17C9C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5630-9051-4191-8D32-C59E277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D4F-325A-4C8E-906F-05CB1CD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DD0C-3088-48E2-97FC-AD54FF00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3347-02B9-4AE8-8229-11C11771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45E8-B8CE-42E5-9B0B-60E6EAD9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9246-5A3F-41C1-9CAC-BCBB32A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B214-3368-4141-81D3-8540467E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DFC9-EE51-4B12-B8DE-97E1181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FD90-EEDB-4AA5-9A8D-3446E55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A74-94BD-48B0-8F54-01946A0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12C1-B241-45A3-9050-FC7E78B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13B3-A0DC-4009-8F33-8DD8658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BC6D-F7C9-49A6-8647-E892C55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6885-C651-47FC-83FE-83EF980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2BDF-085C-4637-AC8B-C9516552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B437-6D34-4F84-A123-BB5BB177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AF55-4A0C-4B04-91D7-8C014DFC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07F19-DD69-49D8-8BAD-2CA46C2B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08F80-E5B3-49CF-A2B7-E000D70B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561E3-FCE2-42A4-B2E5-8904624E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F11-BC5E-423D-B4A4-756727F9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068D1-BB0F-44CC-A075-AB59256A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EA928-1511-4287-98CE-40A5F8A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DCEE2-E0AB-43B7-BB0D-97EA35B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4D498-6521-48F8-A5B7-A43AEF3F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B904F-7602-4BA6-8DF8-20B66EF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3C6E3-0DA3-47AA-9213-39A21E2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7D9A3-CFAF-4C32-9933-E5159B15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A0A5C-30C4-4CF7-B346-2E99EE7D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E9389-10E5-4014-9C1F-5A84FE54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26D-1D4E-4767-93F5-A22D75F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55E-E776-46DF-A1E1-94A3DC85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124-6319-4C42-B046-31FC74F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F4F-D80B-440E-AE4F-044AFE03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998-3EB2-4645-B8CC-EA132C6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3D38-4614-497B-9D84-A83517897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84E-89BD-471C-BB67-04842A924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8B30-ADEE-4EA1-A15F-41B8B72D7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3680-A30A-4C9A-8731-7DBAB9B91E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4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5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6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7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8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9" Type="http://schemas.openxmlformats.org/officeDocument/2006/relationships/hyperlink" Target="file:///&#1055;&#1088;&#1077;&#1079;&#1077;&#1085;&#1090;&#1072;&#1094;&#1080;&#1103;%20&#1091;&#1088;&#1086;&#1082;&#1072;.ppt#12. &#1057;&#1083;&#1072;&#1081;&#1076; 12" TargetMode="External"/><Relationship Id="rId10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1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2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3" Type="http://schemas.openxmlformats.org/officeDocument/2006/relationships/hyperlink" Target="file:///&#1055;&#1088;&#1077;&#1079;&#1077;&#1085;&#1090;&#1072;&#1094;&#1080;&#1103;%20&#1091;&#1088;&#1086;&#1082;&#1072;.ppt#13. &#1057;&#1083;&#1072;&#1081;&#1076; 13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e7f4"/>
                </a:solidFill>
                <a:latin typeface="Times New Roman"/>
              </a:rPr>
              <a:t>ГЕОМЕТРИЯ 9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910880" y="5105520"/>
            <a:ext cx="7232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математики школы №10 Приволжского района города Казани Шафеев Ф.Ш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285264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42840" y="2793960"/>
            <a:ext cx="72583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ртикальные и смежные углы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Найти углы 2, 3, 4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2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4 угол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3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2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3 угол 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4 угол 7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2492280"/>
            <a:ext cx="2448000" cy="28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364000" y="2421000"/>
            <a:ext cx="187200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81800" y="19890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3800" y="20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57720" y="33577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57440" y="276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8720" y="350028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81640" y="4262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51640" y="357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196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48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лы 1 и 2 – смежные. Угол 1 меньше угла 2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4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айти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1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"/>
              </a:rPr>
              <a:t>7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2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3"/>
              </a:rPr>
              <a:t> и 10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4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5"/>
              </a:rPr>
              <a:t>7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6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7"/>
              </a:rPr>
              <a:t> и 11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8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9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2800" spc="-1" strike="noStrike" u="sng">
                <a:solidFill>
                  <a:srgbClr val="1ace9f"/>
                </a:solidFill>
                <a:uFillTx/>
                <a:latin typeface="Arial"/>
                <a:hlinkClick r:id="rId10"/>
              </a:rPr>
              <a:t>8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1"/>
              </a:rPr>
              <a:t>0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2"/>
              </a:rPr>
              <a:t> и 95</a:t>
            </a:r>
            <a:r>
              <a:rPr b="0" lang="en-US" sz="2800" spc="-1" strike="noStrike" u="sng" baseline="30000">
                <a:solidFill>
                  <a:srgbClr val="1ace9f"/>
                </a:solidFill>
                <a:uFillTx/>
                <a:latin typeface="Arial"/>
                <a:hlinkClick r:id="rId13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4000" y="83664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№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116000" y="1773360"/>
            <a:ext cx="4537080" cy="23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6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647640"/>
          </a:xfrm>
          <a:custGeom>
            <a:avLst/>
            <a:gdLst>
              <a:gd name="textAreaLeft" fmla="*/ 41760 w 1656000"/>
              <a:gd name="textAreaRight" fmla="*/ 1614240 w 1656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5212" h="21600">
                <a:moveTo>
                  <a:pt x="0" y="0"/>
                </a:moveTo>
                <a:lnTo>
                  <a:pt x="55212" y="0"/>
                </a:lnTo>
                <a:lnTo>
                  <a:pt x="55212" y="21600"/>
                </a:lnTo>
                <a:lnTo>
                  <a:pt x="0" y="21600"/>
                </a:lnTo>
                <a:close/>
              </a:path>
              <a:path fill="lightenLess" w="55212" h="21600">
                <a:moveTo>
                  <a:pt x="0" y="0"/>
                </a:moveTo>
                <a:lnTo>
                  <a:pt x="55212" y="0"/>
                </a:lnTo>
                <a:lnTo>
                  <a:pt x="53812" y="1400"/>
                </a:lnTo>
                <a:lnTo>
                  <a:pt x="1400" y="1400"/>
                </a:lnTo>
                <a:close/>
              </a:path>
              <a:path fill="darken" w="55212" h="21600">
                <a:moveTo>
                  <a:pt x="55212" y="0"/>
                </a:moveTo>
                <a:lnTo>
                  <a:pt x="55212" y="21600"/>
                </a:lnTo>
                <a:lnTo>
                  <a:pt x="53812" y="20200"/>
                </a:lnTo>
                <a:lnTo>
                  <a:pt x="53812" y="1400"/>
                </a:lnTo>
                <a:close/>
              </a:path>
              <a:path fill="darkenLess" w="55212" h="21600">
                <a:moveTo>
                  <a:pt x="55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812" y="20200"/>
                </a:lnTo>
                <a:close/>
              </a:path>
              <a:path fill="lighten" w="55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212" h="21600">
                <a:moveTo>
                  <a:pt x="20600" y="3794"/>
                </a:moveTo>
                <a:lnTo>
                  <a:pt x="34612" y="10800"/>
                </a:lnTo>
                <a:lnTo>
                  <a:pt x="20600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132000" y="4292640"/>
            <a:ext cx="1855800" cy="1819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247760" cy="1181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95280" y="34999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ый  ответ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7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1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6084720" y="5877000"/>
            <a:ext cx="1656000" cy="5763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36" y="1400"/>
                </a:lnTo>
                <a:lnTo>
                  <a:pt x="1400" y="140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36" y="20200"/>
                </a:lnTo>
                <a:lnTo>
                  <a:pt x="60636" y="140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36" y="2020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36" h="21600">
                <a:moveTo>
                  <a:pt x="24011" y="3794"/>
                </a:moveTo>
                <a:lnTo>
                  <a:pt x="38024" y="10800"/>
                </a:lnTo>
                <a:lnTo>
                  <a:pt x="2401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124000" y="1268280"/>
            <a:ext cx="400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вер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dad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Задание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 P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MAN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–прям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Доказать, что углы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PAM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NAS </a:t>
            </a:r>
            <a:r>
              <a:rPr b="0" lang="ru-RU" sz="2800" spc="-1" strike="noStrike">
                <a:solidFill>
                  <a:srgbClr val="dcdad0"/>
                </a:solidFill>
                <a:latin typeface="Arial"/>
              </a:rPr>
              <a:t>ра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576760" y="2962440"/>
            <a:ext cx="2181240" cy="180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Знание данной темы </a:t>
            </a:r>
            <a:br>
              <a:rPr sz="3600"/>
            </a:br>
            <a:r>
              <a:rPr b="0" lang="en-US" sz="3600" spc="-1" strike="noStrike">
                <a:solidFill>
                  <a:srgbClr val="ff99cc"/>
                </a:solidFill>
                <a:latin typeface="Arial"/>
              </a:rPr>
              <a:t>необходимо для дальнейшего изучения геометрии</a:t>
            </a:r>
            <a:r>
              <a:rPr b="0" lang="en-US" sz="2800" spc="-1" strike="noStrike">
                <a:solidFill>
                  <a:srgbClr val="ff99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654360" cy="36338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900000" y="4125960"/>
            <a:ext cx="2354400" cy="2054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данян С. С.Задачи по                    планиметрии с практическим содерж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релов А. В. Геометрия ,7 – 1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тянский В. Д. , Глейзер Г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7 -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оретический материа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. Два угла называются смежными , если у них одна сторона общая , а другие стороны этих углов являются дополнительными полупрям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522936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059280" y="4076640"/>
            <a:ext cx="129672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65080" y="5229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53006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18000" y="3803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5300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меж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ема. Сумма смежных углов равна 180 градуса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казательство . Пусть АОВ и СОВ – смежные углы . Луч ОВ проходит между сторонами АО и ОС развернутого угла . Поэтому сумма углов АОВ и СОВ равна развернутому углу , т . е . 180 граду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Теорема доказан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1. Если два угла равны , то смежные с ними углы равны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2. Если угол не развернутый , то его градусная мера меньше 180 градус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едствие 3. Угол , смежный с прямым углом , есть прямой угол.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. Два угла называются вертикальными, если стороны одного угла являются дополнительными полупрямыми сторон другого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124000" y="4437000"/>
            <a:ext cx="403236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4005360"/>
            <a:ext cx="3673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058920" y="3933360"/>
            <a:ext cx="1443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86000" y="3422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933720"/>
            <a:ext cx="8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7080" y="35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68560" y="5245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36560" y="546084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Теорема. Вертикальные углы равны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азательство. Пусть углы АОВ и СОД – вертикальные углы. Угол ДОВ является смежным с углом ДОС и с углом АОВ. Отсюда по теореме о сумме смежных углов заключаем, что каждый из углов АОВ и СОД дополняет угол ДОВ до 180 градусов, т. е. углы АОВ и СОД равны. Теорема доказ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059280" y="4797360"/>
            <a:ext cx="244944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5013360"/>
            <a:ext cx="280836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5800" y="4653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688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26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52920" y="5753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68720" y="558972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Решение задач. Задача №1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475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те по рисунку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ертикальные и смежные уг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00" y="3693960"/>
            <a:ext cx="860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 11 и 9, 9 и 12 –смеж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вертикальные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2, 2 и 3, 3 и 4, 4 и 1, 7 и 6, 6 и 8, 8 и 5, 5 и 7, 12 и 10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и 11,11 и 9, 9 и 12 –вертикальны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и 3, 2 и 4, 6 и 5, 7 и 8, 12 и 11, 10 и 9 –смежные углы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5292720" y="1052640"/>
            <a:ext cx="3524400" cy="2581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68360" y="285264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32846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4000" y="2205000"/>
            <a:ext cx="369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лы 1 и 2 верт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ьные или смеж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ые 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4954680"/>
            <a:ext cx="209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3860640"/>
            <a:ext cx="36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вертикальны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смежные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2054160"/>
            <a:ext cx="2698920" cy="2698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шить устно . Задача №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гол 2 на 3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е угла 1.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ите эти уг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6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) 7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10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3) 1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и 8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414972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12000" y="3213000"/>
            <a:ext cx="115236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20000" y="458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342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2472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8720" y="3429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гол 2 на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ньше угла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эти уг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7760">
              <a:spcBef>
                <a:spcPts val="7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70 и 1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80 и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60 и 1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05360" y="2571840"/>
            <a:ext cx="3524400" cy="258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1:15:03Z</dcterms:created>
  <dc:creator>Slash</dc:creator>
  <dc:description/>
  <dc:language>en-US</dc:language>
  <cp:lastModifiedBy>Slash</cp:lastModifiedBy>
  <dcterms:modified xsi:type="dcterms:W3CDTF">2003-02-26T12:17:23Z</dcterms:modified>
  <cp:revision>44</cp:revision>
  <dc:subject/>
  <dc:title>Слайд 1</dc:title>
</cp:coreProperties>
</file>