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7FF-5D21-4B1A-B834-CB71C933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5CF-453B-4916-9DCB-3C2AEE3A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071FA-3986-4F7C-BE4B-AF056522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AB5F0-BD0F-4B59-99C3-2584E891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8539B-506C-4233-867C-F4DEC45B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02D6B-0255-4D6C-BC4D-6B5F196F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8BAF8-8CD8-48A8-BE50-AE441171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4A9AC-4A82-41B5-8230-289237C2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27951-4FCF-479A-9775-E4361296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CB660-2F45-4DCF-A780-1F33A05A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57769-A94E-4FF0-8C40-A7AD01DB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DF6A9-24F4-4288-A3A7-F565EC17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3A6-ACA9-47BD-8386-72E4105A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B7BF3-4CFC-4870-AEE8-FD874382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0B870-0879-4E5D-B6CB-50E29A5D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110218-9ACE-4F56-8D43-43C11409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C89F3-FEF9-48EC-AA13-3E9300E9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45256-363B-417C-B113-48CC0989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D1F4B-AB00-44EF-AC91-CE020D3D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C565D-11DC-4487-A823-0138302C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F0009-5ADD-43D3-9296-4A95347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684968-0C6E-4F0F-85A5-E01CDF16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019EC-2D0D-4B67-8647-9BDAD4BC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6AE-0984-4A0B-96EC-EACF370C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F155FA-2B76-4892-84F0-147E0162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C5913-41F0-4ACA-A029-42B02120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9E889-6A4A-4B65-9B97-251628EC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6E765-E8C4-479F-AC35-C8EB5D7A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E99E8-F035-48F8-A6DC-1DE34041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028C2-BFC4-4444-BFA3-ACB26E4F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8D260-9F0B-4E1E-A8D2-02FEE1DD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1421C-29DF-4434-8054-06075245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E8699-0C1D-4682-A479-801A11B9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97886-8342-4123-9C4D-0AF19801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3F13-E634-4B07-9C1C-40F37D84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82C80-3A1F-4CF3-81E6-414046B9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A318D-0130-41A2-A2D5-32AE8FF9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C48E7-4B6E-4D75-A1DD-9883945D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8BE0D-E9E3-4FE9-A2CF-84E63D61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180FB-D819-4069-B5D0-0963E48E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184C8-5C39-463E-B221-878A7486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6E4C3-3307-4973-9652-9F18F385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E9D74-53F2-45D1-93C9-6C96B8E7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BC07C-57C8-4E63-A228-9CB530F2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D17770-2777-4B0E-8E76-0C32FC02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74B2-D4C3-430C-9FC8-2DB45CFA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32DC3-7A86-4434-916A-83F49EE2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86F1D-9693-4914-8372-EF2A9E74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089FA-1B8B-443E-AE7D-D7868495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056A8-29B1-4ACE-8268-C8C3E061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5BCCF-ED08-4C47-A462-795E77F9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33C5-A0F8-4302-9459-D9ECDB1C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1127-FFA1-48F6-A91F-068456C0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0DC8-B9C8-4A18-B3A1-2E023036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1C02-E599-46AD-AC5A-F8E995CD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81DD-7770-41F1-AC63-8126EE39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CBB-53F9-401A-8CD5-C29ADB6D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7BA0-2595-406D-818D-759AE355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14BA-EC88-4E8C-AC27-46A6C440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89A6-F50D-45B6-9B9D-B1DDA14E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F7BA-890F-4867-B3D6-573C7E90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D67A-900D-455A-A625-7F3920A8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89C6A-D6B8-40BA-96A5-7F65CE2B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1B0D-6294-4041-97E0-0D16B9F3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C1A40-FE93-4459-A0A4-1873A16F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074FF-9D56-4322-9669-FC2B6401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00F9F-586B-4A79-AC8C-D67F9E0C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7C1-9657-4F3B-AA61-4D9B4FBC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0BB1-5CC7-4684-B4F8-3FD54CE5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50311-4511-44E8-98A1-B0F0FE46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1BCF-13E8-41FF-A128-91EE06C4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20D3A-6180-4BB2-ABB3-3F9632EC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3BAE6-AA9E-49B3-957E-D64D755F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0286-DCC5-4660-AB16-5F853D30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8A92-A754-483B-971C-75F06457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B9BA1-9584-4645-A2E7-EF93EA33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431D-DB00-4992-9447-B4B06E03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E70B2-1C98-43C6-9202-C27C7048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C0C-F525-4466-9023-157407A5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66561-5883-4763-B1F8-EF094F19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51179-E795-4DDA-B22D-91783C34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44CA-C28E-41F9-B792-F75B2A9F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23B51-0690-41CA-9F73-B5393806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D68AA-9589-49D5-A4ED-40864625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90FB6-B474-4C3F-9983-F14C4760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51B02-F1B1-46E7-A2A0-0BE4BF07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5CB91-7E33-4D01-981D-0720BB7B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1E9A2-A8DB-4F17-8466-72087109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DAD30-87FE-4619-973E-B98FA7D9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309-D8DB-4856-9198-F1A9C243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E8F25-8C9E-415A-B8C1-E8025C65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59B4A-37BA-4FFC-AC84-6D3DF96D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D3DCE-2B34-478F-8DA0-5DC6E076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BFA23-1134-438F-AF79-8F7883FC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BAB5C-5714-4CBC-B606-461905FD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2ABAB-9519-4229-8D32-7B58C5BC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7499C-66A7-4D2C-AAF1-82F26023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002F3-A284-4CFD-A07F-2EBA4BE3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608C7-4090-469C-958E-0DA8D09D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4F0B1-892E-4DAD-9DD8-DF667620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A8D-402D-4881-A59A-983A6C7D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FEB42-1A53-4F83-B88E-C71A28A5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FDA56-D286-4E3C-B872-0045DA26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40A05-E4FC-4CFD-8689-F52429DF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DE7DD-A97E-4C64-82ED-4D9E774C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81A6A-73EC-4C32-A89A-17E1915A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1AF78-1D9E-4E86-9F8C-8FC298B1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24F02-B367-410A-8E76-A932B177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7A45C-2E13-4421-95DD-D35987E7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DDF04-29BA-447D-A33C-BFE1F03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C6E18-415B-4D8B-9DEF-C9752F4F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6AD-739A-4638-B463-D6510516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73AEF-4AB9-49ED-A9E8-6A885769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89E3C-90D7-4B74-B76C-5C741FA9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F380-A8F2-42EA-BCE7-C5C1A771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6F237-5692-4E17-ABB0-AD577B82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6ED42-549F-4E6D-A12C-A6D70384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180AC-73FA-4CEC-A50D-A6E69B0E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24F43-2555-4B79-A3AC-C3DD8DB5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58A60-1B7C-428E-87A5-0023C41C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E4795-AAA2-4948-9C8F-BC4B467C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16894-13A1-463C-8724-53222775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8A0-5CDB-45B8-A313-60D653F0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AF430-E481-4FB0-8353-AD6692A4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F4011-5AEA-444D-9387-CD319746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FA6D6-7412-47C4-B54A-F5C0B3F7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10485-E749-4B1C-9C7D-9E191002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7524E-FF76-4DBE-8534-B7FB4BB5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78798-F223-40CD-B0A1-E6E83639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3E007-1BE6-4143-8709-AE93CD97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52277-4323-4377-8AFA-A185423F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7C847-B349-4B81-94A7-701E655B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4AC8B-2C33-4653-B6EB-098835FC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057-E01D-468F-94FB-44695FD9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B9B97-C570-49E0-A8F2-4A7F3248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1C331-77A5-4ED1-BC87-3B990028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3BD92-5763-4188-956F-68AC0D3F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BD833-234A-46BC-94DD-AFC6735A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E9237-35E3-4E05-86FC-93C82871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B0CEA-7221-4C1A-97E0-F60DF023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4C539-665A-44A6-9F51-9C9D74F0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05B75-B620-4175-BDC9-7C2F6107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441F3-5B48-4896-A85A-21EEC008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C84C7-37D3-4F82-8458-23A29869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F349-604C-41E0-A6D7-50A2974400AA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BF1F-E303-4988-9645-235CA6BDF998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307C-017D-488E-B528-D12CB4D35D7A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BEB2-A57E-4D5D-99DC-A37FA4E7BCD4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2E52-F7A5-4F99-A225-59F3F7377B63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BBBB-680D-4868-98E3-307D74115B26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42CD-CBC5-41A0-A833-64E3A3D87D3A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4244-88F4-41FA-8183-7E89341FE33C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f271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79E1-3681-430D-BD38-98415265D21F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D42B-A415-4D64-8398-5C0390FCD940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AE70-B27D-443F-B828-7CBE494E9AE9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ab262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ab26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c32d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eb8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c32d2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4aa3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6430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ab262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7BA7-13A5-4DF0-8F9E-8D2BA1F58182}" type="slidenum">
              <a:rPr b="0" lang="en-US" sz="1600" spc="-1" strike="noStrike">
                <a:solidFill>
                  <a:srgbClr val="ab262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28608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ГБОУ СОШ №1358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ЕПИФАНОВ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ТАТЬЯНА НИКОЛАЕВН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891a7"/>
                </a:solidFill>
                <a:latin typeface="Georgia"/>
              </a:rPr>
              <a:t>Сумма углов треугольника</a:t>
            </a:r>
            <a:endParaRPr b="0" lang="en-US" sz="66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Найти неизвестные углы в ΔАВС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1" name="Содержимое 3" descr="010.jpg"/>
          <p:cNvPicPr/>
          <p:nvPr/>
        </p:nvPicPr>
        <p:blipFill>
          <a:blip r:embed="rId1"/>
          <a:stretch/>
        </p:blipFill>
        <p:spPr>
          <a:xfrm>
            <a:off x="500040" y="2571840"/>
            <a:ext cx="8145360" cy="22795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676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Найти неизвестные углы в ΔАВС</a:t>
            </a:r>
            <a:br>
              <a:rPr sz="3600"/>
            </a:b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3" name="Содержимое 5" descr="011.jpg"/>
          <p:cNvPicPr/>
          <p:nvPr/>
        </p:nvPicPr>
        <p:blipFill>
          <a:blip r:embed="rId1"/>
          <a:stretch/>
        </p:blipFill>
        <p:spPr>
          <a:xfrm>
            <a:off x="1243080" y="1643040"/>
            <a:ext cx="6619680" cy="4505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b2627"/>
                </a:solidFill>
                <a:latin typeface="Georgia"/>
              </a:rPr>
              <a:t>Решите задачу.</a:t>
            </a:r>
            <a:endParaRPr b="0" lang="en-US" sz="33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25" name="Содержимое 4" descr="012.jpg"/>
          <p:cNvPicPr/>
          <p:nvPr/>
        </p:nvPicPr>
        <p:blipFill>
          <a:blip r:embed="rId1"/>
          <a:stretch/>
        </p:blipFill>
        <p:spPr>
          <a:xfrm>
            <a:off x="285840" y="2214720"/>
            <a:ext cx="8572320" cy="3119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Рисунок 1" descr="013.jpg"/>
          <p:cNvPicPr/>
          <p:nvPr/>
        </p:nvPicPr>
        <p:blipFill>
          <a:blip r:embed="rId1"/>
          <a:stretch/>
        </p:blipFill>
        <p:spPr>
          <a:xfrm>
            <a:off x="500040" y="1071720"/>
            <a:ext cx="8299440" cy="392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Рисунок 2" descr="013.jpg"/>
          <p:cNvPicPr/>
          <p:nvPr/>
        </p:nvPicPr>
        <p:blipFill>
          <a:blip r:embed="rId1"/>
          <a:stretch/>
        </p:blipFill>
        <p:spPr>
          <a:xfrm>
            <a:off x="357120" y="928800"/>
            <a:ext cx="8415360" cy="4357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Рисунок 1" descr="015.jpg"/>
          <p:cNvPicPr/>
          <p:nvPr/>
        </p:nvPicPr>
        <p:blipFill>
          <a:blip r:embed="rId1"/>
          <a:stretch/>
        </p:blipFill>
        <p:spPr>
          <a:xfrm>
            <a:off x="357120" y="1071720"/>
            <a:ext cx="8429760" cy="4019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Рисунок 3" descr="014.jpg"/>
          <p:cNvPicPr/>
          <p:nvPr/>
        </p:nvPicPr>
        <p:blipFill>
          <a:blip r:embed="rId1"/>
          <a:stretch/>
        </p:blipFill>
        <p:spPr>
          <a:xfrm>
            <a:off x="428760" y="928800"/>
            <a:ext cx="8305560" cy="4524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Решите задачу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31" name="Содержимое 6" descr="015_1.jpg"/>
          <p:cNvPicPr/>
          <p:nvPr/>
        </p:nvPicPr>
        <p:blipFill>
          <a:blip r:embed="rId1"/>
          <a:stretch/>
        </p:blipFill>
        <p:spPr>
          <a:xfrm>
            <a:off x="1116000" y="2617920"/>
            <a:ext cx="2409840" cy="2190600"/>
          </a:xfrm>
          <a:prstGeom prst="rect">
            <a:avLst/>
          </a:prstGeom>
          <a:ln w="0">
            <a:noFill/>
          </a:ln>
        </p:spPr>
      </p:pic>
      <p:pic>
        <p:nvPicPr>
          <p:cNvPr id="632" name="Содержимое 7" descr="015_2.jpg"/>
          <p:cNvPicPr/>
          <p:nvPr/>
        </p:nvPicPr>
        <p:blipFill>
          <a:blip r:embed="rId2"/>
          <a:stretch/>
        </p:blipFill>
        <p:spPr>
          <a:xfrm>
            <a:off x="4800600" y="2019240"/>
            <a:ext cx="4038480" cy="33861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Вариан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Вариант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eorgia"/>
                <a:ea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1. Один из углов равнобедренного треугольника равен 96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два других угла треугольни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2. В треугольнике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Е с углом ∠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E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= 32° проведена биссектрис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F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, ∠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F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= 72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 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800600" y="2471760"/>
            <a:ext cx="403848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1. Один из углов равнобедренног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треугольника равен 108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 два других угла треугольник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2. В треугольнике 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Е проведена биссектриса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F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 = 68°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E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= 32°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Найдите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∠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FD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Самостоятельная работа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  <a:ea typeface="Times New Roman"/>
              </a:rPr>
              <a:t>Дополнительные задачи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 равнобедренном треугольник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N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снованием МР  и угло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равным 40°, проведена высота МН. Найдите  ∠РМ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2. В треугольнике 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Е проведены биссектрисы СК 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Р, пересекающиеся в точк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причем     ∠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К =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5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°. Найдите  ∠ С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3572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271c"/>
                </a:solidFill>
                <a:latin typeface="Georgia"/>
              </a:rPr>
              <a:t>УРОК ЗАКРЕПЛЕНИЯ ЗНАНИЙ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891a7"/>
                </a:solidFill>
                <a:latin typeface="Georgia"/>
              </a:rPr>
              <a:t>ТИП  УРОКА</a:t>
            </a:r>
            <a:br>
              <a:rPr sz="3800"/>
            </a:br>
            <a:endParaRPr b="0" lang="en-US" sz="7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42560" y="1642680"/>
            <a:ext cx="4040280" cy="7333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Найти угол АВ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857480" y="142848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Доказать, что  АВ || С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b2627"/>
                </a:solidFill>
                <a:latin typeface="Georgia"/>
              </a:rPr>
              <a:t>Домашнее задание.</a:t>
            </a:r>
            <a:endParaRPr b="0" lang="en-US" sz="3600" spc="-1" strike="noStrike">
              <a:solidFill>
                <a:srgbClr val="ab2627"/>
              </a:solidFill>
              <a:latin typeface="Georgia"/>
            </a:endParaRPr>
          </a:p>
        </p:txBody>
      </p:sp>
      <p:pic>
        <p:nvPicPr>
          <p:cNvPr id="643" name="Содержимое 9" descr="016_1.jpg"/>
          <p:cNvPicPr/>
          <p:nvPr/>
        </p:nvPicPr>
        <p:blipFill>
          <a:blip r:embed="rId1"/>
          <a:stretch/>
        </p:blipFill>
        <p:spPr>
          <a:xfrm>
            <a:off x="285840" y="3417840"/>
            <a:ext cx="4214880" cy="1849320"/>
          </a:xfrm>
          <a:prstGeom prst="rect">
            <a:avLst/>
          </a:prstGeom>
          <a:ln w="0">
            <a:noFill/>
          </a:ln>
        </p:spPr>
      </p:pic>
      <p:pic>
        <p:nvPicPr>
          <p:cNvPr id="644" name="Содержимое 11" descr="016_2.jpg"/>
          <p:cNvPicPr/>
          <p:nvPr/>
        </p:nvPicPr>
        <p:blipFill>
          <a:blip r:embed="rId2"/>
          <a:stretch/>
        </p:blipFill>
        <p:spPr>
          <a:xfrm>
            <a:off x="4800600" y="2568600"/>
            <a:ext cx="4038480" cy="3627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357200" y="3071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- ПРОВЕРИТЬ УСВОЕНИЕ      ДОКАЗАТЕЛЬСТВА ТЕОРЕМ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- НАУЧИТЬСЯ ПРИМЕНЕНИЮ ТЕОРЕМЫ К РЕШЕНИЮ ЗАДАЧ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891a7"/>
                </a:solidFill>
                <a:latin typeface="Georgia"/>
              </a:rPr>
              <a:t>ЦЕЛИ</a:t>
            </a:r>
            <a:br>
              <a:rPr sz="3800"/>
            </a:br>
            <a:endParaRPr b="0" lang="en-US" sz="7200" spc="-1" strike="noStrike">
              <a:solidFill>
                <a:srgbClr val="ab2627"/>
              </a:solidFill>
              <a:latin typeface="Georgia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23623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Times New Roman"/>
              </a:rPr>
              <a:t>Как, имея в наличии три равных треугольника, убедиться в том, что сумма углов треугольника равна 180°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Содержимое 4" descr="Буфер обмена01.jpg"/>
          <p:cNvPicPr/>
          <p:nvPr/>
        </p:nvPicPr>
        <p:blipFill>
          <a:blip r:embed="rId1"/>
          <a:stretch/>
        </p:blipFill>
        <p:spPr>
          <a:xfrm>
            <a:off x="4405320" y="785880"/>
            <a:ext cx="3076560" cy="5410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Рисунок 1" descr="005.jpg"/>
          <p:cNvPicPr/>
          <p:nvPr/>
        </p:nvPicPr>
        <p:blipFill>
          <a:blip r:embed="rId1"/>
          <a:stretch/>
        </p:blipFill>
        <p:spPr>
          <a:xfrm>
            <a:off x="285840" y="1785960"/>
            <a:ext cx="8589960" cy="2600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23623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Используя готовый чертеж, докажите теорему о сумме углов треугольник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Содержимое 5" descr="006.jpg"/>
          <p:cNvPicPr/>
          <p:nvPr/>
        </p:nvPicPr>
        <p:blipFill>
          <a:blip r:embed="rId1"/>
          <a:stretch/>
        </p:blipFill>
        <p:spPr>
          <a:xfrm>
            <a:off x="3214800" y="1928880"/>
            <a:ext cx="551016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Рисунок 2" descr="007.jpg"/>
          <p:cNvPicPr/>
          <p:nvPr/>
        </p:nvPicPr>
        <p:blipFill>
          <a:blip r:embed="rId1"/>
          <a:stretch/>
        </p:blipFill>
        <p:spPr>
          <a:xfrm>
            <a:off x="857160" y="857160"/>
            <a:ext cx="7405920" cy="408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Рисунок 3" descr="008.jpg"/>
          <p:cNvPicPr/>
          <p:nvPr/>
        </p:nvPicPr>
        <p:blipFill>
          <a:blip r:embed="rId1"/>
          <a:stretch/>
        </p:blipFill>
        <p:spPr>
          <a:xfrm>
            <a:off x="857160" y="1428840"/>
            <a:ext cx="7380360" cy="3628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Рисунок 2" descr="009.jpg"/>
          <p:cNvPicPr/>
          <p:nvPr/>
        </p:nvPicPr>
        <p:blipFill>
          <a:blip r:embed="rId1"/>
          <a:stretch/>
        </p:blipFill>
        <p:spPr>
          <a:xfrm>
            <a:off x="785880" y="1500120"/>
            <a:ext cx="7624800" cy="3357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6:19:27Z</dcterms:created>
  <dc:creator>Fry</dc:creator>
  <dc:description/>
  <dc:language>en-US</dc:language>
  <cp:lastModifiedBy>КарМаН</cp:lastModifiedBy>
  <dcterms:modified xsi:type="dcterms:W3CDTF">2012-01-17T06:57:00Z</dcterms:modified>
  <cp:revision>36</cp:revision>
  <dc:subject/>
  <dc:title>ТЕМА  УРОКА</dc:title>
</cp:coreProperties>
</file>