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9B5-BBE8-4619-A388-069017C0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887-2CBC-41DC-A4BD-ABA21AC9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FFFB7-4268-4AB5-8332-9CF955D3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685A2-001E-4ADB-A5E3-B834EA74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8BF50-F3D0-4397-966C-D6BB629E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4413B-9763-4E44-A43E-D78499B2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C5D52-4D9F-4CC1-8C16-632FA94E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F0E09-FD7D-4F05-8699-9D886B4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37B71-A187-4D4F-8E12-255958CB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CF818-117C-4BE0-93F9-46EC5140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23830-3211-49D7-8BE9-140C9B3E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8C973-5AF0-45B9-AC93-0DAE8931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F78-3C8C-46B8-A9B6-18D9F9FA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30C08-4D84-4EE3-B4C1-4F6C15BF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A2B39-688B-476C-9E39-7B7F2042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3E0EA-A39D-4D6D-8C29-37B09EE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88107-A527-4639-B23F-3C09B440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C722D-AE26-4437-B6F7-0C1DAF3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63E37-C60A-4F28-8F92-76F7A039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337D4-5928-4062-8F73-19F6391C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A4BE2-E77B-412A-B43B-2F5987D0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1453C-DE04-4BFF-8174-79D6EC8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07D01-D348-4DEF-BB48-60BAEA70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B26-6576-4ABB-A07A-27CEBA4F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7A6D7-F814-4FCD-B026-A1A42AA6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DAD2B-83A7-454A-AC39-0B64A902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C771F-A3AD-469E-A385-9AB44D1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89AF8-2DDB-41A2-B41F-C4FBDBB4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FF476-1E81-4635-9AD0-06ED38A6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CA66D-CFCB-40D5-AB53-CE14FD7C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266F8-99BF-488A-AA2D-96FD12CE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78EA9-EF4C-44B4-9A05-55D667A2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A51C3-1149-411A-81BE-D26E7AE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C6205-D1D8-4692-898B-1E4A74A2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2B89-4755-48DE-9AF4-5F724B6E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55B9A-E519-4F6E-B0A9-B2596CC9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70164-C574-4BF4-8B75-242105BA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F8F1-9B56-4D12-B8D2-62A2BBEE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81F13-728E-4637-9A74-2E4B7524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C30C0-2178-4BD3-8C4E-D1535CE1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DB50D-8DCF-4369-93F9-41C43031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C2183-114E-4800-B012-B5A1828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ABBE0-1295-4E61-8E32-FF98A3D0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17309-7B1E-4A32-B3D9-FD6690F7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5CBD9-E6DD-470A-B997-1F47F28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7328-EB80-4B10-AE51-0791C9E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0F20F-B593-41A9-923A-621F916A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26E76-9AF0-4ADC-BA25-1138E9A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4EC38-60C4-45E3-98C3-92A197A9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1B259-EBC7-405B-880B-3C6CF3E0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46C8A-7D15-4D1E-AA08-C1FB2656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EA62-ECE8-47A8-9B9D-F01D86AF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412B-1B49-450F-AB3F-9EFE94A3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3FDB-9763-41F3-84A8-FB8E7F4D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1C72-105C-443F-B454-846B0B6B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6067-25CA-4D6D-9940-182077DD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7B9-7F68-4B22-B9DD-6385CFB9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CA48-12E2-4DF9-8F5D-9DBFFB0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0661-5051-47A3-9468-F706A3F6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DF21-8732-460A-B7C2-7749B17F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2FDA-096C-463C-88C4-21974FCD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94A1-AF9B-4126-B889-8C097BEC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1791-11F9-42F1-8E12-ED5F4006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9A06-1CC4-4D3C-A85E-2FF328F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83D2-4BD7-494D-AB67-1C248711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A96F-840A-475A-9207-AE4B7102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FC46-56B4-4D74-A16B-BBBD9B2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769-E1E3-46B3-BC3B-0353C6AF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0F5DD-1D4F-427D-B51C-56B40555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26C6-D740-4FAE-87D7-5CEA2F03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44D2-5A0C-4F37-9104-CEC713F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798C-8F1C-4AE3-B158-3C692EC5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EF35-9411-4E08-A597-0B27C564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B5DF-6C94-4731-B969-35CBA0C6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80AB-7849-4F15-90B8-60D0BC55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3D997-2264-495F-90A1-1E0747BB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ED517-2573-4B27-9FCB-0821D717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AF53-BCF4-4074-A656-D359ACC1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698-462C-43DE-A7BD-7E8AB195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72E3-D27B-4E53-8360-68306ED0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74F6-83C8-405D-90B7-3044532E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03672-BF72-446E-8F9E-69E95894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90F6-A0FE-478E-92BF-D65A78A0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C7D5-CABE-4BC3-9A08-74F7709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D058-C611-45DC-8A83-E59D696F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DA4E-5274-4359-80E4-8DC0E770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54D4-82D5-45C9-9960-6FCC92C2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BC54-5BF3-41D9-ACED-C1F169EF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4790-3B5E-4193-B605-9CCEE6D0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B75-300A-4DAE-BD5E-B877498B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C0FA-6005-47C4-B909-943EB838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A87D2-391C-482D-B503-878E790D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37B07-9F34-4D1B-93EF-AEFEF07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B68DC-0E4D-4140-BD7F-D564B11A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2BB11-A60D-481B-A654-2A9005E1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BB28-9D58-4F7A-864A-F96EE5A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09920-A66C-4A9B-8263-5D17F20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71CD-F766-4D17-BD3F-134052E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83CE-884F-4A42-BD27-B19EB831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20D75-62B5-4F61-9B48-9E4C00D6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280-AB29-4577-A5E1-29D1116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C610-DD08-4806-BFB6-6C09A019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9359-37A3-4FCA-BC61-6D0746F0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60689-A5D8-4016-B637-B72A3B04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ECBFA-9F4F-43AC-ACF0-93F83405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F4066-0457-4B0A-B2A5-CDCB711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8577F-4913-460E-B3BE-6C7B2D02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1C650-25D0-4B47-874B-D7E62672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5F4FB-6401-4A94-A8F4-11E8698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1FE6-595E-46B1-8273-B0E70CA0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273D6-D6BE-4DFD-A2FF-FA873B54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185-6122-4EC0-A0B3-BCA166B2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EE4AB-880C-468A-BA4F-615C9CFE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02D74-D78B-4356-AA5E-279F0033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1820C-7B1E-4315-AB83-DA904DE7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AB296-9EB9-4FE1-84F4-140D2269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60B3C-F6BE-4220-8707-3357C481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AA3D1-D5E2-47F8-A9FA-541DDD3F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A9F3-0863-4BEC-BBBF-DE8335BA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988EC-04EB-4728-9C99-B8A769F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2996D-07E5-4C71-9E3B-94344430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5C3A7-9A7A-498D-BEB0-040DF7D5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B2C-E14B-4697-8C87-07FFB6B4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D860-BB5D-4F2A-91BD-A08BFA7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BD2A-0B4E-4F33-829A-8AEC8B15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276D3-9004-4D73-92AD-86391084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0B36C-5E2E-4C5D-A39F-130884F1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AB4E-ADFE-4414-84AF-89163C71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2912C-1BDE-4F13-8633-51F9C562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1DB03-478F-4428-AC46-9FF5913A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30897-0487-46C4-89F3-49FA6F8F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3A186-14F1-4D5D-A334-4B31BDA5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565A3-9AB5-48CD-B07E-260B34F8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62FD-D849-4377-A04D-A42652C1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591FF-35B8-4C03-9D4A-1667A7BA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331BA-7E6A-45DE-8910-7423E1A4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9E770-436F-49B2-A047-3BF36662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DE3CC-69DF-4E1F-B666-A439BD94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EA87B-ED88-4CB4-A27E-46ABF34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49F33-B6F4-4017-A8C3-49D8AED5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B6B6B-362A-4E26-9C7C-0E450BE9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8D2D5-1BAC-4371-B879-CAF80FB8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20C88-FDED-4E9E-9A9E-D8784823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AFA89-59A0-43E9-B12F-FC353C43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C248-050F-4BF7-932E-A2D165FD4F72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F577-6D2A-4599-B64C-33A5488A8211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396A-A1E5-419D-A4D4-A7C52F8A81F0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2564-D0F3-4191-AD4D-A1E519540DAC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C986-6B25-43CB-B5D9-9D2012B42C44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5AC7-1661-4FC4-991B-6F7CAAF419DF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D3FF-9794-41D4-B9A1-4FE28F90D422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22E0-BBA6-47DA-8CE6-2E1A337E20F6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3035-E717-4C86-93EF-E1EA5B50BDEE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57CC-7756-412F-9B1D-ADD0FA473777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5A3D-6572-43BB-B552-FAD5247FFFF5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008B-5286-4400-A745-78A579578104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БОУ СОШ №1358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ЕПИФАНОВ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ТАТЬЯНА НИКОЛАЕВ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891a7"/>
                </a:solidFill>
                <a:latin typeface="Georgia"/>
              </a:rPr>
              <a:t>Сумма углов треугольника</a:t>
            </a:r>
            <a:endParaRPr b="0" lang="en-US" sz="6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1" name="Содержимое 3" descr="010.jpg"/>
          <p:cNvPicPr/>
          <p:nvPr/>
        </p:nvPicPr>
        <p:blipFill>
          <a:blip r:embed="rId1"/>
          <a:stretch/>
        </p:blipFill>
        <p:spPr>
          <a:xfrm>
            <a:off x="500040" y="2571840"/>
            <a:ext cx="8145360" cy="2279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3" name="Содержимое 5" descr="011.jpg"/>
          <p:cNvPicPr/>
          <p:nvPr/>
        </p:nvPicPr>
        <p:blipFill>
          <a:blip r:embed="rId1"/>
          <a:stretch/>
        </p:blipFill>
        <p:spPr>
          <a:xfrm>
            <a:off x="1243080" y="1643040"/>
            <a:ext cx="6619680" cy="4505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5" name="Содержимое 4" descr="012.jpg"/>
          <p:cNvPicPr/>
          <p:nvPr/>
        </p:nvPicPr>
        <p:blipFill>
          <a:blip r:embed="rId1"/>
          <a:stretch/>
        </p:blipFill>
        <p:spPr>
          <a:xfrm>
            <a:off x="285840" y="2214720"/>
            <a:ext cx="8572320" cy="3119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Рисунок 1" descr="013.jpg"/>
          <p:cNvPicPr/>
          <p:nvPr/>
        </p:nvPicPr>
        <p:blipFill>
          <a:blip r:embed="rId1"/>
          <a:stretch/>
        </p:blipFill>
        <p:spPr>
          <a:xfrm>
            <a:off x="500040" y="1071720"/>
            <a:ext cx="8299440" cy="392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Рисунок 2" descr="013.jpg"/>
          <p:cNvPicPr/>
          <p:nvPr/>
        </p:nvPicPr>
        <p:blipFill>
          <a:blip r:embed="rId1"/>
          <a:stretch/>
        </p:blipFill>
        <p:spPr>
          <a:xfrm>
            <a:off x="357120" y="928800"/>
            <a:ext cx="8415360" cy="435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Рисунок 1" descr="015.jpg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401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Рисунок 3" descr="014.jpg"/>
          <p:cNvPicPr/>
          <p:nvPr/>
        </p:nvPicPr>
        <p:blipFill>
          <a:blip r:embed="rId1"/>
          <a:stretch/>
        </p:blipFill>
        <p:spPr>
          <a:xfrm>
            <a:off x="428760" y="928800"/>
            <a:ext cx="8305560" cy="452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31" name="Содержимое 6" descr="015_1.jpg"/>
          <p:cNvPicPr/>
          <p:nvPr/>
        </p:nvPicPr>
        <p:blipFill>
          <a:blip r:embed="rId1"/>
          <a:stretch/>
        </p:blipFill>
        <p:spPr>
          <a:xfrm>
            <a:off x="1116000" y="2617920"/>
            <a:ext cx="2409840" cy="2190600"/>
          </a:xfrm>
          <a:prstGeom prst="rect">
            <a:avLst/>
          </a:prstGeom>
          <a:ln w="0">
            <a:noFill/>
          </a:ln>
        </p:spPr>
      </p:pic>
      <p:pic>
        <p:nvPicPr>
          <p:cNvPr id="632" name="Содержимое 7" descr="015_2.jpg"/>
          <p:cNvPicPr/>
          <p:nvPr/>
        </p:nvPicPr>
        <p:blipFill>
          <a:blip r:embed="rId2"/>
          <a:stretch/>
        </p:blipFill>
        <p:spPr>
          <a:xfrm>
            <a:off x="4800600" y="2019240"/>
            <a:ext cx="4038480" cy="3386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 треугольника равен 96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с углом 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 ∠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7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 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треугольника равен 108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 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68°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Самостоятельная работа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  <a:ea typeface="Times New Roman"/>
              </a:rPr>
              <a:t>Дополнительные задачи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равнобедренном треугольни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N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снованием МР  и угло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равным 40°, проведена высота МН. Найдите  ∠РМ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ы биссектрисы СК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, пересекающиеся в точ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причем     ∠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°. Найдите  ∠ С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572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271c"/>
                </a:solidFill>
                <a:latin typeface="Georgia"/>
              </a:rPr>
              <a:t>УРОК ЗАКРЕПЛЕНИЯ ЗНАНИЙ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ТИП  УРОКА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42560" y="1642680"/>
            <a:ext cx="4040280" cy="7333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Найти угол АВ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857480" y="142848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Доказать, что  АВ || С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Домашнее задание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3" name="Содержимое 9" descr="016_1.jpg"/>
          <p:cNvPicPr/>
          <p:nvPr/>
        </p:nvPicPr>
        <p:blipFill>
          <a:blip r:embed="rId1"/>
          <a:stretch/>
        </p:blipFill>
        <p:spPr>
          <a:xfrm>
            <a:off x="285840" y="3417840"/>
            <a:ext cx="4214880" cy="1849320"/>
          </a:xfrm>
          <a:prstGeom prst="rect">
            <a:avLst/>
          </a:prstGeom>
          <a:ln w="0">
            <a:noFill/>
          </a:ln>
        </p:spPr>
      </p:pic>
      <p:pic>
        <p:nvPicPr>
          <p:cNvPr id="644" name="Содержимое 11" descr="016_2.jpg"/>
          <p:cNvPicPr/>
          <p:nvPr/>
        </p:nvPicPr>
        <p:blipFill>
          <a:blip r:embed="rId2"/>
          <a:stretch/>
        </p:blipFill>
        <p:spPr>
          <a:xfrm>
            <a:off x="4800600" y="2568600"/>
            <a:ext cx="4038480" cy="3627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5720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ПРОВЕРИТЬ УСВОЕНИЕ      ДОКАЗАТЕЛЬСТВА ТЕОРЕ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НАУЧИТЬСЯ ПРИМЕНЕНИЮ ТЕОРЕМЫ К РЕШЕНИЮ ЗАДАЧ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ЦЕЛИ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ак, имея в наличии три равных треугольника, убедиться в том, что сумма углов треугольника равна 180°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Содержимое 4" descr="Буфер обмена01.jpg"/>
          <p:cNvPicPr/>
          <p:nvPr/>
        </p:nvPicPr>
        <p:blipFill>
          <a:blip r:embed="rId1"/>
          <a:stretch/>
        </p:blipFill>
        <p:spPr>
          <a:xfrm>
            <a:off x="4405320" y="785880"/>
            <a:ext cx="3076560" cy="5410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Рисунок 1" descr="005.jpg"/>
          <p:cNvPicPr/>
          <p:nvPr/>
        </p:nvPicPr>
        <p:blipFill>
          <a:blip r:embed="rId1"/>
          <a:stretch/>
        </p:blipFill>
        <p:spPr>
          <a:xfrm>
            <a:off x="285840" y="1785960"/>
            <a:ext cx="8589960" cy="260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спользуя готовый чертеж, докажите теорему о сумме углов треугольни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Содержимое 5" descr="006.jpg"/>
          <p:cNvPicPr/>
          <p:nvPr/>
        </p:nvPicPr>
        <p:blipFill>
          <a:blip r:embed="rId1"/>
          <a:stretch/>
        </p:blipFill>
        <p:spPr>
          <a:xfrm>
            <a:off x="3214800" y="1928880"/>
            <a:ext cx="55101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Рисунок 2" descr="007.jpg"/>
          <p:cNvPicPr/>
          <p:nvPr/>
        </p:nvPicPr>
        <p:blipFill>
          <a:blip r:embed="rId1"/>
          <a:stretch/>
        </p:blipFill>
        <p:spPr>
          <a:xfrm>
            <a:off x="857160" y="857160"/>
            <a:ext cx="7405920" cy="408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Рисунок 3" descr="008.jpg"/>
          <p:cNvPicPr/>
          <p:nvPr/>
        </p:nvPicPr>
        <p:blipFill>
          <a:blip r:embed="rId1"/>
          <a:stretch/>
        </p:blipFill>
        <p:spPr>
          <a:xfrm>
            <a:off x="857160" y="1428840"/>
            <a:ext cx="7380360" cy="362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2" descr="009.jpg"/>
          <p:cNvPicPr/>
          <p:nvPr/>
        </p:nvPicPr>
        <p:blipFill>
          <a:blip r:embed="rId1"/>
          <a:stretch/>
        </p:blipFill>
        <p:spPr>
          <a:xfrm>
            <a:off x="785880" y="1500120"/>
            <a:ext cx="7624800" cy="335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19:27Z</dcterms:created>
  <dc:creator>Fry</dc:creator>
  <dc:description/>
  <dc:language>en-US</dc:language>
  <cp:lastModifiedBy>КарМаН</cp:lastModifiedBy>
  <dcterms:modified xsi:type="dcterms:W3CDTF">2012-01-17T06:57:00Z</dcterms:modified>
  <cp:revision>36</cp:revision>
  <dc:subject/>
  <dc:title>ТЕМА  УРОКА</dc:title>
</cp:coreProperties>
</file>