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D4E8-71AA-4044-84C3-6A2DA077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01F9-1C3D-4598-A1BE-5D638E97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BFDEEB-E126-4E4C-8C80-ABB2BDFA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A00FD4-BF3A-4E23-9E62-21CC516D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7D4C99-67FB-4A03-ACFA-0C98B830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3EEDCB-6772-472C-AAA0-1FB07495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8A094A-5E94-45F3-BFF6-CFEDDC06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452D2C-10DE-477D-B382-E0B3CF07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74B679-7D25-429E-8193-BBAE7DB1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15DBBD-7F92-401A-8B63-07260F8F6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6FE035-38EF-49D0-8161-2A1A17FAD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F5A62B-70ED-4131-87F8-EF8BEF3F5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8653-F715-4EF9-9B1B-FE1EECE20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D8651C-3F2E-48AC-B253-506B8AEC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E1ACAF-7FF2-4CE0-A448-B70580AB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4CA038-C997-45B8-A699-5A2C105A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4B81E9-6029-4747-8123-0D48AE43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727BBC-1E70-41A8-8222-0C28C4E3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F21640-D7B0-4034-B745-D15C400E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559C75-C13C-4563-A5FD-70DC3CF9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AC20B6-8F06-4A3F-9290-C47B72AF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26F3D1-F82F-40AB-898A-364146BF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EA039F-85DC-4865-83CA-383FC8C51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6398-89EC-44DF-A53D-827C6ECE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C2084A-808B-4B59-82DF-E40F73AB2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D6996-B4F0-4B05-9A51-67A0D083E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D1F96-88A7-4CCB-A5B4-5C9AF889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A7E45-80CC-4273-996D-9E88B722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AF098-6B99-4D76-A12A-8FD7A6DC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D2F22-6E11-4719-9302-ABD18AA5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D3D79-0783-4BAC-966D-ED726F1D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5D2F5-B1D5-4429-BEFD-5F21141A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BD247-23C6-4D81-A256-D258C053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7455C-6A27-4594-A058-378A09A9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75C2-E418-4103-8DF9-5619FD3D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8FF17-2C78-4C6E-9909-B8157AEB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C5A6B-5F8B-444A-9D2D-15B0505EE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E8D8F-9F63-4B26-AB6A-6E09327EE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0B1C2E-115D-4C9D-9DF5-0CD140202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873292-A834-49B7-94CF-32AA2E3D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CF1C9C-FA61-440F-8F3F-F43C6F54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17960A-98D1-4257-B7E1-82BFCAD0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26CEB9-A7AF-443A-9650-4CEC3CCD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8A30BC-A107-434F-9358-2ADC213D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806A71-8E9D-4EAE-A183-C2AA7103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E353-BAF0-4C8F-84F3-45954CE3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8A44BB-E1D8-4F0D-B9E7-45B767F4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6C042E-8EE1-4E30-82AB-119C4E7E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94971A-B628-4EFF-8AAF-C72F03D1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7ADE83-E501-4DE5-A144-5ECDC6EBD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E678B1-22C9-4E9E-84EC-47B552424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E62D-1870-4367-8B3D-B7991F5D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987A-3DF7-4DB9-BA95-2E4A0BE3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17E6-8291-4AEC-87BB-AF7D2AE3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3968-E56B-4218-9858-8C7643A9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ABAE-563D-430D-B01B-FDAAC9AD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6863-DC72-4359-AD95-1AAF6BEA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18DF-55CC-4D68-860C-1FDDACF9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4EC6-3CC0-483E-AF52-56687B61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26C3-E9BB-45F9-AC18-8AF0F339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3FED-F07E-4FCE-B536-8F51C31E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A965-F38C-437A-B6BB-28299EC01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023D7-A647-4EB6-BED6-354B4001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CA14A-044B-4575-8F4B-C2F415F2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AACB9-E5F4-447D-9936-ABB0AE52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54C42-C1B4-40E1-85CE-D9F38592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0C9AB-2C92-4600-8863-23B0BFC6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6CFF-4395-4692-B801-468C4856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AB796-22CF-4DA6-915C-FDDD7A8A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D629C-B5D0-4FBD-978B-678ACE12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06B89-9689-4CB0-968A-0314FDD3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88CC7-E47E-4667-801C-BF9C546E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441EE-3F89-4328-BD22-B55A2911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9298D-06A3-45D0-BB55-8EA9D9A9B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ED1AE-81A7-4981-89D2-B033A3B13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262AE-23CB-4729-9CD4-F8DD035F4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2287A-82DA-41DC-87E0-99EBEE43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415A4-37AD-4A04-9C8A-6BF1C32C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7A88-A74A-4A77-86BD-C2CDAB03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540BF-9E7A-4666-ACEF-CC3573B2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52A46-4653-478A-961B-176DE1AE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6D100-A9D4-4321-A000-94AF9CDC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8EC4E-63C9-476D-92BE-FCA2250E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83E2D-601F-4904-8B4B-A08E17BA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29FAA-2EC7-4085-B61B-02723079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7FCF5-DEA4-4E51-9BDC-A6DF8892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3F63B-0987-4414-91CD-4790385C8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13A6F-E68A-459A-AE49-8EA62C80E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2D76B-E9C3-41DB-9789-21561CF0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3258-4366-4823-85F3-54BB220E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65016-B3E6-43FE-BD0D-6DFC6DDE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03F70-709F-44B7-8C1B-E1461F17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BF72E-6988-4658-A1E0-0D915FA2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A2379-F3C9-452F-B156-5A0AAE47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AC9C3-A18F-4967-A3BF-26AB3158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D4A17-D2B2-4963-96C7-6F31409C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768CE-EC7A-4F26-8E8A-ACD42101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1A882-5E52-4308-82E3-42C23553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E9DAF-84A6-4348-BEAF-F1F3FDC6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BDC40-CCEF-4E6E-BC17-3F964FB1C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379A-BE38-4820-B32E-F66A7BEC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7A33B-53B1-412F-A509-A873E3877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78149-9526-41C4-AEEF-8441E2351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D67F9-D108-4E5E-9234-D721A63D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78D2C-5477-4A36-93FB-FC30EA2B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FF3DF-33E4-44F6-8F66-49C6726A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32210-12A4-4B67-95D6-C88BC17D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0FA79-C002-4E28-AA0A-A0D26142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48E6F-AF9F-40BD-93F2-818065FE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FCB13-7AC0-401C-BB96-994096AB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D12EC-A183-4C96-B837-CD3E480B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672F-7A91-4816-B100-B3E0D9ED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018CD-0F47-4648-BB54-813F6DBF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1FA37-48F2-4C99-A2FF-7852E8B3E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F3DE8-C6B8-4ACC-963B-B1E10CB40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2F6E1-052C-45B9-B403-26C591B0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C079D-5A4C-478A-BB3E-EB71A144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FF940-F92D-4333-A7D3-F4834023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B27BA-2E75-4DA9-A4DB-9B424BCB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95AF1-E1FC-4869-AEBC-02E5A105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8516B-DED4-4BF6-9F5E-FB34613C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EB241-B6C4-4F6C-B92D-046CB0E6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17C3-9EE1-47F5-9F86-5B306A8C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98D06-E937-4135-9050-9A10FD4E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9D2FA-6494-407A-8675-AF7185BE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DFADC-8B35-4DA1-9547-9855264D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FA63C-33D4-43AF-920E-6762AB8F0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C136B-6631-4FDE-BEEB-CB7343D97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06E9D-8D16-43D6-86FF-7CE6D1FC4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7933A-8535-42C2-8183-F40127FC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DC4BC-3135-466C-ADC4-0F1D9B6A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2A7AF-BB73-4EFA-AB63-EFC8E83A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9F493-F044-40B9-8A1B-C7E13C93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E8EE-AED2-4B31-BCFD-F540B433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5EB00-9F66-4D78-AAF9-F78EA385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427BF-58BB-4FBE-90F1-C7FD2947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4C983-9889-4631-B3FB-EFE70CB7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96817-2F42-4213-82F0-4D9E332C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B425D-C1C9-44B4-9D89-F9BB3D32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EE79B-4DD3-485D-80E1-4FE57356F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69B6F-8C1F-46B8-AC43-A42265C0A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A188C8-2194-4451-B4F8-5F48BA77F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57F35B-5017-40CB-BB79-83F70EDE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E24EF5-57FE-406A-9C3B-F804242F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8641-C62E-4504-B63E-F5F28C717AF4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1B4C-6C2B-4228-9ACE-D8ED49AAF51A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BDD4-719F-418E-A862-B86812431907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8900-A1BD-480B-9166-C1BE0476A978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EB7F-B396-4E82-B0FB-4C9B088BB371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929E-2630-4FB3-B4D8-FA9A59000ABF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87EB-E719-485E-9C05-F000B49E8767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4f271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1639-E1EB-4EF9-AC76-4EBC520BD041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4f271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7D4D-2633-450D-BB1C-57D89F16747D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07A7-33C3-44AE-91CE-4BCEDB404D27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BD0A-8177-4986-A6FD-9323CDF22B81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938F-07BF-4A04-9827-E3948DB58EA6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57200" y="3286080"/>
            <a:ext cx="6400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ГБОУ СОШ №1358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УЧИТЕЛЬ МАТЕМАТИК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ЕПИФАНОВА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ТАТЬЯНА НИКОЛАЕВН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891a7"/>
                </a:solidFill>
                <a:latin typeface="Georgia"/>
              </a:rPr>
              <a:t>Сумма углов треугольника</a:t>
            </a:r>
            <a:endParaRPr b="0" lang="en-US" sz="6600" spc="-1" strike="noStrike">
              <a:solidFill>
                <a:srgbClr val="ab2627"/>
              </a:solidFill>
              <a:latin typeface="Georgia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56760" y="64296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b2627"/>
                </a:solidFill>
                <a:latin typeface="Georgia"/>
              </a:rPr>
              <a:t>Найти неизвестные углы в ΔАВС</a:t>
            </a:r>
            <a:br>
              <a:rPr sz="3600"/>
            </a:br>
            <a:endParaRPr b="0" lang="en-US" sz="36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621" name="Содержимое 3" descr="010.jpg"/>
          <p:cNvPicPr/>
          <p:nvPr/>
        </p:nvPicPr>
        <p:blipFill>
          <a:blip r:embed="rId1"/>
          <a:stretch/>
        </p:blipFill>
        <p:spPr>
          <a:xfrm>
            <a:off x="500040" y="2571840"/>
            <a:ext cx="8145360" cy="22795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56760" y="64296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b2627"/>
                </a:solidFill>
                <a:latin typeface="Georgia"/>
              </a:rPr>
              <a:t>Найти неизвестные углы в ΔАВС</a:t>
            </a:r>
            <a:br>
              <a:rPr sz="3600"/>
            </a:br>
            <a:endParaRPr b="0" lang="en-US" sz="36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623" name="Содержимое 5" descr="011.jpg"/>
          <p:cNvPicPr/>
          <p:nvPr/>
        </p:nvPicPr>
        <p:blipFill>
          <a:blip r:embed="rId1"/>
          <a:stretch/>
        </p:blipFill>
        <p:spPr>
          <a:xfrm>
            <a:off x="1243080" y="1643040"/>
            <a:ext cx="6619680" cy="45054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Решите задачу.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625" name="Содержимое 4" descr="012.jpg"/>
          <p:cNvPicPr/>
          <p:nvPr/>
        </p:nvPicPr>
        <p:blipFill>
          <a:blip r:embed="rId1"/>
          <a:stretch/>
        </p:blipFill>
        <p:spPr>
          <a:xfrm>
            <a:off x="285840" y="2214720"/>
            <a:ext cx="8572320" cy="31194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Рисунок 1" descr="013.jpg"/>
          <p:cNvPicPr/>
          <p:nvPr/>
        </p:nvPicPr>
        <p:blipFill>
          <a:blip r:embed="rId1"/>
          <a:stretch/>
        </p:blipFill>
        <p:spPr>
          <a:xfrm>
            <a:off x="500040" y="1071720"/>
            <a:ext cx="8299440" cy="3927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Рисунок 2" descr="013.jpg"/>
          <p:cNvPicPr/>
          <p:nvPr/>
        </p:nvPicPr>
        <p:blipFill>
          <a:blip r:embed="rId1"/>
          <a:stretch/>
        </p:blipFill>
        <p:spPr>
          <a:xfrm>
            <a:off x="357120" y="928800"/>
            <a:ext cx="8415360" cy="4357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Рисунок 1" descr="015.jpg"/>
          <p:cNvPicPr/>
          <p:nvPr/>
        </p:nvPicPr>
        <p:blipFill>
          <a:blip r:embed="rId1"/>
          <a:stretch/>
        </p:blipFill>
        <p:spPr>
          <a:xfrm>
            <a:off x="357120" y="1071720"/>
            <a:ext cx="8429760" cy="4019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Рисунок 3" descr="014.jpg"/>
          <p:cNvPicPr/>
          <p:nvPr/>
        </p:nvPicPr>
        <p:blipFill>
          <a:blip r:embed="rId1"/>
          <a:stretch/>
        </p:blipFill>
        <p:spPr>
          <a:xfrm>
            <a:off x="428760" y="928800"/>
            <a:ext cx="8305560" cy="4524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b2627"/>
                </a:solidFill>
                <a:latin typeface="Georgia"/>
              </a:rPr>
              <a:t>Решите задачу.</a:t>
            </a:r>
            <a:endParaRPr b="0" lang="en-US" sz="36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631" name="Содержимое 6" descr="015_1.jpg"/>
          <p:cNvPicPr/>
          <p:nvPr/>
        </p:nvPicPr>
        <p:blipFill>
          <a:blip r:embed="rId1"/>
          <a:stretch/>
        </p:blipFill>
        <p:spPr>
          <a:xfrm>
            <a:off x="1116000" y="2617920"/>
            <a:ext cx="2409840" cy="2190600"/>
          </a:xfrm>
          <a:prstGeom prst="rect">
            <a:avLst/>
          </a:prstGeom>
          <a:ln w="0">
            <a:noFill/>
          </a:ln>
        </p:spPr>
      </p:pic>
      <p:pic>
        <p:nvPicPr>
          <p:cNvPr id="632" name="Содержимое 7" descr="015_2.jpg"/>
          <p:cNvPicPr/>
          <p:nvPr/>
        </p:nvPicPr>
        <p:blipFill>
          <a:blip r:embed="rId2"/>
          <a:stretch/>
        </p:blipFill>
        <p:spPr>
          <a:xfrm>
            <a:off x="4800600" y="2019240"/>
            <a:ext cx="4038480" cy="33861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Georgia"/>
                <a:ea typeface="Times New Roman"/>
              </a:rPr>
              <a:t>Вариант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eorgia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Georgia"/>
                <a:ea typeface="Times New Roman"/>
              </a:rPr>
              <a:t>Вариант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eorgia"/>
                <a:ea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1. Один из углов равнобедренного треугольника равен 96°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Найдите два других угла треугольника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2. В треугольнике С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Е с углом ∠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E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= 32° проведена биссектриса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CF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, ∠ С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FD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 = 72°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Найдите  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800600" y="2471760"/>
            <a:ext cx="403848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1. Один из углов равнобедренного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треугольника равен 108°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Найдите два других угла треугольника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2. В треугольнике С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Е проведена биссектриса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CF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∠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 = 68°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E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= 32°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Найдите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∠С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FD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b2627"/>
                </a:solidFill>
                <a:latin typeface="Georgia"/>
              </a:rPr>
              <a:t>Самостоятельная работа.</a:t>
            </a:r>
            <a:endParaRPr b="0" lang="en-US" sz="3600" spc="-1" strike="noStrike">
              <a:solidFill>
                <a:srgbClr val="ab2627"/>
              </a:solidFill>
              <a:latin typeface="Georgia"/>
            </a:endParaRPr>
          </a:p>
        </p:txBody>
      </p:sp>
    </p:spTree>
  </p:cSld>
  <p:transition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b2627"/>
                </a:solidFill>
                <a:latin typeface="Georgia"/>
                <a:ea typeface="Times New Roman"/>
              </a:rPr>
              <a:t>Дополнительные задачи.</a:t>
            </a:r>
            <a:endParaRPr b="0" lang="en-US" sz="36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В равнобедренном треугольник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MNP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основанием МР  и угло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 равным 40°, проведена высота МН. Найдите  ∠РМН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2. В треугольнике 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Е проведены биссектрисы СК 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Р, пересекающиеся в точк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, причем     ∠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DF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К =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55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°. Найдите  ∠ С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1357200" y="3142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f271c"/>
                </a:solidFill>
                <a:latin typeface="Georgia"/>
              </a:rPr>
              <a:t>УРОК ЗАКРЕПЛЕНИЯ ЗНАНИЙ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891a7"/>
                </a:solidFill>
                <a:latin typeface="Georgia"/>
              </a:rPr>
              <a:t>ТИП  УРОКА</a:t>
            </a:r>
            <a:br>
              <a:rPr sz="3800"/>
            </a:br>
            <a:endParaRPr b="0" lang="en-US" sz="7200" spc="-1" strike="noStrike">
              <a:solidFill>
                <a:srgbClr val="ab2627"/>
              </a:solidFill>
              <a:latin typeface="Georgia"/>
            </a:endParaRPr>
          </a:p>
        </p:txBody>
      </p:sp>
    </p:spTree>
  </p:cSld>
  <p:transition>
    <p:push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/>
          </p:nvPr>
        </p:nvSpPr>
        <p:spPr>
          <a:xfrm>
            <a:off x="142560" y="1642680"/>
            <a:ext cx="4040280" cy="73332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Найти угол АВС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857480" y="142848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Доказать, что  АВ || СМ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b2627"/>
                </a:solidFill>
                <a:latin typeface="Georgia"/>
              </a:rPr>
              <a:t>Домашнее задание.</a:t>
            </a:r>
            <a:endParaRPr b="0" lang="en-US" sz="36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643" name="Содержимое 9" descr="016_1.jpg"/>
          <p:cNvPicPr/>
          <p:nvPr/>
        </p:nvPicPr>
        <p:blipFill>
          <a:blip r:embed="rId1"/>
          <a:stretch/>
        </p:blipFill>
        <p:spPr>
          <a:xfrm>
            <a:off x="285840" y="3417840"/>
            <a:ext cx="4214880" cy="1849320"/>
          </a:xfrm>
          <a:prstGeom prst="rect">
            <a:avLst/>
          </a:prstGeom>
          <a:ln w="0">
            <a:noFill/>
          </a:ln>
        </p:spPr>
      </p:pic>
      <p:pic>
        <p:nvPicPr>
          <p:cNvPr id="644" name="Содержимое 11" descr="016_2.jpg"/>
          <p:cNvPicPr/>
          <p:nvPr/>
        </p:nvPicPr>
        <p:blipFill>
          <a:blip r:embed="rId2"/>
          <a:stretch/>
        </p:blipFill>
        <p:spPr>
          <a:xfrm>
            <a:off x="4800600" y="2568600"/>
            <a:ext cx="4038480" cy="3627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357200" y="3071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271c"/>
                </a:solidFill>
                <a:latin typeface="Georgia"/>
              </a:rPr>
              <a:t>- ПРОВЕРИТЬ УСВОЕНИЕ      ДОКАЗАТЕЛЬСТВА ТЕОРЕМ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271c"/>
                </a:solidFill>
                <a:latin typeface="Georgia"/>
              </a:rPr>
              <a:t>- НАУЧИТЬСЯ ПРИМЕНЕНИЮ ТЕОРЕМЫ К РЕШЕНИЮ ЗАДАЧ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891a7"/>
                </a:solidFill>
                <a:latin typeface="Georgia"/>
              </a:rPr>
              <a:t>ЦЕЛИ</a:t>
            </a:r>
            <a:br>
              <a:rPr sz="3800"/>
            </a:br>
            <a:endParaRPr b="0" lang="en-US" sz="7200" spc="-1" strike="noStrike">
              <a:solidFill>
                <a:srgbClr val="ab2627"/>
              </a:solidFill>
              <a:latin typeface="Georgia"/>
            </a:endParaRPr>
          </a:p>
        </p:txBody>
      </p:sp>
    </p:spTree>
  </p:cSld>
  <p:transition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/>
          </p:nvPr>
        </p:nvSpPr>
        <p:spPr>
          <a:xfrm>
            <a:off x="357120" y="1714320"/>
            <a:ext cx="236232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  <a:ea typeface="Times New Roman"/>
              </a:rPr>
              <a:t>Как, имея в наличии три равных треугольника, убедиться в том, что сумма углов треугольника равна 180° 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3" name="Содержимое 4" descr="Буфер обмена01.jpg"/>
          <p:cNvPicPr/>
          <p:nvPr/>
        </p:nvPicPr>
        <p:blipFill>
          <a:blip r:embed="rId1"/>
          <a:stretch/>
        </p:blipFill>
        <p:spPr>
          <a:xfrm>
            <a:off x="4405320" y="785880"/>
            <a:ext cx="3076560" cy="5410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Рисунок 1" descr="005.jpg"/>
          <p:cNvPicPr/>
          <p:nvPr/>
        </p:nvPicPr>
        <p:blipFill>
          <a:blip r:embed="rId1"/>
          <a:stretch/>
        </p:blipFill>
        <p:spPr>
          <a:xfrm>
            <a:off x="285840" y="1785960"/>
            <a:ext cx="8589960" cy="2600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357120" y="1714320"/>
            <a:ext cx="236232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Используя готовый чертеж, докажите теорему о сумме углов треугольника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6" name="Содержимое 5" descr="006.jpg"/>
          <p:cNvPicPr/>
          <p:nvPr/>
        </p:nvPicPr>
        <p:blipFill>
          <a:blip r:embed="rId1"/>
          <a:stretch/>
        </p:blipFill>
        <p:spPr>
          <a:xfrm>
            <a:off x="3214800" y="1928880"/>
            <a:ext cx="5510160" cy="25146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Рисунок 2" descr="007.jpg"/>
          <p:cNvPicPr/>
          <p:nvPr/>
        </p:nvPicPr>
        <p:blipFill>
          <a:blip r:embed="rId1"/>
          <a:stretch/>
        </p:blipFill>
        <p:spPr>
          <a:xfrm>
            <a:off x="857160" y="857160"/>
            <a:ext cx="7405920" cy="4083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Рисунок 3" descr="008.jpg"/>
          <p:cNvPicPr/>
          <p:nvPr/>
        </p:nvPicPr>
        <p:blipFill>
          <a:blip r:embed="rId1"/>
          <a:stretch/>
        </p:blipFill>
        <p:spPr>
          <a:xfrm>
            <a:off x="857160" y="1428840"/>
            <a:ext cx="7380360" cy="3628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Рисунок 2" descr="009.jpg"/>
          <p:cNvPicPr/>
          <p:nvPr/>
        </p:nvPicPr>
        <p:blipFill>
          <a:blip r:embed="rId1"/>
          <a:stretch/>
        </p:blipFill>
        <p:spPr>
          <a:xfrm>
            <a:off x="785880" y="1500120"/>
            <a:ext cx="7624800" cy="3357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6:19:27Z</dcterms:created>
  <dc:creator>Fry</dc:creator>
  <dc:description/>
  <dc:language>en-US</dc:language>
  <cp:lastModifiedBy>КарМаН</cp:lastModifiedBy>
  <dcterms:modified xsi:type="dcterms:W3CDTF">2012-01-17T06:57:00Z</dcterms:modified>
  <cp:revision>36</cp:revision>
  <dc:subject/>
  <dc:title>ТЕМА  УРОКА</dc:title>
</cp:coreProperties>
</file>