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BBD-6A0D-4088-88D1-7616E2D9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A57-082F-4BDF-A0C2-3D9BD2C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5BA08-2C3C-4966-A28D-1BF1C703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E3CB7-BD29-46BE-B8DA-1C225806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0BE0A-3E6A-43B7-B79F-D92A3800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B58F0-530C-437A-8CA9-EA3F7C6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43F82-CBD5-4217-BCD2-4E6B0906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5561E-8F56-4B0D-A44C-B4C1B00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1EA0F-2451-406A-BE80-1358B678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01402-6567-4938-9143-74761771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0AD39-7938-489B-AF3C-C42C7D4D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B0C78-F57F-4DF4-9C64-07D911CA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864-ECEC-4B97-8966-E3DCAC3D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A3941-FE18-4194-817D-266A31E5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1FA32-FF8E-4EF9-BE9E-F8D06B61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D126A-CC31-410D-87B5-1FE5B0A5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D311F-8C16-4F95-8E70-46630051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49900-1E86-4F9E-8CB5-B1409051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39FAC-8370-4B88-9D09-1FA4D80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B82B5-CDB1-4FA1-9883-6B543395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F3BD0-A9FF-42E6-93F3-ED6F12A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B369B-6C94-4B04-9AF6-9DD41D85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8FD39-F1E5-4B8F-8339-F1FA32D5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131-1D66-4CB5-A18F-C2959F14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FB248-4647-4198-9DCE-78ED4657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AFC33-AE75-48BF-988D-09050A76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219DE-7E04-4864-B328-C399AE31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7D354-69ED-4646-8B72-60CE7E6A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827BA-05C5-4AE5-B3A0-CBECD61A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BE4A9-6274-4D8F-8FC5-2302700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471CE-09D4-464C-A742-99A1758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0E7B3-207C-4CCD-9EB4-3530C78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B7B1-8C71-43C9-9C5A-0D3B305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37AC3-5E49-4304-814B-2E905C19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DA4B-8D86-4A7C-9998-6D99A6DF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E996F-CEFB-4386-B386-3E582EE8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C0CCF-454B-4F22-A5F8-A10CC16B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405AF-092C-4D85-AE2C-3DA73DBC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F26B8-284F-427D-85FB-084DE05F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F4224-2071-4213-AF43-89C94FD3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62882-5387-411B-89AE-90C9FFA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4D17E-5311-486E-85D9-8782D1E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0E5E2-A685-40E3-A554-323C3A7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5C0C2-8A21-4999-9DC4-946B6876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950A6-C827-496C-A4F5-335D40EA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A2A1-ECE1-4F29-BD2F-C707995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72BFC-0CFC-44E2-B3D6-E369713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9AE0D-76E3-442D-A62D-59C6FD1A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C6884-7EB5-4F09-BBCF-65C4CEDD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2B2B2-A1F3-4486-9D89-870122DB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707D4-64AC-44A4-A322-42C89AAA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56DA-0CF0-49E9-ACB2-12855223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634E-2748-49A6-9755-4D03C81B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3F1A-883D-434F-87E6-7CE64AAD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CDB6-971D-4D42-A944-37BE1E3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BD01-86D2-4B79-B1EF-FE3F44D9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597-9E6D-48DC-AC65-EA5C82D9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A1AD-3BCD-4127-88CB-3B83AE76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3B65-BE9E-4DE9-823C-36BC34A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7964-A478-4359-B026-16729618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2B47-E2C3-4216-9B9D-D2A8F5C1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10A-380E-4BC6-9819-BA737D00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9FE1-E1AC-4A6F-81B9-7A3DF528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295E-48FC-422A-B33C-1901AEEA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C95F-84D9-4B2D-8438-3555C79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EC3B-CC5B-4EE4-810E-0C543707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1AA0-7BA5-44FC-906F-9574475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70E-AC4A-4EC7-8605-813BB09A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F800-F6B9-4B69-A439-4B07B010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0388-8B66-4C68-8E22-FA93160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26B3-523B-46E4-8E69-735099C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CB31-D92C-4B00-97CA-7E4BF66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D3D7-0B7D-4543-88DA-5FBFB41D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4D7E-31D3-4081-8434-BF3D21E6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3A60-ACA4-40A8-AE0E-914842F2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51244-E5E0-40F4-9001-8CD62FDD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D76D-0140-4494-B2AF-2B579D79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CF91-2839-4C4B-9812-349F4F3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055-DB02-4AD6-B913-30C15C69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1EB9-3605-47CB-AF66-37A6C43E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D5B9-61BA-454B-ABE4-F11E870F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A5D6-C9F1-41BB-A336-8344F9FD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5DE6-7E81-48EC-BE18-6CCD9CC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9189-EB90-4510-9F05-BD2132CC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56B5-EC73-4D7D-B79F-D49D9718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3167-A4BF-4096-8B4A-B401361C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8D6E-1BDF-40BD-94FC-1D6D1D6C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C632-0E0A-4394-93C3-3E62AD16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B6C8-D5DA-419E-8636-1A9F7A21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7E9-700E-46BE-B916-A4E28C46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0DD6-B47D-4429-BBB2-AD3EF9E2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5469A-DDF7-4F47-AC67-D73A66CC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43892-696B-4002-ABDB-37B6170D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D4B1A-4A2C-4E49-A7CD-D00B798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CB09-EA5A-460A-8196-512A82EE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9C03-BE28-4D8C-B8DB-52390AC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1FAE-F838-4D37-B524-6B608AF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1E3E-1CB7-4242-A7D7-72D2B05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F7EE6-2703-4AB5-930F-02D72E0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D81F-B61B-440A-B34D-28769604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237-FED3-4937-8F72-6F8207C9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F2D6-2DD3-4D79-A653-6BF370CD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7196-6797-4AB6-A79D-B7B08721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B207-6C69-411F-8642-7C24C94E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96EFF-A590-422B-A163-2CDABFF5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D1439-AE13-4D5F-AF97-88EBE2A7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CD8D-4189-4667-882F-16A9102D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E802-2423-401A-BFEE-BE2EDD55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DD8EC-87A0-4FF3-9555-58CDB90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820F-8ACF-472E-AF3F-A4D6205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9E0C-1526-49CF-AEE9-3FC49B21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1D5-913D-440C-ADF5-FF221D92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4201F-2428-4E91-957C-0EE8C140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2B4CE-B23F-48DD-A4D3-E9EEA5AF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8F794-7DFA-4CB9-9A56-C1973EE1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71A9C-6C51-4DB9-9CB2-DCD62525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AE558-A977-41D6-8B87-DE46D220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481B4-1C79-4637-B919-B75922B9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772F-7982-4CC5-9B13-5C268DA6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6410F-6DE5-40F6-925F-48AF25A3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1706-AE88-4D3B-AF23-3D71987C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C020A-0DA7-4980-AAA1-F97E8CFB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F67-07FF-4701-9C4B-6C4FFE1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25482-D17A-4CEE-A876-32A2877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EA80-127F-4A88-896A-4CFF750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D032C-DD98-47CB-9437-68BC46D7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8C5D-8AF6-4F2C-9ED8-785C4973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9867-22D1-4B09-B540-ADEEAC9B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7EF11-73C4-4227-8DFD-CC6CDF14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0E26C-D93B-406D-AD05-D1F0A66D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CAE12-94F7-4BD1-A80D-64B82860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B51EA-E4ED-444C-A99D-6BA1BA5D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60AB3-B8F3-4145-A82D-8B44FF22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621-7F86-4670-A3C9-25C9A819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3CE8-442F-454A-8E42-FBCD1ABC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E0DFD-E32F-432B-88A0-873B11B4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E2F0E-F7F3-4FA2-BE3F-832AB62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105A7-D19E-459C-9914-F3B4C56D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6D9C3-82A8-430F-8989-CE97FEA4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7BFEE-CC60-44FD-9CB4-25FFFB90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CD5C1-E9EE-4B22-961C-B6A4FC06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37CF4-31AF-4FFA-B0E0-B56598D6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4D8CF-D89F-4D90-A41C-B2E412C3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14AE1-AEBD-4481-97B2-40CB50C5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4B20-37B6-41FF-B1A2-3917FADDF66F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C53-12B8-473A-BAA0-17119DD25AC7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A66C-00C6-4D2C-AA9B-B040F9634324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9CFE-F87C-4916-8A70-B664453088FF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2D7-CA2E-43CC-8698-FF4C20570866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61E1-84C5-405F-9605-3B277E31F1EA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055D-2CA1-491B-BA11-354168BBBB60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FB97-C9AB-4AC5-8FCF-A44FD6F9A0D2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DF29-501D-43EC-99C6-BD388786AA73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A02-A78E-4E61-9F18-29B863A38516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23E-E25B-468E-99D6-5BAA0F40345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FD70-4C2B-4DA9-AB68-A0AF2F8F6B13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БОУ СОШ №1358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ЕПИФАНОВ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891a7"/>
                </a:solidFill>
                <a:latin typeface="Georgia"/>
              </a:rPr>
              <a:t>Сумма углов треугольника</a:t>
            </a:r>
            <a:endParaRPr b="0" lang="en-US" sz="6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1" name="Содержимое 3" descr="010.jpg"/>
          <p:cNvPicPr/>
          <p:nvPr/>
        </p:nvPicPr>
        <p:blipFill>
          <a:blip r:embed="rId1"/>
          <a:stretch/>
        </p:blipFill>
        <p:spPr>
          <a:xfrm>
            <a:off x="500040" y="2571840"/>
            <a:ext cx="8145360" cy="2279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3" name="Содержимое 5" descr="011.jpg"/>
          <p:cNvPicPr/>
          <p:nvPr/>
        </p:nvPicPr>
        <p:blipFill>
          <a:blip r:embed="rId1"/>
          <a:stretch/>
        </p:blipFill>
        <p:spPr>
          <a:xfrm>
            <a:off x="1243080" y="1643040"/>
            <a:ext cx="6619680" cy="4505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5" name="Содержимое 4" descr="012.jpg"/>
          <p:cNvPicPr/>
          <p:nvPr/>
        </p:nvPicPr>
        <p:blipFill>
          <a:blip r:embed="rId1"/>
          <a:stretch/>
        </p:blipFill>
        <p:spPr>
          <a:xfrm>
            <a:off x="285840" y="2214720"/>
            <a:ext cx="8572320" cy="3119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Рисунок 1" descr="013.jpg"/>
          <p:cNvPicPr/>
          <p:nvPr/>
        </p:nvPicPr>
        <p:blipFill>
          <a:blip r:embed="rId1"/>
          <a:stretch/>
        </p:blipFill>
        <p:spPr>
          <a:xfrm>
            <a:off x="500040" y="1071720"/>
            <a:ext cx="8299440" cy="392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Рисунок 2" descr="013.jpg"/>
          <p:cNvPicPr/>
          <p:nvPr/>
        </p:nvPicPr>
        <p:blipFill>
          <a:blip r:embed="rId1"/>
          <a:stretch/>
        </p:blipFill>
        <p:spPr>
          <a:xfrm>
            <a:off x="357120" y="928800"/>
            <a:ext cx="8415360" cy="43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Рисунок 1" descr="015.jpg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401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Рисунок 3" descr="014.jpg"/>
          <p:cNvPicPr/>
          <p:nvPr/>
        </p:nvPicPr>
        <p:blipFill>
          <a:blip r:embed="rId1"/>
          <a:stretch/>
        </p:blipFill>
        <p:spPr>
          <a:xfrm>
            <a:off x="428760" y="928800"/>
            <a:ext cx="8305560" cy="45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31" name="Содержимое 6" descr="015_1.jpg"/>
          <p:cNvPicPr/>
          <p:nvPr/>
        </p:nvPicPr>
        <p:blipFill>
          <a:blip r:embed="rId1"/>
          <a:stretch/>
        </p:blipFill>
        <p:spPr>
          <a:xfrm>
            <a:off x="1116000" y="2617920"/>
            <a:ext cx="2409840" cy="219060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7" descr="015_2.jpg"/>
          <p:cNvPicPr/>
          <p:nvPr/>
        </p:nvPicPr>
        <p:blipFill>
          <a:blip r:embed="rId2"/>
          <a:stretch/>
        </p:blipFill>
        <p:spPr>
          <a:xfrm>
            <a:off x="4800600" y="2019240"/>
            <a:ext cx="4038480" cy="338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 треугольника равен 96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с углом 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 ∠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7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 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треугольника равен 108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 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68°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Самостоятельная работа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  <a:ea typeface="Times New Roman"/>
              </a:rPr>
              <a:t>Дополнительные задачи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внобедренном треугольни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N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снованием МР  и угло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равным 40°, проведена высота МН. Найдите  ∠РМ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ы биссектрисы СК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, пересекающиеся в точ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причем     ∠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°. Найдите  ∠ С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271c"/>
                </a:solidFill>
                <a:latin typeface="Georgia"/>
              </a:rPr>
              <a:t>УРОК ЗАКРЕПЛЕНИЯ ЗНАНИЙ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ТИП  УРОКА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42560" y="1642680"/>
            <a:ext cx="4040280" cy="7333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Найти угол АВ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857480" y="142848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Доказать, что  АВ || С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Домашнее задание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3" name="Содержимое 9" descr="016_1.jpg"/>
          <p:cNvPicPr/>
          <p:nvPr/>
        </p:nvPicPr>
        <p:blipFill>
          <a:blip r:embed="rId1"/>
          <a:stretch/>
        </p:blipFill>
        <p:spPr>
          <a:xfrm>
            <a:off x="285840" y="3417840"/>
            <a:ext cx="4214880" cy="1849320"/>
          </a:xfrm>
          <a:prstGeom prst="rect">
            <a:avLst/>
          </a:prstGeom>
          <a:ln w="0">
            <a:noFill/>
          </a:ln>
        </p:spPr>
      </p:pic>
      <p:pic>
        <p:nvPicPr>
          <p:cNvPr id="644" name="Содержимое 11" descr="016_2.jpg"/>
          <p:cNvPicPr/>
          <p:nvPr/>
        </p:nvPicPr>
        <p:blipFill>
          <a:blip r:embed="rId2"/>
          <a:stretch/>
        </p:blipFill>
        <p:spPr>
          <a:xfrm>
            <a:off x="4800600" y="2568600"/>
            <a:ext cx="4038480" cy="3627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5720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ПРОВЕРИТЬ УСВОЕНИЕ      ДОКАЗАТЕЛЬСТВА ТЕОРЕ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НАУЧИТЬСЯ ПРИМЕНЕНИЮ ТЕОРЕМЫ К РЕШЕНИЮ ЗАДА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ЦЕЛИ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ак, имея в наличии три равных треугольника, убедиться в том, что сумма углов треугольника равна 180°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Содержимое 4" descr="Буфер обмена01.jpg"/>
          <p:cNvPicPr/>
          <p:nvPr/>
        </p:nvPicPr>
        <p:blipFill>
          <a:blip r:embed="rId1"/>
          <a:stretch/>
        </p:blipFill>
        <p:spPr>
          <a:xfrm>
            <a:off x="4405320" y="785880"/>
            <a:ext cx="3076560" cy="5410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Рисунок 1" descr="005.jpg"/>
          <p:cNvPicPr/>
          <p:nvPr/>
        </p:nvPicPr>
        <p:blipFill>
          <a:blip r:embed="rId1"/>
          <a:stretch/>
        </p:blipFill>
        <p:spPr>
          <a:xfrm>
            <a:off x="285840" y="1785960"/>
            <a:ext cx="8589960" cy="260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спользуя готовый чертеж, докажите теорему о сумме углов треугольни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Содержимое 5" descr="006.jpg"/>
          <p:cNvPicPr/>
          <p:nvPr/>
        </p:nvPicPr>
        <p:blipFill>
          <a:blip r:embed="rId1"/>
          <a:stretch/>
        </p:blipFill>
        <p:spPr>
          <a:xfrm>
            <a:off x="3214800" y="1928880"/>
            <a:ext cx="55101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Рисунок 2" descr="007.jpg"/>
          <p:cNvPicPr/>
          <p:nvPr/>
        </p:nvPicPr>
        <p:blipFill>
          <a:blip r:embed="rId1"/>
          <a:stretch/>
        </p:blipFill>
        <p:spPr>
          <a:xfrm>
            <a:off x="857160" y="857160"/>
            <a:ext cx="7405920" cy="408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Рисунок 3" descr="008.jpg"/>
          <p:cNvPicPr/>
          <p:nvPr/>
        </p:nvPicPr>
        <p:blipFill>
          <a:blip r:embed="rId1"/>
          <a:stretch/>
        </p:blipFill>
        <p:spPr>
          <a:xfrm>
            <a:off x="857160" y="1428840"/>
            <a:ext cx="7380360" cy="36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2" descr="009.jpg"/>
          <p:cNvPicPr/>
          <p:nvPr/>
        </p:nvPicPr>
        <p:blipFill>
          <a:blip r:embed="rId1"/>
          <a:stretch/>
        </p:blipFill>
        <p:spPr>
          <a:xfrm>
            <a:off x="785880" y="1500120"/>
            <a:ext cx="762480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19:27Z</dcterms:created>
  <dc:creator>Fry</dc:creator>
  <dc:description/>
  <dc:language>en-US</dc:language>
  <cp:lastModifiedBy>КарМаН</cp:lastModifiedBy>
  <dcterms:modified xsi:type="dcterms:W3CDTF">2012-01-17T06:57:00Z</dcterms:modified>
  <cp:revision>36</cp:revision>
  <dc:subject/>
  <dc:title>ТЕМА  УРОКА</dc:title>
</cp:coreProperties>
</file>