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619-2547-48EE-8F0B-FA617E11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589D-95FA-4582-A582-C736BD25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B7CFD-386E-4459-A850-73FDD68A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CDB9F-EBF3-45D8-873C-1FA36F08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91EAC-C313-47EB-8FF7-6DA21236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9F584-7861-4D40-8129-75B5BED2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B36C7-6F6F-44B9-B639-64F0A97F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07FB15-B62C-4679-B54E-9AF97EB2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3D64E-AB76-472A-90A6-0CD67DA5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7F6714-2035-4AF4-BD97-BE698578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C76E0C-071F-4B94-8176-981129E8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B0A36-5270-4504-A0CE-EAD7A652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828-32E7-4BC6-B075-0887D052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9148E-6CD2-411A-8167-9786DEB6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6C0BB-EE4A-45DE-B246-0EE47575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5451B-F70D-4134-8609-2ECD4230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D5DD3-72C9-4ABA-A8CC-30FA8941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733EA-1985-4DA8-B0DE-931D2AB5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C5E72-7BA1-47BD-9569-0AB23B7F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427A7-11C6-48B4-960C-C8DF240F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88756-6A4D-4E31-AF46-D9EA9829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48D34C-1A93-445D-B0E0-0EB13CE6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1FDC8-9622-47E7-98B1-ECBC7E6C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2EF-D3D5-41E6-86E1-83B03CDA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B533F-D3CC-48FE-BC2B-5B11CE5C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8A223-DCC7-4C4A-B2BC-60D6718B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0DFB3-C440-4DC3-82AA-FC737AE4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F3B32-B0C2-4BFA-97E5-EC43F0EB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3CE34-B938-4899-83D7-E623EE1B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A4D83-184B-4E02-A4C7-31A01F1E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51ACE-C7DE-4DB1-976C-EEF567A0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A3769-D518-4167-A147-434C4CB7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C6E33-DF10-43D1-905F-7CA4CC8A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96F5D-DBCF-4A30-A6AF-F0F027D7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B747-2475-4892-90FA-D88B2B5D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E80F1-EE81-4EDA-B107-8E665487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07F18-C500-45C3-B480-B3B7BBF0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4DED4-44B8-47F1-B9CD-329EBD79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DCBB3-E824-434D-B9BD-BA7AB857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48EA7D-8525-48BA-9721-C2E5F7C6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741A5-A144-4347-ACAB-3A873FE3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48AC5-F435-4F1B-82BD-88451865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1EBC99-33DF-4225-8E5C-5899B5F6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AEBC0A-4995-4E2C-A255-639C3D04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9791F-FF8B-4216-BB02-092CE53B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8541-6F5C-4ECA-8858-42415DE6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0CE721-1A9E-420C-81A9-53590EBA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E5A2A-FEA3-46E9-BE1A-218A1598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4320B-7EA1-4E80-B765-DC6C4E02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595182-2E95-4F36-9763-9BD5130C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DC846-F8B6-4CE4-93F9-544E8077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5C1C-3200-43A3-96CB-50FB3CB7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759E-DD34-449E-A5C3-827E0471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7191-AE42-4474-BD2D-63DAB2DB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6ACA-0623-47D2-953F-F073BE1C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FCB9-7C6E-4206-9FAC-21D30EFB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0BB-2F55-4F15-93E7-FE54C8A7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0D08-065E-49DF-A922-B2B08B76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CCCC-E608-4A04-BC77-38176495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B515-EBDD-4B0E-B1CF-15438349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AA24-D2AC-4A98-B04D-F2149610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50A0-4250-4ED3-9188-1F7A40A3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D55E5-456B-4A2B-99EE-F7223B53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EE177-8E6E-473B-9BC6-C7ED43D6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1F975-08EB-4D8A-B010-9C9066E9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D7C4-7713-4363-95F8-AEB8536B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3681A-483F-44B6-8DE9-0475ACD1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580-DBA2-45A4-9C8D-26C781E6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DE06-D7C7-4EC3-BFB8-45582C28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DC4ED-F2B4-4222-9030-01438EE0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55382-41F1-4491-8858-56804805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27D72-5493-4A54-AD27-BFE08350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0B77B-79C1-4CAD-B717-49F011B7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B73E6-668B-4D11-8D48-7E807440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FAAFF-89EC-4D87-A15A-A702B789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D0D57-0B1F-4E26-9504-539E9897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28B69-F63A-45A7-BDE0-A86EC815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2E23E-9713-4204-8BB8-00B84F84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804-4800-4DA3-9528-AFAD89E1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19190-BCC0-49F7-8885-27E986B5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0FF90-A377-4B11-A6BB-9B26B512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82EBB-8A11-420C-B63C-516F1867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33459-93EE-4D20-A677-87BD6D2D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4781E-753A-4B51-84E1-C0687AF3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E8C55-A2BB-4B15-8596-D714A803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24758-23D9-4C27-A97F-C41AA368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17861-9147-422B-93B2-3F7F61AB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9F3A9-12F8-420A-A6C2-9DE23E33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1DA20-05EB-4D48-B400-B0FCC66D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BD96-849A-4B92-AB1C-3D4DAE15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C1547-BED9-4FD9-8D52-DDB18C55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C5BD6-8060-422C-88E4-36D4BB7B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3F9C5-BAC1-421A-8D98-F4B77E93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AFB27-7E43-47FA-A829-142F6EA7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B098E-1330-456F-AED6-8D68480F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32B79-2653-4D96-89DC-7896B68C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2F0D7-C1D6-4479-8B7A-CF980C9B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64DBB-60AD-4DB3-8442-B0DE2EC5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3FF62-8301-41A0-8774-5F53E431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151F1-BFC7-4042-AB25-CE840D88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645-3467-45A1-9630-54990A45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C4711-D57F-4F38-965A-8FD8186E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B2A8A-1AB2-44CE-A42D-C707ADC8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16D32-FF6A-413A-8BBA-96B896AF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43F3B-BBF5-4CF2-9E85-F5EE6714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46D1C-6233-4685-8159-307FF944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785AF-6CE5-41D6-8FCF-716F86E8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3C576-9FF7-4AC0-A801-FFE2ADDE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501BC-64A4-4426-AC66-F5646430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B396D-28D6-4687-8FE9-4177E763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2B7BA-1CDC-4C05-9561-3F4B046E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9D9-9042-4A41-B2C9-1573B261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1E650-922D-46F2-89FB-7CD90DA7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5544D-B4D0-4857-80A3-7EC91E8E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5463A-CAEE-42FB-B729-5406EA45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65052-C4DF-4443-AB45-C8169680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AE800-76F2-425D-9AA7-4435BE9C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66D78-B32B-453D-AA98-31AFAA89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5EFA3-BE56-408A-B3AC-29A18E89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47634-9BA2-40DA-AAB6-FAC2908A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57680-25DC-44AE-BAF6-DF1C0A6B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6B887-44DB-438F-A5BE-9CA56989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0C5-6900-4971-BC63-F731D9E4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DA3A3-B3E1-424C-B2C0-E41B04D6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96A3D-095E-43DC-BC95-10E6FACF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E11D0-91E8-4012-AC53-46DC9B7F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A6987-8729-41AB-94E7-81348FB0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14E4C-59B0-44AD-8910-B4BA0A8E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6CAFE-ABEC-4C36-BF71-B1CE6F72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9BCA2-041B-4919-ABEE-245EA2A9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09FEB-E2CE-4A06-B36C-5F360203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2AE4D-47B9-4C59-A07A-DA1F562B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EEBAF-CE2C-4AFC-9A35-9E6FFD76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64F-0956-44EB-ADE9-908FC455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0EE04-F4BD-4502-8ECC-CF91B6B5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D03A2-BE6C-4AE4-8FFA-622B8CF3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4BE87-A8AB-4E06-B176-3B60808A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9FFB2-B5EC-4BA0-A33F-EA6EA218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0B2E7-DA30-4647-8091-CE9BF482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3E5F3-CE5C-4E3C-8D0F-15545467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7164C-E527-4308-AA25-C897C6FD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444DF-BECD-4510-BD78-208412A2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914F9-8B3E-440D-845F-09066A47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F3993-4C50-4AB2-B032-E08C6BC0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C0FC-C756-4B63-B92A-C633310FAB70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AFAB-3B2D-48CC-B76D-BC2639B5EE5F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C3C9-F643-4EF5-B203-DC8498EF4F6D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2507-4247-4F59-A37B-3C663719D5D9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9E19-A2DD-4DAD-B09E-25709F324D17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1368-BAAD-4F05-8077-12BA4AD91B84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44A5-EE68-41E6-9BE1-3650336EEED8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2C38-D6D6-4B9E-8066-F661967B28F0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BC5F-8959-4BFC-AD7A-D27B2B61B005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837D-55A8-48FB-93CD-E0FA6B3F7485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954E-50FA-4BD5-A24F-568D267AF979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8B1C-2270-4C77-B890-79100E8B0C66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57200" y="328608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ГБОУ СОШ №1358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ЕПИФАНОВ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ТАТЬЯНА НИКОЛАЕВН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891a7"/>
                </a:solidFill>
                <a:latin typeface="Georgia"/>
              </a:rPr>
              <a:t>Сумма углов треугольника</a:t>
            </a:r>
            <a:endParaRPr b="0" lang="en-US" sz="66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56760" y="6429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Найти неизвестные углы в ΔАВС</a:t>
            </a:r>
            <a:br>
              <a:rPr sz="3600"/>
            </a:b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1" name="Содержимое 3" descr="010.jpg"/>
          <p:cNvPicPr/>
          <p:nvPr/>
        </p:nvPicPr>
        <p:blipFill>
          <a:blip r:embed="rId1"/>
          <a:stretch/>
        </p:blipFill>
        <p:spPr>
          <a:xfrm>
            <a:off x="500040" y="2571840"/>
            <a:ext cx="8145360" cy="22795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6760" y="6429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Найти неизвестные углы в ΔАВС</a:t>
            </a:r>
            <a:br>
              <a:rPr sz="3600"/>
            </a:b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3" name="Содержимое 5" descr="011.jpg"/>
          <p:cNvPicPr/>
          <p:nvPr/>
        </p:nvPicPr>
        <p:blipFill>
          <a:blip r:embed="rId1"/>
          <a:stretch/>
        </p:blipFill>
        <p:spPr>
          <a:xfrm>
            <a:off x="1243080" y="1643040"/>
            <a:ext cx="6619680" cy="45054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Решите задачу.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5" name="Содержимое 4" descr="012.jpg"/>
          <p:cNvPicPr/>
          <p:nvPr/>
        </p:nvPicPr>
        <p:blipFill>
          <a:blip r:embed="rId1"/>
          <a:stretch/>
        </p:blipFill>
        <p:spPr>
          <a:xfrm>
            <a:off x="285840" y="2214720"/>
            <a:ext cx="8572320" cy="31194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Рисунок 1" descr="013.jpg"/>
          <p:cNvPicPr/>
          <p:nvPr/>
        </p:nvPicPr>
        <p:blipFill>
          <a:blip r:embed="rId1"/>
          <a:stretch/>
        </p:blipFill>
        <p:spPr>
          <a:xfrm>
            <a:off x="500040" y="1071720"/>
            <a:ext cx="8299440" cy="392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Рисунок 2" descr="013.jpg"/>
          <p:cNvPicPr/>
          <p:nvPr/>
        </p:nvPicPr>
        <p:blipFill>
          <a:blip r:embed="rId1"/>
          <a:stretch/>
        </p:blipFill>
        <p:spPr>
          <a:xfrm>
            <a:off x="357120" y="928800"/>
            <a:ext cx="8415360" cy="4357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Рисунок 1" descr="015.jpg"/>
          <p:cNvPicPr/>
          <p:nvPr/>
        </p:nvPicPr>
        <p:blipFill>
          <a:blip r:embed="rId1"/>
          <a:stretch/>
        </p:blipFill>
        <p:spPr>
          <a:xfrm>
            <a:off x="357120" y="1071720"/>
            <a:ext cx="8429760" cy="4019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Рисунок 3" descr="014.jpg"/>
          <p:cNvPicPr/>
          <p:nvPr/>
        </p:nvPicPr>
        <p:blipFill>
          <a:blip r:embed="rId1"/>
          <a:stretch/>
        </p:blipFill>
        <p:spPr>
          <a:xfrm>
            <a:off x="428760" y="928800"/>
            <a:ext cx="8305560" cy="4524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Решите задачу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31" name="Содержимое 6" descr="015_1.jpg"/>
          <p:cNvPicPr/>
          <p:nvPr/>
        </p:nvPicPr>
        <p:blipFill>
          <a:blip r:embed="rId1"/>
          <a:stretch/>
        </p:blipFill>
        <p:spPr>
          <a:xfrm>
            <a:off x="1116000" y="2617920"/>
            <a:ext cx="2409840" cy="2190600"/>
          </a:xfrm>
          <a:prstGeom prst="rect">
            <a:avLst/>
          </a:prstGeom>
          <a:ln w="0">
            <a:noFill/>
          </a:ln>
        </p:spPr>
      </p:pic>
      <p:pic>
        <p:nvPicPr>
          <p:cNvPr id="632" name="Содержимое 7" descr="015_2.jpg"/>
          <p:cNvPicPr/>
          <p:nvPr/>
        </p:nvPicPr>
        <p:blipFill>
          <a:blip r:embed="rId2"/>
          <a:stretch/>
        </p:blipFill>
        <p:spPr>
          <a:xfrm>
            <a:off x="4800600" y="2019240"/>
            <a:ext cx="4038480" cy="33861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Вариант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Вариант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1. Один из углов равнобедренного треугольника равен 96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 два других угла треугольник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2. В треугольнике 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Е с углом ∠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E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= 32° проведена биссектриса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CF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, ∠ 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F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= 72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  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1. Один из углов равнобедренног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треугольника равен 108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 два других угла треугольник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2. В треугольнике 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Е проведена биссектриса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CF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∠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= 68°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E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= 32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∠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F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Самостоятельная работа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  <a:ea typeface="Times New Roman"/>
              </a:rPr>
              <a:t>Дополнительные задачи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В равнобедренном треугольник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NP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снованием МР  и угло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равным 40°, проведена высота МН. Найдите  ∠РМ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2. В треугольнике 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Е проведены биссектрисы СК 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Р, пересекающиеся в точк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 причем     ∠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К =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55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°. Найдите  ∠ С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357200" y="3142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271c"/>
                </a:solidFill>
                <a:latin typeface="Georgia"/>
              </a:rPr>
              <a:t>УРОК ЗАКРЕПЛЕНИЯ ЗНАНИЙ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891a7"/>
                </a:solidFill>
                <a:latin typeface="Georgia"/>
              </a:rPr>
              <a:t>ТИП  УРОКА</a:t>
            </a:r>
            <a:br>
              <a:rPr sz="3800"/>
            </a:br>
            <a:endParaRPr b="0" lang="en-US" sz="72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142560" y="1642680"/>
            <a:ext cx="4040280" cy="7333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Найти угол АВ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857480" y="142848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Доказать, что  АВ || СМ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Домашнее задание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43" name="Содержимое 9" descr="016_1.jpg"/>
          <p:cNvPicPr/>
          <p:nvPr/>
        </p:nvPicPr>
        <p:blipFill>
          <a:blip r:embed="rId1"/>
          <a:stretch/>
        </p:blipFill>
        <p:spPr>
          <a:xfrm>
            <a:off x="285840" y="3417840"/>
            <a:ext cx="4214880" cy="1849320"/>
          </a:xfrm>
          <a:prstGeom prst="rect">
            <a:avLst/>
          </a:prstGeom>
          <a:ln w="0">
            <a:noFill/>
          </a:ln>
        </p:spPr>
      </p:pic>
      <p:pic>
        <p:nvPicPr>
          <p:cNvPr id="644" name="Содержимое 11" descr="016_2.jpg"/>
          <p:cNvPicPr/>
          <p:nvPr/>
        </p:nvPicPr>
        <p:blipFill>
          <a:blip r:embed="rId2"/>
          <a:stretch/>
        </p:blipFill>
        <p:spPr>
          <a:xfrm>
            <a:off x="4800600" y="2568600"/>
            <a:ext cx="4038480" cy="3627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357200" y="3071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- ПРОВЕРИТЬ УСВОЕНИЕ      ДОКАЗАТЕЛЬСТВА ТЕОРЕМ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- НАУЧИТЬСЯ ПРИМЕНЕНИЮ ТЕОРЕМЫ К РЕШЕНИЮ ЗАДАЧ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891a7"/>
                </a:solidFill>
                <a:latin typeface="Georgia"/>
              </a:rPr>
              <a:t>ЦЕЛИ</a:t>
            </a:r>
            <a:br>
              <a:rPr sz="3800"/>
            </a:br>
            <a:endParaRPr b="0" lang="en-US" sz="72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357120" y="1714320"/>
            <a:ext cx="23623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Times New Roman"/>
              </a:rPr>
              <a:t>Как, имея в наличии три равных треугольника, убедиться в том, что сумма углов треугольника равна 180° 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Содержимое 4" descr="Буфер обмена01.jpg"/>
          <p:cNvPicPr/>
          <p:nvPr/>
        </p:nvPicPr>
        <p:blipFill>
          <a:blip r:embed="rId1"/>
          <a:stretch/>
        </p:blipFill>
        <p:spPr>
          <a:xfrm>
            <a:off x="4405320" y="785880"/>
            <a:ext cx="3076560" cy="5410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Рисунок 1" descr="005.jpg"/>
          <p:cNvPicPr/>
          <p:nvPr/>
        </p:nvPicPr>
        <p:blipFill>
          <a:blip r:embed="rId1"/>
          <a:stretch/>
        </p:blipFill>
        <p:spPr>
          <a:xfrm>
            <a:off x="285840" y="1785960"/>
            <a:ext cx="8589960" cy="2600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357120" y="1714320"/>
            <a:ext cx="23623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Используя готовый чертеж, докажите теорему о сумме углов треугольник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Содержимое 5" descr="006.jpg"/>
          <p:cNvPicPr/>
          <p:nvPr/>
        </p:nvPicPr>
        <p:blipFill>
          <a:blip r:embed="rId1"/>
          <a:stretch/>
        </p:blipFill>
        <p:spPr>
          <a:xfrm>
            <a:off x="3214800" y="1928880"/>
            <a:ext cx="551016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Рисунок 2" descr="007.jpg"/>
          <p:cNvPicPr/>
          <p:nvPr/>
        </p:nvPicPr>
        <p:blipFill>
          <a:blip r:embed="rId1"/>
          <a:stretch/>
        </p:blipFill>
        <p:spPr>
          <a:xfrm>
            <a:off x="857160" y="857160"/>
            <a:ext cx="7405920" cy="4083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Рисунок 3" descr="008.jpg"/>
          <p:cNvPicPr/>
          <p:nvPr/>
        </p:nvPicPr>
        <p:blipFill>
          <a:blip r:embed="rId1"/>
          <a:stretch/>
        </p:blipFill>
        <p:spPr>
          <a:xfrm>
            <a:off x="857160" y="1428840"/>
            <a:ext cx="7380360" cy="3628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Рисунок 2" descr="009.jpg"/>
          <p:cNvPicPr/>
          <p:nvPr/>
        </p:nvPicPr>
        <p:blipFill>
          <a:blip r:embed="rId1"/>
          <a:stretch/>
        </p:blipFill>
        <p:spPr>
          <a:xfrm>
            <a:off x="785880" y="1500120"/>
            <a:ext cx="7624800" cy="3357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6:19:27Z</dcterms:created>
  <dc:creator>Fry</dc:creator>
  <dc:description/>
  <dc:language>en-US</dc:language>
  <cp:lastModifiedBy>КарМаН</cp:lastModifiedBy>
  <dcterms:modified xsi:type="dcterms:W3CDTF">2012-01-17T06:57:00Z</dcterms:modified>
  <cp:revision>36</cp:revision>
  <dc:subject/>
  <dc:title>ТЕМА  УРОКА</dc:title>
</cp:coreProperties>
</file>