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133-147B-4FB4-A55A-A12F8517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B6F-E377-4EC7-84E1-BCADE167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FAB-EB64-452A-AB78-76644EB1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66F-B113-4AB1-8F39-BFF8BB95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192-163F-48EF-998F-91B416D8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E15-3BA7-4259-B225-4BD80164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22D-D158-4CB2-92D4-32140E81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3AE-BB34-4741-A8C6-F421ED34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16A-3650-441E-92B2-D3539EAE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080-C63B-45B2-9D75-98E1161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23D-D601-4726-87D1-CF2A118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A3C-C6F3-46ED-87AE-1064F86A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73A2-1B1B-49C1-8209-03A7E924D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ov.mari.ru/debzn/img/molod2_361x263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3-5.narod.ru/img/photo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ver-okrug.ru/img/suchodol1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aletrus.ru/images/naslajdenie/2010/15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mmercamp.ru/images/9/97/Pic_0185m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-6480" y="-433440"/>
            <a:ext cx="9156960" cy="7297920"/>
            <a:chOff x="-6480" y="-433440"/>
            <a:chExt cx="9156960" cy="7297920"/>
          </a:xfrm>
        </p:grpSpPr>
        <p:pic>
          <p:nvPicPr>
            <p:cNvPr id="4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6480" y="-433440"/>
              <a:ext cx="9156960" cy="72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428760"/>
              <a:ext cx="9144000" cy="72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Calibri"/>
                </a:rPr>
                <a:t>ВСЕРОССИЙСКОЕ ДВИЖЕНИЙ </a:t>
              </a:r>
              <a:br>
                <a:rPr sz="4400"/>
              </a:br>
              <a:r>
                <a:rPr b="1" i="1" lang="en-US" sz="4400" spc="-1" strike="noStrike">
                  <a:solidFill>
                    <a:srgbClr val="ff0000"/>
                  </a:solidFill>
                  <a:latin typeface="Calibri"/>
                </a:rPr>
                <a:t>«Школа безопасности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адание: Ответить на вопрос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 На какие группы деляться все топографические зна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Что такое «изогипс», «бергштрих», «масштаб карты», «ориентиров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Из каких основных действий складывается ориентир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640" y="1341360"/>
            <a:ext cx="77724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1f497d"/>
                </a:solidFill>
                <a:latin typeface="Calibri"/>
              </a:rPr>
              <a:t>РЕАЛИИ СОВРЕМЕННОГО МИРА таковы, что каждый день на нашей планете происходят стихийные бедствия, катастрофы, аварии, вооруженные конфликты. С учетом этого одним из приоритетных направлений деятельности МЧС России является организация подготовки подрастающего поколения к действиям в чрезвычайных ситуациях.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Картинка 59 из 1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2997360"/>
            <a:ext cx="4321080" cy="3147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4296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17375e"/>
                </a:solidFill>
                <a:latin typeface="Calibri"/>
              </a:rPr>
              <a:t>При содействии МЧС России в 1994 году основано Всероссийское детско-юношеское общественное движение «Школа безопасности». Официально оно зарегистрировано в Министерстве юстиции Российской Федерации в 1998 году (перерегистрировано 23.12.2002). С 2001 года это движение включено в Федеральный реестр молодежных и детских общественных объединений России, пользующихся государственной поддержкой.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Картинка 3 из 5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1413000"/>
            <a:ext cx="31906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1" descr=""/>
          <p:cNvPicPr/>
          <p:nvPr/>
        </p:nvPicPr>
        <p:blipFill>
          <a:blip r:embed="rId2"/>
          <a:stretch/>
        </p:blipFill>
        <p:spPr>
          <a:xfrm>
            <a:off x="907920" y="1122480"/>
            <a:ext cx="7493040" cy="542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а 85 из 1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2781360"/>
            <a:ext cx="374508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с двумя вырезанными противолежащими углами 1"/>
          <p:cNvSpPr/>
          <p:nvPr/>
        </p:nvSpPr>
        <p:spPr>
          <a:xfrm>
            <a:off x="108000" y="549360"/>
            <a:ext cx="5429160" cy="3429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ешение о создании Всероссийского детско – юношестского общественного движения было принято в июле 1995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Организация работы движения «Школа безопасност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742788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егодня Движение объединяет более 400 отделений и филиалов, которые функционируют в 52 субъектах Российской Федерации. Общая численность его участников - около 200 тыс. человек. Одно из важных направлений деятельности Движения - популяризация работы поисково-спасательных формирований МЧС России и помощь в подготовке резерва для них путем участия в создании и функционировании кадетских корпусов, школ, классов, кружков и секций «Юный спасатель»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Ориентирование на мес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Рамка 2"/>
          <p:cNvSpPr/>
          <p:nvPr/>
        </p:nvSpPr>
        <p:spPr>
          <a:xfrm>
            <a:off x="1116000" y="2421000"/>
            <a:ext cx="7429680" cy="2643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Ориентирование  - это  определение наблюдателем своего местоположения относительно сторон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Ориентирование на местности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компа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Ориентирование по кар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Солн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Солнцу и ча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Полярной звез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Лу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060640"/>
            <a:ext cx="4249800" cy="3187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Ориентирование на местности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аянию сне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местным предме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построй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местного времени без час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иентирование в лес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060640"/>
            <a:ext cx="42483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3:06:18Z</dcterms:created>
  <dc:creator>Admin</dc:creator>
  <dc:description/>
  <dc:language>en-US</dc:language>
  <cp:lastModifiedBy>MSHOME</cp:lastModifiedBy>
  <dcterms:modified xsi:type="dcterms:W3CDTF">2011-01-18T01:10:35Z</dcterms:modified>
  <cp:revision>11</cp:revision>
  <dc:subject/>
  <dc:title>ВСЕРОССИЙСКОЕ ДВИЖЕНИЙ  «Школа безопасности»</dc:title>
</cp:coreProperties>
</file>