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25.wmf" ContentType="image/x-wmf"/>
  <Override PartName="/ppt/media/image22.jpeg" ContentType="image/jpeg"/>
  <Override PartName="/ppt/media/image24.jpeg" ContentType="image/jpeg"/>
  <Override PartName="/ppt/media/image23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7.gif" ContentType="image/gif"/>
  <Override PartName="/ppt/media/image16.jpeg" ContentType="image/jpeg"/>
  <Override PartName="/ppt/media/image1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45C-2B9F-469B-8DDE-33A272E4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087-BDA2-4F6D-8BA9-FABBABAA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4E9-0639-4BE9-8443-3A547D20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F44-FC81-4AFC-8ED8-9A1117E9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CCC-A5EC-4E5B-B2FF-2AF11E4C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5787-0628-4599-AD67-149C1A08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E7D-725B-4BF8-B602-494D4CAA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7BA6-A587-4E04-AE2C-6714B348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C7CD-7813-425D-A556-054C724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51A3-B818-4C1C-8E87-E15C4C0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A003-0626-43B0-BFED-CCEF7ED0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859-0446-413B-8722-9CFCB971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A803-860B-42C9-8D38-F48E31ED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AD9F-0F91-42AE-94DB-605212D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C5B9-49D1-415E-810A-345601EB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5272-A23D-490E-A162-4AFEE4E1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C461-2C82-401A-BD18-21FD8682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BA8-4728-4D61-AEF8-9AD8D1F4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981-99C8-4A79-A230-B48C991A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C70-6996-4C3B-89B6-88BDB77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6C6-8AC8-4918-AEF3-A123F5CF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7C4-3608-4AB7-AC9A-C57469B4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93F-B005-41A2-B540-D66DEC8E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4EF-4E1C-42A6-82A7-CCE34FD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D89-F834-4088-AC0F-05E477AB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5CEA-F75A-4480-8974-E55472971B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Arial Rounded MT Bold"/>
              </a:rPr>
              <a:t>Правовые основы воинской служб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95280" y="4221000"/>
            <a:ext cx="608004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боту </a:t>
            </a:r>
            <a:r>
              <a:rPr b="0" i="1" lang="en-US" sz="3200" spc="-1" strike="noStrike">
                <a:solidFill>
                  <a:srgbClr val="ffffff"/>
                </a:solidFill>
                <a:latin typeface="Arial Rounded MT Bold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Конституцией Российской Федерации Президенту Российской Федерации дано право: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формировать и возглавлять Совет безопасности РФ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утверждать военную доктрину РФ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назначать и освобождать высшее командование Вооруженных Сил РФ (статья 83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Президент Российской Федерации является Верховным Главнокомандующим Вооруженными Силами и в случае агрессии против Российской Федерации или непосредственной угрозы агрессии вводит на территории страны или в отдельных ее местностях военное положение (статья 87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Меры по обеспечению обороны страны и государственной безопасности осуществляет Правительство Российской Федерации (статья 114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j0232168"/>
          <p:cNvPicPr/>
          <p:nvPr/>
        </p:nvPicPr>
        <p:blipFill>
          <a:blip r:embed="rId2"/>
          <a:stretch/>
        </p:blipFill>
        <p:spPr>
          <a:xfrm>
            <a:off x="8101080" y="5084640"/>
            <a:ext cx="834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На основании положений Конституции РФ разрабатываются и принимаются законодательные акты, в которых детально определяются правовые вопросы, касающиеся обороны и военного строительства. Базовым правовым актом военного законодательства является </a:t>
            </a: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Федеральный закон Российской Федерации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«Об обороне», 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в котором определены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основы и организация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олномочия органов государственной власти Российской Федерации в области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функции органов исполнительной власти субъектов Российской Федерации, органов местного самоуправления и организаций, обязанности должностных лиц, права и обязанности граждан в области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редназначение Вооруженных Сил РФ, их комплектование и руководство, функции Министерства обороны и Генерального штаб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основные положения — состояние войны, военное положение, мобилизация, гражданская оборона, территориальная оборон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оложение об ограничении деятельности политических партий и общественных объединений в Вооруженных Силах РФ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j0415188"/>
          <p:cNvPicPr/>
          <p:nvPr/>
        </p:nvPicPr>
        <p:blipFill>
          <a:blip r:embed="rId2"/>
          <a:stretch/>
        </p:blipFill>
        <p:spPr>
          <a:xfrm>
            <a:off x="4284720" y="1700280"/>
            <a:ext cx="48592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Федеральный закон Российской Федерации «О статусе военнослужащих»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определяет права, обязанности и ответственность военнослужащих, основы правовой и социальной защиты военнослужа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Порядок организации воинского учета граждан, подготовки их к военной службе, призыва на военную службу и ее прохождения определен в 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Федеральном законе Российской Федерации «О воинской обязанности и военной службе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j0410435"/>
          <p:cNvPicPr/>
          <p:nvPr/>
        </p:nvPicPr>
        <p:blipFill>
          <a:blip r:embed="rId2"/>
          <a:stretch/>
        </p:blipFill>
        <p:spPr>
          <a:xfrm>
            <a:off x="4468680" y="836640"/>
            <a:ext cx="4675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овседневная деятельность военнослужащих, их жизнь, быт, несение службы, подготовка к выполнению должностных обязанностей регламентируются уставами, которые подразделяются на боевые и общевоинск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Общевоинские уставы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устанавливают общие для всех видов Вооруженных Сил положения, определяющие взаимоотношения между военнослужащими, их общие и должностные обязанности и права, порядок несения внутренней, гарнизонной и караульной служб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К общевоинским уставам относятся: </a:t>
            </a: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Устав внутренней службы Вооруженных Сил Российской Федерации, Дисциплинарный устав Вооруженных Сил Российской Федерации, Устав гарнизонной и караульной служб Вооруженных Сил Российской Федерации, Строевой устав Вооруженных Сил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j0344091"/>
          <p:cNvPicPr/>
          <p:nvPr/>
        </p:nvPicPr>
        <p:blipFill>
          <a:blip r:embed="rId2"/>
          <a:stretch/>
        </p:blipFill>
        <p:spPr>
          <a:xfrm>
            <a:off x="4168800" y="4500720"/>
            <a:ext cx="40672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Статус 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125360"/>
            <a:ext cx="8258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— это совокупность прав и обязанностей граждан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военнослужащего определен Федеральным законом РФ «О статусе военнослужащих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военнослужащих есть совокупность прав, свобод, гарантированных государством, а также обязанностей и ответственности военнослужащих. Военнослужащие обладают правами и свободами человека и гражданина с некоторыми ограничениями, установленными законами РФ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На военнослужащих возлагаются обязанности по подготовке к вооруженной защите и вооруженная защита Российской Федерации, которые связаны с необходимостью беспрекословного выполнения поставленных задач в любых условиях, в том числе с риском для жиз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В связи с особым характером обязанностей, возложенных на военнослужащих, им предоставляются льготы, гарантии и компенс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Граждане приобретают статус военнослужащего с началом военной службы и утрачивают его с ее окончани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Права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75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Военнослужащие пользуются установленными законодательством Российской Федерации правами и свободами наравне с другими гражданами. Но с учетом особого характера обязанностей военнослужащих существуют некоторые ограничения их в общегражданских правах и свобод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337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13840" y="285480"/>
            <a:ext cx="86439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свободу передвижения (правила передвижения военнослужащих в расположении воинской части, их выезда за пределы гарнизона, на территории которого они проходят военную службу, определяются общевоинскими уставами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свободу слова, выражения своих мнений и убеждений, на доступ к получению и распространению информации (не имеют права разглашать государственную и военную тайну, обсуждать и критиковать приказы командира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запрет участия в забастовк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участвовать в богослужениях и религиозных церемониях (в свободное от военной службы врем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не допускается создание религиозных объединений в воинской ча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избирать и быть избранными в органы государственной власти и органы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военнослужащие могут состоять в общественных объединениях, не преследующих политические цели, и участвовать в их деятельности в свободное от исполнения обязанностей военной службы врем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труд (прохождение военной служб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4000" y="26028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Характер служебной деятельности и перемещения по службе военнослужащих, определяются квалификацией и служебной необходимостью. Военнослужащие имеют право заниматься исключением педагогической, научной и другой творческой деятельностью (если она не препятствуют исполнению обязанностей военной службы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родолжительность служебного времени военнослужащих, проходящих военную службу по призыву, определяется распорядком дня воинской части (ежедневно не менее восьми часов для сна и двух часов для личных потребностей, за исключением боевого дежурства, внутренней службы и др.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ни отдыха предоставляются военнослужащим в выходные и праздничные дни. Военнослужащим может быть предоставл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тпуск по личны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бстоятельствам до десяти суток (в случа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тяжелого состоя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здоровья или смерти близкого родственни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жар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другого стихийного бедствия, постигшего семью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близкого родственника военнослужащего, и 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ругих исключительных случаях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05440" y="3716280"/>
            <a:ext cx="17290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14200" y="214200"/>
            <a:ext cx="5510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Кроме общегражданских прав и свобод, военнослужащие имеют права, обусловленные военной служб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К числу таких прав относится право на материальное обеспечение военнослужащего в период состояния его на военной службе (денежное довольствие, продовольственное и вещевое обеспечение, предоставление жилых помещений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Денежное довольствие военнослужащих состоит из месячного оклада в соответствии с занимаемой воинской должностью и месячного оклада в соответствии с присвоением воинского звания, которые составляют оклад месячного денежного содерж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Размеры окладов определяются Правительств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Военнослужащие обеспечиваются вещевым имуществом и банно-прачечным обслуживанием в зависимости от условий прохождения военной службы по установленным норма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3024000" cy="2941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796000" y="692280"/>
            <a:ext cx="2521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Льготы 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000080"/>
            <a:ext cx="88930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едоставление жилых помещ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создание благоприятных условий воинской службы, быта и системой мер по ограничению опасных факторов военной службы (при убытии в отпуск по болезни выплата дотации на лечение производится в размере четырех установленных Федеральным законом «О статусе военнослужащих» минимальных размеров оплаты труд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курсанты военных учреждений профессионального образования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ользовании воинскими туристскими базами оплачивают не более 30% стоимости путев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обучение в военных учреждениях профессионального образова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поступление в государственные образовательные учреждения высшего и среднего профессионального образования и на подготовительные отделения образовательных учреждений высшего профессионального образова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внеконкурсного зачисления при условии получения ими положительных оценок на вступительных экзамена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раво на  льготы при посещении платных мероприятий, организуемых учреждениями культуры и спорт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бесплатный проезд железнодорожным, воздушным, водным и автомобильным транспортом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бесплатную пересылку писем, отправляемых воинскими частя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 пособие, равное установленному Федеральным законом одному минимальному размеру оплаты труд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вед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Военная служба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это особый вид федеральной государственной службы. Она заключается в повседневном выполнении гражданами воинских обязанносте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Исполнение обязанностей военной службы в Вооруженных Силах Российской Федерации предусматривает непосредственное участие в боевых действиях, повседневную боевую подготовку, другие виды подготовки и обучения, постоянное совершенствование каждым военнослужащим своего воинского мастерства, несение боевого дежурства, гарнизонной и внутренней службы, соблюдение требований воинской дисциплины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10" descr="j0284140"/>
          <p:cNvPicPr/>
          <p:nvPr/>
        </p:nvPicPr>
        <p:blipFill>
          <a:blip r:embed="rId2"/>
          <a:stretch/>
        </p:blipFill>
        <p:spPr>
          <a:xfrm>
            <a:off x="5003640" y="1700280"/>
            <a:ext cx="3411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«Право войны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«Право войны» — это совокупность договорных и обычных юридических норм, применяемых воюющими сторонами в ходе вооруженных конфликтов, регулирующих применение средств и методов ведения вооруженной борьбы, обеспечивающих защиту раненых, больных, военнопленных и гражданского населения, устанавливающих международно-правовую ответственность государств и уголовную ответственность отдельных лиц за их наруш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«Право войны» призвано ограничить и облегчить, насколько это возможно, бедствия вой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традиционно существуют две группы соглашений в рамках «Права войны»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1)   Гаагские конвенции, регулирующие в целом правила боевых действий (ведение боевых действий, понятия оккупации и нейтралитет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2)  Женевские конвенции, содержащие положения: о защите жертв вооруженных конфликтов (военнопленных, раненых, больных, потерпевших кораблекрушение, погибших), о защите гражданского населения, об отношении к лицам, оказывающим помощь жертвам вооруженных конфликтов, в частности к медицинским служб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сновные Гаагские конвенции датируются 1907 г., Женевские конвенции — 1949 г., Гаагская конвенция о культурных ценностях — 1954 г., дополнительные протоколы к Женевским конвенциям и Конвенция о запрещении использования некоторых видов обычных вооружений соответственно 1977 и 1980 г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66120" y="0"/>
            <a:ext cx="1292040" cy="136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1645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Международные правила поведения в бою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1412640"/>
            <a:ext cx="80121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Веди боевые действия только против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енных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ападай только на военные объек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Щади гражданское население и его имущество. Относись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к гражданским лица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с уважением, защищай их от дурного обращения. Помни, чт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акты мести и взятие заложников запреще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е разрушай больше, чем того требует боевая задач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Если неприяте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 с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тся в плен, пощад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, разоруж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, обеспечь гуманное отношение к 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, к его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званию, достав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 к своему команд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Гуманно относись к больным и раненым. Подбери их, окажи им необходимую помощь, защити их, доставь их к своему командиру или в ближайший медицинский пунк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адо знать и помнить, что международное право предоставляет особую защиту определенным категориям лиц и объектов, которые имеют специальные отличительные задач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3280" y="5445000"/>
            <a:ext cx="424836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164360" y="836640"/>
            <a:ext cx="1416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Международное право на особую защиту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1.  Военная и гражданская медицинская службы; военный духовный персонал; гражданский духовный персонал (только в составе гражданской медицинской службы и гражданской обороны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м знаком медицинской службы является красный крест на белом поле или равноценная ему эмблема в виде красного полумесяца на белом фоне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2.  Гражданская оборона. Гражданская оборона обозначает систему мероприятий по защите и выживанию гражданского насе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м знаком гражданской обороны является равносторонний темно-синий треугольник на оранжевом фон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3.  Обозначенные культурные ценности под общей защито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й знак культурных ценностей под общей защитой представляет собой бело-голубоватый щи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4. Обозначенные культурные ценности под особой защитой. Отличительный знак культурных ценностей под особой защитой обозначается тремя знаками, расположенными треугольником (один знак внизу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5. Установки и сооружения, содержащие опасные силы: плотины, дамбы, атомные электростанци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й знак установок и сооружений, содержащих опасные силы, представляет собой группу из трех ярко-оранжевых кругов, расположенных на одной ос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6. Белый флаг (флаг перемирия, используемый для переговоров или капитуляции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0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3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6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9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00720" y="285840"/>
            <a:ext cx="4186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Серьезные нарушения «Права войны» квалифицируются как военные преступления. В отношении их установлены санкции уголовного характер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Как серьезные нарушения квалифицируются следующие действия, направленные против люде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преднамеренное убийство, пытки, бесчеловечное обраще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преднамеренное причинение тяжелых страданий, нанесение ущерба здоровью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бесчеловечное и унижающее обращение, сопровождающееся оскорблением человеческого достоинств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взятие заложников и д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3924000" cy="403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5272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3467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Военная служба в России всегда считалась почетной обязанностью, </a:t>
            </a:r>
            <a:r>
              <a:rPr b="0" i="1" lang="en-US" sz="2500" spc="-1" strike="noStrike">
                <a:solidFill>
                  <a:srgbClr val="ffffff"/>
                </a:solidFill>
                <a:latin typeface="Arial Rounded MT Bold"/>
              </a:rPr>
              <a:t>священным долгом</a:t>
            </a: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, исключительным по важности и необходимости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j0400812"/>
          <p:cNvPicPr/>
          <p:nvPr/>
        </p:nvPicPr>
        <p:blipFill>
          <a:blip r:embed="rId2"/>
          <a:stretch/>
        </p:blipFill>
        <p:spPr>
          <a:xfrm>
            <a:off x="4067280" y="1700280"/>
            <a:ext cx="475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спользуемая литератур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ru.wikipedia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Основы безопас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изнедеятельности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//А.Т.Смирнов, Б.И. Миш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А.Васнев //М. «Просвещение» 2006 – 157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j0429905"/>
          <p:cNvPicPr/>
          <p:nvPr/>
        </p:nvPicPr>
        <p:blipFill>
          <a:blip r:embed="rId2"/>
          <a:stretch/>
        </p:blipFill>
        <p:spPr>
          <a:xfrm>
            <a:off x="2857680" y="4500720"/>
            <a:ext cx="2952720" cy="2197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796000" y="1341360"/>
            <a:ext cx="2585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8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Главной задачей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военной службы является постоянная целенаправленная подготовка к вооруженной защите или вооруженная защита территории РФ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Военная служба имеет ряд существенных отличий по сравнению с другими видами государственной службы. Она требует от военнослужащих полной самоотдачи, высокой профессиональной подготовки, особой ответственности за исполнение обязанностей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К гражданам, проходящим военную службу, предъявляются повышенные требования к состоянию здоровья, образовательному уровню, морально-психологическим качествам и уровню физической подготовленност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9" descr="j0410441"/>
          <p:cNvPicPr/>
          <p:nvPr/>
        </p:nvPicPr>
        <p:blipFill>
          <a:blip r:embed="rId2"/>
          <a:stretch/>
        </p:blipFill>
        <p:spPr>
          <a:xfrm>
            <a:off x="1547640" y="189000"/>
            <a:ext cx="475308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232168"/>
          <p:cNvPicPr/>
          <p:nvPr/>
        </p:nvPicPr>
        <p:blipFill>
          <a:blip r:embed="rId3"/>
          <a:stretch/>
        </p:blipFill>
        <p:spPr>
          <a:xfrm>
            <a:off x="7596360" y="333360"/>
            <a:ext cx="963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Одной из особенностей военной службы является обязательное принятие каждым гражданино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присяги. Граждане принимают Военную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присягу на верность своей Родине —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Российской Федераци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Отличительной чертой военной службы является высокая степень обязательности и ответственности за исполнение каждым военнослужащим своих служебных обязанностей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За нарушения, допущенные при исполнении служебных обязанностей или уклонении от их исполнения, к военнослужащим предусмотрены более строги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меры воздействия, чем за аналогичны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рушения к гражданам, состоящи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 государственной службе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иболее характерной особенностью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службы является беспрекословность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служебного подчин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j0333304"/>
          <p:cNvPicPr/>
          <p:nvPr/>
        </p:nvPicPr>
        <p:blipFill>
          <a:blip r:embed="rId2"/>
          <a:stretch/>
        </p:blipFill>
        <p:spPr>
          <a:xfrm>
            <a:off x="8018640" y="3789360"/>
            <a:ext cx="1125360" cy="18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333304"/>
          <p:cNvPicPr/>
          <p:nvPr/>
        </p:nvPicPr>
        <p:blipFill>
          <a:blip r:embed="rId3"/>
          <a:stretch/>
        </p:blipFill>
        <p:spPr>
          <a:xfrm>
            <a:off x="7596360" y="4149720"/>
            <a:ext cx="1125360" cy="181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333304"/>
          <p:cNvPicPr/>
          <p:nvPr/>
        </p:nvPicPr>
        <p:blipFill>
          <a:blip r:embed="rId4"/>
          <a:stretch/>
        </p:blipFill>
        <p:spPr>
          <a:xfrm>
            <a:off x="7164360" y="4581360"/>
            <a:ext cx="1125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333304"/>
          <p:cNvPicPr/>
          <p:nvPr/>
        </p:nvPicPr>
        <p:blipFill>
          <a:blip r:embed="rId5"/>
          <a:stretch/>
        </p:blipFill>
        <p:spPr>
          <a:xfrm>
            <a:off x="8018640" y="0"/>
            <a:ext cx="11253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Отличительной чертой военной службы также является установление взаимоотношений между военнослужащими, которые по степени подчиненности характеризуются как по должности, так 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по возможному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званию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j0344091"/>
          <p:cNvPicPr/>
          <p:nvPr/>
        </p:nvPicPr>
        <p:blipFill>
          <a:blip r:embed="rId2"/>
          <a:stretch/>
        </p:blipFill>
        <p:spPr>
          <a:xfrm>
            <a:off x="3492360" y="3284640"/>
            <a:ext cx="54356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дним из принципов строительства Вооруженных Сил Российской Федерации является </a:t>
            </a:r>
            <a:r>
              <a:rPr b="0" i="1" lang="en-US" sz="1600" spc="-1" strike="noStrike">
                <a:solidFill>
                  <a:srgbClr val="ffffff"/>
                </a:solidFill>
                <a:latin typeface="Arial Rounded MT Bold"/>
              </a:rPr>
              <a:t>единоначалие.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но заключается в наделении командира (начальника) всей полнотой распорядительной власти по отношению к подчиненным и возложении на него персональной ответственности перед государством за все стороны жизни и деятельности воинской части, подразделения и каждого военнослужащего. Единоначалие выражается в праве командира (начальника) единолично принимать решения, отдавать приказы в строгом соответствии с требованиями законов и воинских уставов и обеспечивать их выполнение. Обсуждение приказа недопустимо, а неповиновение или другое неисполнение приказа является воинским преступлени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j0350461"/>
          <p:cNvPicPr/>
          <p:nvPr/>
        </p:nvPicPr>
        <p:blipFill>
          <a:blip r:embed="rId2"/>
          <a:stretch/>
        </p:blipFill>
        <p:spPr>
          <a:xfrm>
            <a:off x="7812000" y="549360"/>
            <a:ext cx="935280" cy="1341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j0231086"/>
          <p:cNvPicPr/>
          <p:nvPr/>
        </p:nvPicPr>
        <p:blipFill>
          <a:blip r:embed="rId3"/>
          <a:stretch/>
        </p:blipFill>
        <p:spPr>
          <a:xfrm>
            <a:off x="4572000" y="2060640"/>
            <a:ext cx="42498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50072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Военнослужащие при исполнении обязанностей военной службы, а при необходимости и во внеслужебное время имеют право на хранение, ношение, применение и использование оруж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Организация и исполнение обязанностей военной службы как составной части воинской обязанности граждан строго регламентированы Федеральными законами и другими нормативно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равовыми актами Российской Федерации, касающимися обороны государ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j0415190"/>
          <p:cNvPicPr/>
          <p:nvPr/>
        </p:nvPicPr>
        <p:blipFill>
          <a:blip r:embed="rId2"/>
          <a:stretch/>
        </p:blipFill>
        <p:spPr>
          <a:xfrm>
            <a:off x="4375080" y="981000"/>
            <a:ext cx="4768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 своему служебному положению и воинскому званию одни военнослужащие по отношению к другим могут быть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начальниками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подчиненными.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Начальники, которым военнослужащие под­чинены по службе, явля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прямыми начальник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 своему воинскому званию начальниками являются состоящие на военной службе: маршал Российской Федерации, генералы армии, адмиралы флота, генералы, адмиралы, старшие и младшие офицеры. Сержанты и старшины являются начальниками для солдат и матрос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дной с ними ча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Начальник имеет право отдавать подчиненному приказы и требовать их выполнения. Подчиненные обязаны беспрекословно выполнять приказы начальни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ля военнослужащих устанавлива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военная форма одежды и знаки различ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Военная форма одежды и знаки различия по воинским званиям военнослужащих Вооруженных Сил Российской Федерации утверждаются Президент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31" descr="j0428083"/>
          <p:cNvPicPr/>
          <p:nvPr/>
        </p:nvPicPr>
        <p:blipFill>
          <a:blip r:embed="rId2"/>
          <a:stretch/>
        </p:blipFill>
        <p:spPr>
          <a:xfrm>
            <a:off x="5435640" y="1700280"/>
            <a:ext cx="3500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Конституцией установлено, что защита Отечества является долгом и обязанностью гражданина Российской Федерации (статья 59). Главой государства является Президент Российской Федерации. При вступлении в должность Президент Российской Федерации приносит народу присягу, в которой клянется при осуществлении своих полномочий уважать и охранять права и свободы человека и гражданина, соблюдать и защищать Конституцию, защищать суверенитет и независимость, безопасность и целостность государства, верно служить народу (статьи 80, 8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j0178279"/>
          <p:cNvPicPr/>
          <p:nvPr/>
        </p:nvPicPr>
        <p:blipFill>
          <a:blip r:embed="rId2"/>
          <a:stretch/>
        </p:blipFill>
        <p:spPr>
          <a:xfrm>
            <a:off x="468360" y="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j0178279"/>
          <p:cNvPicPr/>
          <p:nvPr/>
        </p:nvPicPr>
        <p:blipFill>
          <a:blip r:embed="rId3"/>
          <a:stretch/>
        </p:blipFill>
        <p:spPr>
          <a:xfrm>
            <a:off x="3203640" y="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j0178279"/>
          <p:cNvPicPr/>
          <p:nvPr/>
        </p:nvPicPr>
        <p:blipFill>
          <a:blip r:embed="rId4"/>
          <a:stretch/>
        </p:blipFill>
        <p:spPr>
          <a:xfrm>
            <a:off x="6084720" y="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38:24Z</dcterms:created>
  <dc:creator>DeEcember</dc:creator>
  <dc:description/>
  <dc:language>en-US</dc:language>
  <cp:lastModifiedBy>Сергей</cp:lastModifiedBy>
  <dcterms:modified xsi:type="dcterms:W3CDTF">2008-05-28T08:50:36Z</dcterms:modified>
  <cp:revision>24</cp:revision>
  <dc:subject/>
  <dc:title>Правовые основы воинской службы</dc:title>
</cp:coreProperties>
</file>