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25.wmf" ContentType="image/x-wmf"/>
  <Override PartName="/ppt/media/image22.jpeg" ContentType="image/jpeg"/>
  <Override PartName="/ppt/media/image24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gif" ContentType="image/gif"/>
  <Override PartName="/ppt/media/image16.jpeg" ContentType="image/jpeg"/>
  <Override PartName="/ppt/media/image1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737-7CCD-4856-9B1D-670221B9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B0B-9187-4CA0-94E2-812A9207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05D-58AE-41D5-BC78-AF6D5FB0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60C-12D1-4C66-99FA-A422FD8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D46A-99F4-4C51-8A3A-85BB5431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D47E-4B05-4940-BF22-B991304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911-6275-4E90-8431-48D422DC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B839-CB8B-4FC6-B9BA-1EC512F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FFDE-387E-48CD-8516-9EF3F80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7C7D-B1C6-4EFE-BFF8-DC693C1D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F34-48DD-4CA5-8495-77F1CCA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23E-F572-4D04-863B-5449E0C8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D143-F4EE-43AA-B1FD-9953322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E63-9201-4BF2-9BE4-506CC48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E5AC-B2BA-4F76-95C0-899D8B2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803-070E-4AF4-803D-F0A64AA6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24C-D141-43D8-8068-2B3E2B4E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6D3-FD6F-45EF-89E9-97C7825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CB6-314F-4645-88D1-FB609375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4E4-30CE-4372-9C0D-5A38F59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84B-59F7-4ECE-AD8D-93BD326B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EA6-1B5A-4589-A486-9F4D42B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265-3AF5-4CF0-888B-9C3EBAD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AD4-9809-4631-AF27-3D07AC4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ABD-2830-4D27-9A4C-372FE9A5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7F8-67C6-4888-8FF5-40216B210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Arial Rounded MT Bold"/>
              </a:rPr>
              <a:t>Правовые основы воинской служб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95280" y="4221000"/>
            <a:ext cx="60800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боту </a:t>
            </a: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Конституцией Российской Федерации Президенту Российской Федерации дано право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формировать и возглавлять Совет безопасности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утверждать военную доктрину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назначать и освобождать высшее командование Вооруженных Сил РФ (статья 83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Президент Российской Федерации является Верховным Главнокомандующим Вооруженными Силами и в случае агрессии против Российской Федерации или непосредственной угрозы агрессии вводит на территории страны или в отдельных ее местностях военное положение (статья 87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Меры по обеспечению обороны страны и государственной безопасности осуществляет Правительство Российской Федерации (статья 114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j0232168"/>
          <p:cNvPicPr/>
          <p:nvPr/>
        </p:nvPicPr>
        <p:blipFill>
          <a:blip r:embed="rId2"/>
          <a:stretch/>
        </p:blipFill>
        <p:spPr>
          <a:xfrm>
            <a:off x="8101080" y="5084640"/>
            <a:ext cx="834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На основании положений Конституции РФ разрабатываются и принимаются законодательные акты, в которых детально определяются правовые вопросы, касающиеся обороны и военного строительства. Базовым правовым актом военного законодательства является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«Об обороне», 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в котором определены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ы и организация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номочия органов государственной власти Российской Федерации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функции органов исполнительной власти субъектов Российской Федерации, органов местного самоуправления и организаций, обязанности должностных лиц, права и обязанности граждан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редназначение Вооруженных Сил РФ, их комплектование и руководство, функции Министерства обороны и Генерального штаб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ные положения — состояние войны, военное положение, мобилизация, гражданская оборона, территориальная оборон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ожение об ограничении деятельности политических партий и общественных объединений в Вооруженных Силах Р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j0415188"/>
          <p:cNvPicPr/>
          <p:nvPr/>
        </p:nvPicPr>
        <p:blipFill>
          <a:blip r:embed="rId2"/>
          <a:stretch/>
        </p:blipFill>
        <p:spPr>
          <a:xfrm>
            <a:off x="4284720" y="1700280"/>
            <a:ext cx="48592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«О статусе военнослужащих»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определяет права, обязанности и ответственность военнослужащих, основы правовой и социальной защиты военнослужа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Порядок организации воинского учета граждан, подготовки их к военной службе, призыва на военную службу и ее прохождения определен в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ом законе Российской Федерации «О воинской обязанности и военной служб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j0410435"/>
          <p:cNvPicPr/>
          <p:nvPr/>
        </p:nvPicPr>
        <p:blipFill>
          <a:blip r:embed="rId2"/>
          <a:stretch/>
        </p:blipFill>
        <p:spPr>
          <a:xfrm>
            <a:off x="4468680" y="836640"/>
            <a:ext cx="4675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овседневная деятельность военнослужащих, их жизнь, быт, несение службы, подготовка к выполнению должностных обязанностей регламентируются уставами, которые подразделяются на боевые и общевоинск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Общевоинские уставы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устанавливают общие для всех видов Вооруженных Сил положения, определяющие взаимоотношения между военнослужащими, их общие и должностные обязанности и права, порядок несения внутренней, гарнизонной и караульной служ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К общевоинским уставам относятся: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Устав внутренней службы Вооруженных Сил Российской Федерации, Дисциплинарный устав Вооруженных Сил Российской Федерации, Устав гарнизонной и караульной служб Вооруженных Сил Российской Федерации, Строевой устав Вооруженных Сил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j0344091"/>
          <p:cNvPicPr/>
          <p:nvPr/>
        </p:nvPicPr>
        <p:blipFill>
          <a:blip r:embed="rId2"/>
          <a:stretch/>
        </p:blipFill>
        <p:spPr>
          <a:xfrm>
            <a:off x="4168800" y="4500720"/>
            <a:ext cx="4067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Статус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25360"/>
            <a:ext cx="8258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— это совокупность прав и обязанностей гражда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его определен Федеральным законом РФ «О статусе военнослужащих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их есть совокупность прав, свобод, гарантированных государством, а также обязанностей и ответственности военнослужащих. Военнослужащие обладают правами и свободами человека и гражданина с некоторыми ограничениями, установленными законами РФ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На военнослужащих возлагаются обязанности по подготовке к вооруженной защите и вооруженная защита Российской Федерации, которые связаны с необходимостью беспрекословного выполнения поставленных задач в любых условиях, в том числе с риском для жиз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В связи с особым характером обязанностей, возложенных на военнослужащих, им предоставляются льготы, гарантии и компенс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Граждане приобретают статус военнослужащего с началом военной службы и утрачивают его с ее оконча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Права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7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Военнослужащие пользуются установленными законодательством Российской Федерации правами и свободами наравне с другими гражданами. Но с учетом особого характера обязанностей военнослужащих существуют некоторые ограничения их в общегражданских правах и свобо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337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передвижения (правила передвижения военнослужащих в расположении воинской части, их выезда за пределы гарнизона, на территории которого они проходят военную службу, определяются общевоинскими уставам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слова, выражения своих мнений и убеждений, на доступ к получению и распространению информации (не имеют права разглашать государственную и военную тайну, обсуждать и критиковать приказы командир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запрет участия в забастовк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участвовать в богослужениях и религиозных церемониях (в свободное от военной службы врем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не допускается создание религиозных объединений в воинской ча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избирать и быть избранными в органы государственной власти и органы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военнослужащие могут состоять в общественных объединениях, не преследующих политические цели, и участвовать в их деятельности в свободное от исполнения обязанностей военной служ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труд (прохождение военной служб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260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Характер служебной деятельности и перемещения по службе военнослужащих, определяются квалификацией и служебной необходимостью. Военнослужащие имеют право заниматься исключением педагогической, научной и другой творческой деятельностью (если она не препятствуют исполнению обязанностей военной служб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родолжительность служебного времени военнослужащих, проходящих военную службу по призыву, определяется распорядком дня воинской части (ежедневно не менее восьми часов для сна и двух часов для личных потребностей, за исключением боевого дежурства, внутренней службы и др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ни отдыха предоставляются военнослужащим в выходные и праздничные дни. Военнослужащим может быть предостав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тпуск по лич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бстоятельствам до десяти суток (в случа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тяжелого состоя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здоровья или смерти близкого родственни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жа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другого стихийного бедствия, постигшего семь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близкого родственника военнослужащего, 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ругих исключительных случаях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5440" y="3716280"/>
            <a:ext cx="1729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4200" y="214200"/>
            <a:ext cx="5510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Кроме общегражданских прав и свобод, военнослужащие имеют права, обусловленные военной служб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 числу таких прав относится право на материальное обеспечение военнослужащего в период состояния его на военной службе (денежное довольствие, продовольственное и вещевое обеспечение, предоставление жилых помещени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Денежное довольствие военнослужащих состоит из месячного оклада в соответствии с занимаемой воинской должностью и месячного оклада в соответствии с присвоением воинского звания, которые составляют оклад месячного денежного содерж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Размеры окладов определяются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Военнослужащие обеспечиваются вещевым имуществом и банно-прачечным обслуживанием в зависимости от условий прохождения военной службы по установленным норм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024000" cy="294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96000" y="692280"/>
            <a:ext cx="2521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Льготы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00080"/>
            <a:ext cx="88930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едоставление жилых помещ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создание благоприятных условий воинской службы, быта и системой мер по ограничению опасных факторов военной службы (при убытии в отпуск по болезни выплата дотации на лечение производится в размере четырех установленных Федеральным законом «О статусе военнослужащих» минимальных размеров оплаты труд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курсанты военных учреждений профессионального образования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ользовании воинскими туристскими базами оплачивают не более 30% стоимости путе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обучение в военных учреждениях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поступление в государственные образовательные учреждения высшего и среднего профессионального образования и на подготовительные отделения образовательных учреждений высшего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внеконкурсного зачисления при условии получения ими положительных оценок на вступительных экзамен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аво на  льготы при посещении платных мероприятий, организуемых учреждениями культуры и спорт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ый проезд железнодорожным, воздушным, водным и автомобильным транспортом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ую пересылку писем, отправляемых воинскими ча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 пособие, равное установленному Федеральным законом одному минимальному размеру оплаты труд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вед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Военная служб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это особый вид федеральной государственной службы. Она заключается в повседневном выполнении гражданами воинских обязаннос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Исполнение обязанностей военной службы в Вооруженных Силах Российской Федерации предусматривает непосредственное участие в боевых действиях, повседневную боевую подготовку, другие виды подготовки и обучения, постоянное совершенствование каждым военнослужащим своего воинского мастерства, несение боевого дежурства, гарнизонной и внутренней службы, соблюдение требований воинской дисциплин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0" descr="j0284140"/>
          <p:cNvPicPr/>
          <p:nvPr/>
        </p:nvPicPr>
        <p:blipFill>
          <a:blip r:embed="rId2"/>
          <a:stretch/>
        </p:blipFill>
        <p:spPr>
          <a:xfrm>
            <a:off x="5003640" y="1700280"/>
            <a:ext cx="3411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«Право войны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— это совокупность договорных и обычных юридических норм, применяемых воюющими сторонами в ходе вооруженных конфликтов, регулирующих применение средств и методов ведения вооруженной борьбы, обеспечивающих защиту раненых, больных, военнопленных и гражданского населения, устанавливающих международно-правовую ответственность государств и уголовную ответственность отдельных лиц за их наруш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призвано ограничить и облегчить, насколько это возможно, бедствия вой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традиционно существуют две группы соглашений в рамках «Права войны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1)   Гаагские конвенции, регулирующие в целом правила боевых действий (ведение боевых действий, понятия оккупации и нейтралитет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2)  Женевские конвенции, содержащие положения: о защите жертв вооруженных конфликтов (военнопленных, раненых, больных, потерпевших кораблекрушение, погибших), о защите гражданского населения, об отношении к лицам, оказывающим помощь жертвам вооруженных конфликтов, в частности к медицинским служб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сновные Гаагские конвенции датируются 1907 г., Женевские конвенции — 1949 г., Гаагская конвенция о культурных ценностях — 1954 г., дополнительные протоколы к Женевским конвенциям и Конвенция о запрещении использования некоторых видов обычных вооружений соответственно 1977 и 1980 г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66120" y="0"/>
            <a:ext cx="1292040" cy="136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645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ые правила поведения в бо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1412640"/>
            <a:ext cx="80121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Веди боевые действия только против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енных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падай только на военные объек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Щади гражданское население и его имущество. Относись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к гражданским лица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с уважением, защищай их от дурного обращения. Помни, чт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акты мести и взятие заложников запреще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е разрушай больше, чем того требует боевая задач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Если неприяте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с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тся в плен, пощад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разоруж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обеспечь гуманное отношение к 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, к его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званию, достав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к своему команд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Гуманно относись к больным и раненым. Подбери их, окажи им необходимую помощь, защити их, доставь их к своему командиру или в ближайший медицинский пун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до знать и помнить, что международное право предоставляет особую защиту определенным категориям лиц и объектов, которые имеют специальные отличительные зада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3280" y="5445000"/>
            <a:ext cx="42483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836640"/>
            <a:ext cx="1416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ое право на особую защиту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1.  Военная и гражданская медицинская службы; военный духовный персонал; гражданский духовный персонал (только в составе гражданской медицинской службы и гражданской обороны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медицинской службы является красный крест на белом поле или равноценная ему эмблема в виде красного полумесяца на белом фон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2.  Гражданская оборона. Гражданская оборона обозначает систему мероприятий по защите и выживанию гражданского насе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гражданской обороны является равносторонний темно-синий треугольник на оранжевом фон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3.  Обозначенные культурные ценности под общей защит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культурных ценностей под общей защитой представляет собой бело-голубоватый щи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4. Обозначенные культурные ценности под особой защитой. Отличительный знак культурных ценностей под особой защитой обозначается тремя знаками, расположенными треугольником (один знак внизу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5. Установки и сооружения, содержащие опасные силы: плотины, дамбы, атомные электростанц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установок и сооружений, содержащих опасные силы, представляет собой группу из трех ярко-оранжевых кругов, расположенных на одной ос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6. Белый флаг (флаг перемирия, используемый для переговоров или капитуляции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8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00720" y="285840"/>
            <a:ext cx="4186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Серьезные нарушения «Права войны» квалифицируются как военные преступления. В отношении их установлены санкции уголовного харак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ак серьезные нарушения квалифицируются следующие действия, направленные против люде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убийство, пытки, бесчеловечное обраще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причинение тяжелых страданий, нанесение ущерба здоровью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бесчеловечное и унижающее обращение, сопровождающееся оскорблением человеческого достоинств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взятие заложников и д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924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5272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3467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Военная служба в России всегда считалась почетной обязанностью, </a:t>
            </a:r>
            <a:r>
              <a:rPr b="0" i="1" lang="en-US" sz="2500" spc="-1" strike="noStrike">
                <a:solidFill>
                  <a:srgbClr val="ffffff"/>
                </a:solidFill>
                <a:latin typeface="Arial Rounded MT Bold"/>
              </a:rPr>
              <a:t>священным долгом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, исключительным по важности и необходимости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j0400812"/>
          <p:cNvPicPr/>
          <p:nvPr/>
        </p:nvPicPr>
        <p:blipFill>
          <a:blip r:embed="rId2"/>
          <a:stretch/>
        </p:blipFill>
        <p:spPr>
          <a:xfrm>
            <a:off x="4067280" y="170028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спользуемая литератур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Основы безопас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знедеятельности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/А.Т.Смирнов, Б.И. Миш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А.Васнев //М. «Просвещение» 2006 – 157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j0429905"/>
          <p:cNvPicPr/>
          <p:nvPr/>
        </p:nvPicPr>
        <p:blipFill>
          <a:blip r:embed="rId2"/>
          <a:stretch/>
        </p:blipFill>
        <p:spPr>
          <a:xfrm>
            <a:off x="2857680" y="4500720"/>
            <a:ext cx="295272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2585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8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Главной задачей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постоянная целенаправленная подготовка к вооруженной защите или вооруженная защита территории РФ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ая служба имеет ряд существенных отличий по сравнению с другими видами государственной службы. Она требует от военнослужащих полной самоотдачи, высокой профессиональной подготовки, особой ответственности за исполнение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К гражданам, проходящим военную службу, предъявляются повышенные требования к состоянию здоровья, образовательному уровню, морально-психологическим качествам и уровню физической подготовленност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j0410441"/>
          <p:cNvPicPr/>
          <p:nvPr/>
        </p:nvPicPr>
        <p:blipFill>
          <a:blip r:embed="rId2"/>
          <a:stretch/>
        </p:blipFill>
        <p:spPr>
          <a:xfrm>
            <a:off x="1547640" y="189000"/>
            <a:ext cx="475308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232168"/>
          <p:cNvPicPr/>
          <p:nvPr/>
        </p:nvPicPr>
        <p:blipFill>
          <a:blip r:embed="rId3"/>
          <a:stretch/>
        </p:blipFill>
        <p:spPr>
          <a:xfrm>
            <a:off x="7596360" y="333360"/>
            <a:ext cx="963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дной из особенностей военной службы является обязательное принятие каждым гражданин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присяги. Граждане принимают Военну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присягу на верность своей Родине —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является высокая степень обязательности и ответственности за исполнение каждым военнослужащим своих служебных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За нарушения, допущенные при исполнении служебных обязанностей или уклонении от их исполнения, к военнослужащим предусмотрены более строг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меры воздействия, чем за аналогичны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рушения к гражданам, состоящи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 государственной службе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иболее характерной особенность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беспрекословность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служебного подчин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j0333304"/>
          <p:cNvPicPr/>
          <p:nvPr/>
        </p:nvPicPr>
        <p:blipFill>
          <a:blip r:embed="rId2"/>
          <a:stretch/>
        </p:blipFill>
        <p:spPr>
          <a:xfrm>
            <a:off x="8018640" y="378936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333304"/>
          <p:cNvPicPr/>
          <p:nvPr/>
        </p:nvPicPr>
        <p:blipFill>
          <a:blip r:embed="rId3"/>
          <a:stretch/>
        </p:blipFill>
        <p:spPr>
          <a:xfrm>
            <a:off x="7596360" y="414972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333304"/>
          <p:cNvPicPr/>
          <p:nvPr/>
        </p:nvPicPr>
        <p:blipFill>
          <a:blip r:embed="rId4"/>
          <a:stretch/>
        </p:blipFill>
        <p:spPr>
          <a:xfrm>
            <a:off x="7164360" y="4581360"/>
            <a:ext cx="1125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333304"/>
          <p:cNvPicPr/>
          <p:nvPr/>
        </p:nvPicPr>
        <p:blipFill>
          <a:blip r:embed="rId5"/>
          <a:stretch/>
        </p:blipFill>
        <p:spPr>
          <a:xfrm>
            <a:off x="8018640" y="0"/>
            <a:ext cx="112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также является установление взаимоотношений между военнослужащими, которые по степени подчиненности характеризуются как по должности, так 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по возможному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звани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j0344091"/>
          <p:cNvPicPr/>
          <p:nvPr/>
        </p:nvPicPr>
        <p:blipFill>
          <a:blip r:embed="rId2"/>
          <a:stretch/>
        </p:blipFill>
        <p:spPr>
          <a:xfrm>
            <a:off x="3492360" y="3284640"/>
            <a:ext cx="5435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дним из принципов строительства Вооруженных Сил Российской Федерации является </a:t>
            </a:r>
            <a:r>
              <a:rPr b="0" i="1" lang="en-US" sz="1600" spc="-1" strike="noStrike">
                <a:solidFill>
                  <a:srgbClr val="ffffff"/>
                </a:solidFill>
                <a:latin typeface="Arial Rounded MT Bold"/>
              </a:rPr>
              <a:t>единоначалие.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но заключается в наделении командира (начальника) всей полнотой распорядительной власти по отношению к подчиненным и возложении на него персональной ответственности перед государством за все стороны жизни и деятельности воинской части, подразделения и каждого военнослужащего. Единоначалие выражается в праве командира (начальника) единолично принимать решения, отдавать приказы в строгом соответствии с требованиями законов и воинских уставов и обеспечивать их выполнение. Обсуждение приказа недопустимо, а неповиновение или другое неисполнение приказа является воинским преступле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j0350461"/>
          <p:cNvPicPr/>
          <p:nvPr/>
        </p:nvPicPr>
        <p:blipFill>
          <a:blip r:embed="rId2"/>
          <a:stretch/>
        </p:blipFill>
        <p:spPr>
          <a:xfrm>
            <a:off x="7812000" y="549360"/>
            <a:ext cx="93528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j0231086"/>
          <p:cNvPicPr/>
          <p:nvPr/>
        </p:nvPicPr>
        <p:blipFill>
          <a:blip r:embed="rId3"/>
          <a:stretch/>
        </p:blipFill>
        <p:spPr>
          <a:xfrm>
            <a:off x="4572000" y="2060640"/>
            <a:ext cx="4249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5007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Военнослужащие при исполнении обязанностей военной службы, а при необходимости и во внеслужебное время имеют право на хранение, ношение, применение и использование оруж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Организация и исполнение обязанностей военной службы как составной части воинской обязанности граждан строго регламентированы Федеральными законами и другими нормативно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равовыми актами Российской Федерации, касающимися обороны государ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j0415190"/>
          <p:cNvPicPr/>
          <p:nvPr/>
        </p:nvPicPr>
        <p:blipFill>
          <a:blip r:embed="rId2"/>
          <a:stretch/>
        </p:blipFill>
        <p:spPr>
          <a:xfrm>
            <a:off x="4375080" y="981000"/>
            <a:ext cx="4768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служебному положению и воинскому званию одни военнослужащие по отношению к другим могут быть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начальниками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одчиненными.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и, которым военнослужащие под­чинены по службе, явля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рямыми начальник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воинскому званию начальниками являются состоящие на военной службе: маршал Российской Федерации, генералы армии, адмиралы флота, генералы, адмиралы, старшие и младшие офицеры. Сержанты и старшины являются начальниками для солдат и матрос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дной с ними ч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 имеет право отдавать подчиненному приказы и требовать их выполнения. Подчиненные обязаны беспрекословно выполнять приказы началь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ля военнослужащих устанавлива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 по воинским званиям военнослужащих Вооруженных Сил Российской Федерации утверждаются Президент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1" descr="j0428083"/>
          <p:cNvPicPr/>
          <p:nvPr/>
        </p:nvPicPr>
        <p:blipFill>
          <a:blip r:embed="rId2"/>
          <a:stretch/>
        </p:blipFill>
        <p:spPr>
          <a:xfrm>
            <a:off x="5435640" y="1700280"/>
            <a:ext cx="3500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Конституцией установлено, что защита Отечества является долгом и обязанностью гражданина Российской Федерации (статья 59). Главой государства является Президент Российской Федерации. При вступлении в должность Президент Российской Федерации приносит народу присягу, в которой клянется при осуществлении своих полномочий уважать и охранять права и свободы человека и гражданина, соблюдать и защищать Конституцию, защищать суверенитет и независимость, безопасность и целостность государства, верно служить народу (статьи 80, 8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178279"/>
          <p:cNvPicPr/>
          <p:nvPr/>
        </p:nvPicPr>
        <p:blipFill>
          <a:blip r:embed="rId2"/>
          <a:stretch/>
        </p:blipFill>
        <p:spPr>
          <a:xfrm>
            <a:off x="468360" y="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178279"/>
          <p:cNvPicPr/>
          <p:nvPr/>
        </p:nvPicPr>
        <p:blipFill>
          <a:blip r:embed="rId3"/>
          <a:stretch/>
        </p:blipFill>
        <p:spPr>
          <a:xfrm>
            <a:off x="320364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j0178279"/>
          <p:cNvPicPr/>
          <p:nvPr/>
        </p:nvPicPr>
        <p:blipFill>
          <a:blip r:embed="rId4"/>
          <a:stretch/>
        </p:blipFill>
        <p:spPr>
          <a:xfrm>
            <a:off x="6084720" y="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38:24Z</dcterms:created>
  <dc:creator>DeEcember</dc:creator>
  <dc:description/>
  <dc:language>en-US</dc:language>
  <cp:lastModifiedBy>Сергей</cp:lastModifiedBy>
  <dcterms:modified xsi:type="dcterms:W3CDTF">2008-05-28T08:50:36Z</dcterms:modified>
  <cp:revision>24</cp:revision>
  <dc:subject/>
  <dc:title>Правовые основы воинской службы</dc:title>
</cp:coreProperties>
</file>